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10156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306B-68B5-48D4-A41D-1D22427D3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50440" y="274320"/>
            <a:ext cx="991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50440" y="1600200"/>
            <a:ext cx="99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0440" y="3964320"/>
            <a:ext cx="99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4DD5-1699-44D3-B0E6-73046ABD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50440" y="274320"/>
            <a:ext cx="991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50440" y="1600200"/>
            <a:ext cx="483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31120" y="1600200"/>
            <a:ext cx="483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50440" y="3964320"/>
            <a:ext cx="483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31120" y="3964320"/>
            <a:ext cx="483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532F-4DD3-4BE6-A04A-00D7E7425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50440" y="274320"/>
            <a:ext cx="991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50440" y="1600200"/>
            <a:ext cx="3192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02760" y="1600200"/>
            <a:ext cx="3192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55440" y="1600200"/>
            <a:ext cx="3192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50440" y="3964320"/>
            <a:ext cx="3192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02760" y="3964320"/>
            <a:ext cx="3192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55440" y="3964320"/>
            <a:ext cx="3192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4BB1-8069-4F88-A5BB-6D2FCEF0D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50440" y="274320"/>
            <a:ext cx="991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50440" y="1600200"/>
            <a:ext cx="99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CC14-0078-4E11-A6F4-3F693D3F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440" y="274320"/>
            <a:ext cx="991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0440" y="1600200"/>
            <a:ext cx="99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0B20-6122-4D3C-98D6-EDF21833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440" y="274320"/>
            <a:ext cx="991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50440" y="1600200"/>
            <a:ext cx="4838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31120" y="1600200"/>
            <a:ext cx="4838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8B36-7666-412D-AD4A-6F5E83DB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50440" y="274320"/>
            <a:ext cx="991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6A5D-15C0-448B-ACE1-E3E82960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50440" y="274320"/>
            <a:ext cx="9915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B8B2-CDAD-4FEE-95E7-F2008CA1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440" y="274320"/>
            <a:ext cx="991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50440" y="1600200"/>
            <a:ext cx="483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31120" y="1600200"/>
            <a:ext cx="4838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50440" y="3964320"/>
            <a:ext cx="483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E7B8-69D4-4314-81A0-0747AFEE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0440" y="274320"/>
            <a:ext cx="991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50440" y="1600200"/>
            <a:ext cx="4838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31120" y="1600200"/>
            <a:ext cx="483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31120" y="3964320"/>
            <a:ext cx="483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EDF6-EB46-4ACC-8E40-549178D2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50440" y="274320"/>
            <a:ext cx="991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50440" y="1600200"/>
            <a:ext cx="483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31120" y="1600200"/>
            <a:ext cx="483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0440" y="3964320"/>
            <a:ext cx="99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958E-C290-49CE-B1DD-75D19E6E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440" y="274320"/>
            <a:ext cx="991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50440" y="1600200"/>
            <a:ext cx="99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50800" y="6356520"/>
            <a:ext cx="257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5C07-ED48-4B35-B7EF-647461D7BC0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63440" y="6356520"/>
            <a:ext cx="348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5880" y="6356520"/>
            <a:ext cx="257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4352-D2F0-4BB4-8447-924E8C4DAE4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hyperlink" Target="http://www.eeppt.com/beijing/" TargetMode="External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10156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-3011400" y="-1727280"/>
            <a:ext cx="8908920" cy="8497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3"/>
          <a:stretch/>
        </p:blipFill>
        <p:spPr>
          <a:xfrm>
            <a:off x="1260360" y="612720"/>
            <a:ext cx="8913960" cy="849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4"/>
          <a:stretch/>
        </p:blipFill>
        <p:spPr>
          <a:xfrm>
            <a:off x="7737480" y="3575160"/>
            <a:ext cx="4552920" cy="4340160"/>
          </a:xfrm>
          <a:prstGeom prst="rect">
            <a:avLst/>
          </a:prstGeom>
          <a:ln w="0">
            <a:noFill/>
          </a:ln>
        </p:spPr>
      </p:pic>
      <p:sp>
        <p:nvSpPr>
          <p:cNvPr id="45" name="单圆角矩形 25"/>
          <p:cNvSpPr/>
          <p:nvPr/>
        </p:nvSpPr>
        <p:spPr>
          <a:xfrm rot="11315400">
            <a:off x="-1421280" y="212040"/>
            <a:ext cx="9256680" cy="4732200"/>
          </a:xfrm>
          <a:prstGeom prst="pie">
            <a:avLst/>
          </a:prstGeom>
          <a:solidFill>
            <a:srgbClr val="ffc00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单圆角矩形 26"/>
          <p:cNvSpPr/>
          <p:nvPr/>
        </p:nvSpPr>
        <p:spPr>
          <a:xfrm rot="7197600">
            <a:off x="9720" y="1269000"/>
            <a:ext cx="9258120" cy="4732200"/>
          </a:xfrm>
          <a:prstGeom prst="pie">
            <a:avLst/>
          </a:prstGeom>
          <a:solidFill>
            <a:srgbClr val="ffc00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单圆角矩形 27"/>
          <p:cNvSpPr/>
          <p:nvPr/>
        </p:nvSpPr>
        <p:spPr>
          <a:xfrm rot="20050200">
            <a:off x="3044520" y="1247400"/>
            <a:ext cx="9258120" cy="4732200"/>
          </a:xfrm>
          <a:prstGeom prst="pie">
            <a:avLst/>
          </a:prstGeom>
          <a:solidFill>
            <a:srgbClr val="ffc00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六边形 8"/>
          <p:cNvSpPr/>
          <p:nvPr/>
        </p:nvSpPr>
        <p:spPr>
          <a:xfrm>
            <a:off x="960480" y="482760"/>
            <a:ext cx="1219320" cy="1050840"/>
          </a:xfrm>
          <a:prstGeom prst="hexagon">
            <a:avLst>
              <a:gd name="adj" fmla="val 25017"/>
              <a:gd name="vf" fmla="val 11547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六边形 16"/>
          <p:cNvSpPr/>
          <p:nvPr/>
        </p:nvSpPr>
        <p:spPr>
          <a:xfrm>
            <a:off x="1479600" y="1974960"/>
            <a:ext cx="934920" cy="806400"/>
          </a:xfrm>
          <a:prstGeom prst="hexagon">
            <a:avLst>
              <a:gd name="adj" fmla="val 24985"/>
              <a:gd name="vf" fmla="val 11547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六边形 17"/>
          <p:cNvSpPr/>
          <p:nvPr/>
        </p:nvSpPr>
        <p:spPr>
          <a:xfrm>
            <a:off x="3206880" y="612720"/>
            <a:ext cx="936360" cy="8064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六边形 18"/>
          <p:cNvSpPr/>
          <p:nvPr/>
        </p:nvSpPr>
        <p:spPr>
          <a:xfrm>
            <a:off x="7128000" y="961920"/>
            <a:ext cx="1218960" cy="105120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六边形 19"/>
          <p:cNvSpPr/>
          <p:nvPr/>
        </p:nvSpPr>
        <p:spPr>
          <a:xfrm>
            <a:off x="6615000" y="2335320"/>
            <a:ext cx="935280" cy="806400"/>
          </a:xfrm>
          <a:prstGeom prst="hexagon">
            <a:avLst>
              <a:gd name="adj" fmla="val 24995"/>
              <a:gd name="vf" fmla="val 11547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六边形 20"/>
          <p:cNvSpPr/>
          <p:nvPr/>
        </p:nvSpPr>
        <p:spPr>
          <a:xfrm>
            <a:off x="9550440" y="1854360"/>
            <a:ext cx="936720" cy="806400"/>
          </a:xfrm>
          <a:prstGeom prst="hexagon">
            <a:avLst>
              <a:gd name="adj" fmla="val 25034"/>
              <a:gd name="vf" fmla="val 11547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5"/>
          <a:stretch/>
        </p:blipFill>
        <p:spPr>
          <a:xfrm>
            <a:off x="-142920" y="1339920"/>
            <a:ext cx="4197240" cy="7115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6"/>
          <a:stretch/>
        </p:blipFill>
        <p:spPr>
          <a:xfrm>
            <a:off x="-303120" y="-395280"/>
            <a:ext cx="2528640" cy="2409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7"/>
          <a:stretch/>
        </p:blipFill>
        <p:spPr>
          <a:xfrm>
            <a:off x="3492360" y="3154320"/>
            <a:ext cx="7182000" cy="3011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8"/>
          <p:cNvSpPr/>
          <p:nvPr/>
        </p:nvSpPr>
        <p:spPr>
          <a:xfrm>
            <a:off x="4284720" y="1413000"/>
            <a:ext cx="573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方正大黑简体"/>
              </a:rPr>
              <a:t>2013~201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方正大黑简体"/>
              </a:rPr>
              <a:t>年度先进员工表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24"/>
          <p:cNvSpPr/>
          <p:nvPr/>
        </p:nvSpPr>
        <p:spPr>
          <a:xfrm>
            <a:off x="-1246320" y="-3110040"/>
            <a:ext cx="7446960" cy="7448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星球大战.mp3" descr=""/>
          <p:cNvPicPr/>
          <p:nvPr/>
        </p:nvPicPr>
        <p:blipFill>
          <a:blip r:embed="rId8"/>
          <a:stretch/>
        </p:blipFill>
        <p:spPr>
          <a:xfrm>
            <a:off x="9245520" y="-133812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1000" y="64515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2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1.0)">
                                      <p:cBhvr>
                                        <p:cTn id="9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2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2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2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" dur="1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2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2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07034E-006 -1.45236E-006 L 0.45316 -0.00439 E">
                                      <p:cBhvr>
                                        <p:cTn id="48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57452E-007 -4.98612E-006 L 0.41741 -4.98612E-006 E">
                                      <p:cBhvr>
                                        <p:cTn id="50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99222E-006 -2.57169E-006 L 0.46411 -0.00139 E">
                                      <p:cBhvr>
                                        <p:cTn id="5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2384E-006 -2.20167E-006 L -0.51744 0.00417 E">
                                      <p:cBhvr>
                                        <p:cTn id="54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4837E-006 -4.46809E-006 L -0.56615 0.0044 E">
                                      <p:cBhvr>
                                        <p:cTn id="5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16 0.02544 L -0.47896 0.02244 E">
                                      <p:cBhvr>
                                        <p:cTn id="58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" dur="1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" dur="1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" dur="1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" dur="1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" dur="1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" dur="1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5" dur="7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375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101564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椭圆 14"/>
          <p:cNvSpPr/>
          <p:nvPr/>
        </p:nvSpPr>
        <p:spPr>
          <a:xfrm>
            <a:off x="2340000" y="7099200"/>
            <a:ext cx="8568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-106200" y="4437000"/>
            <a:ext cx="2073240" cy="3514680"/>
          </a:xfrm>
          <a:prstGeom prst="rect">
            <a:avLst/>
          </a:prstGeom>
          <a:ln w="0">
            <a:noFill/>
          </a:ln>
        </p:spPr>
      </p:pic>
      <p:sp>
        <p:nvSpPr>
          <p:cNvPr id="256" name="椭圆 15"/>
          <p:cNvSpPr/>
          <p:nvPr/>
        </p:nvSpPr>
        <p:spPr>
          <a:xfrm>
            <a:off x="2970360" y="7139160"/>
            <a:ext cx="4572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椭圆 16"/>
          <p:cNvSpPr/>
          <p:nvPr/>
        </p:nvSpPr>
        <p:spPr>
          <a:xfrm>
            <a:off x="1908000" y="741528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椭圆 17"/>
          <p:cNvSpPr/>
          <p:nvPr/>
        </p:nvSpPr>
        <p:spPr>
          <a:xfrm>
            <a:off x="3635280" y="7099200"/>
            <a:ext cx="8568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椭圆 18"/>
          <p:cNvSpPr/>
          <p:nvPr/>
        </p:nvSpPr>
        <p:spPr>
          <a:xfrm>
            <a:off x="4265640" y="7139160"/>
            <a:ext cx="4608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椭圆 19"/>
          <p:cNvSpPr/>
          <p:nvPr/>
        </p:nvSpPr>
        <p:spPr>
          <a:xfrm>
            <a:off x="3203640" y="741528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椭圆 26"/>
          <p:cNvSpPr/>
          <p:nvPr/>
        </p:nvSpPr>
        <p:spPr>
          <a:xfrm>
            <a:off x="5265720" y="7101000"/>
            <a:ext cx="8424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椭圆 27"/>
          <p:cNvSpPr/>
          <p:nvPr/>
        </p:nvSpPr>
        <p:spPr>
          <a:xfrm>
            <a:off x="5896080" y="714060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椭圆 28"/>
          <p:cNvSpPr/>
          <p:nvPr/>
        </p:nvSpPr>
        <p:spPr>
          <a:xfrm>
            <a:off x="4834080" y="7418520"/>
            <a:ext cx="4572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椭圆 29"/>
          <p:cNvSpPr/>
          <p:nvPr/>
        </p:nvSpPr>
        <p:spPr>
          <a:xfrm>
            <a:off x="6561000" y="7101000"/>
            <a:ext cx="8424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椭圆 30"/>
          <p:cNvSpPr/>
          <p:nvPr/>
        </p:nvSpPr>
        <p:spPr>
          <a:xfrm>
            <a:off x="7191360" y="714060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椭圆 31"/>
          <p:cNvSpPr/>
          <p:nvPr/>
        </p:nvSpPr>
        <p:spPr>
          <a:xfrm>
            <a:off x="6129360" y="741852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椭圆 32"/>
          <p:cNvSpPr/>
          <p:nvPr/>
        </p:nvSpPr>
        <p:spPr>
          <a:xfrm>
            <a:off x="8074080" y="7605720"/>
            <a:ext cx="85680" cy="8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椭圆 33"/>
          <p:cNvSpPr/>
          <p:nvPr/>
        </p:nvSpPr>
        <p:spPr>
          <a:xfrm>
            <a:off x="8704440" y="7645320"/>
            <a:ext cx="4572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椭圆 34"/>
          <p:cNvSpPr/>
          <p:nvPr/>
        </p:nvSpPr>
        <p:spPr>
          <a:xfrm>
            <a:off x="7642080" y="7921800"/>
            <a:ext cx="4464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35"/>
          <p:cNvSpPr/>
          <p:nvPr/>
        </p:nvSpPr>
        <p:spPr>
          <a:xfrm>
            <a:off x="9369360" y="7605720"/>
            <a:ext cx="85680" cy="8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椭圆 36"/>
          <p:cNvSpPr/>
          <p:nvPr/>
        </p:nvSpPr>
        <p:spPr>
          <a:xfrm>
            <a:off x="9999720" y="764532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37"/>
          <p:cNvSpPr/>
          <p:nvPr/>
        </p:nvSpPr>
        <p:spPr>
          <a:xfrm>
            <a:off x="8937720" y="7921800"/>
            <a:ext cx="4428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单圆角矩形 1"/>
          <p:cNvSpPr/>
          <p:nvPr/>
        </p:nvSpPr>
        <p:spPr>
          <a:xfrm rot="10800000">
            <a:off x="1402920" y="836280"/>
            <a:ext cx="9001080" cy="5184720"/>
          </a:xfrm>
          <a:prstGeom prst="pie">
            <a:avLst/>
          </a:prstGeom>
          <a:solidFill>
            <a:srgbClr val="ffc000">
              <a:alpha val="38000"/>
            </a:srgbClr>
          </a:solidFill>
          <a:ln w="2844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8"/>
          <p:cNvSpPr/>
          <p:nvPr/>
        </p:nvSpPr>
        <p:spPr>
          <a:xfrm>
            <a:off x="2916360" y="1738440"/>
            <a:ext cx="5832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方正大黑简体"/>
              </a:rPr>
              <a:t>获奖感言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8"/>
          <p:cNvSpPr/>
          <p:nvPr/>
        </p:nvSpPr>
        <p:spPr>
          <a:xfrm>
            <a:off x="2335320" y="320508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方正大黑简体"/>
              </a:rPr>
              <a:t>下面有请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方正大黑简体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6230-6DD2-437D-9247-6C13084F0F90}" type="slidenum">
              <a:t>10</a:t>
            </a:fld>
          </a:p>
        </p:txBody>
      </p:sp>
    </p:spTree>
  </p:cSld>
  <p:transition spd="slow" advTm="2000">
    <p:fade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4 -0.97014 L -6.10775E-007 0.01898 E">
                                      <p:cBhvr>
                                        <p:cTn id="755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6" dur="indefinite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1686 -1.03333 L 4.01325E-006 0.01898 E">
                                      <p:cBhvr>
                                        <p:cTn id="757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8" dur="indefinite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134 -1.01505 L 3.91818E-006 0.01898 E">
                                      <p:cBhvr>
                                        <p:cTn id="759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0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85 -0.99259 L -1.53558E-006 0.01898 E">
                                      <p:cBhvr>
                                        <p:cTn id="761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2" dur="indefinite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0202 -1.01343 L 3.84039E-006 0.01898 E">
                                      <p:cBhvr>
                                        <p:cTn id="763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1686 -1.03333 L 4.01325E-006 0.01898 E">
                                      <p:cBhvr>
                                        <p:cTn id="772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3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1686 -1.03333 L 4.01325E-006 0.01898 E">
                                      <p:cBhvr>
                                        <p:cTn id="774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5" dur="indefinite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0202 -1.01343 L 3.84039E-006 0.01898 E">
                                      <p:cBhvr>
                                        <p:cTn id="776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7" dur="indefinite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134 -1.05695 L -1.45779E-006 0.01898 E">
                                      <p:cBhvr>
                                        <p:cTn id="778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4 -0.97014 L -6.10775E-007 0.01898 E">
                                      <p:cBhvr>
                                        <p:cTn id="786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2500"/>
                            </p:stCondLst>
                            <p:childTnLst>
                              <p:par>
                                <p:cTn id="794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6" dur="250" autoRev="1" fill="hold"/>
                                        <p:tgtEl>
                                          <p:spTgt spid="2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9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 -0.99259 L -1.53558E-006 0.01898 E">
                                      <p:cBhvr>
                                        <p:cTn id="798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4 -1.01505 L 3.91818E-006 0.01898 E">
                                      <p:cBhvr>
                                        <p:cTn id="800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1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274 -0.97014 L -6.10775E-007 0.01898 E">
                                      <p:cBhvr>
                                        <p:cTn id="802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3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134 -1.01505 L 3.91818E-006 0.01898 E">
                                      <p:cBhvr>
                                        <p:cTn id="804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5" dur="indefinite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0202 -1.01343 L 3.84039E-006 0.01898 E">
                                      <p:cBhvr>
                                        <p:cTn id="806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7" dur="indefinite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134 -1.05695 L -1.45779E-006 0.01898 E">
                                      <p:cBhvr>
                                        <p:cTn id="808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9" dur="indefinite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134 -1.05695 L -1.45779E-006 0.01898 E">
                                      <p:cBhvr>
                                        <p:cTn id="810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1" dur="indefinite" nodeType="withEffect" fill="hold" presetClass="path" presetID="42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0.0085 -0.99259 L -1.53558E-006 0.01898 E">
                                      <p:cBhvr>
                                        <p:cTn id="812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101564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椭圆 14"/>
          <p:cNvSpPr/>
          <p:nvPr/>
        </p:nvSpPr>
        <p:spPr>
          <a:xfrm>
            <a:off x="2340000" y="7099200"/>
            <a:ext cx="8568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3" descr=""/>
          <p:cNvPicPr/>
          <p:nvPr/>
        </p:nvPicPr>
        <p:blipFill>
          <a:blip r:embed="rId2"/>
          <a:stretch/>
        </p:blipFill>
        <p:spPr>
          <a:xfrm>
            <a:off x="-106200" y="4437000"/>
            <a:ext cx="2073240" cy="3514680"/>
          </a:xfrm>
          <a:prstGeom prst="rect">
            <a:avLst/>
          </a:prstGeom>
          <a:ln w="0">
            <a:noFill/>
          </a:ln>
        </p:spPr>
      </p:pic>
      <p:sp>
        <p:nvSpPr>
          <p:cNvPr id="279" name="椭圆 15"/>
          <p:cNvSpPr/>
          <p:nvPr/>
        </p:nvSpPr>
        <p:spPr>
          <a:xfrm>
            <a:off x="2970360" y="7139160"/>
            <a:ext cx="4572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椭圆 16"/>
          <p:cNvSpPr/>
          <p:nvPr/>
        </p:nvSpPr>
        <p:spPr>
          <a:xfrm>
            <a:off x="1908000" y="741528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椭圆 17"/>
          <p:cNvSpPr/>
          <p:nvPr/>
        </p:nvSpPr>
        <p:spPr>
          <a:xfrm>
            <a:off x="3635280" y="7099200"/>
            <a:ext cx="8568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椭圆 18"/>
          <p:cNvSpPr/>
          <p:nvPr/>
        </p:nvSpPr>
        <p:spPr>
          <a:xfrm>
            <a:off x="4265640" y="7139160"/>
            <a:ext cx="4608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椭圆 19"/>
          <p:cNvSpPr/>
          <p:nvPr/>
        </p:nvSpPr>
        <p:spPr>
          <a:xfrm>
            <a:off x="3203640" y="741528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椭圆 26"/>
          <p:cNvSpPr/>
          <p:nvPr/>
        </p:nvSpPr>
        <p:spPr>
          <a:xfrm>
            <a:off x="5265720" y="7101000"/>
            <a:ext cx="8424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椭圆 27"/>
          <p:cNvSpPr/>
          <p:nvPr/>
        </p:nvSpPr>
        <p:spPr>
          <a:xfrm>
            <a:off x="5896080" y="714060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椭圆 28"/>
          <p:cNvSpPr/>
          <p:nvPr/>
        </p:nvSpPr>
        <p:spPr>
          <a:xfrm>
            <a:off x="4834080" y="7418520"/>
            <a:ext cx="4572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椭圆 29"/>
          <p:cNvSpPr/>
          <p:nvPr/>
        </p:nvSpPr>
        <p:spPr>
          <a:xfrm>
            <a:off x="6561000" y="7101000"/>
            <a:ext cx="8424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椭圆 30"/>
          <p:cNvSpPr/>
          <p:nvPr/>
        </p:nvSpPr>
        <p:spPr>
          <a:xfrm>
            <a:off x="7191360" y="714060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椭圆 31"/>
          <p:cNvSpPr/>
          <p:nvPr/>
        </p:nvSpPr>
        <p:spPr>
          <a:xfrm>
            <a:off x="6129360" y="741852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椭圆 32"/>
          <p:cNvSpPr/>
          <p:nvPr/>
        </p:nvSpPr>
        <p:spPr>
          <a:xfrm>
            <a:off x="8074080" y="7605720"/>
            <a:ext cx="85680" cy="8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33"/>
          <p:cNvSpPr/>
          <p:nvPr/>
        </p:nvSpPr>
        <p:spPr>
          <a:xfrm>
            <a:off x="8704440" y="7645320"/>
            <a:ext cx="4572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34"/>
          <p:cNvSpPr/>
          <p:nvPr/>
        </p:nvSpPr>
        <p:spPr>
          <a:xfrm>
            <a:off x="7642080" y="7921800"/>
            <a:ext cx="4464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椭圆 35"/>
          <p:cNvSpPr/>
          <p:nvPr/>
        </p:nvSpPr>
        <p:spPr>
          <a:xfrm>
            <a:off x="9369360" y="7605720"/>
            <a:ext cx="85680" cy="8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椭圆 36"/>
          <p:cNvSpPr/>
          <p:nvPr/>
        </p:nvSpPr>
        <p:spPr>
          <a:xfrm>
            <a:off x="9999720" y="764532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椭圆 37"/>
          <p:cNvSpPr/>
          <p:nvPr/>
        </p:nvSpPr>
        <p:spPr>
          <a:xfrm>
            <a:off x="8937720" y="7921800"/>
            <a:ext cx="4428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单圆角矩形 1"/>
          <p:cNvSpPr/>
          <p:nvPr/>
        </p:nvSpPr>
        <p:spPr>
          <a:xfrm rot="10800000">
            <a:off x="1402920" y="836280"/>
            <a:ext cx="9001080" cy="5184720"/>
          </a:xfrm>
          <a:prstGeom prst="pie">
            <a:avLst/>
          </a:prstGeom>
          <a:solidFill>
            <a:srgbClr val="ffc000">
              <a:alpha val="38000"/>
            </a:srgbClr>
          </a:solidFill>
          <a:ln w="2844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8"/>
          <p:cNvSpPr/>
          <p:nvPr/>
        </p:nvSpPr>
        <p:spPr>
          <a:xfrm>
            <a:off x="2916360" y="1738440"/>
            <a:ext cx="5832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方正大黑简体"/>
              </a:rPr>
              <a:t>狂欢盛宴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8"/>
          <p:cNvSpPr/>
          <p:nvPr/>
        </p:nvSpPr>
        <p:spPr>
          <a:xfrm>
            <a:off x="2335320" y="320508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方正大黑简体"/>
              </a:rPr>
              <a:t>自由发言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方正大黑简体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0712-3212-4401-BDDD-785C1FAF98B0}" type="slidenum">
              <a:t>11</a:t>
            </a:fld>
          </a:p>
        </p:txBody>
      </p:sp>
    </p:spTree>
  </p:cSld>
  <p:transition spd="slow" advTm="2000">
    <p:fade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4 -0.97014 L -6.10775E-007 0.01898 E">
                                      <p:cBhvr>
                                        <p:cTn id="822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3" dur="indefinite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1686 -1.03333 L 4.01325E-006 0.01898 E">
                                      <p:cBhvr>
                                        <p:cTn id="824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5" dur="indefinite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134 -1.01505 L 3.91818E-006 0.01898 E">
                                      <p:cBhvr>
                                        <p:cTn id="826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7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85 -0.99259 L -1.53558E-006 0.01898 E">
                                      <p:cBhvr>
                                        <p:cTn id="828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9" dur="indefinite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0202 -1.01343 L 3.84039E-006 0.01898 E">
                                      <p:cBhvr>
                                        <p:cTn id="830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1686 -1.03333 L 4.01325E-006 0.01898 E">
                                      <p:cBhvr>
                                        <p:cTn id="839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0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1686 -1.03333 L 4.01325E-006 0.01898 E">
                                      <p:cBhvr>
                                        <p:cTn id="841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2" dur="indefinite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0202 -1.01343 L 3.84039E-006 0.01898 E">
                                      <p:cBhvr>
                                        <p:cTn id="843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4" dur="indefinite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134 -1.05695 L -1.45779E-006 0.01898 E">
                                      <p:cBhvr>
                                        <p:cTn id="845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4 -0.97014 L -6.10775E-007 0.01898 E">
                                      <p:cBhvr>
                                        <p:cTn id="853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2500"/>
                            </p:stCondLst>
                            <p:childTnLst>
                              <p:par>
                                <p:cTn id="861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3" dur="250" autoRev="1" fill="hold"/>
                                        <p:tgtEl>
                                          <p:spTgt spid="2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6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 -0.99259 L -1.53558E-006 0.01898 E">
                                      <p:cBhvr>
                                        <p:cTn id="865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4 -1.01505 L 3.91818E-006 0.01898 E">
                                      <p:cBhvr>
                                        <p:cTn id="867" dur="2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8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274 -0.97014 L -6.10775E-007 0.01898 E">
                                      <p:cBhvr>
                                        <p:cTn id="869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0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134 -1.01505 L 3.91818E-006 0.01898 E">
                                      <p:cBhvr>
                                        <p:cTn id="871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2" dur="indefinite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0202 -1.01343 L 3.84039E-006 0.01898 E">
                                      <p:cBhvr>
                                        <p:cTn id="873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4" dur="indefinite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134 -1.05695 L -1.45779E-006 0.01898 E">
                                      <p:cBhvr>
                                        <p:cTn id="875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6" dur="indefinite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134 -1.05695 L -1.45779E-006 0.01898 E">
                                      <p:cBhvr>
                                        <p:cTn id="877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8" dur="indefinite" nodeType="withEffect" fill="hold" presetClass="path" presetID="42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0.0085 -0.99259 L -1.53558E-006 0.01898 E">
                                      <p:cBhvr>
                                        <p:cTn id="879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65200" y="189000"/>
            <a:ext cx="98884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0320" y="1269720"/>
            <a:ext cx="107568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8778960" y="333360"/>
            <a:ext cx="167472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22E9-3DD0-472E-83A8-067476512C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101564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椭圆 14"/>
          <p:cNvSpPr/>
          <p:nvPr/>
        </p:nvSpPr>
        <p:spPr>
          <a:xfrm>
            <a:off x="2340000" y="7099200"/>
            <a:ext cx="8568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3" descr=""/>
          <p:cNvPicPr/>
          <p:nvPr/>
        </p:nvPicPr>
        <p:blipFill>
          <a:blip r:embed="rId2"/>
          <a:stretch/>
        </p:blipFill>
        <p:spPr>
          <a:xfrm>
            <a:off x="-106200" y="4437000"/>
            <a:ext cx="2073240" cy="3514680"/>
          </a:xfrm>
          <a:prstGeom prst="rect">
            <a:avLst/>
          </a:prstGeom>
          <a:ln w="0">
            <a:noFill/>
          </a:ln>
        </p:spPr>
      </p:pic>
      <p:sp>
        <p:nvSpPr>
          <p:cNvPr id="305" name="椭圆 15"/>
          <p:cNvSpPr/>
          <p:nvPr/>
        </p:nvSpPr>
        <p:spPr>
          <a:xfrm>
            <a:off x="2970360" y="7139160"/>
            <a:ext cx="4572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椭圆 16"/>
          <p:cNvSpPr/>
          <p:nvPr/>
        </p:nvSpPr>
        <p:spPr>
          <a:xfrm>
            <a:off x="1908000" y="741528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椭圆 17"/>
          <p:cNvSpPr/>
          <p:nvPr/>
        </p:nvSpPr>
        <p:spPr>
          <a:xfrm>
            <a:off x="3635280" y="7099200"/>
            <a:ext cx="8568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椭圆 18"/>
          <p:cNvSpPr/>
          <p:nvPr/>
        </p:nvSpPr>
        <p:spPr>
          <a:xfrm>
            <a:off x="4265640" y="7139160"/>
            <a:ext cx="4608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椭圆 19"/>
          <p:cNvSpPr/>
          <p:nvPr/>
        </p:nvSpPr>
        <p:spPr>
          <a:xfrm>
            <a:off x="3203640" y="741528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椭圆 26"/>
          <p:cNvSpPr/>
          <p:nvPr/>
        </p:nvSpPr>
        <p:spPr>
          <a:xfrm>
            <a:off x="5265720" y="7101000"/>
            <a:ext cx="8424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椭圆 27"/>
          <p:cNvSpPr/>
          <p:nvPr/>
        </p:nvSpPr>
        <p:spPr>
          <a:xfrm>
            <a:off x="5896080" y="714060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椭圆 28"/>
          <p:cNvSpPr/>
          <p:nvPr/>
        </p:nvSpPr>
        <p:spPr>
          <a:xfrm>
            <a:off x="4834080" y="7418520"/>
            <a:ext cx="4572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椭圆 29"/>
          <p:cNvSpPr/>
          <p:nvPr/>
        </p:nvSpPr>
        <p:spPr>
          <a:xfrm>
            <a:off x="6561000" y="7101000"/>
            <a:ext cx="8424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椭圆 30"/>
          <p:cNvSpPr/>
          <p:nvPr/>
        </p:nvSpPr>
        <p:spPr>
          <a:xfrm>
            <a:off x="7191360" y="714060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椭圆 31"/>
          <p:cNvSpPr/>
          <p:nvPr/>
        </p:nvSpPr>
        <p:spPr>
          <a:xfrm>
            <a:off x="6129360" y="741852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32"/>
          <p:cNvSpPr/>
          <p:nvPr/>
        </p:nvSpPr>
        <p:spPr>
          <a:xfrm>
            <a:off x="8074080" y="7605720"/>
            <a:ext cx="85680" cy="8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33"/>
          <p:cNvSpPr/>
          <p:nvPr/>
        </p:nvSpPr>
        <p:spPr>
          <a:xfrm>
            <a:off x="8704440" y="7645320"/>
            <a:ext cx="4572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34"/>
          <p:cNvSpPr/>
          <p:nvPr/>
        </p:nvSpPr>
        <p:spPr>
          <a:xfrm>
            <a:off x="7642080" y="7921800"/>
            <a:ext cx="4464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35"/>
          <p:cNvSpPr/>
          <p:nvPr/>
        </p:nvSpPr>
        <p:spPr>
          <a:xfrm>
            <a:off x="9369360" y="7605720"/>
            <a:ext cx="85680" cy="8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36"/>
          <p:cNvSpPr/>
          <p:nvPr/>
        </p:nvSpPr>
        <p:spPr>
          <a:xfrm>
            <a:off x="9999720" y="764532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椭圆 37"/>
          <p:cNvSpPr/>
          <p:nvPr/>
        </p:nvSpPr>
        <p:spPr>
          <a:xfrm>
            <a:off x="8937720" y="7921800"/>
            <a:ext cx="4428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单圆角矩形 1"/>
          <p:cNvSpPr/>
          <p:nvPr/>
        </p:nvSpPr>
        <p:spPr>
          <a:xfrm rot="10800000">
            <a:off x="1402920" y="836280"/>
            <a:ext cx="9001080" cy="5184720"/>
          </a:xfrm>
          <a:prstGeom prst="pie">
            <a:avLst/>
          </a:prstGeom>
          <a:solidFill>
            <a:srgbClr val="ffc000">
              <a:alpha val="38000"/>
            </a:srgbClr>
          </a:solidFill>
          <a:ln w="2844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8"/>
          <p:cNvSpPr/>
          <p:nvPr/>
        </p:nvSpPr>
        <p:spPr>
          <a:xfrm>
            <a:off x="2916360" y="1738440"/>
            <a:ext cx="5832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方正大黑简体"/>
              </a:rPr>
              <a:t>狂欢盛宴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8"/>
          <p:cNvSpPr/>
          <p:nvPr/>
        </p:nvSpPr>
        <p:spPr>
          <a:xfrm>
            <a:off x="3060720" y="320508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方正大黑简体"/>
              </a:rPr>
              <a:t>大家自由发言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方正大黑简体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705040" y="5448240"/>
            <a:ext cx="580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EAF8-16D2-40CE-8675-B49244C9513E}" type="slidenum">
              <a:t>13</a:t>
            </a:fld>
          </a:p>
        </p:txBody>
      </p:sp>
    </p:spTree>
  </p:cSld>
  <p:transition spd="slow" advTm="2000">
    <p:fade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4 -0.97014 L -6.10775E-007 0.01898 E">
                                      <p:cBhvr>
                                        <p:cTn id="889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0" dur="indefinite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1686 -1.03333 L 4.01325E-006 0.01898 E">
                                      <p:cBhvr>
                                        <p:cTn id="891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2" dur="indefinite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134 -1.01505 L 3.91818E-006 0.01898 E">
                                      <p:cBhvr>
                                        <p:cTn id="893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4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85 -0.99259 L -1.53558E-006 0.01898 E">
                                      <p:cBhvr>
                                        <p:cTn id="895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6" dur="indefinite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0202 -1.01343 L 3.84039E-006 0.01898 E">
                                      <p:cBhvr>
                                        <p:cTn id="897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1686 -1.03333 L 4.01325E-006 0.01898 E">
                                      <p:cBhvr>
                                        <p:cTn id="906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7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1686 -1.03333 L 4.01325E-006 0.01898 E">
                                      <p:cBhvr>
                                        <p:cTn id="908" dur="2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9" dur="indefinite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0202 -1.01343 L 3.84039E-006 0.01898 E">
                                      <p:cBhvr>
                                        <p:cTn id="910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1" dur="indefinite" nodeType="withEffect" fill="hold" presetClass="path" presetID="42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0134 -1.05695 L -1.45779E-006 0.01898 E">
                                      <p:cBhvr>
                                        <p:cTn id="912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4 -0.97014 L -6.10775E-007 0.01898 E">
                                      <p:cBhvr>
                                        <p:cTn id="920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2500"/>
                            </p:stCondLst>
                            <p:childTnLst>
                              <p:par>
                                <p:cTn id="928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0" dur="250" autoRev="1" fill="hold"/>
                                        <p:tgtEl>
                                          <p:spTgt spid="3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3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 -0.99259 L -1.53558E-006 0.01898 E">
                                      <p:cBhvr>
                                        <p:cTn id="932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4 -1.01505 L 3.91818E-006 0.01898 E">
                                      <p:cBhvr>
                                        <p:cTn id="934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5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274 -0.97014 L -6.10775E-007 0.01898 E">
                                      <p:cBhvr>
                                        <p:cTn id="936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7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134 -1.01505 L 3.91818E-006 0.01898 E">
                                      <p:cBhvr>
                                        <p:cTn id="938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9" dur="indefinite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0202 -1.01343 L 3.84039E-006 0.01898 E">
                                      <p:cBhvr>
                                        <p:cTn id="940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1" dur="indefinite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134 -1.05695 L -1.45779E-006 0.01898 E">
                                      <p:cBhvr>
                                        <p:cTn id="942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3" dur="indefinite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134 -1.05695 L -1.45779E-006 0.01898 E">
                                      <p:cBhvr>
                                        <p:cTn id="944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5" dur="indefinite" nodeType="withEffect" fill="hold" presetClass="path" presetID="42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0.0085 -0.99259 L -1.53558E-006 0.01898 E">
                                      <p:cBhvr>
                                        <p:cTn id="946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101564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椭圆 14"/>
          <p:cNvSpPr/>
          <p:nvPr/>
        </p:nvSpPr>
        <p:spPr>
          <a:xfrm>
            <a:off x="2340000" y="7099200"/>
            <a:ext cx="8568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3" descr=""/>
          <p:cNvPicPr/>
          <p:nvPr/>
        </p:nvPicPr>
        <p:blipFill>
          <a:blip r:embed="rId2"/>
          <a:stretch/>
        </p:blipFill>
        <p:spPr>
          <a:xfrm>
            <a:off x="-106200" y="4437000"/>
            <a:ext cx="2073240" cy="3514680"/>
          </a:xfrm>
          <a:prstGeom prst="rect">
            <a:avLst/>
          </a:prstGeom>
          <a:ln w="0">
            <a:noFill/>
          </a:ln>
        </p:spPr>
      </p:pic>
      <p:sp>
        <p:nvSpPr>
          <p:cNvPr id="329" name="椭圆 15"/>
          <p:cNvSpPr/>
          <p:nvPr/>
        </p:nvSpPr>
        <p:spPr>
          <a:xfrm>
            <a:off x="2970360" y="7139160"/>
            <a:ext cx="4572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椭圆 16"/>
          <p:cNvSpPr/>
          <p:nvPr/>
        </p:nvSpPr>
        <p:spPr>
          <a:xfrm>
            <a:off x="1908000" y="741528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17"/>
          <p:cNvSpPr/>
          <p:nvPr/>
        </p:nvSpPr>
        <p:spPr>
          <a:xfrm>
            <a:off x="3635280" y="7099200"/>
            <a:ext cx="8568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椭圆 18"/>
          <p:cNvSpPr/>
          <p:nvPr/>
        </p:nvSpPr>
        <p:spPr>
          <a:xfrm>
            <a:off x="4265640" y="7139160"/>
            <a:ext cx="4608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椭圆 19"/>
          <p:cNvSpPr/>
          <p:nvPr/>
        </p:nvSpPr>
        <p:spPr>
          <a:xfrm>
            <a:off x="3203640" y="741528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椭圆 26"/>
          <p:cNvSpPr/>
          <p:nvPr/>
        </p:nvSpPr>
        <p:spPr>
          <a:xfrm>
            <a:off x="5265720" y="7101000"/>
            <a:ext cx="8424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椭圆 27"/>
          <p:cNvSpPr/>
          <p:nvPr/>
        </p:nvSpPr>
        <p:spPr>
          <a:xfrm>
            <a:off x="5896080" y="714060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椭圆 28"/>
          <p:cNvSpPr/>
          <p:nvPr/>
        </p:nvSpPr>
        <p:spPr>
          <a:xfrm>
            <a:off x="4834080" y="7418520"/>
            <a:ext cx="4572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椭圆 29"/>
          <p:cNvSpPr/>
          <p:nvPr/>
        </p:nvSpPr>
        <p:spPr>
          <a:xfrm>
            <a:off x="6561000" y="7101000"/>
            <a:ext cx="8424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30"/>
          <p:cNvSpPr/>
          <p:nvPr/>
        </p:nvSpPr>
        <p:spPr>
          <a:xfrm>
            <a:off x="7191360" y="714060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椭圆 31"/>
          <p:cNvSpPr/>
          <p:nvPr/>
        </p:nvSpPr>
        <p:spPr>
          <a:xfrm>
            <a:off x="6129360" y="741852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椭圆 32"/>
          <p:cNvSpPr/>
          <p:nvPr/>
        </p:nvSpPr>
        <p:spPr>
          <a:xfrm>
            <a:off x="8074080" y="7605720"/>
            <a:ext cx="85680" cy="8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椭圆 33"/>
          <p:cNvSpPr/>
          <p:nvPr/>
        </p:nvSpPr>
        <p:spPr>
          <a:xfrm>
            <a:off x="8704440" y="7645320"/>
            <a:ext cx="4572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椭圆 34"/>
          <p:cNvSpPr/>
          <p:nvPr/>
        </p:nvSpPr>
        <p:spPr>
          <a:xfrm>
            <a:off x="7642080" y="7921800"/>
            <a:ext cx="4464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35"/>
          <p:cNvSpPr/>
          <p:nvPr/>
        </p:nvSpPr>
        <p:spPr>
          <a:xfrm>
            <a:off x="9369360" y="7605720"/>
            <a:ext cx="85680" cy="8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椭圆 36"/>
          <p:cNvSpPr/>
          <p:nvPr/>
        </p:nvSpPr>
        <p:spPr>
          <a:xfrm>
            <a:off x="9999720" y="764532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椭圆 37"/>
          <p:cNvSpPr/>
          <p:nvPr/>
        </p:nvSpPr>
        <p:spPr>
          <a:xfrm>
            <a:off x="8937720" y="7921800"/>
            <a:ext cx="4428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6" descr=""/>
          <p:cNvPicPr/>
          <p:nvPr/>
        </p:nvPicPr>
        <p:blipFill>
          <a:blip r:embed="rId3"/>
          <a:stretch/>
        </p:blipFill>
        <p:spPr>
          <a:xfrm>
            <a:off x="6284880" y="-3432240"/>
            <a:ext cx="4353120" cy="29037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8" descr=""/>
          <p:cNvPicPr/>
          <p:nvPr/>
        </p:nvPicPr>
        <p:blipFill>
          <a:blip r:embed="rId4"/>
          <a:stretch/>
        </p:blipFill>
        <p:spPr>
          <a:xfrm>
            <a:off x="3995640" y="7029360"/>
            <a:ext cx="4754520" cy="51847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0" descr=""/>
          <p:cNvPicPr/>
          <p:nvPr/>
        </p:nvPicPr>
        <p:blipFill>
          <a:blip r:embed="rId5"/>
          <a:stretch/>
        </p:blipFill>
        <p:spPr>
          <a:xfrm>
            <a:off x="987480" y="-5813280"/>
            <a:ext cx="4518000" cy="3843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6"/>
          <a:srcRect l="0" t="0" r="0" b="21932"/>
          <a:stretch/>
        </p:blipFill>
        <p:spPr>
          <a:xfrm>
            <a:off x="11701440" y="333360"/>
            <a:ext cx="6645240" cy="36831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50" name="Picture 4" descr=""/>
          <p:cNvPicPr/>
          <p:nvPr/>
        </p:nvPicPr>
        <p:blipFill>
          <a:blip r:embed="rId7"/>
          <a:srcRect l="0" t="21603" r="0" b="0"/>
          <a:stretch/>
        </p:blipFill>
        <p:spPr>
          <a:xfrm>
            <a:off x="-7129440" y="3213000"/>
            <a:ext cx="6667560" cy="34768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51" name="Picture 2" descr=""/>
          <p:cNvPicPr/>
          <p:nvPr/>
        </p:nvPicPr>
        <p:blipFill>
          <a:blip r:embed="rId8"/>
          <a:stretch/>
        </p:blipFill>
        <p:spPr>
          <a:xfrm>
            <a:off x="11917440" y="1506600"/>
            <a:ext cx="6264360" cy="4160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" descr=""/>
          <p:cNvPicPr/>
          <p:nvPr/>
        </p:nvPicPr>
        <p:blipFill>
          <a:blip r:embed="rId9"/>
          <a:stretch/>
        </p:blipFill>
        <p:spPr>
          <a:xfrm>
            <a:off x="-8377200" y="1030320"/>
            <a:ext cx="8186760" cy="47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FC37-C55F-4059-9DBA-8476F89A1B6D}" type="slidenum">
              <a:t>14</a:t>
            </a:fld>
          </a:p>
        </p:txBody>
      </p:sp>
    </p:spTree>
  </p:cSld>
  <p:transition spd="slow" advTm="2000">
    <p:fade/>
  </p:transition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0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4 -0.97014 L -6.10775E-007 0.01898 E">
                                      <p:cBhvr>
                                        <p:cTn id="952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3" dur="indefinite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1686 -1.03333 L 4.01325E-006 0.01898 E">
                                      <p:cBhvr>
                                        <p:cTn id="954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dur="indefinite" nodeType="click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325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325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dur="indefinite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134 -1.01505 L 3.91818E-006 0.01898 E">
                                      <p:cBhvr>
                                        <p:cTn id="962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3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85 -0.99259 L -1.53558E-006 0.01898 E">
                                      <p:cBhvr>
                                        <p:cTn id="964" dur="2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2 -1.01343 L 3.84039E-006 0.01898 E">
                                      <p:cBhvr>
                                        <p:cTn id="966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7" dur="indefinite" nodeType="withEffect" fill="hold" presetClass="entr" presetID="2" presetSubtype="4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325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325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dur="indefinite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1686 -1.03333 L 4.01325E-006 0.01898 E">
                                      <p:cBhvr>
                                        <p:cTn id="972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3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1686 -1.03333 L 4.01325E-006 0.01898 E">
                                      <p:cBhvr>
                                        <p:cTn id="974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5" dur="indefinite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325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325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9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202 -1.01343 L 3.84039E-006 0.01898 E">
                                      <p:cBhvr>
                                        <p:cTn id="980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1" dur="indefinite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134 -1.05695 L -1.45779E-006 0.01898 E">
                                      <p:cBhvr>
                                        <p:cTn id="982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3" dur="indefinite" nodeType="withEffect" fill="hold" presetClass="path" presetID="42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.00274 -0.97014 L -6.10775E-007 0.01898 E">
                                      <p:cBhvr>
                                        <p:cTn id="984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5000"/>
                            </p:stCondLst>
                            <p:childTnLst>
                              <p:par>
                                <p:cTn id="98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5500"/>
                            </p:stCondLst>
                            <p:childTnLst>
                              <p:par>
                                <p:cTn id="992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4" dur="250" autoRev="1" fill="hold"/>
                                        <p:tgtEl>
                                          <p:spTgt spid="3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9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 -0.99259 L -1.53558E-006 0.01898 E">
                                      <p:cBhvr>
                                        <p:cTn id="996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4 -1.01505 L 3.91818E-006 0.01898 E">
                                      <p:cBhvr>
                                        <p:cTn id="998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9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274 -0.97014 L -6.10775E-007 0.01898 E">
                                      <p:cBhvr>
                                        <p:cTn id="1000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1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134 -1.01505 L 3.91818E-006 0.01898 E">
                                      <p:cBhvr>
                                        <p:cTn id="1002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3" dur="indefinite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0202 -1.01343 L 3.84039E-006 0.01898 E">
                                      <p:cBhvr>
                                        <p:cTn id="1004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5" dur="indefinite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134 -1.05695 L -1.45779E-006 0.01898 E">
                                      <p:cBhvr>
                                        <p:cTn id="1006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7" dur="indefinite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134 -1.05695 L -1.45779E-006 0.01898 E">
                                      <p:cBhvr>
                                        <p:cTn id="1008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9" dur="indefinite" nodeType="withEffect" fill="hold" presetClass="path" presetID="42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0.0085 -0.99259 L -1.53558E-006 0.01898 E">
                                      <p:cBhvr>
                                        <p:cTn id="1010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4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4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dur="indefinite" nodeType="withEffect" fill="hold" presetClass="entr" presetID="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4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4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4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4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4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4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101564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椭圆 14"/>
          <p:cNvSpPr/>
          <p:nvPr/>
        </p:nvSpPr>
        <p:spPr>
          <a:xfrm>
            <a:off x="2340000" y="7099200"/>
            <a:ext cx="8568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2"/>
          <a:stretch/>
        </p:blipFill>
        <p:spPr>
          <a:xfrm>
            <a:off x="-106200" y="4437000"/>
            <a:ext cx="2073240" cy="3514680"/>
          </a:xfrm>
          <a:prstGeom prst="rect">
            <a:avLst/>
          </a:prstGeom>
          <a:ln w="0">
            <a:noFill/>
          </a:ln>
        </p:spPr>
      </p:pic>
      <p:sp>
        <p:nvSpPr>
          <p:cNvPr id="356" name="椭圆 15"/>
          <p:cNvSpPr/>
          <p:nvPr/>
        </p:nvSpPr>
        <p:spPr>
          <a:xfrm>
            <a:off x="2970360" y="7139160"/>
            <a:ext cx="4572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椭圆 16"/>
          <p:cNvSpPr/>
          <p:nvPr/>
        </p:nvSpPr>
        <p:spPr>
          <a:xfrm>
            <a:off x="1908000" y="741528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椭圆 17"/>
          <p:cNvSpPr/>
          <p:nvPr/>
        </p:nvSpPr>
        <p:spPr>
          <a:xfrm>
            <a:off x="3635280" y="7099200"/>
            <a:ext cx="8568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椭圆 18"/>
          <p:cNvSpPr/>
          <p:nvPr/>
        </p:nvSpPr>
        <p:spPr>
          <a:xfrm>
            <a:off x="4265640" y="7139160"/>
            <a:ext cx="4608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椭圆 19"/>
          <p:cNvSpPr/>
          <p:nvPr/>
        </p:nvSpPr>
        <p:spPr>
          <a:xfrm>
            <a:off x="3203640" y="741528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椭圆 26"/>
          <p:cNvSpPr/>
          <p:nvPr/>
        </p:nvSpPr>
        <p:spPr>
          <a:xfrm>
            <a:off x="5265720" y="7101000"/>
            <a:ext cx="8424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椭圆 27"/>
          <p:cNvSpPr/>
          <p:nvPr/>
        </p:nvSpPr>
        <p:spPr>
          <a:xfrm>
            <a:off x="5896080" y="714060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椭圆 28"/>
          <p:cNvSpPr/>
          <p:nvPr/>
        </p:nvSpPr>
        <p:spPr>
          <a:xfrm>
            <a:off x="4834080" y="7418520"/>
            <a:ext cx="4572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椭圆 29"/>
          <p:cNvSpPr/>
          <p:nvPr/>
        </p:nvSpPr>
        <p:spPr>
          <a:xfrm>
            <a:off x="6561000" y="7101000"/>
            <a:ext cx="8424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椭圆 30"/>
          <p:cNvSpPr/>
          <p:nvPr/>
        </p:nvSpPr>
        <p:spPr>
          <a:xfrm>
            <a:off x="7191360" y="714060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椭圆 31"/>
          <p:cNvSpPr/>
          <p:nvPr/>
        </p:nvSpPr>
        <p:spPr>
          <a:xfrm>
            <a:off x="6129360" y="741852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椭圆 32"/>
          <p:cNvSpPr/>
          <p:nvPr/>
        </p:nvSpPr>
        <p:spPr>
          <a:xfrm>
            <a:off x="8074080" y="7605720"/>
            <a:ext cx="85680" cy="8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椭圆 33"/>
          <p:cNvSpPr/>
          <p:nvPr/>
        </p:nvSpPr>
        <p:spPr>
          <a:xfrm>
            <a:off x="8704440" y="7645320"/>
            <a:ext cx="4572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椭圆 34"/>
          <p:cNvSpPr/>
          <p:nvPr/>
        </p:nvSpPr>
        <p:spPr>
          <a:xfrm>
            <a:off x="7642080" y="7921800"/>
            <a:ext cx="4464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椭圆 35"/>
          <p:cNvSpPr/>
          <p:nvPr/>
        </p:nvSpPr>
        <p:spPr>
          <a:xfrm>
            <a:off x="9369360" y="7605720"/>
            <a:ext cx="85680" cy="8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椭圆 36"/>
          <p:cNvSpPr/>
          <p:nvPr/>
        </p:nvSpPr>
        <p:spPr>
          <a:xfrm>
            <a:off x="9999720" y="764532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椭圆 37"/>
          <p:cNvSpPr/>
          <p:nvPr/>
        </p:nvSpPr>
        <p:spPr>
          <a:xfrm>
            <a:off x="8937720" y="7921800"/>
            <a:ext cx="4428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8"/>
          <p:cNvSpPr/>
          <p:nvPr/>
        </p:nvSpPr>
        <p:spPr>
          <a:xfrm>
            <a:off x="-393840" y="2127240"/>
            <a:ext cx="1177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方正大黑简体"/>
              </a:rPr>
              <a:t>团结拼搏  再创辉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BB2A-DE23-480C-888E-F72CD08E21C0}" type="slidenum">
              <a:t>15</a:t>
            </a:fld>
          </a:p>
        </p:txBody>
      </p:sp>
    </p:spTree>
  </p:cSld>
  <p:transition spd="slow" advTm="2000">
    <p:fade/>
  </p:transition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0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4 -0.97014 L -6.10775E-007 0.01898 E">
                                      <p:cBhvr>
                                        <p:cTn id="1038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86 -1.03333 L 4.01325E-006 0.01898 E">
                                      <p:cBhvr>
                                        <p:cTn id="1040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4 -1.01505 L 3.91818E-006 0.01898 E">
                                      <p:cBhvr>
                                        <p:cTn id="1042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 -0.99259 L -1.53558E-006 0.01898 E">
                                      <p:cBhvr>
                                        <p:cTn id="1044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2 -1.01343 L 3.84039E-006 0.01898 E">
                                      <p:cBhvr>
                                        <p:cTn id="1046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86 -1.03333 L 4.01325E-006 0.01898 E">
                                      <p:cBhvr>
                                        <p:cTn id="1055" dur="2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86 -1.03333 L 4.01325E-006 0.01898 E">
                                      <p:cBhvr>
                                        <p:cTn id="1057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2 -1.01343 L 3.84039E-006 0.01898 E">
                                      <p:cBhvr>
                                        <p:cTn id="1059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4 -1.05695 L -1.45779E-006 0.01898 E">
                                      <p:cBhvr>
                                        <p:cTn id="1061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4 -0.97014 L -6.10775E-007 0.01898 E">
                                      <p:cBhvr>
                                        <p:cTn id="1063" dur="2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1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3" dur="250" autoRev="1" fill="hold"/>
                                        <p:tgtEl>
                                          <p:spTgt spid="3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7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 -0.99259 L -1.53558E-006 0.01898 E">
                                      <p:cBhvr>
                                        <p:cTn id="1075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4 -1.01505 L 3.91818E-006 0.01898 E">
                                      <p:cBhvr>
                                        <p:cTn id="1077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8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274 -0.97014 L -6.10775E-007 0.01898 E">
                                      <p:cBhvr>
                                        <p:cTn id="1079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0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134 -1.01505 L 3.91818E-006 0.01898 E">
                                      <p:cBhvr>
                                        <p:cTn id="1081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2" dur="indefinite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0202 -1.01343 L 3.84039E-006 0.01898 E">
                                      <p:cBhvr>
                                        <p:cTn id="1083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4" dur="indefinite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134 -1.05695 L -1.45779E-006 0.01898 E">
                                      <p:cBhvr>
                                        <p:cTn id="1085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6" dur="indefinite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134 -1.05695 L -1.45779E-006 0.01898 E">
                                      <p:cBhvr>
                                        <p:cTn id="1087" dur="2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8" dur="indefinite" nodeType="withEffect" fill="hold" presetClass="path" presetID="42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0.0085 -0.99259 L -1.53558E-006 0.01898 E">
                                      <p:cBhvr>
                                        <p:cTn id="1089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10156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椭圆 14"/>
          <p:cNvSpPr/>
          <p:nvPr/>
        </p:nvSpPr>
        <p:spPr>
          <a:xfrm>
            <a:off x="2340000" y="7099200"/>
            <a:ext cx="8568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-106200" y="4437000"/>
            <a:ext cx="2073240" cy="3514680"/>
          </a:xfrm>
          <a:prstGeom prst="rect">
            <a:avLst/>
          </a:prstGeom>
          <a:ln w="0">
            <a:noFill/>
          </a:ln>
        </p:spPr>
      </p:pic>
      <p:sp>
        <p:nvSpPr>
          <p:cNvPr id="64" name="椭圆 15"/>
          <p:cNvSpPr/>
          <p:nvPr/>
        </p:nvSpPr>
        <p:spPr>
          <a:xfrm>
            <a:off x="2970360" y="7139160"/>
            <a:ext cx="4572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16"/>
          <p:cNvSpPr/>
          <p:nvPr/>
        </p:nvSpPr>
        <p:spPr>
          <a:xfrm>
            <a:off x="1908000" y="741528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17"/>
          <p:cNvSpPr/>
          <p:nvPr/>
        </p:nvSpPr>
        <p:spPr>
          <a:xfrm>
            <a:off x="3635280" y="7099200"/>
            <a:ext cx="8568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18"/>
          <p:cNvSpPr/>
          <p:nvPr/>
        </p:nvSpPr>
        <p:spPr>
          <a:xfrm>
            <a:off x="4265640" y="7139160"/>
            <a:ext cx="4608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19"/>
          <p:cNvSpPr/>
          <p:nvPr/>
        </p:nvSpPr>
        <p:spPr>
          <a:xfrm>
            <a:off x="3203640" y="741528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26"/>
          <p:cNvSpPr/>
          <p:nvPr/>
        </p:nvSpPr>
        <p:spPr>
          <a:xfrm>
            <a:off x="5265720" y="7101000"/>
            <a:ext cx="8424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27"/>
          <p:cNvSpPr/>
          <p:nvPr/>
        </p:nvSpPr>
        <p:spPr>
          <a:xfrm>
            <a:off x="5896080" y="714060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28"/>
          <p:cNvSpPr/>
          <p:nvPr/>
        </p:nvSpPr>
        <p:spPr>
          <a:xfrm>
            <a:off x="4834080" y="7418520"/>
            <a:ext cx="4572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29"/>
          <p:cNvSpPr/>
          <p:nvPr/>
        </p:nvSpPr>
        <p:spPr>
          <a:xfrm>
            <a:off x="6561000" y="7101000"/>
            <a:ext cx="8424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30"/>
          <p:cNvSpPr/>
          <p:nvPr/>
        </p:nvSpPr>
        <p:spPr>
          <a:xfrm>
            <a:off x="7191360" y="714060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31"/>
          <p:cNvSpPr/>
          <p:nvPr/>
        </p:nvSpPr>
        <p:spPr>
          <a:xfrm>
            <a:off x="6129360" y="741852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32"/>
          <p:cNvSpPr/>
          <p:nvPr/>
        </p:nvSpPr>
        <p:spPr>
          <a:xfrm>
            <a:off x="8074080" y="7605720"/>
            <a:ext cx="85680" cy="8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33"/>
          <p:cNvSpPr/>
          <p:nvPr/>
        </p:nvSpPr>
        <p:spPr>
          <a:xfrm>
            <a:off x="8704440" y="7645320"/>
            <a:ext cx="4572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34"/>
          <p:cNvSpPr/>
          <p:nvPr/>
        </p:nvSpPr>
        <p:spPr>
          <a:xfrm>
            <a:off x="7642080" y="7921800"/>
            <a:ext cx="4464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35"/>
          <p:cNvSpPr/>
          <p:nvPr/>
        </p:nvSpPr>
        <p:spPr>
          <a:xfrm>
            <a:off x="9369360" y="7605720"/>
            <a:ext cx="85680" cy="8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36"/>
          <p:cNvSpPr/>
          <p:nvPr/>
        </p:nvSpPr>
        <p:spPr>
          <a:xfrm>
            <a:off x="9999720" y="764532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37"/>
          <p:cNvSpPr/>
          <p:nvPr/>
        </p:nvSpPr>
        <p:spPr>
          <a:xfrm>
            <a:off x="8937720" y="7921800"/>
            <a:ext cx="4428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单圆角矩形 1"/>
          <p:cNvSpPr/>
          <p:nvPr/>
        </p:nvSpPr>
        <p:spPr>
          <a:xfrm rot="10800000">
            <a:off x="1402920" y="836280"/>
            <a:ext cx="9001080" cy="5184720"/>
          </a:xfrm>
          <a:prstGeom prst="pie">
            <a:avLst/>
          </a:prstGeom>
          <a:solidFill>
            <a:srgbClr val="ffc000">
              <a:alpha val="38000"/>
            </a:srgbClr>
          </a:solidFill>
          <a:ln w="2844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4"/>
          <p:cNvSpPr/>
          <p:nvPr/>
        </p:nvSpPr>
        <p:spPr>
          <a:xfrm flipV="1">
            <a:off x="1547640" y="1557360"/>
            <a:ext cx="8641080" cy="712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8"/>
          <p:cNvSpPr/>
          <p:nvPr/>
        </p:nvSpPr>
        <p:spPr>
          <a:xfrm>
            <a:off x="7521480" y="836640"/>
            <a:ext cx="26672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  <a:ea typeface="方正大黑简体"/>
              </a:rPr>
              <a:t>领导寄语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8"/>
          <p:cNvSpPr/>
          <p:nvPr/>
        </p:nvSpPr>
        <p:spPr>
          <a:xfrm>
            <a:off x="6013440" y="1824120"/>
            <a:ext cx="3600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光阴荏苒，在忙忙碌碌中送走了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这一年对本人来说还是收获颇多，首先是自身业务的提高，其次是与部门之间的沟通比以前相对顺畅。当然这些进步与公司领导的帮助和关心是分不开的。现在就这些进步与同仁探讨，以便相互进步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优秀的企业需要优秀的团队，作为这个团队的一份子，为这个团队的成长贡献自己微薄力量是自己义不容辞的责任。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已经到来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本人将继续以满怀热情投入到自己的本职工作，为公司的发展贡献自己的力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3"/>
          <a:srcRect l="0" t="0" r="0" b="21932"/>
          <a:stretch/>
        </p:blipFill>
        <p:spPr>
          <a:xfrm>
            <a:off x="2292480" y="1927080"/>
            <a:ext cx="3228840" cy="17910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86" name="Picture 4" descr=""/>
          <p:cNvPicPr/>
          <p:nvPr/>
        </p:nvPicPr>
        <p:blipFill>
          <a:blip r:embed="rId4"/>
          <a:srcRect l="0" t="21603" r="0" b="0"/>
          <a:stretch/>
        </p:blipFill>
        <p:spPr>
          <a:xfrm>
            <a:off x="2292480" y="3848040"/>
            <a:ext cx="3240000" cy="16891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CA18-E9C5-4EF7-B048-DD7EAD922DD7}" type="slidenum">
              <a:t>2</a:t>
            </a:fld>
          </a:p>
        </p:txBody>
      </p:sp>
    </p:spTree>
  </p:cSld>
  <p:transition spd="slow" advTm="2000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4 -0.97014 L -6.10775E-007 0.01898 E">
                                      <p:cBhvr>
                                        <p:cTn id="186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1686 -1.03333 L 4.01325E-006 0.01898 E">
                                      <p:cBhvr>
                                        <p:cTn id="188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600"/>
                            </p:stCondLst>
                            <p:childTnLst>
                              <p:par>
                                <p:cTn id="193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7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7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7" dur="7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134 -1.01505 L 3.91818E-006 0.01898 E">
                                      <p:cBhvr>
                                        <p:cTn id="199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85 -0.99259 L -1.53558E-006 0.01898 E">
                                      <p:cBhvr>
                                        <p:cTn id="201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900"/>
                            </p:stCondLst>
                            <p:childTnLst>
                              <p:par>
                                <p:cTn id="203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7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7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7" dur="7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0202 -1.01343 L 3.84039E-006 0.01898 E">
                                      <p:cBhvr>
                                        <p:cTn id="209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86 -1.03333 L 4.01325E-006 0.01898 E">
                                      <p:cBhvr>
                                        <p:cTn id="211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7300"/>
                            </p:stCondLst>
                            <p:childTnLst>
                              <p:par>
                                <p:cTn id="213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1686 -1.03333 L 4.01325E-006 0.01898 E">
                                      <p:cBhvr>
                                        <p:cTn id="219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2 -1.01343 L 3.84039E-006 0.01898 E">
                                      <p:cBhvr>
                                        <p:cTn id="221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9800"/>
                            </p:stCondLst>
                            <p:childTnLst>
                              <p:par>
                                <p:cTn id="223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4 -1.05695 L -1.45779E-006 0.01898 E">
                                      <p:cBhvr>
                                        <p:cTn id="229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4 -0.97014 L -6.10775E-007 0.01898 E">
                                      <p:cBhvr>
                                        <p:cTn id="231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1800"/>
                            </p:stCondLst>
                            <p:childTnLst>
                              <p:par>
                                <p:cTn id="2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2300"/>
                            </p:stCondLst>
                            <p:childTnLst>
                              <p:par>
                                <p:cTn id="239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 -0.99259 L -1.53558E-006 0.01898 E">
                                      <p:cBhvr>
                                        <p:cTn id="243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4 -1.01505 L 3.91818E-006 0.01898 E">
                                      <p:cBhvr>
                                        <p:cTn id="245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274 -0.97014 L -6.10775E-007 0.01898 E">
                                      <p:cBhvr>
                                        <p:cTn id="247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134 -1.01505 L 3.91818E-006 0.01898 E">
                                      <p:cBhvr>
                                        <p:cTn id="249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0202 -1.01343 L 3.84039E-006 0.01898 E">
                                      <p:cBhvr>
                                        <p:cTn id="251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134 -1.05695 L -1.45779E-006 0.01898 E">
                                      <p:cBhvr>
                                        <p:cTn id="253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134 -1.05695 L -1.45779E-006 0.01898 E">
                                      <p:cBhvr>
                                        <p:cTn id="255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path" presetID="42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0.0085 -0.99259 L -1.53558E-006 0.01898 E">
                                      <p:cBhvr>
                                        <p:cTn id="257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101564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椭圆 14"/>
          <p:cNvSpPr/>
          <p:nvPr/>
        </p:nvSpPr>
        <p:spPr>
          <a:xfrm>
            <a:off x="2340000" y="7099200"/>
            <a:ext cx="8568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-106200" y="4437000"/>
            <a:ext cx="2073240" cy="3514680"/>
          </a:xfrm>
          <a:prstGeom prst="rect">
            <a:avLst/>
          </a:prstGeom>
          <a:ln w="0">
            <a:noFill/>
          </a:ln>
        </p:spPr>
      </p:pic>
      <p:sp>
        <p:nvSpPr>
          <p:cNvPr id="90" name="椭圆 15"/>
          <p:cNvSpPr/>
          <p:nvPr/>
        </p:nvSpPr>
        <p:spPr>
          <a:xfrm>
            <a:off x="2970360" y="7139160"/>
            <a:ext cx="4572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16"/>
          <p:cNvSpPr/>
          <p:nvPr/>
        </p:nvSpPr>
        <p:spPr>
          <a:xfrm>
            <a:off x="1908000" y="741528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17"/>
          <p:cNvSpPr/>
          <p:nvPr/>
        </p:nvSpPr>
        <p:spPr>
          <a:xfrm>
            <a:off x="3635280" y="7099200"/>
            <a:ext cx="8568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18"/>
          <p:cNvSpPr/>
          <p:nvPr/>
        </p:nvSpPr>
        <p:spPr>
          <a:xfrm>
            <a:off x="4265640" y="7139160"/>
            <a:ext cx="4608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19"/>
          <p:cNvSpPr/>
          <p:nvPr/>
        </p:nvSpPr>
        <p:spPr>
          <a:xfrm>
            <a:off x="3203640" y="741528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26"/>
          <p:cNvSpPr/>
          <p:nvPr/>
        </p:nvSpPr>
        <p:spPr>
          <a:xfrm>
            <a:off x="5265720" y="7101000"/>
            <a:ext cx="8424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27"/>
          <p:cNvSpPr/>
          <p:nvPr/>
        </p:nvSpPr>
        <p:spPr>
          <a:xfrm>
            <a:off x="5896080" y="714060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28"/>
          <p:cNvSpPr/>
          <p:nvPr/>
        </p:nvSpPr>
        <p:spPr>
          <a:xfrm>
            <a:off x="4834080" y="7418520"/>
            <a:ext cx="4572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29"/>
          <p:cNvSpPr/>
          <p:nvPr/>
        </p:nvSpPr>
        <p:spPr>
          <a:xfrm>
            <a:off x="6561000" y="7101000"/>
            <a:ext cx="8424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30"/>
          <p:cNvSpPr/>
          <p:nvPr/>
        </p:nvSpPr>
        <p:spPr>
          <a:xfrm>
            <a:off x="7191360" y="714060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31"/>
          <p:cNvSpPr/>
          <p:nvPr/>
        </p:nvSpPr>
        <p:spPr>
          <a:xfrm>
            <a:off x="6129360" y="741852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32"/>
          <p:cNvSpPr/>
          <p:nvPr/>
        </p:nvSpPr>
        <p:spPr>
          <a:xfrm>
            <a:off x="8074080" y="7605720"/>
            <a:ext cx="85680" cy="8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33"/>
          <p:cNvSpPr/>
          <p:nvPr/>
        </p:nvSpPr>
        <p:spPr>
          <a:xfrm>
            <a:off x="8704440" y="7645320"/>
            <a:ext cx="4572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34"/>
          <p:cNvSpPr/>
          <p:nvPr/>
        </p:nvSpPr>
        <p:spPr>
          <a:xfrm>
            <a:off x="7642080" y="7921800"/>
            <a:ext cx="4464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35"/>
          <p:cNvSpPr/>
          <p:nvPr/>
        </p:nvSpPr>
        <p:spPr>
          <a:xfrm>
            <a:off x="9369360" y="7605720"/>
            <a:ext cx="85680" cy="8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 36"/>
          <p:cNvSpPr/>
          <p:nvPr/>
        </p:nvSpPr>
        <p:spPr>
          <a:xfrm>
            <a:off x="9999720" y="764532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37"/>
          <p:cNvSpPr/>
          <p:nvPr/>
        </p:nvSpPr>
        <p:spPr>
          <a:xfrm>
            <a:off x="8937720" y="7921800"/>
            <a:ext cx="4428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单圆角矩形 1"/>
          <p:cNvSpPr/>
          <p:nvPr/>
        </p:nvSpPr>
        <p:spPr>
          <a:xfrm rot="10800000">
            <a:off x="1402920" y="836280"/>
            <a:ext cx="9001080" cy="5184720"/>
          </a:xfrm>
          <a:prstGeom prst="pie">
            <a:avLst/>
          </a:prstGeom>
          <a:solidFill>
            <a:srgbClr val="ffc000">
              <a:alpha val="38000"/>
            </a:srgbClr>
          </a:solidFill>
          <a:ln w="2844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4"/>
          <p:cNvSpPr/>
          <p:nvPr/>
        </p:nvSpPr>
        <p:spPr>
          <a:xfrm flipV="1">
            <a:off x="1547640" y="1557360"/>
            <a:ext cx="8641080" cy="712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8"/>
          <p:cNvSpPr/>
          <p:nvPr/>
        </p:nvSpPr>
        <p:spPr>
          <a:xfrm>
            <a:off x="7521480" y="836640"/>
            <a:ext cx="26672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  <a:ea typeface="方正大黑简体"/>
              </a:rPr>
              <a:t>活动流程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8"/>
          <p:cNvSpPr/>
          <p:nvPr/>
        </p:nvSpPr>
        <p:spPr>
          <a:xfrm>
            <a:off x="3132000" y="1917720"/>
            <a:ext cx="5150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  <a:ea typeface="方正大黑简体"/>
              </a:rPr>
              <a:t>第一项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  <a:ea typeface="方正大黑简体"/>
              </a:rPr>
              <a:t>: </a:t>
            </a:r>
            <a:r>
              <a:rPr b="0" lang="zh-CN" sz="4600" spc="-1" strike="noStrike">
                <a:solidFill>
                  <a:srgbClr val="000000"/>
                </a:solidFill>
                <a:latin typeface="Arial"/>
                <a:ea typeface="方正大黑简体"/>
              </a:rPr>
              <a:t>才艺汇演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8"/>
          <p:cNvSpPr/>
          <p:nvPr/>
        </p:nvSpPr>
        <p:spPr>
          <a:xfrm>
            <a:off x="3132000" y="2717640"/>
            <a:ext cx="5150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  <a:ea typeface="方正大黑简体"/>
              </a:rPr>
              <a:t>第二项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  <a:ea typeface="方正大黑简体"/>
              </a:rPr>
              <a:t>: </a:t>
            </a:r>
            <a:r>
              <a:rPr b="0" lang="zh-CN" sz="4600" spc="-1" strike="noStrike">
                <a:solidFill>
                  <a:srgbClr val="000000"/>
                </a:solidFill>
                <a:latin typeface="Arial"/>
                <a:ea typeface="方正大黑简体"/>
              </a:rPr>
              <a:t>颁奖典礼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8"/>
          <p:cNvSpPr/>
          <p:nvPr/>
        </p:nvSpPr>
        <p:spPr>
          <a:xfrm>
            <a:off x="3132000" y="3517920"/>
            <a:ext cx="5150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  <a:ea typeface="方正大黑简体"/>
              </a:rPr>
              <a:t>第三项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  <a:ea typeface="方正大黑简体"/>
              </a:rPr>
              <a:t>: </a:t>
            </a:r>
            <a:r>
              <a:rPr b="0" lang="zh-CN" sz="4600" spc="-1" strike="noStrike">
                <a:solidFill>
                  <a:srgbClr val="000000"/>
                </a:solidFill>
                <a:latin typeface="Arial"/>
                <a:ea typeface="方正大黑简体"/>
              </a:rPr>
              <a:t>获奖感言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8"/>
          <p:cNvSpPr/>
          <p:nvPr/>
        </p:nvSpPr>
        <p:spPr>
          <a:xfrm>
            <a:off x="3132000" y="4317840"/>
            <a:ext cx="5150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  <a:ea typeface="方正大黑简体"/>
              </a:rPr>
              <a:t>第四项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  <a:ea typeface="方正大黑简体"/>
              </a:rPr>
              <a:t>: </a:t>
            </a:r>
            <a:r>
              <a:rPr b="0" lang="zh-CN" sz="4600" spc="-1" strike="noStrike">
                <a:solidFill>
                  <a:srgbClr val="000000"/>
                </a:solidFill>
                <a:latin typeface="Arial"/>
                <a:ea typeface="方正大黑简体"/>
              </a:rPr>
              <a:t>狂欢盛宴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1401-8024-400D-8C53-3ADF82E7A423}" type="slidenum">
              <a:t>3</a:t>
            </a:fld>
          </a:p>
        </p:txBody>
      </p:sp>
    </p:spTree>
  </p:cSld>
  <p:transition spd="slow" advTm="2000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4 -0.97014 L -6.10775E-007 0.01898 E">
                                      <p:cBhvr>
                                        <p:cTn id="267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1686 -1.03333 L 4.01325E-006 0.01898 E">
                                      <p:cBhvr>
                                        <p:cTn id="269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600"/>
                            </p:stCondLst>
                            <p:childTnLst>
                              <p:par>
                                <p:cTn id="274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7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7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8" dur="75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134 -1.01505 L 3.91818E-006 0.01898 E">
                                      <p:cBhvr>
                                        <p:cTn id="280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85 -0.99259 L -1.53558E-006 0.01898 E">
                                      <p:cBhvr>
                                        <p:cTn id="282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7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7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9" dur="75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0202 -1.01343 L 3.84039E-006 0.01898 E">
                                      <p:cBhvr>
                                        <p:cTn id="291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86 -1.03333 L 4.01325E-006 0.01898 E">
                                      <p:cBhvr>
                                        <p:cTn id="293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7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7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0" dur="7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86 -1.03333 L 4.01325E-006 0.01898 E">
                                      <p:cBhvr>
                                        <p:cTn id="302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202 -1.01343 L 3.84039E-006 0.01898 E">
                                      <p:cBhvr>
                                        <p:cTn id="304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7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7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1" dur="75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4 -1.05695 L -1.45779E-006 0.01898 E">
                                      <p:cBhvr>
                                        <p:cTn id="31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4 -0.97014 L -6.10775E-007 0.01898 E">
                                      <p:cBhvr>
                                        <p:cTn id="315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2" dur="7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750"/>
                            </p:stCondLst>
                            <p:childTnLst>
                              <p:par>
                                <p:cTn id="3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250"/>
                            </p:stCondLst>
                            <p:childTnLst>
                              <p:par>
                                <p:cTn id="330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2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 -0.99259 L -1.53558E-006 0.01898 E">
                                      <p:cBhvr>
                                        <p:cTn id="33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4 -1.01505 L 3.91818E-006 0.01898 E">
                                      <p:cBhvr>
                                        <p:cTn id="33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274 -0.97014 L -6.10775E-007 0.01898 E">
                                      <p:cBhvr>
                                        <p:cTn id="338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134 -1.01505 L 3.91818E-006 0.01898 E">
                                      <p:cBhvr>
                                        <p:cTn id="340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0202 -1.01343 L 3.84039E-006 0.01898 E">
                                      <p:cBhvr>
                                        <p:cTn id="342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134 -1.05695 L -1.45779E-006 0.01898 E">
                                      <p:cBhvr>
                                        <p:cTn id="344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134 -1.05695 L -1.45779E-006 0.01898 E">
                                      <p:cBhvr>
                                        <p:cTn id="34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path" presetID="42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0.0085 -0.99259 L -1.53558E-006 0.01898 E">
                                      <p:cBhvr>
                                        <p:cTn id="348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101564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椭圆 14"/>
          <p:cNvSpPr/>
          <p:nvPr/>
        </p:nvSpPr>
        <p:spPr>
          <a:xfrm>
            <a:off x="2340000" y="7099200"/>
            <a:ext cx="8568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-106200" y="4437000"/>
            <a:ext cx="2073240" cy="3514680"/>
          </a:xfrm>
          <a:prstGeom prst="rect">
            <a:avLst/>
          </a:prstGeom>
          <a:ln w="0">
            <a:noFill/>
          </a:ln>
        </p:spPr>
      </p:pic>
      <p:sp>
        <p:nvSpPr>
          <p:cNvPr id="117" name="椭圆 15"/>
          <p:cNvSpPr/>
          <p:nvPr/>
        </p:nvSpPr>
        <p:spPr>
          <a:xfrm>
            <a:off x="2970360" y="7139160"/>
            <a:ext cx="4572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16"/>
          <p:cNvSpPr/>
          <p:nvPr/>
        </p:nvSpPr>
        <p:spPr>
          <a:xfrm>
            <a:off x="1908000" y="741528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17"/>
          <p:cNvSpPr/>
          <p:nvPr/>
        </p:nvSpPr>
        <p:spPr>
          <a:xfrm>
            <a:off x="3635280" y="7099200"/>
            <a:ext cx="8568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18"/>
          <p:cNvSpPr/>
          <p:nvPr/>
        </p:nvSpPr>
        <p:spPr>
          <a:xfrm>
            <a:off x="4265640" y="7139160"/>
            <a:ext cx="4608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19"/>
          <p:cNvSpPr/>
          <p:nvPr/>
        </p:nvSpPr>
        <p:spPr>
          <a:xfrm>
            <a:off x="3203640" y="741528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26"/>
          <p:cNvSpPr/>
          <p:nvPr/>
        </p:nvSpPr>
        <p:spPr>
          <a:xfrm>
            <a:off x="5265720" y="7101000"/>
            <a:ext cx="8424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27"/>
          <p:cNvSpPr/>
          <p:nvPr/>
        </p:nvSpPr>
        <p:spPr>
          <a:xfrm>
            <a:off x="5896080" y="714060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28"/>
          <p:cNvSpPr/>
          <p:nvPr/>
        </p:nvSpPr>
        <p:spPr>
          <a:xfrm>
            <a:off x="4834080" y="7418520"/>
            <a:ext cx="4572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29"/>
          <p:cNvSpPr/>
          <p:nvPr/>
        </p:nvSpPr>
        <p:spPr>
          <a:xfrm>
            <a:off x="6561000" y="7101000"/>
            <a:ext cx="8424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30"/>
          <p:cNvSpPr/>
          <p:nvPr/>
        </p:nvSpPr>
        <p:spPr>
          <a:xfrm>
            <a:off x="7191360" y="714060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31"/>
          <p:cNvSpPr/>
          <p:nvPr/>
        </p:nvSpPr>
        <p:spPr>
          <a:xfrm>
            <a:off x="6129360" y="741852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32"/>
          <p:cNvSpPr/>
          <p:nvPr/>
        </p:nvSpPr>
        <p:spPr>
          <a:xfrm>
            <a:off x="8074080" y="7605720"/>
            <a:ext cx="85680" cy="8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33"/>
          <p:cNvSpPr/>
          <p:nvPr/>
        </p:nvSpPr>
        <p:spPr>
          <a:xfrm>
            <a:off x="8704440" y="7645320"/>
            <a:ext cx="4572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34"/>
          <p:cNvSpPr/>
          <p:nvPr/>
        </p:nvSpPr>
        <p:spPr>
          <a:xfrm>
            <a:off x="7642080" y="7921800"/>
            <a:ext cx="4464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35"/>
          <p:cNvSpPr/>
          <p:nvPr/>
        </p:nvSpPr>
        <p:spPr>
          <a:xfrm>
            <a:off x="9369360" y="7605720"/>
            <a:ext cx="85680" cy="8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36"/>
          <p:cNvSpPr/>
          <p:nvPr/>
        </p:nvSpPr>
        <p:spPr>
          <a:xfrm>
            <a:off x="9999720" y="764532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37"/>
          <p:cNvSpPr/>
          <p:nvPr/>
        </p:nvSpPr>
        <p:spPr>
          <a:xfrm>
            <a:off x="8937720" y="7921800"/>
            <a:ext cx="4428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单圆角矩形 1"/>
          <p:cNvSpPr/>
          <p:nvPr/>
        </p:nvSpPr>
        <p:spPr>
          <a:xfrm rot="10800000">
            <a:off x="1402920" y="836280"/>
            <a:ext cx="9001080" cy="5184720"/>
          </a:xfrm>
          <a:prstGeom prst="pie">
            <a:avLst/>
          </a:prstGeom>
          <a:solidFill>
            <a:srgbClr val="ffc000">
              <a:alpha val="38000"/>
            </a:srgbClr>
          </a:solidFill>
          <a:ln w="2844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8"/>
          <p:cNvSpPr/>
          <p:nvPr/>
        </p:nvSpPr>
        <p:spPr>
          <a:xfrm>
            <a:off x="2705040" y="1557360"/>
            <a:ext cx="5832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方正大黑简体"/>
              </a:rPr>
              <a:t>才艺汇演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8"/>
          <p:cNvSpPr/>
          <p:nvPr/>
        </p:nvSpPr>
        <p:spPr>
          <a:xfrm>
            <a:off x="3132000" y="439884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大黑简体"/>
              </a:rPr>
              <a:t>第一个节目是邹总的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方正大黑简体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大黑简体"/>
              </a:rPr>
              <a:t>一家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方正大黑简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2124000" y="3024360"/>
            <a:ext cx="58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方正大黑简体"/>
              </a:rPr>
              <a:t>现在开始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方正大黑简体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23A1-6EE0-43EF-9AF6-E61B36E09BE2}" type="slidenum">
              <a:t>4</a:t>
            </a:fld>
          </a:p>
        </p:txBody>
      </p:sp>
    </p:spTree>
  </p:cSld>
  <p:transition spd="slow" advTm="2000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4 -0.97014 L -6.10775E-007 0.01898 E">
                                      <p:cBhvr>
                                        <p:cTn id="358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1686 -1.03333 L 4.01325E-006 0.01898 E">
                                      <p:cBhvr>
                                        <p:cTn id="36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134 -1.01505 L 3.91818E-006 0.01898 E">
                                      <p:cBhvr>
                                        <p:cTn id="362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85 -0.99259 L -1.53558E-006 0.01898 E">
                                      <p:cBhvr>
                                        <p:cTn id="364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0202 -1.01343 L 3.84039E-006 0.01898 E">
                                      <p:cBhvr>
                                        <p:cTn id="366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1686 -1.03333 L 4.01325E-006 0.01898 E">
                                      <p:cBhvr>
                                        <p:cTn id="375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1686 -1.03333 L 4.01325E-006 0.01898 E">
                                      <p:cBhvr>
                                        <p:cTn id="377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0202 -1.01343 L 3.84039E-006 0.01898 E">
                                      <p:cBhvr>
                                        <p:cTn id="379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134 -1.05695 L -1.45779E-006 0.01898 E">
                                      <p:cBhvr>
                                        <p:cTn id="381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4 -0.97014 L -6.10775E-007 0.01898 E">
                                      <p:cBhvr>
                                        <p:cTn id="389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 -1.01157 L -4.24452E-006 -3.33333E-006 E">
                                      <p:cBhvr>
                                        <p:cTn id="401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4 -1.01505 L 3.91818E-006 0.01898 E">
                                      <p:cBhvr>
                                        <p:cTn id="403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274 -0.97014 L -6.10775E-007 0.01898 E">
                                      <p:cBhvr>
                                        <p:cTn id="405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134 -1.01505 L 3.91818E-006 0.01898 E">
                                      <p:cBhvr>
                                        <p:cTn id="407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7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7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4" dur="75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0202 -1.01343 L 3.84039E-006 0.01898 E">
                                      <p:cBhvr>
                                        <p:cTn id="41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134 -1.05695 L -1.45779E-006 0.01898 E">
                                      <p:cBhvr>
                                        <p:cTn id="41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134 -1.05695 L -1.45779E-006 0.01898 E">
                                      <p:cBhvr>
                                        <p:cTn id="420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path" presetID="42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0.0085 -0.99259 L -1.53558E-006 0.01898 E">
                                      <p:cBhvr>
                                        <p:cTn id="422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101564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椭圆 14"/>
          <p:cNvSpPr/>
          <p:nvPr/>
        </p:nvSpPr>
        <p:spPr>
          <a:xfrm>
            <a:off x="2340000" y="7099200"/>
            <a:ext cx="8568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-106200" y="4437000"/>
            <a:ext cx="2073240" cy="3514680"/>
          </a:xfrm>
          <a:prstGeom prst="rect">
            <a:avLst/>
          </a:prstGeom>
          <a:ln w="0">
            <a:noFill/>
          </a:ln>
        </p:spPr>
      </p:pic>
      <p:sp>
        <p:nvSpPr>
          <p:cNvPr id="141" name="椭圆 15"/>
          <p:cNvSpPr/>
          <p:nvPr/>
        </p:nvSpPr>
        <p:spPr>
          <a:xfrm>
            <a:off x="2970360" y="7139160"/>
            <a:ext cx="4572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椭圆 16"/>
          <p:cNvSpPr/>
          <p:nvPr/>
        </p:nvSpPr>
        <p:spPr>
          <a:xfrm>
            <a:off x="1908000" y="741528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椭圆 17"/>
          <p:cNvSpPr/>
          <p:nvPr/>
        </p:nvSpPr>
        <p:spPr>
          <a:xfrm>
            <a:off x="3635280" y="7099200"/>
            <a:ext cx="8568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18"/>
          <p:cNvSpPr/>
          <p:nvPr/>
        </p:nvSpPr>
        <p:spPr>
          <a:xfrm>
            <a:off x="4265640" y="7139160"/>
            <a:ext cx="4608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19"/>
          <p:cNvSpPr/>
          <p:nvPr/>
        </p:nvSpPr>
        <p:spPr>
          <a:xfrm>
            <a:off x="3203640" y="741528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26"/>
          <p:cNvSpPr/>
          <p:nvPr/>
        </p:nvSpPr>
        <p:spPr>
          <a:xfrm>
            <a:off x="5265720" y="7101000"/>
            <a:ext cx="8424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27"/>
          <p:cNvSpPr/>
          <p:nvPr/>
        </p:nvSpPr>
        <p:spPr>
          <a:xfrm>
            <a:off x="5896080" y="714060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28"/>
          <p:cNvSpPr/>
          <p:nvPr/>
        </p:nvSpPr>
        <p:spPr>
          <a:xfrm>
            <a:off x="4834080" y="7418520"/>
            <a:ext cx="4572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29"/>
          <p:cNvSpPr/>
          <p:nvPr/>
        </p:nvSpPr>
        <p:spPr>
          <a:xfrm>
            <a:off x="6561000" y="7101000"/>
            <a:ext cx="8424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30"/>
          <p:cNvSpPr/>
          <p:nvPr/>
        </p:nvSpPr>
        <p:spPr>
          <a:xfrm>
            <a:off x="7191360" y="714060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椭圆 31"/>
          <p:cNvSpPr/>
          <p:nvPr/>
        </p:nvSpPr>
        <p:spPr>
          <a:xfrm>
            <a:off x="6129360" y="741852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32"/>
          <p:cNvSpPr/>
          <p:nvPr/>
        </p:nvSpPr>
        <p:spPr>
          <a:xfrm>
            <a:off x="8074080" y="7605720"/>
            <a:ext cx="85680" cy="8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 33"/>
          <p:cNvSpPr/>
          <p:nvPr/>
        </p:nvSpPr>
        <p:spPr>
          <a:xfrm>
            <a:off x="8704440" y="7645320"/>
            <a:ext cx="4572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椭圆 34"/>
          <p:cNvSpPr/>
          <p:nvPr/>
        </p:nvSpPr>
        <p:spPr>
          <a:xfrm>
            <a:off x="7642080" y="7921800"/>
            <a:ext cx="4464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35"/>
          <p:cNvSpPr/>
          <p:nvPr/>
        </p:nvSpPr>
        <p:spPr>
          <a:xfrm>
            <a:off x="9369360" y="7605720"/>
            <a:ext cx="85680" cy="8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36"/>
          <p:cNvSpPr/>
          <p:nvPr/>
        </p:nvSpPr>
        <p:spPr>
          <a:xfrm>
            <a:off x="9999720" y="764532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37"/>
          <p:cNvSpPr/>
          <p:nvPr/>
        </p:nvSpPr>
        <p:spPr>
          <a:xfrm>
            <a:off x="8937720" y="7921800"/>
            <a:ext cx="4428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单圆角矩形 1"/>
          <p:cNvSpPr/>
          <p:nvPr/>
        </p:nvSpPr>
        <p:spPr>
          <a:xfrm rot="10800000">
            <a:off x="1402920" y="836280"/>
            <a:ext cx="9001080" cy="5184720"/>
          </a:xfrm>
          <a:prstGeom prst="pie">
            <a:avLst/>
          </a:prstGeom>
          <a:solidFill>
            <a:srgbClr val="ffc000">
              <a:alpha val="38000"/>
            </a:srgbClr>
          </a:solidFill>
          <a:ln w="2844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2705040" y="1557360"/>
            <a:ext cx="5832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方正大黑简体"/>
              </a:rPr>
              <a:t>才艺汇演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8"/>
          <p:cNvSpPr/>
          <p:nvPr/>
        </p:nvSpPr>
        <p:spPr>
          <a:xfrm>
            <a:off x="3132000" y="346536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大黑简体"/>
              </a:rPr>
              <a:t>第二个节目是杨总的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方正大黑简体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大黑简体"/>
              </a:rPr>
              <a:t>中国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方正大黑简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F12D-724B-4FB4-BF3F-34574FC0FCD0}" type="slidenum">
              <a:t>5</a:t>
            </a:fld>
          </a:p>
        </p:txBody>
      </p:sp>
    </p:spTree>
  </p:cSld>
  <p:transition spd="slow" advTm="2000">
    <p:fad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4 -0.97014 L -6.10775E-007 0.01898 E">
                                      <p:cBhvr>
                                        <p:cTn id="432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1686 -1.03333 L 4.01325E-006 0.01898 E">
                                      <p:cBhvr>
                                        <p:cTn id="434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134 -1.01505 L 3.91818E-006 0.01898 E">
                                      <p:cBhvr>
                                        <p:cTn id="436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85 -0.99259 L -1.53558E-006 0.01898 E">
                                      <p:cBhvr>
                                        <p:cTn id="438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0202 -1.01343 L 3.84039E-006 0.01898 E">
                                      <p:cBhvr>
                                        <p:cTn id="440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1686 -1.03333 L 4.01325E-006 0.01898 E">
                                      <p:cBhvr>
                                        <p:cTn id="44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1686 -1.03333 L 4.01325E-006 0.01898 E">
                                      <p:cBhvr>
                                        <p:cTn id="444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0202 -1.01343 L 3.84039E-006 0.01898 E">
                                      <p:cBhvr>
                                        <p:cTn id="446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134 -1.05695 L -1.45779E-006 0.01898 E">
                                      <p:cBhvr>
                                        <p:cTn id="448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4 -0.97014 L -6.10775E-007 0.01898 E">
                                      <p:cBhvr>
                                        <p:cTn id="450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3500"/>
                            </p:stCondLst>
                            <p:childTnLst>
                              <p:par>
                                <p:cTn id="4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000"/>
                            </p:stCondLst>
                            <p:childTnLst>
                              <p:par>
                                <p:cTn id="458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0" dur="25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 -0.99259 L -1.53558E-006 0.01898 E">
                                      <p:cBhvr>
                                        <p:cTn id="462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4 -1.01505 L 3.91818E-006 0.01898 E">
                                      <p:cBhvr>
                                        <p:cTn id="464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274 -0.97014 L -6.10775E-007 0.01898 E">
                                      <p:cBhvr>
                                        <p:cTn id="466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134 -1.01505 L 3.91818E-006 0.01898 E">
                                      <p:cBhvr>
                                        <p:cTn id="46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75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75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5" dur="7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0202 -1.01343 L 3.84039E-006 0.01898 E">
                                      <p:cBhvr>
                                        <p:cTn id="477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134 -1.05695 L -1.45779E-006 0.01898 E">
                                      <p:cBhvr>
                                        <p:cTn id="479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134 -1.05695 L -1.45779E-006 0.01898 E">
                                      <p:cBhvr>
                                        <p:cTn id="481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path" presetID="42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0.0085 -0.99259 L -1.53558E-006 0.01898 E">
                                      <p:cBhvr>
                                        <p:cTn id="483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101564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椭圆 14"/>
          <p:cNvSpPr/>
          <p:nvPr/>
        </p:nvSpPr>
        <p:spPr>
          <a:xfrm>
            <a:off x="2340000" y="7099200"/>
            <a:ext cx="8568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-106200" y="4437000"/>
            <a:ext cx="2073240" cy="3514680"/>
          </a:xfrm>
          <a:prstGeom prst="rect">
            <a:avLst/>
          </a:prstGeom>
          <a:ln w="0">
            <a:noFill/>
          </a:ln>
        </p:spPr>
      </p:pic>
      <p:sp>
        <p:nvSpPr>
          <p:cNvPr id="164" name="椭圆 15"/>
          <p:cNvSpPr/>
          <p:nvPr/>
        </p:nvSpPr>
        <p:spPr>
          <a:xfrm>
            <a:off x="2970360" y="7139160"/>
            <a:ext cx="4572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16"/>
          <p:cNvSpPr/>
          <p:nvPr/>
        </p:nvSpPr>
        <p:spPr>
          <a:xfrm>
            <a:off x="1908000" y="741528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17"/>
          <p:cNvSpPr/>
          <p:nvPr/>
        </p:nvSpPr>
        <p:spPr>
          <a:xfrm>
            <a:off x="3635280" y="7099200"/>
            <a:ext cx="8568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18"/>
          <p:cNvSpPr/>
          <p:nvPr/>
        </p:nvSpPr>
        <p:spPr>
          <a:xfrm>
            <a:off x="4265640" y="7139160"/>
            <a:ext cx="4608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19"/>
          <p:cNvSpPr/>
          <p:nvPr/>
        </p:nvSpPr>
        <p:spPr>
          <a:xfrm>
            <a:off x="3203640" y="741528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26"/>
          <p:cNvSpPr/>
          <p:nvPr/>
        </p:nvSpPr>
        <p:spPr>
          <a:xfrm>
            <a:off x="5265720" y="7101000"/>
            <a:ext cx="8424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27"/>
          <p:cNvSpPr/>
          <p:nvPr/>
        </p:nvSpPr>
        <p:spPr>
          <a:xfrm>
            <a:off x="5896080" y="714060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28"/>
          <p:cNvSpPr/>
          <p:nvPr/>
        </p:nvSpPr>
        <p:spPr>
          <a:xfrm>
            <a:off x="4834080" y="7418520"/>
            <a:ext cx="4572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29"/>
          <p:cNvSpPr/>
          <p:nvPr/>
        </p:nvSpPr>
        <p:spPr>
          <a:xfrm>
            <a:off x="6561000" y="7101000"/>
            <a:ext cx="8424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椭圆 30"/>
          <p:cNvSpPr/>
          <p:nvPr/>
        </p:nvSpPr>
        <p:spPr>
          <a:xfrm>
            <a:off x="7191360" y="714060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31"/>
          <p:cNvSpPr/>
          <p:nvPr/>
        </p:nvSpPr>
        <p:spPr>
          <a:xfrm>
            <a:off x="6129360" y="741852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椭圆 32"/>
          <p:cNvSpPr/>
          <p:nvPr/>
        </p:nvSpPr>
        <p:spPr>
          <a:xfrm>
            <a:off x="8074080" y="7605720"/>
            <a:ext cx="85680" cy="8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椭圆 33"/>
          <p:cNvSpPr/>
          <p:nvPr/>
        </p:nvSpPr>
        <p:spPr>
          <a:xfrm>
            <a:off x="8704440" y="7645320"/>
            <a:ext cx="4572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椭圆 34"/>
          <p:cNvSpPr/>
          <p:nvPr/>
        </p:nvSpPr>
        <p:spPr>
          <a:xfrm>
            <a:off x="7642080" y="7921800"/>
            <a:ext cx="4464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椭圆 35"/>
          <p:cNvSpPr/>
          <p:nvPr/>
        </p:nvSpPr>
        <p:spPr>
          <a:xfrm>
            <a:off x="9369360" y="7605720"/>
            <a:ext cx="85680" cy="8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36"/>
          <p:cNvSpPr/>
          <p:nvPr/>
        </p:nvSpPr>
        <p:spPr>
          <a:xfrm>
            <a:off x="9999720" y="764532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椭圆 37"/>
          <p:cNvSpPr/>
          <p:nvPr/>
        </p:nvSpPr>
        <p:spPr>
          <a:xfrm>
            <a:off x="8937720" y="7921800"/>
            <a:ext cx="4428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单圆角矩形 1"/>
          <p:cNvSpPr/>
          <p:nvPr/>
        </p:nvSpPr>
        <p:spPr>
          <a:xfrm rot="10800000">
            <a:off x="1402920" y="836280"/>
            <a:ext cx="9001080" cy="5184720"/>
          </a:xfrm>
          <a:prstGeom prst="pie">
            <a:avLst/>
          </a:prstGeom>
          <a:solidFill>
            <a:srgbClr val="ffc000">
              <a:alpha val="38000"/>
            </a:srgbClr>
          </a:solidFill>
          <a:ln w="2844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2705040" y="1557360"/>
            <a:ext cx="5832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方正大黑简体"/>
              </a:rPr>
              <a:t>才艺汇演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8"/>
          <p:cNvSpPr/>
          <p:nvPr/>
        </p:nvSpPr>
        <p:spPr>
          <a:xfrm>
            <a:off x="2425680" y="3465360"/>
            <a:ext cx="68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大黑简体"/>
              </a:rPr>
              <a:t>第三个节目是会计部的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方正大黑简体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大黑简体"/>
              </a:rPr>
              <a:t>相亲相爱一家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方正大黑简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EA5D-9A0F-483A-B07F-112B7022B5AE}" type="slidenum">
              <a:t>6</a:t>
            </a:fld>
          </a:p>
        </p:txBody>
      </p:sp>
    </p:spTree>
  </p:cSld>
  <p:transition spd="slow" advTm="2000">
    <p:fade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4 -0.98912 L -7.40421E-007 -4.81481E-006 E">
                                      <p:cBhvr>
                                        <p:cTn id="493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1686 -1.03333 L 4.01325E-006 0.01898 E">
                                      <p:cBhvr>
                                        <p:cTn id="495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6" dur="indefinite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134 -1.01505 L 3.91818E-006 0.01898 E">
                                      <p:cBhvr>
                                        <p:cTn id="497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85 -0.99259 L -1.53558E-006 0.01898 E">
                                      <p:cBhvr>
                                        <p:cTn id="499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0202 -1.01343 L 3.84039E-006 0.01898 E">
                                      <p:cBhvr>
                                        <p:cTn id="501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1686 -1.03333 L 4.01325E-006 0.01898 E">
                                      <p:cBhvr>
                                        <p:cTn id="503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1686 -1.03333 L 4.01325E-006 0.01898 E">
                                      <p:cBhvr>
                                        <p:cTn id="505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0202 -1.01343 L 3.84039E-006 0.01898 E">
                                      <p:cBhvr>
                                        <p:cTn id="507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134 -1.05695 L -1.45779E-006 0.01898 E">
                                      <p:cBhvr>
                                        <p:cTn id="509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4 -0.97014 L -6.10775E-007 0.01898 E">
                                      <p:cBhvr>
                                        <p:cTn id="511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500"/>
                            </p:stCondLst>
                            <p:childTnLst>
                              <p:par>
                                <p:cTn id="5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4000"/>
                            </p:stCondLst>
                            <p:childTnLst>
                              <p:par>
                                <p:cTn id="519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1" dur="2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 -0.99259 L -1.53558E-006 0.01898 E">
                                      <p:cBhvr>
                                        <p:cTn id="523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4 -1.01505 L 3.91818E-006 0.01898 E">
                                      <p:cBhvr>
                                        <p:cTn id="525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274 -0.97014 L -6.10775E-007 0.01898 E">
                                      <p:cBhvr>
                                        <p:cTn id="527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134 -1.01505 L 3.91818E-006 0.01898 E">
                                      <p:cBhvr>
                                        <p:cTn id="529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75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75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6" dur="75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dur="indefinite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0202 -1.01343 L 3.84039E-006 0.01898 E">
                                      <p:cBhvr>
                                        <p:cTn id="53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9" dur="indefinite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134 -1.05695 L -1.45779E-006 0.01898 E">
                                      <p:cBhvr>
                                        <p:cTn id="540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134 -1.05695 L -1.45779E-006 0.01898 E">
                                      <p:cBhvr>
                                        <p:cTn id="542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3" dur="indefinite" nodeType="withEffect" fill="hold" presetClass="path" presetID="42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0.0085 -0.99259 L -1.53558E-006 0.01898 E">
                                      <p:cBhvr>
                                        <p:cTn id="544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101564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椭圆 14"/>
          <p:cNvSpPr/>
          <p:nvPr/>
        </p:nvSpPr>
        <p:spPr>
          <a:xfrm>
            <a:off x="2340000" y="7099200"/>
            <a:ext cx="8568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-106200" y="4437000"/>
            <a:ext cx="2073240" cy="3514680"/>
          </a:xfrm>
          <a:prstGeom prst="rect">
            <a:avLst/>
          </a:prstGeom>
          <a:ln w="0">
            <a:noFill/>
          </a:ln>
        </p:spPr>
      </p:pic>
      <p:sp>
        <p:nvSpPr>
          <p:cNvPr id="187" name="椭圆 15"/>
          <p:cNvSpPr/>
          <p:nvPr/>
        </p:nvSpPr>
        <p:spPr>
          <a:xfrm>
            <a:off x="2970360" y="7139160"/>
            <a:ext cx="4572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16"/>
          <p:cNvSpPr/>
          <p:nvPr/>
        </p:nvSpPr>
        <p:spPr>
          <a:xfrm>
            <a:off x="1908000" y="741528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17"/>
          <p:cNvSpPr/>
          <p:nvPr/>
        </p:nvSpPr>
        <p:spPr>
          <a:xfrm>
            <a:off x="3635280" y="7099200"/>
            <a:ext cx="8568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椭圆 18"/>
          <p:cNvSpPr/>
          <p:nvPr/>
        </p:nvSpPr>
        <p:spPr>
          <a:xfrm>
            <a:off x="4265640" y="7139160"/>
            <a:ext cx="4608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19"/>
          <p:cNvSpPr/>
          <p:nvPr/>
        </p:nvSpPr>
        <p:spPr>
          <a:xfrm>
            <a:off x="3203640" y="741528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椭圆 26"/>
          <p:cNvSpPr/>
          <p:nvPr/>
        </p:nvSpPr>
        <p:spPr>
          <a:xfrm>
            <a:off x="5265720" y="7101000"/>
            <a:ext cx="8424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27"/>
          <p:cNvSpPr/>
          <p:nvPr/>
        </p:nvSpPr>
        <p:spPr>
          <a:xfrm>
            <a:off x="5896080" y="714060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椭圆 28"/>
          <p:cNvSpPr/>
          <p:nvPr/>
        </p:nvSpPr>
        <p:spPr>
          <a:xfrm>
            <a:off x="4834080" y="7418520"/>
            <a:ext cx="4572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29"/>
          <p:cNvSpPr/>
          <p:nvPr/>
        </p:nvSpPr>
        <p:spPr>
          <a:xfrm>
            <a:off x="6561000" y="7101000"/>
            <a:ext cx="8424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30"/>
          <p:cNvSpPr/>
          <p:nvPr/>
        </p:nvSpPr>
        <p:spPr>
          <a:xfrm>
            <a:off x="7191360" y="714060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31"/>
          <p:cNvSpPr/>
          <p:nvPr/>
        </p:nvSpPr>
        <p:spPr>
          <a:xfrm>
            <a:off x="6129360" y="741852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椭圆 32"/>
          <p:cNvSpPr/>
          <p:nvPr/>
        </p:nvSpPr>
        <p:spPr>
          <a:xfrm>
            <a:off x="8074080" y="7605720"/>
            <a:ext cx="85680" cy="8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33"/>
          <p:cNvSpPr/>
          <p:nvPr/>
        </p:nvSpPr>
        <p:spPr>
          <a:xfrm>
            <a:off x="8704440" y="7645320"/>
            <a:ext cx="4572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椭圆 34"/>
          <p:cNvSpPr/>
          <p:nvPr/>
        </p:nvSpPr>
        <p:spPr>
          <a:xfrm>
            <a:off x="7642080" y="7921800"/>
            <a:ext cx="4464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35"/>
          <p:cNvSpPr/>
          <p:nvPr/>
        </p:nvSpPr>
        <p:spPr>
          <a:xfrm>
            <a:off x="9369360" y="7605720"/>
            <a:ext cx="85680" cy="8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椭圆 36"/>
          <p:cNvSpPr/>
          <p:nvPr/>
        </p:nvSpPr>
        <p:spPr>
          <a:xfrm>
            <a:off x="9999720" y="764532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 37"/>
          <p:cNvSpPr/>
          <p:nvPr/>
        </p:nvSpPr>
        <p:spPr>
          <a:xfrm>
            <a:off x="8937720" y="7921800"/>
            <a:ext cx="4428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单圆角矩形 1"/>
          <p:cNvSpPr/>
          <p:nvPr/>
        </p:nvSpPr>
        <p:spPr>
          <a:xfrm rot="10800000">
            <a:off x="1402920" y="836280"/>
            <a:ext cx="9001080" cy="5184720"/>
          </a:xfrm>
          <a:prstGeom prst="pie">
            <a:avLst/>
          </a:prstGeom>
          <a:solidFill>
            <a:srgbClr val="ffc000">
              <a:alpha val="38000"/>
            </a:srgbClr>
          </a:solidFill>
          <a:ln w="2844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8"/>
          <p:cNvSpPr/>
          <p:nvPr/>
        </p:nvSpPr>
        <p:spPr>
          <a:xfrm>
            <a:off x="2916360" y="1738440"/>
            <a:ext cx="5832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方正大黑简体"/>
              </a:rPr>
              <a:t>颁奖典礼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8"/>
          <p:cNvSpPr/>
          <p:nvPr/>
        </p:nvSpPr>
        <p:spPr>
          <a:xfrm>
            <a:off x="2335320" y="320508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方正大黑简体"/>
              </a:rPr>
              <a:t>现在开始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方正大黑简体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8163-EEEC-4632-815D-D0A176E8A808}" type="slidenum">
              <a:t>7</a:t>
            </a:fld>
          </a:p>
        </p:txBody>
      </p:sp>
    </p:spTree>
  </p:cSld>
  <p:transition spd="slow" advTm="2000">
    <p:fade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4 -0.97014 L -6.10775E-007 0.01898 E">
                                      <p:cBhvr>
                                        <p:cTn id="554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5" dur="indefinite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1686 -1.03333 L 4.01325E-006 0.01898 E">
                                      <p:cBhvr>
                                        <p:cTn id="556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134 -1.01505 L 3.91818E-006 0.01898 E">
                                      <p:cBhvr>
                                        <p:cTn id="558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9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85 -0.99259 L -1.53558E-006 0.01898 E">
                                      <p:cBhvr>
                                        <p:cTn id="560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1" dur="indefinite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0202 -1.01343 L 3.84039E-006 0.01898 E">
                                      <p:cBhvr>
                                        <p:cTn id="562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1686 -1.03333 L 4.01325E-006 0.01898 E">
                                      <p:cBhvr>
                                        <p:cTn id="571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1686 -1.03333 L 4.01325E-006 0.01898 E">
                                      <p:cBhvr>
                                        <p:cTn id="573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4" dur="indefinite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0202 -1.01343 L 3.84039E-006 0.01898 E">
                                      <p:cBhvr>
                                        <p:cTn id="575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134 -1.05695 L -1.45779E-006 0.01898 E">
                                      <p:cBhvr>
                                        <p:cTn id="577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4 -0.97014 L -6.10775E-007 0.01898 E">
                                      <p:cBhvr>
                                        <p:cTn id="585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500"/>
                            </p:stCondLst>
                            <p:childTnLst>
                              <p:par>
                                <p:cTn id="593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5" dur="250" autoRev="1" fill="hold"/>
                                        <p:tgtEl>
                                          <p:spTgt spid="1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 -0.99259 L -1.53558E-006 0.01898 E">
                                      <p:cBhvr>
                                        <p:cTn id="597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4 -1.01505 L 3.91818E-006 0.01898 E">
                                      <p:cBhvr>
                                        <p:cTn id="599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0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274 -0.97014 L -6.10775E-007 0.01898 E">
                                      <p:cBhvr>
                                        <p:cTn id="601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2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134 -1.01505 L 3.91818E-006 0.01898 E">
                                      <p:cBhvr>
                                        <p:cTn id="603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4" dur="indefinite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0202 -1.01343 L 3.84039E-006 0.01898 E">
                                      <p:cBhvr>
                                        <p:cTn id="605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dur="indefinite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134 -1.05695 L -1.45779E-006 0.01898 E">
                                      <p:cBhvr>
                                        <p:cTn id="607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dur="indefinite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134 -1.05695 L -1.45779E-006 0.01898 E">
                                      <p:cBhvr>
                                        <p:cTn id="609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path" presetID="42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0.0085 -0.99259 L -1.53558E-006 0.01898 E">
                                      <p:cBhvr>
                                        <p:cTn id="611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101564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椭圆 14"/>
          <p:cNvSpPr/>
          <p:nvPr/>
        </p:nvSpPr>
        <p:spPr>
          <a:xfrm>
            <a:off x="2340000" y="7099200"/>
            <a:ext cx="8568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-106200" y="4437000"/>
            <a:ext cx="2073240" cy="3514680"/>
          </a:xfrm>
          <a:prstGeom prst="rect">
            <a:avLst/>
          </a:prstGeom>
          <a:ln w="0">
            <a:noFill/>
          </a:ln>
        </p:spPr>
      </p:pic>
      <p:sp>
        <p:nvSpPr>
          <p:cNvPr id="210" name="椭圆 15"/>
          <p:cNvSpPr/>
          <p:nvPr/>
        </p:nvSpPr>
        <p:spPr>
          <a:xfrm>
            <a:off x="2970360" y="7139160"/>
            <a:ext cx="4572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椭圆 16"/>
          <p:cNvSpPr/>
          <p:nvPr/>
        </p:nvSpPr>
        <p:spPr>
          <a:xfrm>
            <a:off x="1908000" y="741528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17"/>
          <p:cNvSpPr/>
          <p:nvPr/>
        </p:nvSpPr>
        <p:spPr>
          <a:xfrm>
            <a:off x="3635280" y="7099200"/>
            <a:ext cx="8568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18"/>
          <p:cNvSpPr/>
          <p:nvPr/>
        </p:nvSpPr>
        <p:spPr>
          <a:xfrm>
            <a:off x="4265640" y="7139160"/>
            <a:ext cx="4608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19"/>
          <p:cNvSpPr/>
          <p:nvPr/>
        </p:nvSpPr>
        <p:spPr>
          <a:xfrm>
            <a:off x="3203640" y="741528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26"/>
          <p:cNvSpPr/>
          <p:nvPr/>
        </p:nvSpPr>
        <p:spPr>
          <a:xfrm>
            <a:off x="5265720" y="7101000"/>
            <a:ext cx="8424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27"/>
          <p:cNvSpPr/>
          <p:nvPr/>
        </p:nvSpPr>
        <p:spPr>
          <a:xfrm>
            <a:off x="5896080" y="714060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28"/>
          <p:cNvSpPr/>
          <p:nvPr/>
        </p:nvSpPr>
        <p:spPr>
          <a:xfrm>
            <a:off x="4834080" y="7418520"/>
            <a:ext cx="4572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29"/>
          <p:cNvSpPr/>
          <p:nvPr/>
        </p:nvSpPr>
        <p:spPr>
          <a:xfrm>
            <a:off x="6561000" y="7101000"/>
            <a:ext cx="8424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椭圆 30"/>
          <p:cNvSpPr/>
          <p:nvPr/>
        </p:nvSpPr>
        <p:spPr>
          <a:xfrm>
            <a:off x="7191360" y="714060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31"/>
          <p:cNvSpPr/>
          <p:nvPr/>
        </p:nvSpPr>
        <p:spPr>
          <a:xfrm>
            <a:off x="6129360" y="741852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32"/>
          <p:cNvSpPr/>
          <p:nvPr/>
        </p:nvSpPr>
        <p:spPr>
          <a:xfrm>
            <a:off x="8074080" y="7605720"/>
            <a:ext cx="85680" cy="8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33"/>
          <p:cNvSpPr/>
          <p:nvPr/>
        </p:nvSpPr>
        <p:spPr>
          <a:xfrm>
            <a:off x="8704440" y="7645320"/>
            <a:ext cx="4572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椭圆 34"/>
          <p:cNvSpPr/>
          <p:nvPr/>
        </p:nvSpPr>
        <p:spPr>
          <a:xfrm>
            <a:off x="7642080" y="7921800"/>
            <a:ext cx="4464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35"/>
          <p:cNvSpPr/>
          <p:nvPr/>
        </p:nvSpPr>
        <p:spPr>
          <a:xfrm>
            <a:off x="9369360" y="7605720"/>
            <a:ext cx="85680" cy="8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椭圆 36"/>
          <p:cNvSpPr/>
          <p:nvPr/>
        </p:nvSpPr>
        <p:spPr>
          <a:xfrm>
            <a:off x="9999720" y="764532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椭圆 37"/>
          <p:cNvSpPr/>
          <p:nvPr/>
        </p:nvSpPr>
        <p:spPr>
          <a:xfrm>
            <a:off x="8937720" y="7921800"/>
            <a:ext cx="4428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单圆角矩形 1"/>
          <p:cNvSpPr/>
          <p:nvPr/>
        </p:nvSpPr>
        <p:spPr>
          <a:xfrm rot="10800000">
            <a:off x="1402920" y="836280"/>
            <a:ext cx="9001080" cy="5184720"/>
          </a:xfrm>
          <a:prstGeom prst="pie">
            <a:avLst/>
          </a:prstGeom>
          <a:solidFill>
            <a:srgbClr val="ffc000">
              <a:alpha val="38000"/>
            </a:srgbClr>
          </a:solidFill>
          <a:ln w="2844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8"/>
          <p:cNvSpPr/>
          <p:nvPr/>
        </p:nvSpPr>
        <p:spPr>
          <a:xfrm>
            <a:off x="2771640" y="1738440"/>
            <a:ext cx="6539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方正大黑简体"/>
              </a:rPr>
              <a:t>最佳团队奖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8"/>
          <p:cNvSpPr/>
          <p:nvPr/>
        </p:nvSpPr>
        <p:spPr>
          <a:xfrm>
            <a:off x="3132000" y="3205080"/>
            <a:ext cx="58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方正大黑简体"/>
              </a:rPr>
              <a:t>[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方正大黑简体"/>
              </a:rPr>
              <a:t>某某团队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方正大黑简体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C5A2-940B-481D-A1FF-E13653369E86}" type="slidenum">
              <a:t>8</a:t>
            </a:fld>
          </a:p>
        </p:txBody>
      </p:sp>
    </p:spTree>
  </p:cSld>
  <p:transition spd="slow" advTm="2000">
    <p:fade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4 -0.97014 L -6.10775E-007 0.01898 E">
                                      <p:cBhvr>
                                        <p:cTn id="621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2" dur="indefinite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1686 -1.03333 L 4.01325E-006 0.01898 E">
                                      <p:cBhvr>
                                        <p:cTn id="623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4" dur="indefinite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134 -1.01505 L 3.91818E-006 0.01898 E">
                                      <p:cBhvr>
                                        <p:cTn id="625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6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85 -0.99259 L -1.53558E-006 0.01898 E">
                                      <p:cBhvr>
                                        <p:cTn id="627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8" dur="indefinite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0202 -1.01343 L 3.84039E-006 0.01898 E">
                                      <p:cBhvr>
                                        <p:cTn id="629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1686 -1.03333 L 4.01325E-006 0.01898 E">
                                      <p:cBhvr>
                                        <p:cTn id="638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1686 -1.03333 L 4.01325E-006 0.01898 E">
                                      <p:cBhvr>
                                        <p:cTn id="640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" dur="indefinite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0202 -1.01343 L 3.84039E-006 0.01898 E">
                                      <p:cBhvr>
                                        <p:cTn id="642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" dur="indefinite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134 -1.05695 L -1.45779E-006 0.01898 E">
                                      <p:cBhvr>
                                        <p:cTn id="644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4 -0.97014 L -6.10775E-007 0.01898 E">
                                      <p:cBhvr>
                                        <p:cTn id="652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2000"/>
                            </p:stCondLst>
                            <p:childTnLst>
                              <p:par>
                                <p:cTn id="6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60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2" dur="250" autoRev="1" fill="hold"/>
                                        <p:tgtEl>
                                          <p:spTgt spid="2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 -0.99259 L -1.53558E-006 0.01898 E">
                                      <p:cBhvr>
                                        <p:cTn id="664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4 -1.01505 L 3.91818E-006 0.01898 E">
                                      <p:cBhvr>
                                        <p:cTn id="666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7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274 -0.97014 L -6.10775E-007 0.01898 E">
                                      <p:cBhvr>
                                        <p:cTn id="668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9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134 -1.01505 L 3.91818E-006 0.01898 E">
                                      <p:cBhvr>
                                        <p:cTn id="670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0202 -1.01343 L 3.84039E-006 0.01898 E">
                                      <p:cBhvr>
                                        <p:cTn id="672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3" dur="indefinite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134 -1.05695 L -1.45779E-006 0.01898 E">
                                      <p:cBhvr>
                                        <p:cTn id="674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5" dur="indefinite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134 -1.05695 L -1.45779E-006 0.01898 E">
                                      <p:cBhvr>
                                        <p:cTn id="676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7" dur="indefinite" nodeType="withEffect" fill="hold" presetClass="path" presetID="42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0.0085 -0.99259 L -1.53558E-006 0.01898 E">
                                      <p:cBhvr>
                                        <p:cTn id="678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101564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椭圆 14"/>
          <p:cNvSpPr/>
          <p:nvPr/>
        </p:nvSpPr>
        <p:spPr>
          <a:xfrm>
            <a:off x="2340000" y="7099200"/>
            <a:ext cx="8568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-106200" y="4437000"/>
            <a:ext cx="2073240" cy="3514680"/>
          </a:xfrm>
          <a:prstGeom prst="rect">
            <a:avLst/>
          </a:prstGeom>
          <a:ln w="0">
            <a:noFill/>
          </a:ln>
        </p:spPr>
      </p:pic>
      <p:sp>
        <p:nvSpPr>
          <p:cNvPr id="233" name="椭圆 15"/>
          <p:cNvSpPr/>
          <p:nvPr/>
        </p:nvSpPr>
        <p:spPr>
          <a:xfrm>
            <a:off x="2970360" y="7139160"/>
            <a:ext cx="4572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椭圆 16"/>
          <p:cNvSpPr/>
          <p:nvPr/>
        </p:nvSpPr>
        <p:spPr>
          <a:xfrm>
            <a:off x="1908000" y="741528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17"/>
          <p:cNvSpPr/>
          <p:nvPr/>
        </p:nvSpPr>
        <p:spPr>
          <a:xfrm>
            <a:off x="3635280" y="7099200"/>
            <a:ext cx="8568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18"/>
          <p:cNvSpPr/>
          <p:nvPr/>
        </p:nvSpPr>
        <p:spPr>
          <a:xfrm>
            <a:off x="4265640" y="7139160"/>
            <a:ext cx="4608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椭圆 19"/>
          <p:cNvSpPr/>
          <p:nvPr/>
        </p:nvSpPr>
        <p:spPr>
          <a:xfrm>
            <a:off x="3203640" y="741528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椭圆 26"/>
          <p:cNvSpPr/>
          <p:nvPr/>
        </p:nvSpPr>
        <p:spPr>
          <a:xfrm>
            <a:off x="5265720" y="7101000"/>
            <a:ext cx="8424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27"/>
          <p:cNvSpPr/>
          <p:nvPr/>
        </p:nvSpPr>
        <p:spPr>
          <a:xfrm>
            <a:off x="5896080" y="714060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椭圆 28"/>
          <p:cNvSpPr/>
          <p:nvPr/>
        </p:nvSpPr>
        <p:spPr>
          <a:xfrm>
            <a:off x="4834080" y="7418520"/>
            <a:ext cx="4572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29"/>
          <p:cNvSpPr/>
          <p:nvPr/>
        </p:nvSpPr>
        <p:spPr>
          <a:xfrm>
            <a:off x="6561000" y="7101000"/>
            <a:ext cx="84240" cy="8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椭圆 30"/>
          <p:cNvSpPr/>
          <p:nvPr/>
        </p:nvSpPr>
        <p:spPr>
          <a:xfrm>
            <a:off x="7191360" y="714060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31"/>
          <p:cNvSpPr/>
          <p:nvPr/>
        </p:nvSpPr>
        <p:spPr>
          <a:xfrm>
            <a:off x="6129360" y="741852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32"/>
          <p:cNvSpPr/>
          <p:nvPr/>
        </p:nvSpPr>
        <p:spPr>
          <a:xfrm>
            <a:off x="8074080" y="7605720"/>
            <a:ext cx="85680" cy="8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33"/>
          <p:cNvSpPr/>
          <p:nvPr/>
        </p:nvSpPr>
        <p:spPr>
          <a:xfrm>
            <a:off x="8704440" y="7645320"/>
            <a:ext cx="4572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34"/>
          <p:cNvSpPr/>
          <p:nvPr/>
        </p:nvSpPr>
        <p:spPr>
          <a:xfrm>
            <a:off x="7642080" y="7921800"/>
            <a:ext cx="4464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35"/>
          <p:cNvSpPr/>
          <p:nvPr/>
        </p:nvSpPr>
        <p:spPr>
          <a:xfrm>
            <a:off x="9369360" y="7605720"/>
            <a:ext cx="85680" cy="8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36"/>
          <p:cNvSpPr/>
          <p:nvPr/>
        </p:nvSpPr>
        <p:spPr>
          <a:xfrm>
            <a:off x="9999720" y="7645320"/>
            <a:ext cx="46080" cy="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37"/>
          <p:cNvSpPr/>
          <p:nvPr/>
        </p:nvSpPr>
        <p:spPr>
          <a:xfrm>
            <a:off x="8937720" y="7921800"/>
            <a:ext cx="44280" cy="45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单圆角矩形 1"/>
          <p:cNvSpPr/>
          <p:nvPr/>
        </p:nvSpPr>
        <p:spPr>
          <a:xfrm rot="10800000">
            <a:off x="1402920" y="836280"/>
            <a:ext cx="9001080" cy="5184720"/>
          </a:xfrm>
          <a:prstGeom prst="pie">
            <a:avLst/>
          </a:prstGeom>
          <a:solidFill>
            <a:srgbClr val="ffc000">
              <a:alpha val="38000"/>
            </a:srgbClr>
          </a:solidFill>
          <a:ln w="2844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8"/>
          <p:cNvSpPr/>
          <p:nvPr/>
        </p:nvSpPr>
        <p:spPr>
          <a:xfrm>
            <a:off x="2771640" y="1738440"/>
            <a:ext cx="6539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方正大黑简体"/>
              </a:rPr>
              <a:t>最佳新人奖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8"/>
          <p:cNvSpPr/>
          <p:nvPr/>
        </p:nvSpPr>
        <p:spPr>
          <a:xfrm>
            <a:off x="3132000" y="3205080"/>
            <a:ext cx="58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方正大黑简体"/>
              </a:rPr>
              <a:t>[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方正大黑简体"/>
              </a:rPr>
              <a:t>某某新成员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方正大黑简体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0424-FE0B-4BEF-AC80-BF7F5A99EACF}" type="slidenum">
              <a:t>9</a:t>
            </a:fld>
          </a:p>
        </p:txBody>
      </p:sp>
    </p:spTree>
  </p:cSld>
  <p:transition spd="slow" advTm="2000">
    <p:fade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4 -0.97014 L -6.10775E-007 0.01898 E">
                                      <p:cBhvr>
                                        <p:cTn id="688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1686 -1.03333 L 4.01325E-006 0.01898 E">
                                      <p:cBhvr>
                                        <p:cTn id="690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134 -1.01505 L 3.91818E-006 0.01898 E">
                                      <p:cBhvr>
                                        <p:cTn id="692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3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85 -0.99259 L -1.53558E-006 0.01898 E">
                                      <p:cBhvr>
                                        <p:cTn id="694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5" dur="indefinite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0202 -1.01343 L 3.84039E-006 0.01898 E">
                                      <p:cBhvr>
                                        <p:cTn id="696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1686 -1.03333 L 4.01325E-006 0.01898 E">
                                      <p:cBhvr>
                                        <p:cTn id="705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6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1686 -1.03333 L 4.01325E-006 0.01898 E">
                                      <p:cBhvr>
                                        <p:cTn id="707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8" dur="indefinite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0202 -1.01343 L 3.84039E-006 0.01898 E">
                                      <p:cBhvr>
                                        <p:cTn id="709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0" dur="indefinite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134 -1.05695 L -1.45779E-006 0.01898 E">
                                      <p:cBhvr>
                                        <p:cTn id="711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4 -0.97014 L -6.10775E-007 0.01898 E">
                                      <p:cBhvr>
                                        <p:cTn id="719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2000"/>
                            </p:stCondLst>
                            <p:childTnLst>
                              <p:par>
                                <p:cTn id="7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9" dur="250" autoRev="1" fill="hold"/>
                                        <p:tgtEl>
                                          <p:spTgt spid="2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3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 -0.99259 L -1.53558E-006 0.01898 E">
                                      <p:cBhvr>
                                        <p:cTn id="731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4 -1.01505 L 3.91818E-006 0.01898 E">
                                      <p:cBhvr>
                                        <p:cTn id="733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4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274 -0.97014 L -6.10775E-007 0.01898 E">
                                      <p:cBhvr>
                                        <p:cTn id="735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6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134 -1.01505 L 3.91818E-006 0.01898 E">
                                      <p:cBhvr>
                                        <p:cTn id="737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8" dur="indefinite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0202 -1.01343 L 3.84039E-006 0.01898 E">
                                      <p:cBhvr>
                                        <p:cTn id="739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0" dur="indefinite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134 -1.05695 L -1.45779E-006 0.01898 E">
                                      <p:cBhvr>
                                        <p:cTn id="741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2" dur="indefinite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134 -1.05695 L -1.45779E-006 0.01898 E">
                                      <p:cBhvr>
                                        <p:cTn id="743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4" dur="indefinite" nodeType="withEffect" fill="hold" presetClass="path" presetID="42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0.0085 -0.99259 L -1.53558E-006 0.01898 E">
                                      <p:cBhvr>
                                        <p:cTn id="745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7T02:56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7:39:27Z</dcterms:modified>
  <cp:revision>52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