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B46F1-3CEB-4FE6-A823-076F2777B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3BBE8-82EA-48D4-A370-E9104130E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4AD3D-2EA0-4D53-A3D9-235582DB6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A2BD0-FD45-42C2-BCA7-528CCC2BF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932AC-F8D8-4040-BDE1-F1BBC7B24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B95CA-1569-49AD-B0DF-65F7C41EF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36548-21C7-4653-9F66-1C48E0AEF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76350-BC30-43F5-9242-B2A353A4C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61300-A95C-4D8C-8C0B-EBA89A8EE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16A47-898B-454F-8311-78D8FE70B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849EE-78FB-43F7-B1CD-D2E36F9F1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58647-1F26-4E1A-AA78-4F575CA6F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07A6C-E6F8-44C3-8CF3-241AB0C86DC4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D8A3A-FE42-4FE3-A4F9-452B7453899F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-11160" y="793800"/>
            <a:ext cx="9191520" cy="5371920"/>
          </a:xfrm>
          <a:prstGeom prst="rect">
            <a:avLst/>
          </a:prstGeom>
          <a:ln w="0">
            <a:noFill/>
          </a:ln>
        </p:spPr>
      </p:pic>
      <p:grpSp>
        <p:nvGrpSpPr>
          <p:cNvPr id="42" name="组合 57"/>
          <p:cNvGrpSpPr/>
          <p:nvPr/>
        </p:nvGrpSpPr>
        <p:grpSpPr>
          <a:xfrm>
            <a:off x="2197440" y="951480"/>
            <a:ext cx="5081040" cy="5064120"/>
            <a:chOff x="2197440" y="951480"/>
            <a:chExt cx="5081040" cy="5064120"/>
          </a:xfrm>
        </p:grpSpPr>
        <p:grpSp>
          <p:nvGrpSpPr>
            <p:cNvPr id="43" name="组合 53"/>
            <p:cNvGrpSpPr/>
            <p:nvPr/>
          </p:nvGrpSpPr>
          <p:grpSpPr>
            <a:xfrm>
              <a:off x="3390120" y="1137960"/>
              <a:ext cx="2003400" cy="2003400"/>
              <a:chOff x="3390120" y="1137960"/>
              <a:chExt cx="2003400" cy="2003400"/>
            </a:xfrm>
          </p:grpSpPr>
          <p:sp>
            <p:nvSpPr>
              <p:cNvPr id="44" name="矩形 173"/>
              <p:cNvSpPr/>
              <p:nvPr/>
            </p:nvSpPr>
            <p:spPr>
              <a:xfrm rot="18864600">
                <a:off x="3683880" y="1430640"/>
                <a:ext cx="1415520" cy="14176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36000"/>
              </a:gradFill>
              <a:ln w="25560">
                <a:solidFill>
                  <a:srgbClr val="fa9496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TextBox 174"/>
              <p:cNvSpPr/>
              <p:nvPr/>
            </p:nvSpPr>
            <p:spPr>
              <a:xfrm flipH="1">
                <a:off x="3517200" y="1937160"/>
                <a:ext cx="174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点击添加标题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" name="组合 54"/>
            <p:cNvGrpSpPr/>
            <p:nvPr/>
          </p:nvGrpSpPr>
          <p:grpSpPr>
            <a:xfrm>
              <a:off x="2393280" y="2798280"/>
              <a:ext cx="2003400" cy="2003400"/>
              <a:chOff x="2393280" y="2798280"/>
              <a:chExt cx="2003400" cy="2003400"/>
            </a:xfrm>
          </p:grpSpPr>
          <p:sp>
            <p:nvSpPr>
              <p:cNvPr id="47" name="矩形 171"/>
              <p:cNvSpPr/>
              <p:nvPr/>
            </p:nvSpPr>
            <p:spPr>
              <a:xfrm rot="18864600">
                <a:off x="2687040" y="3090960"/>
                <a:ext cx="1415520" cy="14176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36000"/>
              </a:gradFill>
              <a:ln w="25560">
                <a:solidFill>
                  <a:srgbClr val="0070c0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TextBox 172"/>
              <p:cNvSpPr/>
              <p:nvPr/>
            </p:nvSpPr>
            <p:spPr>
              <a:xfrm flipH="1">
                <a:off x="2520360" y="3597480"/>
                <a:ext cx="174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点击添加标题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" name="组合 55"/>
            <p:cNvGrpSpPr/>
            <p:nvPr/>
          </p:nvGrpSpPr>
          <p:grpSpPr>
            <a:xfrm>
              <a:off x="4050720" y="3805920"/>
              <a:ext cx="2003400" cy="2003400"/>
              <a:chOff x="4050720" y="3805920"/>
              <a:chExt cx="2003400" cy="2003400"/>
            </a:xfrm>
          </p:grpSpPr>
          <p:sp>
            <p:nvSpPr>
              <p:cNvPr id="50" name="矩形 169"/>
              <p:cNvSpPr/>
              <p:nvPr/>
            </p:nvSpPr>
            <p:spPr>
              <a:xfrm rot="18864600">
                <a:off x="4344480" y="4098600"/>
                <a:ext cx="1415520" cy="14176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36000"/>
              </a:gradFill>
              <a:ln w="25560">
                <a:solidFill>
                  <a:srgbClr val="ffaa01">
                    <a:alpha val="62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TextBox 170"/>
              <p:cNvSpPr/>
              <p:nvPr/>
            </p:nvSpPr>
            <p:spPr>
              <a:xfrm flipH="1">
                <a:off x="4177800" y="4605120"/>
                <a:ext cx="174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点击添加标题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组合 56"/>
            <p:cNvGrpSpPr/>
            <p:nvPr/>
          </p:nvGrpSpPr>
          <p:grpSpPr>
            <a:xfrm>
              <a:off x="5036760" y="2176560"/>
              <a:ext cx="2003400" cy="2003400"/>
              <a:chOff x="5036760" y="2176560"/>
              <a:chExt cx="2003400" cy="2003400"/>
            </a:xfrm>
          </p:grpSpPr>
          <p:sp>
            <p:nvSpPr>
              <p:cNvPr id="53" name="矩形 167"/>
              <p:cNvSpPr/>
              <p:nvPr/>
            </p:nvSpPr>
            <p:spPr>
              <a:xfrm rot="18864600">
                <a:off x="5330520" y="2469240"/>
                <a:ext cx="1415520" cy="14176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36000"/>
              </a:gradFill>
              <a:ln w="25560">
                <a:solidFill>
                  <a:srgbClr val="119707">
                    <a:alpha val="38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TextBox 168"/>
              <p:cNvSpPr/>
              <p:nvPr/>
            </p:nvSpPr>
            <p:spPr>
              <a:xfrm flipH="1">
                <a:off x="5163840" y="2975760"/>
                <a:ext cx="174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点击添加标题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" name="组合 28"/>
            <p:cNvGrpSpPr/>
            <p:nvPr/>
          </p:nvGrpSpPr>
          <p:grpSpPr>
            <a:xfrm>
              <a:off x="4393080" y="951480"/>
              <a:ext cx="2553480" cy="2535120"/>
              <a:chOff x="4393080" y="951480"/>
              <a:chExt cx="2553480" cy="2535120"/>
            </a:xfrm>
          </p:grpSpPr>
          <p:grpSp>
            <p:nvGrpSpPr>
              <p:cNvPr id="56" name="组合 14"/>
              <p:cNvGrpSpPr/>
              <p:nvPr/>
            </p:nvGrpSpPr>
            <p:grpSpPr>
              <a:xfrm>
                <a:off x="4393080" y="951480"/>
                <a:ext cx="2553480" cy="2535120"/>
                <a:chOff x="4393080" y="951480"/>
                <a:chExt cx="2553480" cy="2535120"/>
              </a:xfrm>
            </p:grpSpPr>
            <p:sp>
              <p:nvSpPr>
                <p:cNvPr id="57" name="矩形 164"/>
                <p:cNvSpPr/>
                <p:nvPr/>
              </p:nvSpPr>
              <p:spPr>
                <a:xfrm rot="2725800">
                  <a:off x="5435640" y="654840"/>
                  <a:ext cx="471600" cy="3115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8076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" name="矩形 165"/>
                <p:cNvSpPr/>
                <p:nvPr/>
              </p:nvSpPr>
              <p:spPr>
                <a:xfrm rot="2725800">
                  <a:off x="4494240" y="2907000"/>
                  <a:ext cx="473760" cy="482400"/>
                </a:xfrm>
                <a:prstGeom prst="rect">
                  <a:avLst/>
                </a:prstGeom>
                <a:noFill/>
                <a:ln w="25560">
                  <a:solidFill>
                    <a:srgbClr val="a5a5a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" name="TextBox 166"/>
                <p:cNvSpPr/>
                <p:nvPr/>
              </p:nvSpPr>
              <p:spPr>
                <a:xfrm flipH="1">
                  <a:off x="4479120" y="2842560"/>
                  <a:ext cx="5662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Arial Unicode MS"/>
                      <a:ea typeface="Arial Unicode MS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0" name="TextBox 163"/>
              <p:cNvSpPr/>
              <p:nvPr/>
            </p:nvSpPr>
            <p:spPr>
              <a:xfrm flipH="1" rot="18920400">
                <a:off x="4599000" y="2194560"/>
                <a:ext cx="17470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点击添加文本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" name="组合 29"/>
            <p:cNvGrpSpPr/>
            <p:nvPr/>
          </p:nvGrpSpPr>
          <p:grpSpPr>
            <a:xfrm>
              <a:off x="2197440" y="1263600"/>
              <a:ext cx="2547720" cy="2567520"/>
              <a:chOff x="2197440" y="1263600"/>
              <a:chExt cx="2547720" cy="2567520"/>
            </a:xfrm>
          </p:grpSpPr>
          <p:grpSp>
            <p:nvGrpSpPr>
              <p:cNvPr id="62" name="组合 30"/>
              <p:cNvGrpSpPr/>
              <p:nvPr/>
            </p:nvGrpSpPr>
            <p:grpSpPr>
              <a:xfrm>
                <a:off x="2197440" y="1263600"/>
                <a:ext cx="2547720" cy="2567520"/>
                <a:chOff x="2197440" y="1263600"/>
                <a:chExt cx="2547720" cy="2567520"/>
              </a:xfrm>
            </p:grpSpPr>
            <p:sp>
              <p:nvSpPr>
                <p:cNvPr id="63" name="矩形 159"/>
                <p:cNvSpPr/>
                <p:nvPr/>
              </p:nvSpPr>
              <p:spPr>
                <a:xfrm rot="18925800">
                  <a:off x="3222360" y="981000"/>
                  <a:ext cx="471600" cy="311472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8076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" name="矩形 160"/>
                <p:cNvSpPr/>
                <p:nvPr/>
              </p:nvSpPr>
              <p:spPr>
                <a:xfrm rot="18925800">
                  <a:off x="4172760" y="3254400"/>
                  <a:ext cx="471600" cy="480240"/>
                </a:xfrm>
                <a:prstGeom prst="rect">
                  <a:avLst/>
                </a:prstGeom>
                <a:solidFill>
                  <a:srgbClr val="d8d8d8">
                    <a:alpha val="8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" name="TextBox 161"/>
                <p:cNvSpPr/>
                <p:nvPr/>
              </p:nvSpPr>
              <p:spPr>
                <a:xfrm flipH="1">
                  <a:off x="4152240" y="3143520"/>
                  <a:ext cx="5659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7f7f7f"/>
                      </a:solidFill>
                      <a:latin typeface="Arial Unicode MS"/>
                      <a:ea typeface="Arial Unicode MS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" name="TextBox 158"/>
              <p:cNvSpPr/>
              <p:nvPr/>
            </p:nvSpPr>
            <p:spPr>
              <a:xfrm flipH="1" rot="2684400">
                <a:off x="3035880" y="2811600"/>
                <a:ext cx="17492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点击添加文本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" name="组合 41"/>
            <p:cNvGrpSpPr/>
            <p:nvPr/>
          </p:nvGrpSpPr>
          <p:grpSpPr>
            <a:xfrm>
              <a:off x="4728600" y="3153960"/>
              <a:ext cx="2549880" cy="2567880"/>
              <a:chOff x="4728600" y="3153960"/>
              <a:chExt cx="2549880" cy="2567880"/>
            </a:xfrm>
          </p:grpSpPr>
          <p:grpSp>
            <p:nvGrpSpPr>
              <p:cNvPr id="68" name="组合 42"/>
              <p:cNvGrpSpPr/>
              <p:nvPr/>
            </p:nvGrpSpPr>
            <p:grpSpPr>
              <a:xfrm>
                <a:off x="4728600" y="3153960"/>
                <a:ext cx="2549880" cy="2567880"/>
                <a:chOff x="4728600" y="3153960"/>
                <a:chExt cx="2549880" cy="2567880"/>
              </a:xfrm>
            </p:grpSpPr>
            <p:sp>
              <p:nvSpPr>
                <p:cNvPr id="69" name="矩形 154"/>
                <p:cNvSpPr/>
                <p:nvPr/>
              </p:nvSpPr>
              <p:spPr>
                <a:xfrm rot="8125800">
                  <a:off x="5780880" y="2889000"/>
                  <a:ext cx="472320" cy="311472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8076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矩形 155"/>
                <p:cNvSpPr/>
                <p:nvPr/>
              </p:nvSpPr>
              <p:spPr>
                <a:xfrm rot="8125800">
                  <a:off x="4829040" y="3250080"/>
                  <a:ext cx="471960" cy="480240"/>
                </a:xfrm>
                <a:prstGeom prst="rect">
                  <a:avLst/>
                </a:prstGeom>
                <a:solidFill>
                  <a:srgbClr val="d8d8d8">
                    <a:alpha val="8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TextBox 156"/>
                <p:cNvSpPr/>
                <p:nvPr/>
              </p:nvSpPr>
              <p:spPr>
                <a:xfrm flipH="1">
                  <a:off x="4799520" y="3173040"/>
                  <a:ext cx="5666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7f7f7f"/>
                      </a:solidFill>
                      <a:latin typeface="Arial Unicode MS"/>
                      <a:ea typeface="Arial Unicode MS"/>
                    </a:rPr>
                    <a:t>4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2" name="TextBox 153"/>
              <p:cNvSpPr/>
              <p:nvPr/>
            </p:nvSpPr>
            <p:spPr>
              <a:xfrm flipH="1" rot="2724600">
                <a:off x="5043960" y="4133520"/>
                <a:ext cx="17492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点击添加文本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3" name="组合 47"/>
            <p:cNvGrpSpPr/>
            <p:nvPr/>
          </p:nvGrpSpPr>
          <p:grpSpPr>
            <a:xfrm>
              <a:off x="2478240" y="3487320"/>
              <a:ext cx="2554920" cy="2528280"/>
              <a:chOff x="2478240" y="3487320"/>
              <a:chExt cx="2554920" cy="2528280"/>
            </a:xfrm>
          </p:grpSpPr>
          <p:grpSp>
            <p:nvGrpSpPr>
              <p:cNvPr id="74" name="组合 48"/>
              <p:cNvGrpSpPr/>
              <p:nvPr/>
            </p:nvGrpSpPr>
            <p:grpSpPr>
              <a:xfrm>
                <a:off x="2478240" y="3487320"/>
                <a:ext cx="2554920" cy="2528280"/>
                <a:chOff x="2478240" y="3487320"/>
                <a:chExt cx="2554920" cy="2528280"/>
              </a:xfrm>
            </p:grpSpPr>
            <p:sp>
              <p:nvSpPr>
                <p:cNvPr id="75" name="矩形 149"/>
                <p:cNvSpPr/>
                <p:nvPr/>
              </p:nvSpPr>
              <p:spPr>
                <a:xfrm rot="13525800">
                  <a:off x="3517560" y="3197160"/>
                  <a:ext cx="470880" cy="3115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8076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" name="矩形 150"/>
                <p:cNvSpPr/>
                <p:nvPr/>
              </p:nvSpPr>
              <p:spPr>
                <a:xfrm rot="13525800">
                  <a:off x="4460400" y="3589560"/>
                  <a:ext cx="470880" cy="482400"/>
                </a:xfrm>
                <a:prstGeom prst="rect">
                  <a:avLst/>
                </a:prstGeom>
                <a:noFill/>
                <a:ln w="25560">
                  <a:solidFill>
                    <a:srgbClr val="a5a5a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" name="TextBox 151"/>
                <p:cNvSpPr/>
                <p:nvPr/>
              </p:nvSpPr>
              <p:spPr>
                <a:xfrm flipH="1">
                  <a:off x="4449600" y="3487320"/>
                  <a:ext cx="5662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Arial Unicode MS"/>
                      <a:ea typeface="Arial Unicode MS"/>
                    </a:rPr>
                    <a:t>3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8" name="TextBox 148"/>
              <p:cNvSpPr/>
              <p:nvPr/>
            </p:nvSpPr>
            <p:spPr>
              <a:xfrm flipH="1" rot="18884400">
                <a:off x="3290040" y="4163400"/>
                <a:ext cx="17492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点击添加文本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9" name=""/>
          <p:cNvSpPr/>
          <p:nvPr/>
        </p:nvSpPr>
        <p:spPr>
          <a:xfrm>
            <a:off x="2040120" y="44280"/>
            <a:ext cx="5362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"/>
              </a:rPr>
              <a:t>并列关系幻灯片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8000" y="645336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F214D-49E3-471C-B86A-18E8C726BE5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1T05:37:00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12:33:44Z</dcterms:modified>
  <cp:revision>1324</cp:revision>
  <dc:subject/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  <property fmtid="{D5CDD505-2E9C-101B-9397-08002B2CF9AE}" pid="3" name="Presentation">
    <vt:lpwstr>锐普图表</vt:lpwstr>
  </property>
</Properties>
</file>