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431-D750-4302-A627-497A2AF1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70E-E7A7-479D-95FE-A357AFC6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632-19F0-40C0-8F51-3A4AE26D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B0C-A0CB-4727-9F79-158CFB7C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184A-98A0-4392-AA7F-53AAFF75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FD7B-0360-4740-A76A-9946D2B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644-A572-410B-A100-29C16C8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C0B-F893-4EDB-8834-5E41DF8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2DDD-5D19-4DC9-AB21-C50852D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6A02-A252-4845-881E-48AC6435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E169-8F7B-4264-A850-A57B447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41E-A489-4FB7-A77A-B80CF98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C227-8C39-4685-9DE6-BF4D6903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947-ABB2-4465-8871-6CA6F9A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6AC1-6788-4DBD-B3D9-62A3842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5D36-AA3A-47CD-A010-1EC2CB5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DC9-4636-4C98-95D3-B99D6AB4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3F5-9092-4CE0-A4F3-1657C3F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33B-4D45-4902-B98D-C02D8B55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D8C-50F7-46E7-B90C-74A2DECD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379-8CBC-4A3B-B7DB-16213A2D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180-2AD1-489A-80AC-D7BC629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BD3-DD1B-4339-92F8-3F502ED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C2-18CE-49C7-87A9-BE205AF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C4B8-B115-4484-8FA0-6D6124BC45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B6A-5926-4D17-AAE4-A7A92A1A64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D5E-66D1-4B4F-8B6A-717F8F2786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1307-A47F-406A-BFAA-B227D7649A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50920" y="13399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3203" r="0" b="35456"/>
          <a:stretch/>
        </p:blipFill>
        <p:spPr>
          <a:xfrm>
            <a:off x="-9360" y="9360"/>
            <a:ext cx="91422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851280" y="18651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3991320" y="2562120"/>
            <a:ext cx="6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gency FB"/>
                <a:ea typeface="宋体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gency FB"/>
              </a:rPr>
              <a:t>  </a:t>
            </a:r>
            <a:r>
              <a:rPr b="0" lang="zh-CN" sz="3200" spc="-1" strike="noStrike">
                <a:solidFill>
                  <a:srgbClr val="0070c0"/>
                </a:solidFill>
                <a:latin typeface="Agency FB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"/>
          <p:cNvSpPr/>
          <p:nvPr/>
        </p:nvSpPr>
        <p:spPr>
          <a:xfrm>
            <a:off x="3924360" y="2701800"/>
            <a:ext cx="50403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680400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738036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956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8532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0" y="4741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1520" y="7812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船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rcRect l="0" t="9640" r="0" b="0"/>
          <a:stretch/>
        </p:blipFill>
        <p:spPr>
          <a:xfrm>
            <a:off x="-2023920" y="-162000"/>
            <a:ext cx="11564640" cy="65311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4295880" y="555480"/>
            <a:ext cx="529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4"/>
          <p:cNvSpPr/>
          <p:nvPr/>
        </p:nvSpPr>
        <p:spPr>
          <a:xfrm>
            <a:off x="3995640" y="555480"/>
            <a:ext cx="180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916360" y="555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&gt;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4282920" y="1441440"/>
            <a:ext cx="478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09760" y="482436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39E-74D3-4262-AB61-136B94EF4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23:3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8:33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