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"/>
          <p:cNvSpPr/>
          <p:nvPr/>
        </p:nvSpPr>
        <p:spPr>
          <a:xfrm>
            <a:off x="2080800" y="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毕业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占位符 7" descr="study006.jpg"/>
          <p:cNvPicPr/>
          <p:nvPr/>
        </p:nvPicPr>
        <p:blipFill>
          <a:blip r:embed="rId1"/>
          <a:stretch/>
        </p:blipFill>
        <p:spPr>
          <a:xfrm>
            <a:off x="622440" y="1554120"/>
            <a:ext cx="5126040" cy="24084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占位符 8" descr="study007.jpg"/>
          <p:cNvPicPr/>
          <p:nvPr/>
        </p:nvPicPr>
        <p:blipFill>
          <a:blip r:embed="rId2"/>
          <a:stretch/>
        </p:blipFill>
        <p:spPr>
          <a:xfrm>
            <a:off x="5767560" y="3981600"/>
            <a:ext cx="2693880" cy="2266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85520" y="4214520"/>
            <a:ext cx="47862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happines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t friendship brings is never changed. A faithful friend i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yond price, and there is no 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have brains in your head. You have feet in your shoes. Yo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n steer yourself in any direction you choose. You're on you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wn. And you know what you know. You are the guy who'l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cide where to go.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97080" y="64548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占位符 9" descr="study043.jpg"/>
          <p:cNvPicPr/>
          <p:nvPr/>
        </p:nvPicPr>
        <p:blipFill>
          <a:blip r:embed="rId1"/>
          <a:stretch/>
        </p:blipFill>
        <p:spPr>
          <a:xfrm>
            <a:off x="480960" y="1695600"/>
            <a:ext cx="3195720" cy="44798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占位符 10" descr="study017.JPG"/>
          <p:cNvPicPr/>
          <p:nvPr/>
        </p:nvPicPr>
        <p:blipFill>
          <a:blip r:embed="rId2"/>
          <a:stretch/>
        </p:blipFill>
        <p:spPr>
          <a:xfrm>
            <a:off x="3767040" y="4127400"/>
            <a:ext cx="2408400" cy="20480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占位符 12" descr="study008.jpg"/>
          <p:cNvPicPr/>
          <p:nvPr/>
        </p:nvPicPr>
        <p:blipFill>
          <a:blip r:embed="rId3"/>
          <a:stretch/>
        </p:blipFill>
        <p:spPr>
          <a:xfrm>
            <a:off x="6267600" y="4127400"/>
            <a:ext cx="2406600" cy="2048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57760" y="2286000"/>
            <a:ext cx="400032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appiness that friendship brings is neverchanged. 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ithful friend is beyond price, and there is 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占位符 8" descr="study015.jpg"/>
          <p:cNvPicPr/>
          <p:nvPr/>
        </p:nvPicPr>
        <p:blipFill>
          <a:blip r:embed="rId1"/>
          <a:stretch/>
        </p:blipFill>
        <p:spPr>
          <a:xfrm>
            <a:off x="907920" y="2127240"/>
            <a:ext cx="2268720" cy="21891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占位符 9" descr="study025.jpg"/>
          <p:cNvPicPr/>
          <p:nvPr/>
        </p:nvPicPr>
        <p:blipFill>
          <a:blip r:embed="rId2"/>
          <a:stretch/>
        </p:blipFill>
        <p:spPr>
          <a:xfrm>
            <a:off x="3267000" y="2127240"/>
            <a:ext cx="2262240" cy="21891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占位符 10" descr="study015.jpg"/>
          <p:cNvPicPr/>
          <p:nvPr/>
        </p:nvPicPr>
        <p:blipFill>
          <a:blip r:embed="rId3"/>
          <a:stretch/>
        </p:blipFill>
        <p:spPr>
          <a:xfrm>
            <a:off x="5626080" y="2127240"/>
            <a:ext cx="2262240" cy="2189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28800" y="4428720"/>
            <a:ext cx="69292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Don\'t be disappointed on the journey of life. There are friends in the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Seize your chance and value your opportunities. May our friendship be everlastin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ough time may change so many things, the happiness that friendship brings is neve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nged. A faithful friend is beyond price, and there is no weighing of his good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197080" y="64548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57840" y="642600"/>
            <a:ext cx="40003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Arial"/>
                <a:ea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1:06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4:54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