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BC6-9535-479A-98D1-6D95F48B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A3F-4E33-4066-9C58-4CE022F2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D2D1E-AEF5-48BB-8F1C-0EA8D9F0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B5138-5B48-4694-9A9D-238B9A3E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8F79E-64F5-46CB-A340-DA353AA6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1324D-E5E4-4D05-B8FF-9866D304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C42BA-034D-49F5-AF2A-06C44001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47954-14AA-4650-9096-1C7A9AF9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73934-EB7B-47BE-B0B2-D2ED2CA5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5D45C-508B-41D8-ACB2-650E238F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AE56A-E065-43E8-9EFD-03F5D126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E2ABF-8C26-474C-98D8-1060C302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396F-C6BE-4E15-A71E-AA0FD5EF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76C55-EB9A-4EE4-96E8-69C74C82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8CE81-9835-475D-AEEE-E7D404E3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99150-D7DE-464D-8453-382DB0F1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89AD1-D0C2-4234-864A-A9733D97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9D2FC-FEF8-4B10-A2B0-D49802A3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A822C-6FB5-4F39-B6B3-9B3B4D6E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A2C13-EB81-44F2-B09E-7BC1BC67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D0D57-AE6E-4F10-8482-73AA07B8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E15D9-B78B-4F43-8646-979A4881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062F8-9F74-4DFD-8C73-FBE594BC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7927-2797-4F7D-A72E-9CE4B7CA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934AE-7B23-4740-B7F9-B5664715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5140F-59F8-4FCB-A07B-279C7F17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44660-3C12-45A0-93F4-B146CC36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33231-D3CC-43CF-A9A6-25ED34DB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0F575-7DEB-44C6-92AB-F8B3294C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1CC6A-9EA2-4B17-B5BD-97600E59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83BCF-1350-4278-8A83-CDD67977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84A1F-9B5C-4FAF-8FFF-4EEC30C1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CC21E-0317-4018-89E3-99E57180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D8822-36B9-491A-BA1D-C47864B6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6198-B64C-426E-80CF-CCAA788D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97AE8-927F-4CF6-9F4E-7CC30541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5C1D2-EDCE-48B4-8BB9-D347443D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04352-3C01-488B-9155-C5B44F71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F8E58-D85B-4517-9112-2D68B09F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C27E0-4840-4BEE-9F7E-3B643295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EE373-CB58-4345-85CF-5EEA1283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7A618-2514-4044-B9EB-DBF53AAD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08373-B128-44DE-BF76-BF043994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44B3A-2326-4C24-A0F8-2BD22981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45E1F-5B63-4E46-887D-D006B800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3FDB-B26D-4B02-B491-E3425A07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CAD1D-2D5B-42DF-858C-BF29D271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9BCF2-D0FF-4DB7-8E81-AF3F9C77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CD1BC-26CB-4C70-809D-53C19DE3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A542D-8D1C-4BC3-8CEA-03FCE403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1CFF8-1D3D-40E1-AD64-58CF2823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5DCD-3E6A-4B06-BA2E-328152A9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D3E8-32FE-48CF-834F-40A39A5F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2459-79CE-4420-B791-3885761B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5F9B-E614-4357-92FF-373EAB0A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7642-F639-48EA-9348-05BEFA04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93D-F8D2-46C7-9991-5FC05607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32D4-4ECD-4A7C-BE43-A833A07A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DA38-99CD-426A-8AF1-DA469D39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21FF-C11F-4F98-B97E-1F4AA2EB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2EE1-7DBB-41D9-B1AD-A303699B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F597-7F6C-47B3-8D7B-F348E2E4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DF2A-C370-42E7-AFBB-78CF03CA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72FE1-8C19-4B4D-A642-124038B3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AB5BF-8F1D-4498-A7ED-CA017559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6442A-949D-4090-BC24-73F08C01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9D053-5A86-4135-BE00-F5D247F8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3FB-D1E9-499C-AEA1-64100B16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AEB25-2CAC-4492-9812-47C6D457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C2D0F-3232-421A-AD1A-1FE3C3DB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0C29B-F366-4CBD-A95D-275D4A52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A3791-F959-4BFE-AFED-B3A271C6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CBF2B-BC34-45C0-B4BB-12D05846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DE7DF-6551-468A-A1E2-8F1822EA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9DF69-BBB5-4E21-B4F4-7BCFFB9E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9E406-381A-4D69-AA38-4C6E407A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7F7F9-5E8C-4B83-9587-4C65F6C3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76DC4-17C4-48C3-9FDD-4901CED9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B20A-5436-4345-8CB2-C76E287F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CDA28-D78D-48E0-8164-52552CF6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463C2-250A-434A-8A5B-6EDCC8FB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C1F01-F748-4C94-AE99-66E28C81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9D7CD-8AD2-40FE-A82D-CCC227CD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E7371-9176-4428-9C90-1DB4C26B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604DD-1371-422C-93BA-B4BCF4A1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146AB-9856-4435-B5A0-2EF3B983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244A7-1031-412D-A122-A87DE983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D0801-F773-47C0-8076-B3CBDC57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EB678-E710-498B-9A3F-0218F86B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88EE-2181-4DDB-9E5E-EEB99848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AB9C9-04CE-4FAD-9A79-162E224A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9BECE-594A-43CE-9333-7A595DEE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18255-E776-4808-8ECC-A4302929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073FF-B2DA-47E4-9D2D-30CCB025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6DEB8-60D3-4208-9348-673143C5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1540C-5D11-4132-ABAF-5D8AF174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F7220-C67D-4745-A582-5C52129B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118A0-A6A1-4D78-A5AB-A0623584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AC178-08D7-4F13-A446-6020997E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84773-F440-4801-8D89-AF9DC304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32FF-110A-4C04-9045-DF4E84F4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C5646-949C-41BD-BBB8-23D8A72B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5EEA5-DEA4-479F-A86D-D048E6AB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40A0B-E7B0-4026-BC92-B3C21022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BDC73-D500-4688-A2B9-34437861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6BA2F-5FC0-4831-9EEF-8978C8B2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E447D-8CCA-4485-8254-17005971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3804A-23A2-4297-B14E-E751CFD2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A2BF2-568F-4C3A-B7F9-0DEA9E8A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69BA5-08D3-4126-BCF3-98D44DB8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22200-AAD7-4634-941F-08863228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630-AAFE-41FA-921A-CD357255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0E72E-4DEB-4B0A-9367-A1C2FCD3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7B6B9-D35A-4605-919F-AED291D6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969B8-EF2F-4D69-9B6C-CBE617DC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6702B-3733-45A0-889B-91A3A7FA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6BFC6-5357-47AB-8A67-A0C42AB0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F1D4D-8D5C-413F-82BF-F3E6ACCB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F32AF-367A-4FD0-B601-280EE521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CFCE1-7F69-4172-AFDD-DFA75E09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E3D9C-8EBE-48D2-8F7F-2010B542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D1E9A-E92C-49FE-8696-8EC488D6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5F3F-49BF-42FB-876F-B6D9E967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448DB-82EB-4399-9DF9-B8A765BB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84EA1-1C34-4876-A14B-F85130A6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A71D8-9A7A-4BB4-9B90-F29296F6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3FBAE-5FD4-4DE0-9D97-D992386D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38922-9DC7-4D95-ACFC-F4E9A06C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1938B-2EB3-40F8-9524-8AA24D11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58287-3A69-457F-924D-2CF981F7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89C03-6296-4077-963D-8C9A09D7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A2227-7D73-49D0-8CD9-0E94246F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94AA7-1BA2-4E2E-871D-5F637D83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16A-32EB-405B-B592-532DA1B5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DE58C-9BA2-4C3F-BCAF-282D5E89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9F49B-EC87-4747-A35E-15CF6991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5F225-D5B6-4A84-98D0-3C7D501D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86613-939C-4E4F-A369-4BB9B7C2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95E58-9F05-4959-B725-60BC3052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81A57-99C2-45B2-BC00-B53897E1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B1D86-B63C-438A-A620-D05E9C20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D1703-AED3-46C8-BA84-91B4064C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90158-BE4E-466F-ACCB-6B8D9270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C3629-CF1C-44C4-83FA-B7FA9A7C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0060-A29B-4D28-AC2D-9655BF914486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1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6C43-0E27-4690-9A37-C0AB5475A961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D2BA-168A-4819-B3F6-4D55D85CA207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1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4DF8-B51E-4FA3-B51D-4B6869CF32D4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A94B-B052-4BE3-8FCC-607A38303631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1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3F75-C325-4142-A905-D0EE2B4FAA8F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C2B2-3EA4-4466-B456-8518699F034D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1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AC5F-5379-4CAA-8250-A95F0F281B13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D8FE-E171-4786-82D0-12193B3B1D34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1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566B-F137-4190-BE79-AFF0CC94FD2F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E42C-1F4C-41FD-8CE9-E04AB8D31BC4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1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985B-CBF3-4E0A-8847-3B07F5AC6A4E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CEF6-EB8D-4FB0-8FD5-241A36B5C0FD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1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D82D-647D-408A-A5B6-589368969FC8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9022-7A95-4CC4-9139-A744926E5E6B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1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BC9A-E209-4C28-B905-E33ECDB0DACA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45CF-8945-4DEC-996C-9DD8BE148F78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1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F302-EE30-48EB-BA1D-25D11CA0314D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D226-F117-4DF7-A851-251137562FA6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1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6CFE-F5F7-4A73-BB95-F7F0BED23D24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8AB8-448C-4732-92D8-8D19E28E42BE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1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3EB5-AEF7-4904-B53A-85C6192E775E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9E27-6204-40B5-B1AA-D636BF58B28E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1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8B3B-94F7-4794-A4B5-34F347DEA55F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237080" y="1600200"/>
            <a:ext cx="4343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</a:rPr>
              <a:t>相册标题</a:t>
            </a:r>
            <a:endParaRPr b="0" lang="en-US" sz="6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7237080" y="5562720"/>
            <a:ext cx="4343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相册副标题</a:t>
            </a:r>
            <a:endParaRPr b="0" lang="en-US" sz="1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7237080" y="533520"/>
            <a:ext cx="4343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e83de"/>
                </a:solidFill>
                <a:latin typeface="微软雅黑"/>
              </a:rPr>
              <a:t>年</a:t>
            </a:r>
            <a:endParaRPr b="0" lang="en-US" sz="48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495" name="图片占位符 6" descr=""/>
          <p:cNvPicPr/>
          <p:nvPr/>
        </p:nvPicPr>
        <p:blipFill>
          <a:blip r:embed="rId1"/>
          <a:stretch/>
        </p:blipFill>
        <p:spPr>
          <a:xfrm>
            <a:off x="0" y="647640"/>
            <a:ext cx="7008840" cy="5639040"/>
          </a:xfrm>
          <a:prstGeom prst="rect">
            <a:avLst/>
          </a:prstGeom>
          <a:ln w="0">
            <a:noFill/>
          </a:ln>
        </p:spPr>
      </p:pic>
      <p:sp>
        <p:nvSpPr>
          <p:cNvPr id="496" name="矩形 1"/>
          <p:cNvSpPr/>
          <p:nvPr/>
        </p:nvSpPr>
        <p:spPr>
          <a:xfrm>
            <a:off x="7704360" y="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毕业季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9723-BCB8-43C5-90F3-B2D01D2EC44D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320" y="609480"/>
            <a:ext cx="397692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443440" y="1599840"/>
            <a:ext cx="31244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1e83de"/>
              </a:solidFill>
              <a:latin typeface="微软雅黑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8443440" y="4191120"/>
            <a:ext cx="3124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110120" y="609480"/>
            <a:ext cx="397656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7403-58E2-4383-8F26-76A9470E3316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105440" y="609480"/>
            <a:ext cx="397800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3360" y="1599840"/>
            <a:ext cx="3124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1e83de"/>
              </a:solidFill>
              <a:latin typeface="微软雅黑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03360" y="4191120"/>
            <a:ext cx="3124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210160" y="609480"/>
            <a:ext cx="397836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275B-3392-42C9-AA20-489E55906C1E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113360" y="609480"/>
            <a:ext cx="807552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609480"/>
            <a:ext cx="397836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F204-A6D0-45F5-B91F-AA2A7ECC3548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0" y="609480"/>
            <a:ext cx="807552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8210160" y="609480"/>
            <a:ext cx="397836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EBAC-F635-4C18-8C09-B9F96F756E99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609480"/>
            <a:ext cx="807552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8210160" y="60948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8210160" y="350532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5975-57B4-43DD-AE9D-2DCE05F51D2D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113360" y="609480"/>
            <a:ext cx="807552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60948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350532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2B20-5158-4AF4-ADA7-EFEDEDDFA793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60948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350532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105440" y="609480"/>
            <a:ext cx="397800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10160" y="60948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8210160" y="350532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5320" y="189000"/>
            <a:ext cx="1093968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016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971244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F2D4-4A71-46CF-BA25-2C0023017C56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113360" y="609480"/>
            <a:ext cx="807552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3360" y="1599840"/>
            <a:ext cx="3124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1e83de"/>
              </a:solidFill>
              <a:latin typeface="微软雅黑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603360" y="4191120"/>
            <a:ext cx="3124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D881-7B1C-4FF4-AFD3-B6B2C7C35727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320" y="609480"/>
            <a:ext cx="397692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443440" y="1599840"/>
            <a:ext cx="31244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1e83de"/>
              </a:solidFill>
              <a:latin typeface="微软雅黑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8443440" y="4191120"/>
            <a:ext cx="3124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110120" y="609480"/>
            <a:ext cx="39765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320" y="3494160"/>
            <a:ext cx="397692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110120" y="3494160"/>
            <a:ext cx="39765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EA2F-A62D-44AD-B841-C82EDA2336A9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105440" y="609480"/>
            <a:ext cx="397800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3360" y="1599840"/>
            <a:ext cx="3124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1e83de"/>
              </a:solidFill>
              <a:latin typeface="微软雅黑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603360" y="4191120"/>
            <a:ext cx="3124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8210160" y="60948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105440" y="3494160"/>
            <a:ext cx="397800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8210160" y="349416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50A9-5909-43A9-8730-E31B09D2BBB7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-360" y="60948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349416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105440" y="609480"/>
            <a:ext cx="397800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8210160" y="60948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105440" y="3494160"/>
            <a:ext cx="397800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210160" y="349416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7894-6725-4451-9527-5B0975E7A268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0" y="608040"/>
            <a:ext cx="6035760" cy="56419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551640" y="18288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28520" indent="-12852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7675-147B-4CFB-B52D-1AF3C1262B9B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153120" y="609480"/>
            <a:ext cx="603576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08040" y="18288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28520" indent="-12852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6194-A5AF-4832-B47D-BC922C1B7077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0" y="609480"/>
            <a:ext cx="603576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153120" y="609480"/>
            <a:ext cx="603576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FDC8-E0B7-4D88-810E-AC624706696E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609480"/>
            <a:ext cx="397836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105440" y="609480"/>
            <a:ext cx="397800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8210160" y="609480"/>
            <a:ext cx="397836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00:3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03:44Z</dcterms:modified>
  <cp:revision>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_TemplateID">
    <vt:lpwstr>TC028133329991</vt:lpwstr>
  </property>
</Properties>
</file>