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63F-732B-4FF1-A90A-D0CCCBE2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38B-1281-4F86-B249-BD14F880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571-AE92-481A-BA90-D6C54BFA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ED2-727A-49AE-9EBB-9EA74D5E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E34-33EE-4249-B51D-9C4D0B1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4D6-8637-4E80-B519-0066336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168-8FAA-4F7C-9F1B-48D8036D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990-FF50-4E3D-96BE-FCD0A27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568-25E2-4B9A-9A38-F300138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62E-B760-4639-8732-17E838D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17D-090E-41C3-863C-360732C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8D0-47FC-4099-9C1C-CEC2183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C37-A1DA-46F9-8DE1-4ADAB9476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禽流感恐怖分子"/>
          <p:cNvPicPr/>
          <p:nvPr/>
        </p:nvPicPr>
        <p:blipFill>
          <a:blip r:embed="rId1"/>
          <a:stretch/>
        </p:blipFill>
        <p:spPr>
          <a:xfrm>
            <a:off x="4500720" y="189000"/>
            <a:ext cx="4643280" cy="36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季防流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国家预防和扑灭禽流感的措施是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家制订了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大动物疫情应急条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和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致病性禽流感应急预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，对高致病性禽流感的预防、控制扑灭等都制定了严格的措施和程序。包括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疫情报告、疫情诊断、疫点疫区的隔离封锁、扑杀、消毒、紧急免疫接种、紧急应急体系、经费的来源和保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一旦发生疫情，国家启动紧急应急系统，疫情将很快得到控制和消灭。发生疑似高致病性禽流感疫情后，养殖户不得自行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如何处理被禽流感病毒污染的废弃物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被禽流感病毒污染的废弃物，要按规定做无害化处理。能焚烧的地方，必须采取焚烧的方式处理；不能焚烧的，则采取深埋的方式处理。同时对所处环境做彻底消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普通市民应该怎样预防禽流感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36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离家禽的分泌物，尽量避免触摸活的鸡、鸭等家禽及鸟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锻炼，多休息，避免过度劳累，不吸烟，提高机体免疫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室内空气流通，尽量少去空气不流通场所；注意个人卫生，打喷嚏或咳嗽时掩住口鼻；保持室内清洁，确保排水道去水顺畅，避免使用难以清理的地毯；吃禽肉、鸡蛋煮熟煮透；在疫区的人员戴口罩；发现有类似流感症状及时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ov-7"/>
          <p:cNvPicPr/>
          <p:nvPr/>
        </p:nvPicPr>
        <p:blipFill>
          <a:blip r:embed="rId1"/>
          <a:stretch/>
        </p:blipFill>
        <p:spPr>
          <a:xfrm>
            <a:off x="5508720" y="1557360"/>
            <a:ext cx="33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30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9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157040" y="-2307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祝你健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禽流感病毒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43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61928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禽流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9228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流感是禽流行性感冒的简称，这是一种由甲型流感病毒的一种亚型引起的传染性疾病综合征，被国际兽疫局定为Ａ类传染病，又称真性鸡瘟或欧洲鸡瘟。不仅是鸡，其它一些家禽和野鸟都能感染禽流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H5N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病原体的类型，禽流感可分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致病性、低致病性和非致病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3984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508720" y="4653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禽流感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禽流感病毒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是什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流感病毒概念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是指病毒的糖蛋白（蛋白质），一种糖蛋白叫血凝素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另一种叫神经氨酸酶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由于这两种糖蛋白容易发生变异，因此，根据糖蛋白变异的情况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不同的型别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不同的型别。这里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高致病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高致病性禽流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致病性禽流感发病率和死亡率都很高，危害极大。禽流感是由流感病毒引起的一种禽类（家禽和野禽）传染病，被低致病性禽流感病毒感染后表现为轻度的呼吸道症状、消化道症状，死亡率较低；被高致病性禽流感感染后，禽类出现较严重的全身性、出血性、败血性症状，死亡率较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680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禽流感病毒易感动物有哪些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家禽和野禽、鸟类都对禽流感病毒敏感，可从体内分离出病毒。家禽中火鸡、鸡、鸭是自然条件下最常受感染的禽种。其他包括珍珠鸡、家鹅、鹌鹑、雉鸡、鸽、鹧鸪、鹦鹉、虎皮鹦鹉等，以及野禽和野生水禽，如鹅、燕鸥、野鸭、鹱、海岸鸟和海鸟等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海鸟和水禽外，还从以下多种鸟中分离到流感病毒：燕八哥、石鸡、麻雀、乌鸦、寒鸦、矶鹬、脊鸟令鸟、鸽、槛鸟、椋鸟、岩鹧鸪、燕子、苍鹭、加拿大鹅及番鸭等。据国外报道，已发现带毒的鸟类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鼠类不能自然感染流感病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7"/>
          <p:cNvPicPr/>
          <p:nvPr/>
        </p:nvPicPr>
        <p:blipFill>
          <a:blip r:embed="rId1"/>
          <a:stretch/>
        </p:blipFill>
        <p:spPr>
          <a:xfrm>
            <a:off x="6877080" y="0"/>
            <a:ext cx="2050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禽流感是如何传播的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流感病禽可以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呼吸道、结膜和消化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出病毒，感染方式包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与易感禽直接接触、空气传播及与受到污染的各种物品间接接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由于病禽粪便中有大量排毒，其污染的一切物品如饲养管理器具、设备、授精工具、动物、饲料、饮水、衣物、运输车辆等均可成为传播媒介而发生机械性传播，人员流动与消毒不严也可能起传播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流感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潜伏期内也有传染的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母鸡感染本病后，可在所产蛋中带有病毒，可经蛋垂直传播给后代。种鸡感染发病后，引起受精率、出雏率降低，雏鸡早期死亡率增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高致病性禽流感怎样传染人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直接接触受感染的家禽及其粪便或病毒本身都会受到感染，此外，接触飞沫及呼吸道分泌物也可能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一旦禽流感病毒与人类病毒重组，从理论上说，就有可能通过人与人传播。届时，这种病毒就会成为人类病毒，好像流感病毒一样。但是禽流感对人类还是一种全新的病毒，传播到何种程度会变异，谁也无法预知。到目前为止，只发现经过家禽传染给人的这种病例，还没有发现一例人与人之间传染的禽流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吃鸡鸭鹅肉会被传染禽流感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类煮熟煮透后，病毒传播的可能性较小。但如果病禽未经煮熟煮透食用，病毒很可能进入人体。病毒进入人体如果存活，是否会通过消化道传入人体各组织中以及病毒在人体是如何运作的，这些机理现在都还不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鸭"/>
          <p:cNvPicPr/>
          <p:nvPr/>
        </p:nvPicPr>
        <p:blipFill>
          <a:blip r:embed="rId1"/>
          <a:stretch/>
        </p:blipFill>
        <p:spPr>
          <a:xfrm>
            <a:off x="468360" y="4653000"/>
            <a:ext cx="2087640" cy="20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公鸡"/>
          <p:cNvPicPr/>
          <p:nvPr/>
        </p:nvPicPr>
        <p:blipFill>
          <a:blip r:embed="rId2"/>
          <a:stretch/>
        </p:blipFill>
        <p:spPr>
          <a:xfrm>
            <a:off x="2700360" y="4653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鹅"/>
          <p:cNvPicPr/>
          <p:nvPr/>
        </p:nvPicPr>
        <p:blipFill>
          <a:blip r:embed="rId3"/>
          <a:stretch/>
        </p:blipFill>
        <p:spPr>
          <a:xfrm>
            <a:off x="5076720" y="4653000"/>
            <a:ext cx="2952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人患禽流感后会有哪些症状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患上禽流感后，潜伏期一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以内，早期症状与其它流感非常相似，主要表现为发热、流涕、鼻塞、咳嗽、咽痛、头痛、全身不适，部分患者可有恶心、腹泻、腹痛、稀水样便等消化道症状，有些患者可见眼结膜炎，体温大多持续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，一些患者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还会显示单侧或双侧肺炎，少数患者伴胸腔积液。病人一旦出现以上症状应该及时就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多数患者治愈后良好，且不留后遗症，但少数患者特别是年龄较大、治疗过迟的患者病情会迅速发展成进行性肺炎、急性呼吸窘迫综合征、肺出血、胸腔积液、全血细胞减少、肾衰竭、败血症休克等多种并发症而死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1:49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6:48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