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9FE-9D16-4805-B0AA-77F3B7A6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36F-65E9-48A8-8E25-C6587CCB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BA-B127-4F7E-97D8-A7FB5E81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930-FA57-4046-BCF7-31591E8E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9BC4-6C2A-4F51-A724-E2BB69A8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F736-A6B5-4754-9D15-5EB6689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026B-218E-4C83-A194-7D55F0BD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EFCF-17CF-4179-8997-B0D63285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07F2-1062-4C62-B31A-655C9019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3DD3-5833-4FEE-9B5A-4037DA8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ECF-4853-4221-B6E5-3EE76DF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713-C971-4C45-9EA7-45B32E0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9AB-E46C-4807-977C-2E55E3D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991B-7BC5-4ED3-A1E1-CC3ADA5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345B-451F-4542-B1EB-8284BCD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39A9-76AE-4F72-92AA-E5C1C307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A7C-7F9B-4548-81E7-E0AC694D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93C-4287-434A-9B7A-7705C1C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1DE-9A76-4264-81FA-46DFDFB6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83A-EEC5-4DA2-9A99-DAAD13B8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991-5B79-41E8-813F-1800EF5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828-59E8-484D-A558-A05804B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AAC-1E3D-4E78-8F78-47071F02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7EB-ED70-4F03-B124-92EFD95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DD2-4027-4162-B1C9-F1079383A0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643040" y="2000160"/>
            <a:ext cx="6072120" cy="4357800"/>
          </a:xfrm>
          <a:prstGeom prst="rect">
            <a:avLst/>
          </a:prstGeom>
          <a:gradFill rotWithShape="0">
            <a:gsLst>
              <a:gs pos="0">
                <a:srgbClr val="134e5e">
                  <a:alpha val="74117"/>
                </a:srgbClr>
              </a:gs>
              <a:gs pos="100000">
                <a:srgbClr val="298aa4">
                  <a:alpha val="41176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5BDE-1A85-49CF-9DBF-B64CB32BD8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7640" y="2101320"/>
            <a:ext cx="1341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主题</a:t>
            </a:r>
            <a:endParaRPr b="1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14640" y="2785680"/>
            <a:ext cx="30002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主题副标题或者解说词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714680" y="2001960"/>
            <a:ext cx="7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宋体"/>
              </a:rPr>
              <a:t>[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143240" y="200016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宋体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157480" y="5835600"/>
            <a:ext cx="49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4"/>
          <p:cNvSpPr/>
          <p:nvPr/>
        </p:nvSpPr>
        <p:spPr>
          <a:xfrm flipH="1">
            <a:off x="1785600" y="5443560"/>
            <a:ext cx="5786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5"/>
          <p:cNvSpPr/>
          <p:nvPr/>
        </p:nvSpPr>
        <p:spPr>
          <a:xfrm flipH="1">
            <a:off x="1785600" y="3394080"/>
            <a:ext cx="5786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Documents and Settings\Administrator\桌面\创意商务PPT图片（锐普论坛） (1982).png"/>
          <p:cNvPicPr/>
          <p:nvPr/>
        </p:nvPicPr>
        <p:blipFill>
          <a:blip r:embed="rId2"/>
          <a:stretch/>
        </p:blipFill>
        <p:spPr>
          <a:xfrm>
            <a:off x="3786120" y="3357720"/>
            <a:ext cx="1535040" cy="2044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65720" y="83664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春天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68 0.00532 L 3.05556E-006 0.00532 E">
                                      <p:cBhvr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4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4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4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3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2E2-D106-4D36-97D9-67EA960B39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2:10:3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1:37Z</dcterms:modified>
  <cp:revision>2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