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"/>
          <p:cNvSpPr/>
          <p:nvPr/>
        </p:nvSpPr>
        <p:spPr>
          <a:xfrm>
            <a:off x="1275120" y="2133720"/>
            <a:ext cx="332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春天的旋律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背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1:55:5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7:40:31Z</dcterms:modified>
  <cp:revision>7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