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FABB-B112-4D6E-BADA-62CEB6DF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B80-2D4F-4F9F-AA0D-8E3D245B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8DA-0A5E-4F64-8D5E-422A2B47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7C82-C97E-4A8F-A335-B1ECC7B1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42F-5F1B-48CB-9C3E-F422635E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85F5-806E-4433-B8DF-676AD3C5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78D-C448-4604-B462-384AEE67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665-8821-4D88-A7BB-ABB84A63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790E-6565-4AB9-901B-D05AB70E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E9C3-3B42-40DC-962E-00828495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2D3-680E-4923-B888-15220741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5875-813C-4DD7-8D72-8A4AD96C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A74A-C4DE-4C6F-8E47-1F3929A0E4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2922480" y="2803680"/>
            <a:ext cx="447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7933c"/>
                </a:solidFill>
                <a:latin typeface="华文行楷"/>
                <a:ea typeface="华文行楷"/>
              </a:rPr>
              <a:t>春意盎然</a:t>
            </a:r>
            <a:r>
              <a:rPr b="0" lang="zh-CN" sz="4800" spc="-1" strike="noStrike">
                <a:solidFill>
                  <a:srgbClr val="77933c"/>
                </a:solidFill>
                <a:latin typeface="华文行楷"/>
                <a:ea typeface="华文行楷"/>
              </a:rPr>
              <a:t>PPT</a:t>
            </a:r>
            <a:r>
              <a:rPr b="0" lang="zh-CN" sz="4800" spc="-1" strike="noStrike">
                <a:solidFill>
                  <a:srgbClr val="77933c"/>
                </a:solidFill>
                <a:latin typeface="华文行楷"/>
                <a:ea typeface="华文行楷"/>
              </a:rPr>
              <a:t>模板下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接连接符 6"/>
          <p:cNvSpPr/>
          <p:nvPr/>
        </p:nvSpPr>
        <p:spPr>
          <a:xfrm>
            <a:off x="2124000" y="3645000"/>
            <a:ext cx="5400720" cy="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"/>
          <p:cNvSpPr/>
          <p:nvPr/>
        </p:nvSpPr>
        <p:spPr>
          <a:xfrm>
            <a:off x="1443600" y="3259080"/>
            <a:ext cx="2305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图片 1" descr=""/>
          <p:cNvPicPr/>
          <p:nvPr/>
        </p:nvPicPr>
        <p:blipFill>
          <a:blip r:embed="rId2"/>
          <a:stretch/>
        </p:blipFill>
        <p:spPr>
          <a:xfrm>
            <a:off x="1692360" y="333360"/>
            <a:ext cx="5695920" cy="108756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3030120" y="654120"/>
            <a:ext cx="27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Matura MT Script Capitals"/>
                <a:ea typeface="华文行楷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3" descr=""/>
          <p:cNvPicPr/>
          <p:nvPr/>
        </p:nvPicPr>
        <p:blipFill>
          <a:blip r:embed="rId3"/>
          <a:stretch/>
        </p:blipFill>
        <p:spPr>
          <a:xfrm>
            <a:off x="426960" y="1865160"/>
            <a:ext cx="4035600" cy="4389480"/>
          </a:xfrm>
          <a:prstGeom prst="rect">
            <a:avLst/>
          </a:prstGeom>
          <a:ln w="0">
            <a:noFill/>
          </a:ln>
        </p:spPr>
      </p:pic>
      <p:sp>
        <p:nvSpPr>
          <p:cNvPr id="88" name="直接连接符 6"/>
          <p:cNvSpPr/>
          <p:nvPr/>
        </p:nvSpPr>
        <p:spPr>
          <a:xfrm flipV="1">
            <a:off x="4859280" y="1628640"/>
            <a:ext cx="0" cy="417672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5827680" y="3486240"/>
            <a:ext cx="23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933c"/>
                </a:solidFill>
                <a:latin typeface="Kozuka Gothic Pro L"/>
                <a:ea typeface="Kozuka Gothic Pro L"/>
              </a:rPr>
              <a:t>Add your wo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2799720" y="28036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7933c"/>
                </a:solidFill>
                <a:latin typeface="华文行楷"/>
                <a:ea typeface="华文行楷"/>
              </a:rPr>
              <a:t>谢谢观看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接连接符 6"/>
          <p:cNvSpPr/>
          <p:nvPr/>
        </p:nvSpPr>
        <p:spPr>
          <a:xfrm>
            <a:off x="2124000" y="3645000"/>
            <a:ext cx="5400720" cy="0"/>
          </a:xfrm>
          <a:prstGeom prst="line">
            <a:avLst/>
          </a:prstGeom>
          <a:ln w="93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7:3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8:59Z</dcterms:modified>
  <cp:revision>8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