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B8E2-3FD0-40BE-A839-F5A24BBEA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D019-CF07-41F6-84EC-F1DC23C99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4EF3-4B11-47E5-A83C-D9CAE8670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638B-11DB-43E7-8076-F65B3FED1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4C28-2977-46AF-91E8-28D436B26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7EE8-9456-4D2B-8358-F4213D858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19EF-F726-4E44-8851-09F74C8B3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F80F-C570-4724-89F3-90415E914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3CB8-C803-4772-A84F-52B7BA142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8164-BC8E-4DDB-8C66-C943118F8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CB29-ACBE-4F9C-BD06-4CBE7E698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F448-75B1-4569-AF88-E1247E1F5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A1C33-FC03-49B1-9385-8B6395F2DF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21a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356000" y="2854440"/>
            <a:ext cx="417600" cy="4302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4356000" y="2854440"/>
            <a:ext cx="417600" cy="4302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057560" y="3328920"/>
            <a:ext cx="18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ading…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920" y="64166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958840" y="306360"/>
            <a:ext cx="26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超炫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 repeatCount="indefinite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xit" presetID="2" presetSubtype="1">
                                  <p:stCondLst>
                                    <p:cond delay="6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" dur="1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xit" presetID="2" presetSubtype="1">
                                  <p:stCondLst>
                                    <p:cond delay="6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" dur="10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10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xit" presetID="2" presetSubtype="4">
                                  <p:stCondLst>
                                    <p:cond delay="6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25" dur="1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xit" presetID="10">
                                  <p:stCondLst>
                                    <p:cond delay="6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xit" presetID="10">
                                  <p:stCondLst>
                                    <p:cond delay="6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xit" presetID="10">
                                  <p:stCondLst>
                                    <p:cond delay="6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5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21a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9086760" y="2287440"/>
            <a:ext cx="4680000" cy="24116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205680" y="3095640"/>
            <a:ext cx="2850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Pixeldust Expanded"/>
              </a:rPr>
              <a:t>Heavy meta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xit" presetID="1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xit" presetID="1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xit" presetID="1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3200"/>
                            </p:stCondLst>
                            <p:childTnLst>
                              <p:par>
                                <p:cTn id="57" nodeType="afterEffect" fill="hold" presetClass="path" presetID="35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0.0125 7.40741E-007 L -0.49062 7.40741E-007 E">
                                      <p:cBhvr>
                                        <p:cTn id="58" dur="1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490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500"/>
                                  </p:stCondLst>
                                  <p:iterate type="lt">
                                    <p:tmAbs val="0.00100000001490116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21a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-4906800" y="1068480"/>
            <a:ext cx="5897520" cy="24112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770040" y="1895400"/>
            <a:ext cx="2603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Pixeldust Expanded"/>
              </a:rPr>
              <a:t>content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76160" y="2838600"/>
            <a:ext cx="22482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目录位置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目录位置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目录位置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path" presetID="35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0.50312 -1.48148E-006 L 1.11111E-006 -1.48148E-006 E">
                                      <p:cBhvr>
                                        <p:cTn id="67" dur="1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7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500"/>
                                  </p:stCondLst>
                                  <p:iterate type="lt">
                                    <p:tmAbs val="0.00100000001490116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201"/>
                            </p:stCondLst>
                            <p:childTnLst>
                              <p:par>
                                <p:cTn id="72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21a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896760"/>
            <a:ext cx="9144000" cy="48945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-4532400" y="-112680"/>
            <a:ext cx="4678560" cy="24098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99880" y="714240"/>
            <a:ext cx="22798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Pixeldust Expanded"/>
              </a:rPr>
              <a:t>Cap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0" y="6294600"/>
            <a:ext cx="9144000" cy="401400"/>
            <a:chOff x="0" y="6294600"/>
            <a:chExt cx="9144000" cy="401400"/>
          </a:xfrm>
        </p:grpSpPr>
        <p:pic>
          <p:nvPicPr>
            <p:cNvPr id="57" name="" descr=""/>
            <p:cNvPicPr/>
            <p:nvPr/>
          </p:nvPicPr>
          <p:blipFill>
            <a:blip r:embed="rId3"/>
            <a:stretch/>
          </p:blipFill>
          <p:spPr>
            <a:xfrm>
              <a:off x="0" y="6294600"/>
              <a:ext cx="9144000" cy="40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7702560" y="6375240"/>
              <a:ext cx="1357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ccff"/>
                  </a:solidFill>
                  <a:latin typeface="Arial"/>
                  <a:ea typeface="黑体"/>
                </a:rPr>
                <a:t>企业或公司名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path" presetID="35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0.43021 -4.44444E-006 L -0.04167 -4.44444E-006 E">
                                      <p:cBhvr>
                                        <p:cTn id="80" dur="1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7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500"/>
                                  </p:stCondLst>
                                  <p:iterate type="lt">
                                    <p:tmAbs val="0.00100000001490116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201"/>
                            </p:stCondLst>
                            <p:childTnLst>
                              <p:par>
                                <p:cTn id="8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DDD5-1857-4A4B-BF8C-9DA54F68A34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9T06:55:01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08:21:38Z</dcterms:modified>
  <cp:revision>18</cp:revision>
  <dc:subject/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