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C03C6-D13A-4EED-ABDB-847BC477E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31922-850D-41A3-A959-9D0218657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D7B2D-FB31-43BE-89A2-48AC95FFF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E9A51-1477-4083-AD7B-D6B988B01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807A6-C626-48CF-B428-0442F7555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5C796-01D9-4F23-989F-7B444D085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36F82-704B-4F69-88CD-3F0C5A12F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BC774-5FBB-406D-82DF-201FD5505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D8B57-1CC5-4FA8-82BE-46B646BFC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F6A5C-8C65-43DD-9625-5FA112636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779DB-A49F-44C3-805B-467612976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8BED0-D3F1-42ED-8BB5-84DFC7884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9A51D-74F5-4E38-AD1B-C49F03BCB5FC}" type="datetime">
              <a:rPr b="0" lang="zh-CN" sz="1200" spc="-1" strike="noStrike">
                <a:solidFill>
                  <a:srgbClr val="ffffff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11A29-CC70-48F5-8589-C12962862D33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eeppt.com/sucai/" TargetMode="Externa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1" descr="幻灯片1"/>
          <p:cNvPicPr/>
          <p:nvPr/>
        </p:nvPicPr>
        <p:blipFill>
          <a:blip r:embed="rId1"/>
          <a:stretch/>
        </p:blipFill>
        <p:spPr>
          <a:xfrm>
            <a:off x="0" y="1440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图片 1" descr="幻灯片10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Text Box 3"/>
          <p:cNvSpPr/>
          <p:nvPr/>
        </p:nvSpPr>
        <p:spPr>
          <a:xfrm>
            <a:off x="3571920" y="6438960"/>
            <a:ext cx="44640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563c1"/>
                </a:solidFill>
                <a:uFillTx/>
                <a:latin typeface="Arial"/>
                <a:hlinkClick r:id="rId2"/>
              </a:rPr>
              <a:t>ppt素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/sucai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图片 1" descr="幻灯片11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图片 1" descr="幻灯片12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图片 1" descr="幻灯片13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图片 1" descr="幻灯片14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图片 1" descr="幻灯片15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图片 1" descr="幻灯片16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图片 1" descr="幻灯片17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图片 1" descr="幻灯片18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图片 1" descr="幻灯片19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图片 1" descr="幻灯片2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图片 1" descr="幻灯片20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图片 1" descr="幻灯片21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图片 1" descr="幻灯片22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图片 1" descr="幻灯片23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24960" y="189000"/>
            <a:ext cx="1094292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Calibri Light"/>
              </a:rPr>
              <a:t>使用规范说明</a:t>
            </a:r>
            <a:endParaRPr b="0" lang="en-US" sz="44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4360" y="1269720"/>
            <a:ext cx="1190304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4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563c1"/>
                </a:solidFill>
                <a:uFillTx/>
                <a:latin typeface="Calibri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Rectangle 7"/>
          <p:cNvSpPr/>
          <p:nvPr/>
        </p:nvSpPr>
        <p:spPr>
          <a:xfrm>
            <a:off x="9715680" y="333360"/>
            <a:ext cx="185256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图片 1" descr="幻灯片24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Text Box 3"/>
          <p:cNvSpPr/>
          <p:nvPr/>
        </p:nvSpPr>
        <p:spPr>
          <a:xfrm>
            <a:off x="4255920" y="6453360"/>
            <a:ext cx="44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素材 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http://www.eeppt.com/sucai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图片 1" descr="幻灯片3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图片 1" descr="幻灯片4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图片 1" descr="幻灯片5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图片 1" descr="幻灯片6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图片 1" descr="幻灯片7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图片 1" descr="幻灯片8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图片 1" descr="幻灯片9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14T07:44:00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1T01:00:21Z</dcterms:modified>
  <cp:revision>4</cp:revision>
  <dc:subject/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