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C19B-E656-4578-920C-22888407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ABBC-72BA-4D98-B032-65616B06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4B6-B0E3-4E3D-9AA7-CDB46B6E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3D79-2CF9-4A87-91D9-575FADB4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83A-1B31-449B-A4F8-B867BE66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F11-B623-4EA9-AFB7-AC5808FC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29E-7832-47B0-8A06-57406434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250A-301F-40B4-BE66-E5667F5C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28F-9755-4B64-B205-7113AC2E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540-3E1E-494D-B066-66C4934D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42A2-A001-4F8E-BA22-40B70E6D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960-94AC-46CB-93E6-2A67E5B1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BEBC-87FF-4517-8251-930F058B599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AFE3-F93B-4928-9D5D-C237CCEFFA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2"/>
          <p:cNvSpPr/>
          <p:nvPr/>
        </p:nvSpPr>
        <p:spPr>
          <a:xfrm>
            <a:off x="1268280" y="2176560"/>
            <a:ext cx="3883320" cy="227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3"/>
          <p:cNvSpPr/>
          <p:nvPr/>
        </p:nvSpPr>
        <p:spPr>
          <a:xfrm>
            <a:off x="5961240" y="43927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改编自</a:t>
            </a:r>
            <a:r>
              <a:rPr b="0" lang="zh-CN" sz="24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中华传统文化论坛</a:t>
            </a:r>
            <a:r>
              <a:rPr b="0" lang="zh-CN" sz="2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陈大惠老师讲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4"/>
          <p:cNvSpPr/>
          <p:nvPr/>
        </p:nvSpPr>
        <p:spPr>
          <a:xfrm>
            <a:off x="5726160" y="2247840"/>
            <a:ext cx="219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德不配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必有灾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1219212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0" y="5638680"/>
            <a:ext cx="1219212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46"/>
          <p:cNvGrpSpPr/>
          <p:nvPr/>
        </p:nvGrpSpPr>
        <p:grpSpPr>
          <a:xfrm>
            <a:off x="8607600" y="2236680"/>
            <a:ext cx="1422360" cy="1954440"/>
            <a:chOff x="8607600" y="2236680"/>
            <a:chExt cx="1422360" cy="1954440"/>
          </a:xfrm>
        </p:grpSpPr>
        <p:sp>
          <p:nvSpPr>
            <p:cNvPr id="47" name="梯形 47"/>
            <p:cNvSpPr/>
            <p:nvPr/>
          </p:nvSpPr>
          <p:spPr>
            <a:xfrm>
              <a:off x="9318600" y="3698640"/>
              <a:ext cx="166680" cy="425520"/>
            </a:xfrm>
            <a:custGeom>
              <a:avLst/>
              <a:gdLst>
                <a:gd name="textAreaLeft" fmla="*/ 21960 w 166680"/>
                <a:gd name="textAreaRight" fmla="*/ 144720 w 166680"/>
                <a:gd name="textAreaTop" fmla="*/ 55800 h 425520"/>
                <a:gd name="textAreaBottom" fmla="*/ 369720 h 42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25" y="21600"/>
                  </a:lnTo>
                  <a:lnTo>
                    <a:pt x="1975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梯形 48"/>
            <p:cNvSpPr/>
            <p:nvPr/>
          </p:nvSpPr>
          <p:spPr>
            <a:xfrm>
              <a:off x="8851320" y="3905640"/>
              <a:ext cx="1178640" cy="285480"/>
            </a:xfrm>
            <a:custGeom>
              <a:avLst/>
              <a:gdLst>
                <a:gd name="textAreaLeft" fmla="*/ 279000 w 1178640"/>
                <a:gd name="textAreaRight" fmla="*/ 899640 w 1178640"/>
                <a:gd name="textAreaTop" fmla="*/ 67320 h 285480"/>
                <a:gd name="textAreaBottom" fmla="*/ 21816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547" y="21600"/>
                  </a:lnTo>
                  <a:lnTo>
                    <a:pt x="6053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4"/>
            <p:cNvSpPr/>
            <p:nvPr/>
          </p:nvSpPr>
          <p:spPr>
            <a:xfrm rot="4540200">
              <a:off x="9335520" y="3426480"/>
              <a:ext cx="236520" cy="3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50"/>
            <p:cNvSpPr/>
            <p:nvPr/>
          </p:nvSpPr>
          <p:spPr>
            <a:xfrm>
              <a:off x="9574560" y="3338280"/>
              <a:ext cx="444600" cy="444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51"/>
            <p:cNvSpPr/>
            <p:nvPr/>
          </p:nvSpPr>
          <p:spPr>
            <a:xfrm>
              <a:off x="8607600" y="2236680"/>
              <a:ext cx="1305360" cy="130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圆角矩形 52"/>
            <p:cNvSpPr/>
            <p:nvPr/>
          </p:nvSpPr>
          <p:spPr>
            <a:xfrm rot="3217800">
              <a:off x="9239400" y="3462480"/>
              <a:ext cx="375120" cy="16596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53"/>
            <p:cNvSpPr/>
            <p:nvPr/>
          </p:nvSpPr>
          <p:spPr>
            <a:xfrm rot="18865200">
              <a:off x="9497520" y="3661920"/>
              <a:ext cx="200880" cy="20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77"/>
          <p:cNvSpPr/>
          <p:nvPr/>
        </p:nvSpPr>
        <p:spPr>
          <a:xfrm>
            <a:off x="4844880" y="4157640"/>
            <a:ext cx="5550120" cy="8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88"/>
          <p:cNvSpPr/>
          <p:nvPr/>
        </p:nvSpPr>
        <p:spPr>
          <a:xfrm>
            <a:off x="4981680" y="3459240"/>
            <a:ext cx="5391000" cy="7254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9"/>
          <p:cNvSpPr/>
          <p:nvPr/>
        </p:nvSpPr>
        <p:spPr>
          <a:xfrm>
            <a:off x="4835520" y="3338640"/>
            <a:ext cx="263520" cy="90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90"/>
          <p:cNvSpPr/>
          <p:nvPr/>
        </p:nvSpPr>
        <p:spPr>
          <a:xfrm>
            <a:off x="10137600" y="3338640"/>
            <a:ext cx="357480" cy="90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0"/>
          <p:cNvSpPr/>
          <p:nvPr/>
        </p:nvSpPr>
        <p:spPr>
          <a:xfrm>
            <a:off x="2193120" y="212580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ffffff"/>
                </a:solidFill>
                <a:latin typeface="草檀斋毛泽东字体"/>
                <a:ea typeface="草檀斋毛泽东字体"/>
              </a:rPr>
              <a:t>再谈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92"/>
          <p:cNvSpPr/>
          <p:nvPr/>
        </p:nvSpPr>
        <p:spPr>
          <a:xfrm>
            <a:off x="9923400" y="3203640"/>
            <a:ext cx="106560" cy="106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93"/>
          <p:cNvSpPr/>
          <p:nvPr/>
        </p:nvSpPr>
        <p:spPr>
          <a:xfrm>
            <a:off x="10055160" y="3022560"/>
            <a:ext cx="165240" cy="163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94"/>
          <p:cNvSpPr/>
          <p:nvPr/>
        </p:nvSpPr>
        <p:spPr>
          <a:xfrm>
            <a:off x="10159920" y="2709720"/>
            <a:ext cx="235080" cy="23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95"/>
          <p:cNvSpPr/>
          <p:nvPr/>
        </p:nvSpPr>
        <p:spPr>
          <a:xfrm>
            <a:off x="10220400" y="2322360"/>
            <a:ext cx="280800" cy="281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文本框 4"/>
          <p:cNvSpPr/>
          <p:nvPr/>
        </p:nvSpPr>
        <p:spPr>
          <a:xfrm>
            <a:off x="3815640" y="1838160"/>
            <a:ext cx="4569840" cy="29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如果你想顺利通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有</a:t>
            </a:r>
            <a:r>
              <a:rPr b="0" lang="zh-CN" sz="115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两</a:t>
            </a:r>
            <a:r>
              <a:rPr b="0" lang="zh-CN" sz="115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种办法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矩形 82"/>
          <p:cNvSpPr/>
          <p:nvPr/>
        </p:nvSpPr>
        <p:spPr>
          <a:xfrm>
            <a:off x="0" y="5064120"/>
            <a:ext cx="1406520" cy="179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3"/>
          <p:cNvSpPr/>
          <p:nvPr/>
        </p:nvSpPr>
        <p:spPr>
          <a:xfrm>
            <a:off x="10785600" y="5064120"/>
            <a:ext cx="1406520" cy="179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椭圆 84"/>
          <p:cNvSpPr/>
          <p:nvPr/>
        </p:nvSpPr>
        <p:spPr>
          <a:xfrm>
            <a:off x="1081080" y="5427720"/>
            <a:ext cx="1922400" cy="1922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椭圆 85"/>
          <p:cNvSpPr/>
          <p:nvPr/>
        </p:nvSpPr>
        <p:spPr>
          <a:xfrm>
            <a:off x="2043000" y="5286240"/>
            <a:ext cx="1922400" cy="1924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椭圆 86"/>
          <p:cNvSpPr/>
          <p:nvPr/>
        </p:nvSpPr>
        <p:spPr>
          <a:xfrm>
            <a:off x="2951280" y="5627520"/>
            <a:ext cx="1922400" cy="1922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椭圆 87"/>
          <p:cNvSpPr/>
          <p:nvPr/>
        </p:nvSpPr>
        <p:spPr>
          <a:xfrm>
            <a:off x="3927600" y="5486400"/>
            <a:ext cx="1922400" cy="1922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椭圆 88"/>
          <p:cNvSpPr/>
          <p:nvPr/>
        </p:nvSpPr>
        <p:spPr>
          <a:xfrm>
            <a:off x="4578480" y="5591160"/>
            <a:ext cx="2830320" cy="1924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椭圆 89"/>
          <p:cNvSpPr/>
          <p:nvPr/>
        </p:nvSpPr>
        <p:spPr>
          <a:xfrm>
            <a:off x="6342120" y="5627520"/>
            <a:ext cx="1922400" cy="1922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椭圆 90"/>
          <p:cNvSpPr/>
          <p:nvPr/>
        </p:nvSpPr>
        <p:spPr>
          <a:xfrm>
            <a:off x="7318440" y="5486400"/>
            <a:ext cx="1922400" cy="1606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椭圆 91"/>
          <p:cNvSpPr/>
          <p:nvPr/>
        </p:nvSpPr>
        <p:spPr>
          <a:xfrm>
            <a:off x="8385120" y="5591160"/>
            <a:ext cx="2774880" cy="1924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椭圆 92"/>
          <p:cNvSpPr/>
          <p:nvPr/>
        </p:nvSpPr>
        <p:spPr>
          <a:xfrm>
            <a:off x="9823320" y="5438880"/>
            <a:ext cx="1924200" cy="1923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组合 93"/>
          <p:cNvGrpSpPr/>
          <p:nvPr/>
        </p:nvGrpSpPr>
        <p:grpSpPr>
          <a:xfrm>
            <a:off x="1363680" y="3990960"/>
            <a:ext cx="1668600" cy="1486080"/>
            <a:chOff x="1363680" y="3990960"/>
            <a:chExt cx="1668600" cy="1486080"/>
          </a:xfrm>
        </p:grpSpPr>
        <p:sp>
          <p:nvSpPr>
            <p:cNvPr id="1056" name="梯形 94"/>
            <p:cNvSpPr/>
            <p:nvPr/>
          </p:nvSpPr>
          <p:spPr>
            <a:xfrm>
              <a:off x="1363680" y="5072760"/>
              <a:ext cx="1668600" cy="404280"/>
            </a:xfrm>
            <a:custGeom>
              <a:avLst/>
              <a:gdLst>
                <a:gd name="textAreaLeft" fmla="*/ 394920 w 1668600"/>
                <a:gd name="textAreaRight" fmla="*/ 1273680 w 1668600"/>
                <a:gd name="textAreaTop" fmla="*/ 95760 h 404280"/>
                <a:gd name="textAreaBottom" fmla="*/ 308520 h 40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547" y="21600"/>
                  </a:lnTo>
                  <a:lnTo>
                    <a:pt x="6053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矩形 14"/>
            <p:cNvSpPr/>
            <p:nvPr/>
          </p:nvSpPr>
          <p:spPr>
            <a:xfrm rot="795600">
              <a:off x="2049840" y="4394160"/>
              <a:ext cx="334800" cy="51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椭圆 96"/>
            <p:cNvSpPr/>
            <p:nvPr/>
          </p:nvSpPr>
          <p:spPr>
            <a:xfrm>
              <a:off x="2194920" y="3990960"/>
              <a:ext cx="629280" cy="629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梯形 97"/>
            <p:cNvSpPr/>
            <p:nvPr/>
          </p:nvSpPr>
          <p:spPr>
            <a:xfrm>
              <a:off x="2048760" y="4809960"/>
              <a:ext cx="235800" cy="602640"/>
            </a:xfrm>
            <a:custGeom>
              <a:avLst/>
              <a:gdLst>
                <a:gd name="textAreaLeft" fmla="*/ 30960 w 235800"/>
                <a:gd name="textAreaRight" fmla="*/ 204840 w 235800"/>
                <a:gd name="textAreaTop" fmla="*/ 79200 h 602640"/>
                <a:gd name="textAreaBottom" fmla="*/ 523440 h 60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25" y="21600"/>
                  </a:lnTo>
                  <a:lnTo>
                    <a:pt x="1975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椭圆 98"/>
            <p:cNvSpPr/>
            <p:nvPr/>
          </p:nvSpPr>
          <p:spPr>
            <a:xfrm>
              <a:off x="1603800" y="4079880"/>
              <a:ext cx="605160" cy="605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圆角矩形 99"/>
            <p:cNvSpPr/>
            <p:nvPr/>
          </p:nvSpPr>
          <p:spPr>
            <a:xfrm rot="20929200">
              <a:off x="1816560" y="4467240"/>
              <a:ext cx="531000" cy="23544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任意多边形 100"/>
            <p:cNvSpPr/>
            <p:nvPr/>
          </p:nvSpPr>
          <p:spPr>
            <a:xfrm rot="18865200">
              <a:off x="2260440" y="4605120"/>
              <a:ext cx="284400" cy="29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文本框 125"/>
          <p:cNvSpPr/>
          <p:nvPr/>
        </p:nvSpPr>
        <p:spPr>
          <a:xfrm>
            <a:off x="2899440" y="1120680"/>
            <a:ext cx="668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一</a:t>
            </a:r>
            <a:r>
              <a:rPr b="0" lang="zh-CN" sz="8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是你不背那么多东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组合 126"/>
          <p:cNvGrpSpPr/>
          <p:nvPr/>
        </p:nvGrpSpPr>
        <p:grpSpPr>
          <a:xfrm>
            <a:off x="3441600" y="4183200"/>
            <a:ext cx="1666800" cy="1485720"/>
            <a:chOff x="3441600" y="4183200"/>
            <a:chExt cx="1666800" cy="1485720"/>
          </a:xfrm>
        </p:grpSpPr>
        <p:sp>
          <p:nvSpPr>
            <p:cNvPr id="1065" name="梯形 127"/>
            <p:cNvSpPr/>
            <p:nvPr/>
          </p:nvSpPr>
          <p:spPr>
            <a:xfrm>
              <a:off x="3441600" y="5265000"/>
              <a:ext cx="1666800" cy="403920"/>
            </a:xfrm>
            <a:custGeom>
              <a:avLst/>
              <a:gdLst>
                <a:gd name="textAreaLeft" fmla="*/ 394560 w 1666800"/>
                <a:gd name="textAreaRight" fmla="*/ 1272240 w 1666800"/>
                <a:gd name="textAreaTop" fmla="*/ 95400 h 403920"/>
                <a:gd name="textAreaBottom" fmla="*/ 308520 h 40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547" y="21600"/>
                  </a:lnTo>
                  <a:lnTo>
                    <a:pt x="6053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矩形 14"/>
            <p:cNvSpPr/>
            <p:nvPr/>
          </p:nvSpPr>
          <p:spPr>
            <a:xfrm rot="795600">
              <a:off x="4127400" y="4586040"/>
              <a:ext cx="334440" cy="51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椭圆 129"/>
            <p:cNvSpPr/>
            <p:nvPr/>
          </p:nvSpPr>
          <p:spPr>
            <a:xfrm>
              <a:off x="4272120" y="4183200"/>
              <a:ext cx="628560" cy="62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梯形 130"/>
            <p:cNvSpPr/>
            <p:nvPr/>
          </p:nvSpPr>
          <p:spPr>
            <a:xfrm>
              <a:off x="4125960" y="5001840"/>
              <a:ext cx="235800" cy="602640"/>
            </a:xfrm>
            <a:custGeom>
              <a:avLst/>
              <a:gdLst>
                <a:gd name="textAreaLeft" fmla="*/ 30960 w 235800"/>
                <a:gd name="textAreaRight" fmla="*/ 204840 w 235800"/>
                <a:gd name="textAreaTop" fmla="*/ 79200 h 602640"/>
                <a:gd name="textAreaBottom" fmla="*/ 523440 h 60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25" y="21600"/>
                  </a:lnTo>
                  <a:lnTo>
                    <a:pt x="1975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椭圆 131"/>
            <p:cNvSpPr/>
            <p:nvPr/>
          </p:nvSpPr>
          <p:spPr>
            <a:xfrm>
              <a:off x="3681360" y="4272120"/>
              <a:ext cx="604440" cy="605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圆角矩形 132"/>
            <p:cNvSpPr/>
            <p:nvPr/>
          </p:nvSpPr>
          <p:spPr>
            <a:xfrm rot="20929200">
              <a:off x="3894120" y="4659480"/>
              <a:ext cx="530640" cy="23544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任意多边形 133"/>
            <p:cNvSpPr/>
            <p:nvPr/>
          </p:nvSpPr>
          <p:spPr>
            <a:xfrm rot="18865200">
              <a:off x="4337280" y="4797360"/>
              <a:ext cx="28440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2" name="组合 134"/>
          <p:cNvGrpSpPr/>
          <p:nvPr/>
        </p:nvGrpSpPr>
        <p:grpSpPr>
          <a:xfrm>
            <a:off x="5778360" y="4216320"/>
            <a:ext cx="1668600" cy="1484280"/>
            <a:chOff x="5778360" y="4216320"/>
            <a:chExt cx="1668600" cy="1484280"/>
          </a:xfrm>
        </p:grpSpPr>
        <p:sp>
          <p:nvSpPr>
            <p:cNvPr id="1073" name="梯形 135"/>
            <p:cNvSpPr/>
            <p:nvPr/>
          </p:nvSpPr>
          <p:spPr>
            <a:xfrm>
              <a:off x="5778360" y="5297040"/>
              <a:ext cx="1668600" cy="403560"/>
            </a:xfrm>
            <a:custGeom>
              <a:avLst/>
              <a:gdLst>
                <a:gd name="textAreaLeft" fmla="*/ 394920 w 1668600"/>
                <a:gd name="textAreaRight" fmla="*/ 1273680 w 1668600"/>
                <a:gd name="textAreaTop" fmla="*/ 95400 h 403560"/>
                <a:gd name="textAreaBottom" fmla="*/ 308160 h 40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547" y="21600"/>
                  </a:lnTo>
                  <a:lnTo>
                    <a:pt x="6053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矩形 14"/>
            <p:cNvSpPr/>
            <p:nvPr/>
          </p:nvSpPr>
          <p:spPr>
            <a:xfrm rot="795600">
              <a:off x="6464880" y="4618800"/>
              <a:ext cx="33480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椭圆 137"/>
            <p:cNvSpPr/>
            <p:nvPr/>
          </p:nvSpPr>
          <p:spPr>
            <a:xfrm>
              <a:off x="6609600" y="4216320"/>
              <a:ext cx="629280" cy="62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梯形 138"/>
            <p:cNvSpPr/>
            <p:nvPr/>
          </p:nvSpPr>
          <p:spPr>
            <a:xfrm>
              <a:off x="6463440" y="5034240"/>
              <a:ext cx="235800" cy="601920"/>
            </a:xfrm>
            <a:custGeom>
              <a:avLst/>
              <a:gdLst>
                <a:gd name="textAreaLeft" fmla="*/ 30960 w 235800"/>
                <a:gd name="textAreaRight" fmla="*/ 204840 w 235800"/>
                <a:gd name="textAreaTop" fmla="*/ 79200 h 601920"/>
                <a:gd name="textAreaBottom" fmla="*/ 522720 h 60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25" y="21600"/>
                  </a:lnTo>
                  <a:lnTo>
                    <a:pt x="1975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椭圆 139"/>
            <p:cNvSpPr/>
            <p:nvPr/>
          </p:nvSpPr>
          <p:spPr>
            <a:xfrm>
              <a:off x="6018480" y="4305240"/>
              <a:ext cx="605160" cy="604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圆角矩形 140"/>
            <p:cNvSpPr/>
            <p:nvPr/>
          </p:nvSpPr>
          <p:spPr>
            <a:xfrm rot="20929200">
              <a:off x="6231240" y="4692240"/>
              <a:ext cx="531000" cy="2350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任意多边形 141"/>
            <p:cNvSpPr/>
            <p:nvPr/>
          </p:nvSpPr>
          <p:spPr>
            <a:xfrm rot="18865200">
              <a:off x="6675480" y="4829400"/>
              <a:ext cx="284040" cy="29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组合 142"/>
          <p:cNvGrpSpPr/>
          <p:nvPr/>
        </p:nvGrpSpPr>
        <p:grpSpPr>
          <a:xfrm>
            <a:off x="8464680" y="4216320"/>
            <a:ext cx="1668240" cy="1484280"/>
            <a:chOff x="8464680" y="4216320"/>
            <a:chExt cx="1668240" cy="1484280"/>
          </a:xfrm>
        </p:grpSpPr>
        <p:sp>
          <p:nvSpPr>
            <p:cNvPr id="1081" name="梯形 143"/>
            <p:cNvSpPr/>
            <p:nvPr/>
          </p:nvSpPr>
          <p:spPr>
            <a:xfrm>
              <a:off x="8464680" y="5297040"/>
              <a:ext cx="1668240" cy="403560"/>
            </a:xfrm>
            <a:custGeom>
              <a:avLst/>
              <a:gdLst>
                <a:gd name="textAreaLeft" fmla="*/ 394920 w 1668240"/>
                <a:gd name="textAreaRight" fmla="*/ 1273320 w 1668240"/>
                <a:gd name="textAreaTop" fmla="*/ 95400 h 403560"/>
                <a:gd name="textAreaBottom" fmla="*/ 308160 h 40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547" y="21600"/>
                  </a:lnTo>
                  <a:lnTo>
                    <a:pt x="6053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矩形 14"/>
            <p:cNvSpPr/>
            <p:nvPr/>
          </p:nvSpPr>
          <p:spPr>
            <a:xfrm rot="795600">
              <a:off x="9151200" y="4618800"/>
              <a:ext cx="33480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椭圆 145"/>
            <p:cNvSpPr/>
            <p:nvPr/>
          </p:nvSpPr>
          <p:spPr>
            <a:xfrm>
              <a:off x="9295920" y="4216320"/>
              <a:ext cx="629280" cy="62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梯形 146"/>
            <p:cNvSpPr/>
            <p:nvPr/>
          </p:nvSpPr>
          <p:spPr>
            <a:xfrm>
              <a:off x="9149400" y="5034240"/>
              <a:ext cx="235800" cy="601920"/>
            </a:xfrm>
            <a:custGeom>
              <a:avLst/>
              <a:gdLst>
                <a:gd name="textAreaLeft" fmla="*/ 30960 w 235800"/>
                <a:gd name="textAreaRight" fmla="*/ 204840 w 235800"/>
                <a:gd name="textAreaTop" fmla="*/ 79200 h 601920"/>
                <a:gd name="textAreaBottom" fmla="*/ 522720 h 60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25" y="21600"/>
                  </a:lnTo>
                  <a:lnTo>
                    <a:pt x="1975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椭圆 147"/>
            <p:cNvSpPr/>
            <p:nvPr/>
          </p:nvSpPr>
          <p:spPr>
            <a:xfrm>
              <a:off x="8704800" y="4305240"/>
              <a:ext cx="605160" cy="604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圆角矩形 148"/>
            <p:cNvSpPr/>
            <p:nvPr/>
          </p:nvSpPr>
          <p:spPr>
            <a:xfrm rot="20929200">
              <a:off x="8917560" y="4692240"/>
              <a:ext cx="531000" cy="2350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任意多边形 149"/>
            <p:cNvSpPr/>
            <p:nvPr/>
          </p:nvSpPr>
          <p:spPr>
            <a:xfrm rot="18865200">
              <a:off x="9361080" y="4829760"/>
              <a:ext cx="2840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圆角矩形 150"/>
          <p:cNvSpPr/>
          <p:nvPr/>
        </p:nvSpPr>
        <p:spPr>
          <a:xfrm rot="19232400">
            <a:off x="10674360" y="3974760"/>
            <a:ext cx="104760" cy="520560"/>
          </a:xfrm>
          <a:custGeom>
            <a:avLst/>
            <a:gdLst>
              <a:gd name="textAreaLeft" fmla="*/ 15120 w 104760"/>
              <a:gd name="textAreaRight" fmla="*/ 89640 w 104760"/>
              <a:gd name="textAreaTop" fmla="*/ 15120 h 520560"/>
              <a:gd name="textAreaBottom" fmla="*/ 505440 h 520560"/>
            </a:gdLst>
            <a:ahLst/>
            <a:rect l="textAreaLeft" t="textAreaTop" r="textAreaRight" b="textAreaBottom"/>
            <a:pathLst>
              <a:path w="21600" h="107038">
                <a:moveTo>
                  <a:pt x="10800" y="0"/>
                </a:moveTo>
                <a:arcTo wR="10800" hR="10800" stAng="16200000" swAng="-5400000"/>
                <a:lnTo>
                  <a:pt x="0" y="96238"/>
                </a:lnTo>
                <a:arcTo wR="10800" hR="10800" stAng="10800000" swAng="-5400000"/>
                <a:lnTo>
                  <a:pt x="10800" y="1070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14"/>
          <p:cNvSpPr/>
          <p:nvPr/>
        </p:nvSpPr>
        <p:spPr>
          <a:xfrm>
            <a:off x="10826640" y="4184640"/>
            <a:ext cx="411120" cy="50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椭圆 152"/>
          <p:cNvSpPr/>
          <p:nvPr/>
        </p:nvSpPr>
        <p:spPr>
          <a:xfrm>
            <a:off x="10686960" y="3686040"/>
            <a:ext cx="628920" cy="63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梯形 153"/>
          <p:cNvSpPr/>
          <p:nvPr/>
        </p:nvSpPr>
        <p:spPr>
          <a:xfrm>
            <a:off x="10882440" y="4468680"/>
            <a:ext cx="236520" cy="601920"/>
          </a:xfrm>
          <a:custGeom>
            <a:avLst/>
            <a:gdLst>
              <a:gd name="textAreaLeft" fmla="*/ 30960 w 236520"/>
              <a:gd name="textAreaRight" fmla="*/ 205560 w 236520"/>
              <a:gd name="textAreaTop" fmla="*/ 79200 h 601920"/>
              <a:gd name="textAreaBottom" fmla="*/ 522720 h 6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5" y="21600"/>
                </a:lnTo>
                <a:lnTo>
                  <a:pt x="1975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任意多边形 154"/>
          <p:cNvSpPr/>
          <p:nvPr/>
        </p:nvSpPr>
        <p:spPr>
          <a:xfrm rot="18642600">
            <a:off x="10897560" y="4321440"/>
            <a:ext cx="25740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椭圆 155"/>
          <p:cNvSpPr/>
          <p:nvPr/>
        </p:nvSpPr>
        <p:spPr>
          <a:xfrm>
            <a:off x="11328480" y="4468680"/>
            <a:ext cx="604800" cy="604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矩形 156"/>
          <p:cNvSpPr/>
          <p:nvPr/>
        </p:nvSpPr>
        <p:spPr>
          <a:xfrm>
            <a:off x="9953640" y="3094200"/>
            <a:ext cx="2174760" cy="76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圆角矩形 158"/>
          <p:cNvSpPr/>
          <p:nvPr/>
        </p:nvSpPr>
        <p:spPr>
          <a:xfrm rot="2314800">
            <a:off x="11231640" y="3962160"/>
            <a:ext cx="104760" cy="520560"/>
          </a:xfrm>
          <a:custGeom>
            <a:avLst/>
            <a:gdLst>
              <a:gd name="textAreaLeft" fmla="*/ 15120 w 104760"/>
              <a:gd name="textAreaRight" fmla="*/ 89640 w 104760"/>
              <a:gd name="textAreaTop" fmla="*/ 15120 h 520560"/>
              <a:gd name="textAreaBottom" fmla="*/ 505440 h 520560"/>
            </a:gdLst>
            <a:ahLst/>
            <a:rect l="textAreaLeft" t="textAreaTop" r="textAreaRight" b="textAreaBottom"/>
            <a:pathLst>
              <a:path w="21600" h="107038">
                <a:moveTo>
                  <a:pt x="10800" y="0"/>
                </a:moveTo>
                <a:arcTo wR="10800" hR="10800" stAng="16200000" swAng="-5400000"/>
                <a:lnTo>
                  <a:pt x="0" y="96238"/>
                </a:lnTo>
                <a:arcTo wR="10800" hR="10800" stAng="10800000" swAng="-5400000"/>
                <a:lnTo>
                  <a:pt x="10800" y="1070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圆角矩形 159"/>
          <p:cNvSpPr/>
          <p:nvPr/>
        </p:nvSpPr>
        <p:spPr>
          <a:xfrm rot="21406800">
            <a:off x="10528200" y="3596760"/>
            <a:ext cx="104760" cy="522360"/>
          </a:xfrm>
          <a:custGeom>
            <a:avLst/>
            <a:gdLst>
              <a:gd name="textAreaLeft" fmla="*/ 15120 w 104760"/>
              <a:gd name="textAreaRight" fmla="*/ 89640 w 104760"/>
              <a:gd name="textAreaTop" fmla="*/ 15120 h 522360"/>
              <a:gd name="textAreaBottom" fmla="*/ 507240 h 522360"/>
            </a:gdLst>
            <a:ahLst/>
            <a:rect l="textAreaLeft" t="textAreaTop" r="textAreaRight" b="textAreaBottom"/>
            <a:pathLst>
              <a:path w="21600" h="107408">
                <a:moveTo>
                  <a:pt x="10800" y="0"/>
                </a:moveTo>
                <a:arcTo wR="10800" hR="10800" stAng="16200000" swAng="-5400000"/>
                <a:lnTo>
                  <a:pt x="0" y="96608"/>
                </a:lnTo>
                <a:arcTo wR="10800" hR="10800" stAng="10800000" swAng="-5400000"/>
                <a:lnTo>
                  <a:pt x="10800" y="10740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圆角矩形 160"/>
          <p:cNvSpPr/>
          <p:nvPr/>
        </p:nvSpPr>
        <p:spPr>
          <a:xfrm rot="21406800">
            <a:off x="11349000" y="3576240"/>
            <a:ext cx="104760" cy="522360"/>
          </a:xfrm>
          <a:custGeom>
            <a:avLst/>
            <a:gdLst>
              <a:gd name="textAreaLeft" fmla="*/ 15120 w 104760"/>
              <a:gd name="textAreaRight" fmla="*/ 89640 w 104760"/>
              <a:gd name="textAreaTop" fmla="*/ 15120 h 522360"/>
              <a:gd name="textAreaBottom" fmla="*/ 507240 h 522360"/>
            </a:gdLst>
            <a:ahLst/>
            <a:rect l="textAreaLeft" t="textAreaTop" r="textAreaRight" b="textAreaBottom"/>
            <a:pathLst>
              <a:path w="21600" h="107408">
                <a:moveTo>
                  <a:pt x="10800" y="0"/>
                </a:moveTo>
                <a:arcTo wR="10800" hR="10800" stAng="16200000" swAng="-5400000"/>
                <a:lnTo>
                  <a:pt x="0" y="96608"/>
                </a:lnTo>
                <a:arcTo wR="10800" hR="10800" stAng="10800000" swAng="-5400000"/>
                <a:lnTo>
                  <a:pt x="10800" y="10740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文本框 157"/>
          <p:cNvSpPr/>
          <p:nvPr/>
        </p:nvSpPr>
        <p:spPr>
          <a:xfrm>
            <a:off x="10387800" y="314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顺利过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组合 82"/>
          <p:cNvGrpSpPr/>
          <p:nvPr/>
        </p:nvGrpSpPr>
        <p:grpSpPr>
          <a:xfrm>
            <a:off x="7531200" y="2449440"/>
            <a:ext cx="2992320" cy="3143160"/>
            <a:chOff x="7531200" y="2449440"/>
            <a:chExt cx="2992320" cy="3143160"/>
          </a:xfrm>
        </p:grpSpPr>
        <p:sp>
          <p:nvSpPr>
            <p:cNvPr id="1100" name="矩形 14"/>
            <p:cNvSpPr/>
            <p:nvPr/>
          </p:nvSpPr>
          <p:spPr>
            <a:xfrm rot="4540200">
              <a:off x="8791560" y="4133880"/>
              <a:ext cx="334800" cy="51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椭圆 85"/>
            <p:cNvSpPr/>
            <p:nvPr/>
          </p:nvSpPr>
          <p:spPr>
            <a:xfrm>
              <a:off x="9129600" y="4008960"/>
              <a:ext cx="629280" cy="62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梯形 86"/>
            <p:cNvSpPr/>
            <p:nvPr/>
          </p:nvSpPr>
          <p:spPr>
            <a:xfrm>
              <a:off x="8767440" y="4519080"/>
              <a:ext cx="235800" cy="602640"/>
            </a:xfrm>
            <a:custGeom>
              <a:avLst/>
              <a:gdLst>
                <a:gd name="textAreaLeft" fmla="*/ 30960 w 235800"/>
                <a:gd name="textAreaRight" fmla="*/ 204840 w 235800"/>
                <a:gd name="textAreaTop" fmla="*/ 79200 h 602640"/>
                <a:gd name="textAreaBottom" fmla="*/ 523440 h 60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25" y="21600"/>
                  </a:lnTo>
                  <a:lnTo>
                    <a:pt x="1975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椭圆 87"/>
            <p:cNvSpPr/>
            <p:nvPr/>
          </p:nvSpPr>
          <p:spPr>
            <a:xfrm>
              <a:off x="7760520" y="2449440"/>
              <a:ext cx="1847520" cy="1847520"/>
            </a:xfrm>
            <a:prstGeom prst="ellipse">
              <a:avLst/>
            </a:pr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圆角矩形 88"/>
            <p:cNvSpPr/>
            <p:nvPr/>
          </p:nvSpPr>
          <p:spPr>
            <a:xfrm rot="3217800">
              <a:off x="8655120" y="4184280"/>
              <a:ext cx="531000" cy="2350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任意多边形 89"/>
            <p:cNvSpPr/>
            <p:nvPr/>
          </p:nvSpPr>
          <p:spPr>
            <a:xfrm rot="18865200">
              <a:off x="9020160" y="4466880"/>
              <a:ext cx="2840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梯形 83"/>
            <p:cNvSpPr/>
            <p:nvPr/>
          </p:nvSpPr>
          <p:spPr>
            <a:xfrm>
              <a:off x="7531200" y="4867920"/>
              <a:ext cx="2992320" cy="724680"/>
            </a:xfrm>
            <a:custGeom>
              <a:avLst/>
              <a:gdLst>
                <a:gd name="textAreaLeft" fmla="*/ 708120 w 2992320"/>
                <a:gd name="textAreaRight" fmla="*/ 2284200 w 2992320"/>
                <a:gd name="textAreaTop" fmla="*/ 171360 h 724680"/>
                <a:gd name="textAreaBottom" fmla="*/ 553320 h 72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547" y="21600"/>
                  </a:lnTo>
                  <a:lnTo>
                    <a:pt x="6053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组合 74"/>
          <p:cNvGrpSpPr/>
          <p:nvPr/>
        </p:nvGrpSpPr>
        <p:grpSpPr>
          <a:xfrm>
            <a:off x="5372280" y="3733920"/>
            <a:ext cx="2089080" cy="1958760"/>
            <a:chOff x="5372280" y="3733920"/>
            <a:chExt cx="2089080" cy="1958760"/>
          </a:xfrm>
        </p:grpSpPr>
        <p:sp>
          <p:nvSpPr>
            <p:cNvPr id="1108" name="矩形 14"/>
            <p:cNvSpPr/>
            <p:nvPr/>
          </p:nvSpPr>
          <p:spPr>
            <a:xfrm rot="3022200">
              <a:off x="6270120" y="4530240"/>
              <a:ext cx="334800" cy="51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椭圆 77"/>
            <p:cNvSpPr/>
            <p:nvPr/>
          </p:nvSpPr>
          <p:spPr>
            <a:xfrm>
              <a:off x="6531120" y="4301280"/>
              <a:ext cx="628920" cy="62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梯形 78"/>
            <p:cNvSpPr/>
            <p:nvPr/>
          </p:nvSpPr>
          <p:spPr>
            <a:xfrm>
              <a:off x="6269040" y="4945320"/>
              <a:ext cx="235800" cy="602280"/>
            </a:xfrm>
            <a:custGeom>
              <a:avLst/>
              <a:gdLst>
                <a:gd name="textAreaLeft" fmla="*/ 30960 w 235800"/>
                <a:gd name="textAreaRight" fmla="*/ 204840 w 235800"/>
                <a:gd name="textAreaTop" fmla="*/ 79200 h 602280"/>
                <a:gd name="textAreaBottom" fmla="*/ 523080 h 60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25" y="21600"/>
                  </a:lnTo>
                  <a:lnTo>
                    <a:pt x="1975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椭圆 79"/>
            <p:cNvSpPr/>
            <p:nvPr/>
          </p:nvSpPr>
          <p:spPr>
            <a:xfrm>
              <a:off x="5581440" y="3733920"/>
              <a:ext cx="1024920" cy="102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圆角矩形 80"/>
            <p:cNvSpPr/>
            <p:nvPr/>
          </p:nvSpPr>
          <p:spPr>
            <a:xfrm rot="1786200">
              <a:off x="6036480" y="4603680"/>
              <a:ext cx="531000" cy="2350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任意多边形 81"/>
            <p:cNvSpPr/>
            <p:nvPr/>
          </p:nvSpPr>
          <p:spPr>
            <a:xfrm rot="18865200">
              <a:off x="6472080" y="4763160"/>
              <a:ext cx="2840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梯形 75"/>
            <p:cNvSpPr/>
            <p:nvPr/>
          </p:nvSpPr>
          <p:spPr>
            <a:xfrm>
              <a:off x="5372280" y="5186880"/>
              <a:ext cx="2089080" cy="505800"/>
            </a:xfrm>
            <a:custGeom>
              <a:avLst/>
              <a:gdLst>
                <a:gd name="textAreaLeft" fmla="*/ 494280 w 2089080"/>
                <a:gd name="textAreaRight" fmla="*/ 1594800 w 2089080"/>
                <a:gd name="textAreaTop" fmla="*/ 119520 h 505800"/>
                <a:gd name="textAreaBottom" fmla="*/ 386280 h 50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547" y="21600"/>
                  </a:lnTo>
                  <a:lnTo>
                    <a:pt x="6053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组合 66"/>
          <p:cNvGrpSpPr/>
          <p:nvPr/>
        </p:nvGrpSpPr>
        <p:grpSpPr>
          <a:xfrm>
            <a:off x="3289320" y="3914640"/>
            <a:ext cx="1917720" cy="1654200"/>
            <a:chOff x="3289320" y="3914640"/>
            <a:chExt cx="1917720" cy="1654200"/>
          </a:xfrm>
        </p:grpSpPr>
        <p:sp>
          <p:nvSpPr>
            <p:cNvPr id="1116" name="矩形 14"/>
            <p:cNvSpPr/>
            <p:nvPr/>
          </p:nvSpPr>
          <p:spPr>
            <a:xfrm rot="2115600">
              <a:off x="4111200" y="4515120"/>
              <a:ext cx="33480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梯形 69"/>
            <p:cNvSpPr/>
            <p:nvPr/>
          </p:nvSpPr>
          <p:spPr>
            <a:xfrm>
              <a:off x="4085640" y="4906440"/>
              <a:ext cx="235800" cy="602280"/>
            </a:xfrm>
            <a:custGeom>
              <a:avLst/>
              <a:gdLst>
                <a:gd name="textAreaLeft" fmla="*/ 30960 w 235800"/>
                <a:gd name="textAreaRight" fmla="*/ 204840 w 235800"/>
                <a:gd name="textAreaTop" fmla="*/ 79200 h 602280"/>
                <a:gd name="textAreaBottom" fmla="*/ 523080 h 60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25" y="21600"/>
                  </a:lnTo>
                  <a:lnTo>
                    <a:pt x="1975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椭圆 70"/>
            <p:cNvSpPr/>
            <p:nvPr/>
          </p:nvSpPr>
          <p:spPr>
            <a:xfrm>
              <a:off x="3468600" y="3914640"/>
              <a:ext cx="891360" cy="891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圆角矩形 71"/>
            <p:cNvSpPr/>
            <p:nvPr/>
          </p:nvSpPr>
          <p:spPr>
            <a:xfrm rot="919800">
              <a:off x="3853440" y="4564800"/>
              <a:ext cx="531000" cy="2350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任意多边形 72"/>
            <p:cNvSpPr/>
            <p:nvPr/>
          </p:nvSpPr>
          <p:spPr>
            <a:xfrm rot="18865200">
              <a:off x="4343040" y="4725360"/>
              <a:ext cx="2840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椭圆 73"/>
            <p:cNvSpPr/>
            <p:nvPr/>
          </p:nvSpPr>
          <p:spPr>
            <a:xfrm>
              <a:off x="4325400" y="4143600"/>
              <a:ext cx="628920" cy="62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梯形 67"/>
            <p:cNvSpPr/>
            <p:nvPr/>
          </p:nvSpPr>
          <p:spPr>
            <a:xfrm>
              <a:off x="3289320" y="5104440"/>
              <a:ext cx="1917720" cy="464400"/>
            </a:xfrm>
            <a:custGeom>
              <a:avLst/>
              <a:gdLst>
                <a:gd name="textAreaLeft" fmla="*/ 453960 w 1917720"/>
                <a:gd name="textAreaRight" fmla="*/ 1463760 w 1917720"/>
                <a:gd name="textAreaTop" fmla="*/ 109800 h 464400"/>
                <a:gd name="textAreaBottom" fmla="*/ 354600 h 46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547" y="21600"/>
                  </a:lnTo>
                  <a:lnTo>
                    <a:pt x="6053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组合 15"/>
          <p:cNvGrpSpPr/>
          <p:nvPr/>
        </p:nvGrpSpPr>
        <p:grpSpPr>
          <a:xfrm>
            <a:off x="1363680" y="3990960"/>
            <a:ext cx="1668600" cy="1486080"/>
            <a:chOff x="1363680" y="3990960"/>
            <a:chExt cx="1668600" cy="1486080"/>
          </a:xfrm>
        </p:grpSpPr>
        <p:sp>
          <p:nvSpPr>
            <p:cNvPr id="1124" name="矩形 14"/>
            <p:cNvSpPr/>
            <p:nvPr/>
          </p:nvSpPr>
          <p:spPr>
            <a:xfrm rot="795600">
              <a:off x="2049840" y="4394160"/>
              <a:ext cx="334800" cy="51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椭圆 18"/>
            <p:cNvSpPr/>
            <p:nvPr/>
          </p:nvSpPr>
          <p:spPr>
            <a:xfrm>
              <a:off x="2194920" y="3990960"/>
              <a:ext cx="629280" cy="629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梯形 19"/>
            <p:cNvSpPr/>
            <p:nvPr/>
          </p:nvSpPr>
          <p:spPr>
            <a:xfrm>
              <a:off x="2048760" y="4809960"/>
              <a:ext cx="235800" cy="602640"/>
            </a:xfrm>
            <a:custGeom>
              <a:avLst/>
              <a:gdLst>
                <a:gd name="textAreaLeft" fmla="*/ 30960 w 235800"/>
                <a:gd name="textAreaRight" fmla="*/ 204840 w 235800"/>
                <a:gd name="textAreaTop" fmla="*/ 79200 h 602640"/>
                <a:gd name="textAreaBottom" fmla="*/ 523440 h 60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25" y="21600"/>
                  </a:lnTo>
                  <a:lnTo>
                    <a:pt x="1975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椭圆 20"/>
            <p:cNvSpPr/>
            <p:nvPr/>
          </p:nvSpPr>
          <p:spPr>
            <a:xfrm>
              <a:off x="1603800" y="4079880"/>
              <a:ext cx="605160" cy="605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圆角矩形 21"/>
            <p:cNvSpPr/>
            <p:nvPr/>
          </p:nvSpPr>
          <p:spPr>
            <a:xfrm rot="20929200">
              <a:off x="1816560" y="4467240"/>
              <a:ext cx="531000" cy="23544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任意多边形 22"/>
            <p:cNvSpPr/>
            <p:nvPr/>
          </p:nvSpPr>
          <p:spPr>
            <a:xfrm rot="18865200">
              <a:off x="2260440" y="4605120"/>
              <a:ext cx="284400" cy="29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梯形 16"/>
            <p:cNvSpPr/>
            <p:nvPr/>
          </p:nvSpPr>
          <p:spPr>
            <a:xfrm>
              <a:off x="1363680" y="5072760"/>
              <a:ext cx="1668600" cy="404280"/>
            </a:xfrm>
            <a:custGeom>
              <a:avLst/>
              <a:gdLst>
                <a:gd name="textAreaLeft" fmla="*/ 394920 w 1668600"/>
                <a:gd name="textAreaRight" fmla="*/ 1273680 w 1668600"/>
                <a:gd name="textAreaTop" fmla="*/ 95760 h 404280"/>
                <a:gd name="textAreaBottom" fmla="*/ 308520 h 40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547" y="21600"/>
                  </a:lnTo>
                  <a:lnTo>
                    <a:pt x="6053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文本框 3"/>
          <p:cNvSpPr/>
          <p:nvPr/>
        </p:nvSpPr>
        <p:spPr>
          <a:xfrm>
            <a:off x="3121200" y="52560"/>
            <a:ext cx="6276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二</a:t>
            </a:r>
            <a:r>
              <a:rPr b="0" lang="zh-CN" sz="8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是你可以背很多东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但是你的</a:t>
            </a:r>
            <a:r>
              <a:rPr b="0" lang="zh-CN" sz="88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船</a:t>
            </a:r>
            <a:r>
              <a:rPr b="0" lang="zh-CN" sz="88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要足够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4"/>
          <p:cNvSpPr/>
          <p:nvPr/>
        </p:nvSpPr>
        <p:spPr>
          <a:xfrm>
            <a:off x="0" y="5064120"/>
            <a:ext cx="1406520" cy="179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矩形 5"/>
          <p:cNvSpPr/>
          <p:nvPr/>
        </p:nvSpPr>
        <p:spPr>
          <a:xfrm>
            <a:off x="10785600" y="5064120"/>
            <a:ext cx="1406520" cy="179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椭圆 6"/>
          <p:cNvSpPr/>
          <p:nvPr/>
        </p:nvSpPr>
        <p:spPr>
          <a:xfrm>
            <a:off x="1081080" y="5427720"/>
            <a:ext cx="1922400" cy="1922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椭圆 7"/>
          <p:cNvSpPr/>
          <p:nvPr/>
        </p:nvSpPr>
        <p:spPr>
          <a:xfrm>
            <a:off x="2043000" y="5286240"/>
            <a:ext cx="1922400" cy="1924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椭圆 8"/>
          <p:cNvSpPr/>
          <p:nvPr/>
        </p:nvSpPr>
        <p:spPr>
          <a:xfrm>
            <a:off x="2951280" y="5627520"/>
            <a:ext cx="1922400" cy="1922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椭圆 9"/>
          <p:cNvSpPr/>
          <p:nvPr/>
        </p:nvSpPr>
        <p:spPr>
          <a:xfrm>
            <a:off x="3927600" y="5486400"/>
            <a:ext cx="1922400" cy="1922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椭圆 10"/>
          <p:cNvSpPr/>
          <p:nvPr/>
        </p:nvSpPr>
        <p:spPr>
          <a:xfrm>
            <a:off x="4578480" y="5591160"/>
            <a:ext cx="2830320" cy="1924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椭圆 11"/>
          <p:cNvSpPr/>
          <p:nvPr/>
        </p:nvSpPr>
        <p:spPr>
          <a:xfrm>
            <a:off x="6342120" y="5627520"/>
            <a:ext cx="1922400" cy="1922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椭圆 12"/>
          <p:cNvSpPr/>
          <p:nvPr/>
        </p:nvSpPr>
        <p:spPr>
          <a:xfrm>
            <a:off x="7318440" y="5486400"/>
            <a:ext cx="1922400" cy="1606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椭圆 13"/>
          <p:cNvSpPr/>
          <p:nvPr/>
        </p:nvSpPr>
        <p:spPr>
          <a:xfrm>
            <a:off x="8385120" y="5591160"/>
            <a:ext cx="2774880" cy="1924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椭圆 14"/>
          <p:cNvSpPr/>
          <p:nvPr/>
        </p:nvSpPr>
        <p:spPr>
          <a:xfrm>
            <a:off x="9823320" y="5438880"/>
            <a:ext cx="1924200" cy="1923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圆角矩形 47"/>
          <p:cNvSpPr/>
          <p:nvPr/>
        </p:nvSpPr>
        <p:spPr>
          <a:xfrm rot="19232400">
            <a:off x="10674360" y="3974760"/>
            <a:ext cx="104760" cy="520560"/>
          </a:xfrm>
          <a:custGeom>
            <a:avLst/>
            <a:gdLst>
              <a:gd name="textAreaLeft" fmla="*/ 15120 w 104760"/>
              <a:gd name="textAreaRight" fmla="*/ 89640 w 104760"/>
              <a:gd name="textAreaTop" fmla="*/ 15120 h 520560"/>
              <a:gd name="textAreaBottom" fmla="*/ 505440 h 520560"/>
            </a:gdLst>
            <a:ahLst/>
            <a:rect l="textAreaLeft" t="textAreaTop" r="textAreaRight" b="textAreaBottom"/>
            <a:pathLst>
              <a:path w="21600" h="107038">
                <a:moveTo>
                  <a:pt x="10800" y="0"/>
                </a:moveTo>
                <a:arcTo wR="10800" hR="10800" stAng="16200000" swAng="-5400000"/>
                <a:lnTo>
                  <a:pt x="0" y="96238"/>
                </a:lnTo>
                <a:arcTo wR="10800" hR="10800" stAng="10800000" swAng="-5400000"/>
                <a:lnTo>
                  <a:pt x="10800" y="1070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矩形 14"/>
          <p:cNvSpPr/>
          <p:nvPr/>
        </p:nvSpPr>
        <p:spPr>
          <a:xfrm>
            <a:off x="10826640" y="4184640"/>
            <a:ext cx="411120" cy="50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椭圆 49"/>
          <p:cNvSpPr/>
          <p:nvPr/>
        </p:nvSpPr>
        <p:spPr>
          <a:xfrm>
            <a:off x="10686960" y="3686040"/>
            <a:ext cx="628920" cy="63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梯形 50"/>
          <p:cNvSpPr/>
          <p:nvPr/>
        </p:nvSpPr>
        <p:spPr>
          <a:xfrm>
            <a:off x="10882440" y="4468680"/>
            <a:ext cx="236520" cy="601920"/>
          </a:xfrm>
          <a:custGeom>
            <a:avLst/>
            <a:gdLst>
              <a:gd name="textAreaLeft" fmla="*/ 30960 w 236520"/>
              <a:gd name="textAreaRight" fmla="*/ 205560 w 236520"/>
              <a:gd name="textAreaTop" fmla="*/ 79200 h 601920"/>
              <a:gd name="textAreaBottom" fmla="*/ 522720 h 6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5" y="21600"/>
                </a:lnTo>
                <a:lnTo>
                  <a:pt x="1975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任意多边形 51"/>
          <p:cNvSpPr/>
          <p:nvPr/>
        </p:nvSpPr>
        <p:spPr>
          <a:xfrm rot="18642600">
            <a:off x="10897560" y="4321440"/>
            <a:ext cx="25740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椭圆 52"/>
          <p:cNvSpPr/>
          <p:nvPr/>
        </p:nvSpPr>
        <p:spPr>
          <a:xfrm>
            <a:off x="11480760" y="3289320"/>
            <a:ext cx="1800360" cy="18003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矩形 53"/>
          <p:cNvSpPr/>
          <p:nvPr/>
        </p:nvSpPr>
        <p:spPr>
          <a:xfrm>
            <a:off x="9953640" y="3094200"/>
            <a:ext cx="2174760" cy="76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圆角矩形 54"/>
          <p:cNvSpPr/>
          <p:nvPr/>
        </p:nvSpPr>
        <p:spPr>
          <a:xfrm rot="2314800">
            <a:off x="11231640" y="3962160"/>
            <a:ext cx="104760" cy="520560"/>
          </a:xfrm>
          <a:custGeom>
            <a:avLst/>
            <a:gdLst>
              <a:gd name="textAreaLeft" fmla="*/ 15120 w 104760"/>
              <a:gd name="textAreaRight" fmla="*/ 89640 w 104760"/>
              <a:gd name="textAreaTop" fmla="*/ 15120 h 520560"/>
              <a:gd name="textAreaBottom" fmla="*/ 505440 h 520560"/>
            </a:gdLst>
            <a:ahLst/>
            <a:rect l="textAreaLeft" t="textAreaTop" r="textAreaRight" b="textAreaBottom"/>
            <a:pathLst>
              <a:path w="21600" h="107038">
                <a:moveTo>
                  <a:pt x="10800" y="0"/>
                </a:moveTo>
                <a:arcTo wR="10800" hR="10800" stAng="16200000" swAng="-5400000"/>
                <a:lnTo>
                  <a:pt x="0" y="96238"/>
                </a:lnTo>
                <a:arcTo wR="10800" hR="10800" stAng="10800000" swAng="-5400000"/>
                <a:lnTo>
                  <a:pt x="10800" y="1070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圆角矩形 55"/>
          <p:cNvSpPr/>
          <p:nvPr/>
        </p:nvSpPr>
        <p:spPr>
          <a:xfrm rot="21406800">
            <a:off x="10528200" y="3596760"/>
            <a:ext cx="104760" cy="522360"/>
          </a:xfrm>
          <a:custGeom>
            <a:avLst/>
            <a:gdLst>
              <a:gd name="textAreaLeft" fmla="*/ 15120 w 104760"/>
              <a:gd name="textAreaRight" fmla="*/ 89640 w 104760"/>
              <a:gd name="textAreaTop" fmla="*/ 15120 h 522360"/>
              <a:gd name="textAreaBottom" fmla="*/ 507240 h 522360"/>
            </a:gdLst>
            <a:ahLst/>
            <a:rect l="textAreaLeft" t="textAreaTop" r="textAreaRight" b="textAreaBottom"/>
            <a:pathLst>
              <a:path w="21600" h="107408">
                <a:moveTo>
                  <a:pt x="10800" y="0"/>
                </a:moveTo>
                <a:arcTo wR="10800" hR="10800" stAng="16200000" swAng="-5400000"/>
                <a:lnTo>
                  <a:pt x="0" y="96608"/>
                </a:lnTo>
                <a:arcTo wR="10800" hR="10800" stAng="10800000" swAng="-5400000"/>
                <a:lnTo>
                  <a:pt x="10800" y="10740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圆角矩形 56"/>
          <p:cNvSpPr/>
          <p:nvPr/>
        </p:nvSpPr>
        <p:spPr>
          <a:xfrm rot="21406800">
            <a:off x="11349000" y="3576240"/>
            <a:ext cx="104760" cy="522360"/>
          </a:xfrm>
          <a:custGeom>
            <a:avLst/>
            <a:gdLst>
              <a:gd name="textAreaLeft" fmla="*/ 15120 w 104760"/>
              <a:gd name="textAreaRight" fmla="*/ 89640 w 104760"/>
              <a:gd name="textAreaTop" fmla="*/ 15120 h 522360"/>
              <a:gd name="textAreaBottom" fmla="*/ 507240 h 522360"/>
            </a:gdLst>
            <a:ahLst/>
            <a:rect l="textAreaLeft" t="textAreaTop" r="textAreaRight" b="textAreaBottom"/>
            <a:pathLst>
              <a:path w="21600" h="107408">
                <a:moveTo>
                  <a:pt x="10800" y="0"/>
                </a:moveTo>
                <a:arcTo wR="10800" hR="10800" stAng="16200000" swAng="-5400000"/>
                <a:lnTo>
                  <a:pt x="0" y="96608"/>
                </a:lnTo>
                <a:arcTo wR="10800" hR="10800" stAng="10800000" swAng="-5400000"/>
                <a:lnTo>
                  <a:pt x="10800" y="10740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文本框 57"/>
          <p:cNvSpPr/>
          <p:nvPr/>
        </p:nvSpPr>
        <p:spPr>
          <a:xfrm>
            <a:off x="10387800" y="314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顺利过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文本框 3"/>
          <p:cNvSpPr/>
          <p:nvPr/>
        </p:nvSpPr>
        <p:spPr>
          <a:xfrm>
            <a:off x="4180680" y="1093680"/>
            <a:ext cx="429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很现实的情况是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人不可能没有欲望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也就是说不可能不背那么多东西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所以</a:t>
            </a:r>
            <a:r>
              <a:rPr b="0" lang="en-US" sz="6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……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椭圆 1"/>
          <p:cNvSpPr/>
          <p:nvPr/>
        </p:nvSpPr>
        <p:spPr>
          <a:xfrm>
            <a:off x="6499080" y="4159080"/>
            <a:ext cx="1657440" cy="1657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梯形 2"/>
          <p:cNvSpPr/>
          <p:nvPr/>
        </p:nvSpPr>
        <p:spPr>
          <a:xfrm rot="1650000">
            <a:off x="6876720" y="5236920"/>
            <a:ext cx="979560" cy="153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4"/>
          <p:cNvSpPr/>
          <p:nvPr/>
        </p:nvSpPr>
        <p:spPr>
          <a:xfrm>
            <a:off x="4343400" y="6054840"/>
            <a:ext cx="2806560" cy="1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6"/>
          <p:cNvSpPr/>
          <p:nvPr/>
        </p:nvSpPr>
        <p:spPr>
          <a:xfrm rot="681000">
            <a:off x="6379920" y="5813280"/>
            <a:ext cx="971280" cy="34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7"/>
          <p:cNvSpPr/>
          <p:nvPr/>
        </p:nvSpPr>
        <p:spPr>
          <a:xfrm rot="9129600">
            <a:off x="6359400" y="5392080"/>
            <a:ext cx="641520" cy="377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梯形 2"/>
          <p:cNvSpPr/>
          <p:nvPr/>
        </p:nvSpPr>
        <p:spPr>
          <a:xfrm flipV="1" rot="1650600">
            <a:off x="6399000" y="6429960"/>
            <a:ext cx="1003320" cy="96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椭圆 9"/>
          <p:cNvSpPr/>
          <p:nvPr/>
        </p:nvSpPr>
        <p:spPr>
          <a:xfrm>
            <a:off x="6302520" y="5680080"/>
            <a:ext cx="473040" cy="473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10"/>
          <p:cNvSpPr/>
          <p:nvPr/>
        </p:nvSpPr>
        <p:spPr>
          <a:xfrm>
            <a:off x="4781520" y="6153120"/>
            <a:ext cx="171360" cy="70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矩形 11"/>
          <p:cNvSpPr/>
          <p:nvPr/>
        </p:nvSpPr>
        <p:spPr>
          <a:xfrm>
            <a:off x="5257800" y="6153120"/>
            <a:ext cx="171360" cy="70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12"/>
          <p:cNvSpPr/>
          <p:nvPr/>
        </p:nvSpPr>
        <p:spPr>
          <a:xfrm>
            <a:off x="6481800" y="4302000"/>
            <a:ext cx="1809720" cy="255276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13"/>
          <p:cNvSpPr/>
          <p:nvPr/>
        </p:nvSpPr>
        <p:spPr>
          <a:xfrm>
            <a:off x="6984000" y="4275000"/>
            <a:ext cx="70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组合 10"/>
          <p:cNvGrpSpPr/>
          <p:nvPr/>
        </p:nvGrpSpPr>
        <p:grpSpPr>
          <a:xfrm>
            <a:off x="3701880" y="230040"/>
            <a:ext cx="5556600" cy="4357800"/>
            <a:chOff x="3701880" y="230040"/>
            <a:chExt cx="5556600" cy="4357800"/>
          </a:xfrm>
        </p:grpSpPr>
        <p:sp>
          <p:nvSpPr>
            <p:cNvPr id="1167" name="梯形 6"/>
            <p:cNvSpPr/>
            <p:nvPr/>
          </p:nvSpPr>
          <p:spPr>
            <a:xfrm>
              <a:off x="6105600" y="2644920"/>
              <a:ext cx="374400" cy="956160"/>
            </a:xfrm>
            <a:custGeom>
              <a:avLst/>
              <a:gdLst>
                <a:gd name="textAreaLeft" fmla="*/ 49320 w 374400"/>
                <a:gd name="textAreaRight" fmla="*/ 325080 w 374400"/>
                <a:gd name="textAreaTop" fmla="*/ 126000 h 956160"/>
                <a:gd name="textAreaBottom" fmla="*/ 830160 h 95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25" y="21600"/>
                  </a:lnTo>
                  <a:lnTo>
                    <a:pt x="1975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梯形 3"/>
            <p:cNvSpPr/>
            <p:nvPr/>
          </p:nvSpPr>
          <p:spPr>
            <a:xfrm>
              <a:off x="3701880" y="3242520"/>
              <a:ext cx="5556600" cy="1345320"/>
            </a:xfrm>
            <a:custGeom>
              <a:avLst/>
              <a:gdLst>
                <a:gd name="textAreaLeft" fmla="*/ 1315080 w 5556600"/>
                <a:gd name="textAreaRight" fmla="*/ 4241520 w 5556600"/>
                <a:gd name="textAreaTop" fmla="*/ 318240 h 1345320"/>
                <a:gd name="textAreaBottom" fmla="*/ 1027080 h 134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547" y="21600"/>
                  </a:lnTo>
                  <a:lnTo>
                    <a:pt x="6053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矩形 14"/>
            <p:cNvSpPr/>
            <p:nvPr/>
          </p:nvSpPr>
          <p:spPr>
            <a:xfrm rot="4540200">
              <a:off x="6144480" y="2034360"/>
              <a:ext cx="531360" cy="80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椭圆 5"/>
            <p:cNvSpPr/>
            <p:nvPr/>
          </p:nvSpPr>
          <p:spPr>
            <a:xfrm>
              <a:off x="6680520" y="1835640"/>
              <a:ext cx="998640" cy="998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椭圆 7"/>
            <p:cNvSpPr/>
            <p:nvPr/>
          </p:nvSpPr>
          <p:spPr>
            <a:xfrm>
              <a:off x="5077080" y="230040"/>
              <a:ext cx="2064240" cy="2063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圆角矩形 8"/>
            <p:cNvSpPr/>
            <p:nvPr/>
          </p:nvSpPr>
          <p:spPr>
            <a:xfrm rot="3217800">
              <a:off x="5928480" y="2114640"/>
              <a:ext cx="842760" cy="373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任意多边形 9"/>
            <p:cNvSpPr/>
            <p:nvPr/>
          </p:nvSpPr>
          <p:spPr>
            <a:xfrm rot="18865200">
              <a:off x="6507360" y="2562120"/>
              <a:ext cx="451080" cy="46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文本框 11"/>
          <p:cNvSpPr/>
          <p:nvPr/>
        </p:nvSpPr>
        <p:spPr>
          <a:xfrm>
            <a:off x="4556520" y="4587840"/>
            <a:ext cx="3701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所以你只能选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让你的</a:t>
            </a:r>
            <a:r>
              <a:rPr b="0" lang="zh-CN" sz="66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船足够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矩形 3"/>
          <p:cNvSpPr/>
          <p:nvPr/>
        </p:nvSpPr>
        <p:spPr>
          <a:xfrm>
            <a:off x="0" y="5064120"/>
            <a:ext cx="1406520" cy="179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4"/>
          <p:cNvSpPr/>
          <p:nvPr/>
        </p:nvSpPr>
        <p:spPr>
          <a:xfrm>
            <a:off x="10785600" y="5064120"/>
            <a:ext cx="1406520" cy="179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椭圆 5"/>
          <p:cNvSpPr/>
          <p:nvPr/>
        </p:nvSpPr>
        <p:spPr>
          <a:xfrm>
            <a:off x="1081080" y="5427720"/>
            <a:ext cx="1922400" cy="1922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椭圆 6"/>
          <p:cNvSpPr/>
          <p:nvPr/>
        </p:nvSpPr>
        <p:spPr>
          <a:xfrm>
            <a:off x="2043000" y="5286240"/>
            <a:ext cx="1922400" cy="1924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椭圆 7"/>
          <p:cNvSpPr/>
          <p:nvPr/>
        </p:nvSpPr>
        <p:spPr>
          <a:xfrm>
            <a:off x="2951280" y="5627520"/>
            <a:ext cx="1922400" cy="1922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椭圆 8"/>
          <p:cNvSpPr/>
          <p:nvPr/>
        </p:nvSpPr>
        <p:spPr>
          <a:xfrm>
            <a:off x="3927600" y="5486400"/>
            <a:ext cx="1922400" cy="1922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椭圆 9"/>
          <p:cNvSpPr/>
          <p:nvPr/>
        </p:nvSpPr>
        <p:spPr>
          <a:xfrm>
            <a:off x="4578480" y="5591160"/>
            <a:ext cx="2830320" cy="1924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椭圆 10"/>
          <p:cNvSpPr/>
          <p:nvPr/>
        </p:nvSpPr>
        <p:spPr>
          <a:xfrm>
            <a:off x="6342120" y="5627520"/>
            <a:ext cx="1922400" cy="1922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椭圆 11"/>
          <p:cNvSpPr/>
          <p:nvPr/>
        </p:nvSpPr>
        <p:spPr>
          <a:xfrm>
            <a:off x="7318440" y="5486400"/>
            <a:ext cx="1922400" cy="1606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椭圆 12"/>
          <p:cNvSpPr/>
          <p:nvPr/>
        </p:nvSpPr>
        <p:spPr>
          <a:xfrm>
            <a:off x="8385120" y="5591160"/>
            <a:ext cx="2774880" cy="1924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椭圆 13"/>
          <p:cNvSpPr/>
          <p:nvPr/>
        </p:nvSpPr>
        <p:spPr>
          <a:xfrm>
            <a:off x="9823320" y="5438880"/>
            <a:ext cx="1924200" cy="1923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矩形 14"/>
          <p:cNvSpPr/>
          <p:nvPr/>
        </p:nvSpPr>
        <p:spPr>
          <a:xfrm>
            <a:off x="701640" y="4341960"/>
            <a:ext cx="362160" cy="509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椭圆 19"/>
          <p:cNvSpPr/>
          <p:nvPr/>
        </p:nvSpPr>
        <p:spPr>
          <a:xfrm>
            <a:off x="766800" y="3873600"/>
            <a:ext cx="630360" cy="628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梯形 20"/>
          <p:cNvSpPr/>
          <p:nvPr/>
        </p:nvSpPr>
        <p:spPr>
          <a:xfrm>
            <a:off x="757080" y="4626000"/>
            <a:ext cx="236520" cy="603360"/>
          </a:xfrm>
          <a:custGeom>
            <a:avLst/>
            <a:gdLst>
              <a:gd name="textAreaLeft" fmla="*/ 30960 w 236520"/>
              <a:gd name="textAreaRight" fmla="*/ 205560 w 236520"/>
              <a:gd name="textAreaTop" fmla="*/ 79560 h 603360"/>
              <a:gd name="textAreaBottom" fmla="*/ 523800 h 60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5" y="21600"/>
                </a:lnTo>
                <a:lnTo>
                  <a:pt x="1975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任意多边形 21"/>
          <p:cNvSpPr/>
          <p:nvPr/>
        </p:nvSpPr>
        <p:spPr>
          <a:xfrm rot="17741400">
            <a:off x="932400" y="4497840"/>
            <a:ext cx="257040" cy="233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椭圆 22"/>
          <p:cNvSpPr/>
          <p:nvPr/>
        </p:nvSpPr>
        <p:spPr>
          <a:xfrm>
            <a:off x="222120" y="4140360"/>
            <a:ext cx="606600" cy="604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圆角矩形 23"/>
          <p:cNvSpPr/>
          <p:nvPr/>
        </p:nvSpPr>
        <p:spPr>
          <a:xfrm rot="7858800">
            <a:off x="464040" y="4478760"/>
            <a:ext cx="530280" cy="2080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圆角矩形 24"/>
          <p:cNvSpPr/>
          <p:nvPr/>
        </p:nvSpPr>
        <p:spPr>
          <a:xfrm rot="19232400">
            <a:off x="10674360" y="3974760"/>
            <a:ext cx="104760" cy="520560"/>
          </a:xfrm>
          <a:custGeom>
            <a:avLst/>
            <a:gdLst>
              <a:gd name="textAreaLeft" fmla="*/ 15120 w 104760"/>
              <a:gd name="textAreaRight" fmla="*/ 89640 w 104760"/>
              <a:gd name="textAreaTop" fmla="*/ 15120 h 520560"/>
              <a:gd name="textAreaBottom" fmla="*/ 505440 h 520560"/>
            </a:gdLst>
            <a:ahLst/>
            <a:rect l="textAreaLeft" t="textAreaTop" r="textAreaRight" b="textAreaBottom"/>
            <a:pathLst>
              <a:path w="21600" h="107038">
                <a:moveTo>
                  <a:pt x="10800" y="0"/>
                </a:moveTo>
                <a:arcTo wR="10800" hR="10800" stAng="16200000" swAng="-5400000"/>
                <a:lnTo>
                  <a:pt x="0" y="96238"/>
                </a:lnTo>
                <a:arcTo wR="10800" hR="10800" stAng="10800000" swAng="-5400000"/>
                <a:lnTo>
                  <a:pt x="10800" y="1070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矩形 14"/>
          <p:cNvSpPr/>
          <p:nvPr/>
        </p:nvSpPr>
        <p:spPr>
          <a:xfrm>
            <a:off x="10826640" y="4184640"/>
            <a:ext cx="411120" cy="50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椭圆 32"/>
          <p:cNvSpPr/>
          <p:nvPr/>
        </p:nvSpPr>
        <p:spPr>
          <a:xfrm>
            <a:off x="10686960" y="3686040"/>
            <a:ext cx="628920" cy="63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梯形 33"/>
          <p:cNvSpPr/>
          <p:nvPr/>
        </p:nvSpPr>
        <p:spPr>
          <a:xfrm>
            <a:off x="10882440" y="4468680"/>
            <a:ext cx="236520" cy="601920"/>
          </a:xfrm>
          <a:custGeom>
            <a:avLst/>
            <a:gdLst>
              <a:gd name="textAreaLeft" fmla="*/ 30960 w 236520"/>
              <a:gd name="textAreaRight" fmla="*/ 205560 w 236520"/>
              <a:gd name="textAreaTop" fmla="*/ 79200 h 601920"/>
              <a:gd name="textAreaBottom" fmla="*/ 522720 h 6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5" y="21600"/>
                </a:lnTo>
                <a:lnTo>
                  <a:pt x="1975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任意多边形 34"/>
          <p:cNvSpPr/>
          <p:nvPr/>
        </p:nvSpPr>
        <p:spPr>
          <a:xfrm rot="18642600">
            <a:off x="10897560" y="4321440"/>
            <a:ext cx="25740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椭圆 35"/>
          <p:cNvSpPr/>
          <p:nvPr/>
        </p:nvSpPr>
        <p:spPr>
          <a:xfrm>
            <a:off x="11328480" y="4468680"/>
            <a:ext cx="604800" cy="604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矩形 36"/>
          <p:cNvSpPr/>
          <p:nvPr/>
        </p:nvSpPr>
        <p:spPr>
          <a:xfrm>
            <a:off x="9953640" y="3094200"/>
            <a:ext cx="2174760" cy="76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圆角矩形 37"/>
          <p:cNvSpPr/>
          <p:nvPr/>
        </p:nvSpPr>
        <p:spPr>
          <a:xfrm rot="2314800">
            <a:off x="11231640" y="3962160"/>
            <a:ext cx="104760" cy="520560"/>
          </a:xfrm>
          <a:custGeom>
            <a:avLst/>
            <a:gdLst>
              <a:gd name="textAreaLeft" fmla="*/ 15120 w 104760"/>
              <a:gd name="textAreaRight" fmla="*/ 89640 w 104760"/>
              <a:gd name="textAreaTop" fmla="*/ 15120 h 520560"/>
              <a:gd name="textAreaBottom" fmla="*/ 505440 h 520560"/>
            </a:gdLst>
            <a:ahLst/>
            <a:rect l="textAreaLeft" t="textAreaTop" r="textAreaRight" b="textAreaBottom"/>
            <a:pathLst>
              <a:path w="21600" h="107038">
                <a:moveTo>
                  <a:pt x="10800" y="0"/>
                </a:moveTo>
                <a:arcTo wR="10800" hR="10800" stAng="16200000" swAng="-5400000"/>
                <a:lnTo>
                  <a:pt x="0" y="96238"/>
                </a:lnTo>
                <a:arcTo wR="10800" hR="10800" stAng="10800000" swAng="-5400000"/>
                <a:lnTo>
                  <a:pt x="10800" y="1070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圆角矩形 38"/>
          <p:cNvSpPr/>
          <p:nvPr/>
        </p:nvSpPr>
        <p:spPr>
          <a:xfrm rot="21406800">
            <a:off x="10528200" y="3596760"/>
            <a:ext cx="104760" cy="522360"/>
          </a:xfrm>
          <a:custGeom>
            <a:avLst/>
            <a:gdLst>
              <a:gd name="textAreaLeft" fmla="*/ 15120 w 104760"/>
              <a:gd name="textAreaRight" fmla="*/ 89640 w 104760"/>
              <a:gd name="textAreaTop" fmla="*/ 15120 h 522360"/>
              <a:gd name="textAreaBottom" fmla="*/ 507240 h 522360"/>
            </a:gdLst>
            <a:ahLst/>
            <a:rect l="textAreaLeft" t="textAreaTop" r="textAreaRight" b="textAreaBottom"/>
            <a:pathLst>
              <a:path w="21600" h="107408">
                <a:moveTo>
                  <a:pt x="10800" y="0"/>
                </a:moveTo>
                <a:arcTo wR="10800" hR="10800" stAng="16200000" swAng="-5400000"/>
                <a:lnTo>
                  <a:pt x="0" y="96608"/>
                </a:lnTo>
                <a:arcTo wR="10800" hR="10800" stAng="10800000" swAng="-5400000"/>
                <a:lnTo>
                  <a:pt x="10800" y="10740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圆角矩形 39"/>
          <p:cNvSpPr/>
          <p:nvPr/>
        </p:nvSpPr>
        <p:spPr>
          <a:xfrm rot="21406800">
            <a:off x="11349000" y="3576240"/>
            <a:ext cx="104760" cy="522360"/>
          </a:xfrm>
          <a:custGeom>
            <a:avLst/>
            <a:gdLst>
              <a:gd name="textAreaLeft" fmla="*/ 15120 w 104760"/>
              <a:gd name="textAreaRight" fmla="*/ 89640 w 104760"/>
              <a:gd name="textAreaTop" fmla="*/ 15120 h 522360"/>
              <a:gd name="textAreaBottom" fmla="*/ 507240 h 522360"/>
            </a:gdLst>
            <a:ahLst/>
            <a:rect l="textAreaLeft" t="textAreaTop" r="textAreaRight" b="textAreaBottom"/>
            <a:pathLst>
              <a:path w="21600" h="107408">
                <a:moveTo>
                  <a:pt x="10800" y="0"/>
                </a:moveTo>
                <a:arcTo wR="10800" hR="10800" stAng="16200000" swAng="-5400000"/>
                <a:lnTo>
                  <a:pt x="0" y="96608"/>
                </a:lnTo>
                <a:arcTo wR="10800" hR="10800" stAng="10800000" swAng="-5400000"/>
                <a:lnTo>
                  <a:pt x="10800" y="10740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文本框 40"/>
          <p:cNvSpPr/>
          <p:nvPr/>
        </p:nvSpPr>
        <p:spPr>
          <a:xfrm>
            <a:off x="10387800" y="314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顺利过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文本框 41"/>
          <p:cNvSpPr/>
          <p:nvPr/>
        </p:nvSpPr>
        <p:spPr>
          <a:xfrm>
            <a:off x="3773880" y="2087640"/>
            <a:ext cx="4204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也就是说要想</a:t>
            </a:r>
            <a:r>
              <a:rPr b="0" lang="zh-CN" sz="66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顺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完成人生的旅途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椭圆形标注 1"/>
          <p:cNvSpPr/>
          <p:nvPr/>
        </p:nvSpPr>
        <p:spPr>
          <a:xfrm rot="17964000">
            <a:off x="6254640" y="693720"/>
            <a:ext cx="1440000" cy="1440000"/>
          </a:xfrm>
          <a:prstGeom prst="wedgeEllipseCallout">
            <a:avLst>
              <a:gd name="adj1" fmla="val -27504"/>
              <a:gd name="adj2" fmla="val 6881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椭圆形标注 42"/>
          <p:cNvSpPr/>
          <p:nvPr/>
        </p:nvSpPr>
        <p:spPr>
          <a:xfrm>
            <a:off x="7772400" y="457200"/>
            <a:ext cx="1441440" cy="1440000"/>
          </a:xfrm>
          <a:prstGeom prst="wedgeEllipseCallout">
            <a:avLst>
              <a:gd name="adj1" fmla="val -27518"/>
              <a:gd name="adj2" fmla="val 7475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椭圆形标注 43"/>
          <p:cNvSpPr/>
          <p:nvPr/>
        </p:nvSpPr>
        <p:spPr>
          <a:xfrm rot="2070000">
            <a:off x="9140760" y="1177920"/>
            <a:ext cx="1440000" cy="1440000"/>
          </a:xfrm>
          <a:prstGeom prst="wedgeEllipseCallout">
            <a:avLst>
              <a:gd name="adj1" fmla="val -29324"/>
              <a:gd name="adj2" fmla="val 5211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文本框 44"/>
          <p:cNvSpPr/>
          <p:nvPr/>
        </p:nvSpPr>
        <p:spPr>
          <a:xfrm>
            <a:off x="6427080" y="10954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无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文本框 45"/>
          <p:cNvSpPr/>
          <p:nvPr/>
        </p:nvSpPr>
        <p:spPr>
          <a:xfrm>
            <a:off x="8027280" y="811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少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文本框 46"/>
          <p:cNvSpPr/>
          <p:nvPr/>
        </p:nvSpPr>
        <p:spPr>
          <a:xfrm>
            <a:off x="9367200" y="15177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多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梯形 47"/>
          <p:cNvSpPr/>
          <p:nvPr/>
        </p:nvSpPr>
        <p:spPr>
          <a:xfrm>
            <a:off x="1397160" y="5064120"/>
            <a:ext cx="1666800" cy="403200"/>
          </a:xfrm>
          <a:custGeom>
            <a:avLst/>
            <a:gdLst>
              <a:gd name="textAreaLeft" fmla="*/ 394200 w 1666800"/>
              <a:gd name="textAreaRight" fmla="*/ 1272600 w 1666800"/>
              <a:gd name="textAreaTop" fmla="*/ 95400 h 403200"/>
              <a:gd name="textAreaBottom" fmla="*/ 30780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549" y="21600"/>
                </a:lnTo>
                <a:lnTo>
                  <a:pt x="6051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矩形 14"/>
          <p:cNvSpPr/>
          <p:nvPr/>
        </p:nvSpPr>
        <p:spPr>
          <a:xfrm>
            <a:off x="1784520" y="1241280"/>
            <a:ext cx="361800" cy="50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椭圆 23"/>
          <p:cNvSpPr/>
          <p:nvPr/>
        </p:nvSpPr>
        <p:spPr>
          <a:xfrm>
            <a:off x="1849320" y="771480"/>
            <a:ext cx="630360" cy="63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梯形 24"/>
          <p:cNvSpPr/>
          <p:nvPr/>
        </p:nvSpPr>
        <p:spPr>
          <a:xfrm>
            <a:off x="1841400" y="1523880"/>
            <a:ext cx="235080" cy="603360"/>
          </a:xfrm>
          <a:custGeom>
            <a:avLst/>
            <a:gdLst>
              <a:gd name="textAreaLeft" fmla="*/ 30960 w 235080"/>
              <a:gd name="textAreaRight" fmla="*/ 204120 w 235080"/>
              <a:gd name="textAreaTop" fmla="*/ 79560 h 603360"/>
              <a:gd name="textAreaBottom" fmla="*/ 523800 h 60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5" y="21600"/>
                </a:lnTo>
                <a:lnTo>
                  <a:pt x="1975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任意多边形 25"/>
          <p:cNvSpPr/>
          <p:nvPr/>
        </p:nvSpPr>
        <p:spPr>
          <a:xfrm rot="17741400">
            <a:off x="2014920" y="1397520"/>
            <a:ext cx="257040" cy="233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椭圆 26"/>
          <p:cNvSpPr/>
          <p:nvPr/>
        </p:nvSpPr>
        <p:spPr>
          <a:xfrm>
            <a:off x="1359000" y="1038240"/>
            <a:ext cx="606240" cy="604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圆角矩形 27"/>
          <p:cNvSpPr/>
          <p:nvPr/>
        </p:nvSpPr>
        <p:spPr>
          <a:xfrm rot="7858800">
            <a:off x="1547280" y="1377720"/>
            <a:ext cx="530280" cy="2095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梯形 28"/>
          <p:cNvSpPr/>
          <p:nvPr/>
        </p:nvSpPr>
        <p:spPr>
          <a:xfrm>
            <a:off x="1015920" y="5143680"/>
            <a:ext cx="1668600" cy="403200"/>
          </a:xfrm>
          <a:custGeom>
            <a:avLst/>
            <a:gdLst>
              <a:gd name="textAreaLeft" fmla="*/ 394920 w 1668600"/>
              <a:gd name="textAreaRight" fmla="*/ 1273680 w 1668600"/>
              <a:gd name="textAreaTop" fmla="*/ 95400 h 403200"/>
              <a:gd name="textAreaBottom" fmla="*/ 30780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549" y="21600"/>
                </a:lnTo>
                <a:lnTo>
                  <a:pt x="6051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文本框 37"/>
          <p:cNvSpPr/>
          <p:nvPr/>
        </p:nvSpPr>
        <p:spPr>
          <a:xfrm>
            <a:off x="2839680" y="2395440"/>
            <a:ext cx="6215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你要快快的把船修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慢慢的去追求财权名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矩形 14"/>
          <p:cNvSpPr/>
          <p:nvPr/>
        </p:nvSpPr>
        <p:spPr>
          <a:xfrm>
            <a:off x="3378240" y="1241280"/>
            <a:ext cx="361800" cy="50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椭圆 39"/>
          <p:cNvSpPr/>
          <p:nvPr/>
        </p:nvSpPr>
        <p:spPr>
          <a:xfrm>
            <a:off x="3443400" y="771480"/>
            <a:ext cx="628560" cy="63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梯形 40"/>
          <p:cNvSpPr/>
          <p:nvPr/>
        </p:nvSpPr>
        <p:spPr>
          <a:xfrm>
            <a:off x="3433680" y="1523880"/>
            <a:ext cx="236520" cy="603360"/>
          </a:xfrm>
          <a:custGeom>
            <a:avLst/>
            <a:gdLst>
              <a:gd name="textAreaLeft" fmla="*/ 30960 w 236520"/>
              <a:gd name="textAreaRight" fmla="*/ 205560 w 236520"/>
              <a:gd name="textAreaTop" fmla="*/ 79560 h 603360"/>
              <a:gd name="textAreaBottom" fmla="*/ 523800 h 60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5" y="21600"/>
                </a:lnTo>
                <a:lnTo>
                  <a:pt x="1975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任意多边形 41"/>
          <p:cNvSpPr/>
          <p:nvPr/>
        </p:nvSpPr>
        <p:spPr>
          <a:xfrm rot="17741400">
            <a:off x="3609000" y="1397520"/>
            <a:ext cx="257040" cy="233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椭圆 42"/>
          <p:cNvSpPr/>
          <p:nvPr/>
        </p:nvSpPr>
        <p:spPr>
          <a:xfrm>
            <a:off x="2870280" y="955800"/>
            <a:ext cx="689040" cy="68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圆角矩形 43"/>
          <p:cNvSpPr/>
          <p:nvPr/>
        </p:nvSpPr>
        <p:spPr>
          <a:xfrm rot="7858800">
            <a:off x="3140640" y="1378440"/>
            <a:ext cx="530280" cy="2080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矩形 14"/>
          <p:cNvSpPr/>
          <p:nvPr/>
        </p:nvSpPr>
        <p:spPr>
          <a:xfrm>
            <a:off x="4913280" y="1241280"/>
            <a:ext cx="362160" cy="50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椭圆 45"/>
          <p:cNvSpPr/>
          <p:nvPr/>
        </p:nvSpPr>
        <p:spPr>
          <a:xfrm>
            <a:off x="4978440" y="771480"/>
            <a:ext cx="628560" cy="63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梯形 46"/>
          <p:cNvSpPr/>
          <p:nvPr/>
        </p:nvSpPr>
        <p:spPr>
          <a:xfrm>
            <a:off x="4968720" y="1523880"/>
            <a:ext cx="236520" cy="603360"/>
          </a:xfrm>
          <a:custGeom>
            <a:avLst/>
            <a:gdLst>
              <a:gd name="textAreaLeft" fmla="*/ 30960 w 236520"/>
              <a:gd name="textAreaRight" fmla="*/ 205560 w 236520"/>
              <a:gd name="textAreaTop" fmla="*/ 79560 h 603360"/>
              <a:gd name="textAreaBottom" fmla="*/ 523800 h 60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5" y="21600"/>
                </a:lnTo>
                <a:lnTo>
                  <a:pt x="1975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任意多边形 47"/>
          <p:cNvSpPr/>
          <p:nvPr/>
        </p:nvSpPr>
        <p:spPr>
          <a:xfrm rot="17741400">
            <a:off x="5144040" y="1397520"/>
            <a:ext cx="257040" cy="233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椭圆 48"/>
          <p:cNvSpPr/>
          <p:nvPr/>
        </p:nvSpPr>
        <p:spPr>
          <a:xfrm>
            <a:off x="4392720" y="942840"/>
            <a:ext cx="699840" cy="70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圆角矩形 49"/>
          <p:cNvSpPr/>
          <p:nvPr/>
        </p:nvSpPr>
        <p:spPr>
          <a:xfrm rot="7858800">
            <a:off x="4675680" y="1378440"/>
            <a:ext cx="530280" cy="2080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矩形 14"/>
          <p:cNvSpPr/>
          <p:nvPr/>
        </p:nvSpPr>
        <p:spPr>
          <a:xfrm>
            <a:off x="6396120" y="1241280"/>
            <a:ext cx="361800" cy="50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椭圆 51"/>
          <p:cNvSpPr/>
          <p:nvPr/>
        </p:nvSpPr>
        <p:spPr>
          <a:xfrm>
            <a:off x="6461280" y="771480"/>
            <a:ext cx="630000" cy="63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梯形 52"/>
          <p:cNvSpPr/>
          <p:nvPr/>
        </p:nvSpPr>
        <p:spPr>
          <a:xfrm>
            <a:off x="6453360" y="1523880"/>
            <a:ext cx="236520" cy="603360"/>
          </a:xfrm>
          <a:custGeom>
            <a:avLst/>
            <a:gdLst>
              <a:gd name="textAreaLeft" fmla="*/ 30960 w 236520"/>
              <a:gd name="textAreaRight" fmla="*/ 205560 w 236520"/>
              <a:gd name="textAreaTop" fmla="*/ 79560 h 603360"/>
              <a:gd name="textAreaBottom" fmla="*/ 523800 h 60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5" y="21600"/>
                </a:lnTo>
                <a:lnTo>
                  <a:pt x="1975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任意多边形 53"/>
          <p:cNvSpPr/>
          <p:nvPr/>
        </p:nvSpPr>
        <p:spPr>
          <a:xfrm rot="17741400">
            <a:off x="6626880" y="1397520"/>
            <a:ext cx="257040" cy="233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椭圆 54"/>
          <p:cNvSpPr/>
          <p:nvPr/>
        </p:nvSpPr>
        <p:spPr>
          <a:xfrm>
            <a:off x="5823000" y="890640"/>
            <a:ext cx="752400" cy="752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圆角矩形 55"/>
          <p:cNvSpPr/>
          <p:nvPr/>
        </p:nvSpPr>
        <p:spPr>
          <a:xfrm rot="7858800">
            <a:off x="6158520" y="1378440"/>
            <a:ext cx="530280" cy="2080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矩形 14"/>
          <p:cNvSpPr/>
          <p:nvPr/>
        </p:nvSpPr>
        <p:spPr>
          <a:xfrm>
            <a:off x="8085240" y="1241280"/>
            <a:ext cx="361800" cy="50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椭圆 57"/>
          <p:cNvSpPr/>
          <p:nvPr/>
        </p:nvSpPr>
        <p:spPr>
          <a:xfrm>
            <a:off x="8150400" y="771480"/>
            <a:ext cx="630000" cy="63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梯形 58"/>
          <p:cNvSpPr/>
          <p:nvPr/>
        </p:nvSpPr>
        <p:spPr>
          <a:xfrm>
            <a:off x="8142120" y="1523880"/>
            <a:ext cx="236880" cy="603360"/>
          </a:xfrm>
          <a:custGeom>
            <a:avLst/>
            <a:gdLst>
              <a:gd name="textAreaLeft" fmla="*/ 30960 w 236880"/>
              <a:gd name="textAreaRight" fmla="*/ 205920 w 236880"/>
              <a:gd name="textAreaTop" fmla="*/ 79560 h 603360"/>
              <a:gd name="textAreaBottom" fmla="*/ 523800 h 60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5" y="21600"/>
                </a:lnTo>
                <a:lnTo>
                  <a:pt x="1975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任意多边形 59"/>
          <p:cNvSpPr/>
          <p:nvPr/>
        </p:nvSpPr>
        <p:spPr>
          <a:xfrm rot="17741400">
            <a:off x="8316000" y="1397520"/>
            <a:ext cx="257040" cy="233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椭圆 60"/>
          <p:cNvSpPr/>
          <p:nvPr/>
        </p:nvSpPr>
        <p:spPr>
          <a:xfrm>
            <a:off x="7432560" y="811080"/>
            <a:ext cx="833400" cy="831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圆角矩形 61"/>
          <p:cNvSpPr/>
          <p:nvPr/>
        </p:nvSpPr>
        <p:spPr>
          <a:xfrm rot="7858800">
            <a:off x="7847640" y="1378440"/>
            <a:ext cx="530280" cy="2080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矩形 14"/>
          <p:cNvSpPr/>
          <p:nvPr/>
        </p:nvSpPr>
        <p:spPr>
          <a:xfrm>
            <a:off x="9902880" y="1251000"/>
            <a:ext cx="361800" cy="509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椭圆 63"/>
          <p:cNvSpPr/>
          <p:nvPr/>
        </p:nvSpPr>
        <p:spPr>
          <a:xfrm>
            <a:off x="9969480" y="782640"/>
            <a:ext cx="628560" cy="628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梯形 64"/>
          <p:cNvSpPr/>
          <p:nvPr/>
        </p:nvSpPr>
        <p:spPr>
          <a:xfrm>
            <a:off x="9960120" y="1535040"/>
            <a:ext cx="236520" cy="601560"/>
          </a:xfrm>
          <a:custGeom>
            <a:avLst/>
            <a:gdLst>
              <a:gd name="textAreaLeft" fmla="*/ 30960 w 236520"/>
              <a:gd name="textAreaRight" fmla="*/ 205560 w 236520"/>
              <a:gd name="textAreaTop" fmla="*/ 79200 h 601560"/>
              <a:gd name="textAreaBottom" fmla="*/ 522360 h 6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5" y="21600"/>
                </a:lnTo>
                <a:lnTo>
                  <a:pt x="1975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任意多边形 65"/>
          <p:cNvSpPr/>
          <p:nvPr/>
        </p:nvSpPr>
        <p:spPr>
          <a:xfrm rot="17741400">
            <a:off x="10135080" y="1406880"/>
            <a:ext cx="257400" cy="233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椭圆 66"/>
          <p:cNvSpPr/>
          <p:nvPr/>
        </p:nvSpPr>
        <p:spPr>
          <a:xfrm>
            <a:off x="9067680" y="690480"/>
            <a:ext cx="962280" cy="963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圆角矩形 67"/>
          <p:cNvSpPr/>
          <p:nvPr/>
        </p:nvSpPr>
        <p:spPr>
          <a:xfrm rot="7858800">
            <a:off x="9666360" y="1388160"/>
            <a:ext cx="530280" cy="2077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梯形 68"/>
          <p:cNvSpPr/>
          <p:nvPr/>
        </p:nvSpPr>
        <p:spPr>
          <a:xfrm>
            <a:off x="2719440" y="5122800"/>
            <a:ext cx="2921040" cy="708120"/>
          </a:xfrm>
          <a:custGeom>
            <a:avLst/>
            <a:gdLst>
              <a:gd name="textAreaLeft" fmla="*/ 691560 w 2921040"/>
              <a:gd name="textAreaRight" fmla="*/ 2229480 w 2921040"/>
              <a:gd name="textAreaTop" fmla="*/ 167400 h 708120"/>
              <a:gd name="textAreaBottom" fmla="*/ 540720 h 7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546" y="21600"/>
                </a:lnTo>
                <a:lnTo>
                  <a:pt x="6054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梯形 69"/>
          <p:cNvSpPr/>
          <p:nvPr/>
        </p:nvSpPr>
        <p:spPr>
          <a:xfrm>
            <a:off x="6019920" y="5105520"/>
            <a:ext cx="4910040" cy="1189080"/>
          </a:xfrm>
          <a:custGeom>
            <a:avLst/>
            <a:gdLst>
              <a:gd name="textAreaLeft" fmla="*/ 1162080 w 4910040"/>
              <a:gd name="textAreaRight" fmla="*/ 3747960 w 4910040"/>
              <a:gd name="textAreaTop" fmla="*/ 281520 h 1189080"/>
              <a:gd name="textAreaBottom" fmla="*/ 907560 h 11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547" y="21600"/>
                </a:lnTo>
                <a:lnTo>
                  <a:pt x="6053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矩形 1"/>
          <p:cNvSpPr/>
          <p:nvPr/>
        </p:nvSpPr>
        <p:spPr>
          <a:xfrm>
            <a:off x="961920" y="2139840"/>
            <a:ext cx="9931680" cy="17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矩形 71"/>
          <p:cNvSpPr/>
          <p:nvPr/>
        </p:nvSpPr>
        <p:spPr>
          <a:xfrm>
            <a:off x="982800" y="5025960"/>
            <a:ext cx="99295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等腰三角形 3"/>
          <p:cNvSpPr/>
          <p:nvPr/>
        </p:nvSpPr>
        <p:spPr>
          <a:xfrm flipV="1">
            <a:off x="5786280" y="1723680"/>
            <a:ext cx="5810400" cy="2628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矩形 4"/>
          <p:cNvSpPr/>
          <p:nvPr/>
        </p:nvSpPr>
        <p:spPr>
          <a:xfrm>
            <a:off x="8205840" y="3895560"/>
            <a:ext cx="971640" cy="223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椭圆 5"/>
          <p:cNvSpPr/>
          <p:nvPr/>
        </p:nvSpPr>
        <p:spPr>
          <a:xfrm>
            <a:off x="5786280" y="1457280"/>
            <a:ext cx="5810400" cy="4953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文本框 6"/>
          <p:cNvSpPr/>
          <p:nvPr/>
        </p:nvSpPr>
        <p:spPr>
          <a:xfrm rot="21072000">
            <a:off x="6274080" y="802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文本框 7"/>
          <p:cNvSpPr/>
          <p:nvPr/>
        </p:nvSpPr>
        <p:spPr>
          <a:xfrm rot="2451600">
            <a:off x="7011000" y="1026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文本框 8"/>
          <p:cNvSpPr/>
          <p:nvPr/>
        </p:nvSpPr>
        <p:spPr>
          <a:xfrm rot="19931400">
            <a:off x="7629120" y="791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文本框 9"/>
          <p:cNvSpPr/>
          <p:nvPr/>
        </p:nvSpPr>
        <p:spPr>
          <a:xfrm rot="1187400">
            <a:off x="7173720" y="437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文本框 10"/>
          <p:cNvSpPr/>
          <p:nvPr/>
        </p:nvSpPr>
        <p:spPr>
          <a:xfrm rot="4201200">
            <a:off x="8242920" y="414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文本框 11"/>
          <p:cNvSpPr/>
          <p:nvPr/>
        </p:nvSpPr>
        <p:spPr>
          <a:xfrm rot="1187400">
            <a:off x="8552880" y="11840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文本框 12"/>
          <p:cNvSpPr/>
          <p:nvPr/>
        </p:nvSpPr>
        <p:spPr>
          <a:xfrm rot="20838000">
            <a:off x="9109440" y="571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文本框 13"/>
          <p:cNvSpPr/>
          <p:nvPr/>
        </p:nvSpPr>
        <p:spPr>
          <a:xfrm rot="1187400">
            <a:off x="9057600" y="1081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文本框 14"/>
          <p:cNvSpPr/>
          <p:nvPr/>
        </p:nvSpPr>
        <p:spPr>
          <a:xfrm rot="7030200">
            <a:off x="9830160" y="9763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文本框 15"/>
          <p:cNvSpPr/>
          <p:nvPr/>
        </p:nvSpPr>
        <p:spPr>
          <a:xfrm rot="20232000">
            <a:off x="9768960" y="691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文本框 16"/>
          <p:cNvSpPr/>
          <p:nvPr/>
        </p:nvSpPr>
        <p:spPr>
          <a:xfrm rot="20358000">
            <a:off x="10278360" y="361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文本框 17"/>
          <p:cNvSpPr/>
          <p:nvPr/>
        </p:nvSpPr>
        <p:spPr>
          <a:xfrm rot="15607200">
            <a:off x="10722240" y="1204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文本框 18"/>
          <p:cNvSpPr/>
          <p:nvPr/>
        </p:nvSpPr>
        <p:spPr>
          <a:xfrm rot="1187400">
            <a:off x="5843520" y="677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文本框 19"/>
          <p:cNvSpPr/>
          <p:nvPr/>
        </p:nvSpPr>
        <p:spPr>
          <a:xfrm rot="1794600">
            <a:off x="8429760" y="4032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文本框 20"/>
          <p:cNvSpPr/>
          <p:nvPr/>
        </p:nvSpPr>
        <p:spPr>
          <a:xfrm rot="19996200">
            <a:off x="8516160" y="4597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文本框 37"/>
          <p:cNvSpPr/>
          <p:nvPr/>
        </p:nvSpPr>
        <p:spPr>
          <a:xfrm rot="873000">
            <a:off x="8463600" y="5286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文本框 38"/>
          <p:cNvSpPr/>
          <p:nvPr/>
        </p:nvSpPr>
        <p:spPr>
          <a:xfrm>
            <a:off x="1572120" y="2216160"/>
            <a:ext cx="34725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就如同一个漏斗一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德要快快的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福要慢慢的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3" name="组合 3"/>
          <p:cNvGrpSpPr/>
          <p:nvPr/>
        </p:nvGrpSpPr>
        <p:grpSpPr>
          <a:xfrm>
            <a:off x="7531200" y="3346560"/>
            <a:ext cx="2992320" cy="2244600"/>
            <a:chOff x="7531200" y="3346560"/>
            <a:chExt cx="2992320" cy="2244600"/>
          </a:xfrm>
        </p:grpSpPr>
        <p:sp>
          <p:nvSpPr>
            <p:cNvPr id="1274" name="矩形 14"/>
            <p:cNvSpPr/>
            <p:nvPr/>
          </p:nvSpPr>
          <p:spPr>
            <a:xfrm rot="4540200">
              <a:off x="8791920" y="4133520"/>
              <a:ext cx="334440" cy="51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椭圆 5"/>
            <p:cNvSpPr/>
            <p:nvPr/>
          </p:nvSpPr>
          <p:spPr>
            <a:xfrm>
              <a:off x="9129600" y="4008960"/>
              <a:ext cx="629280" cy="62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梯形 6"/>
            <p:cNvSpPr/>
            <p:nvPr/>
          </p:nvSpPr>
          <p:spPr>
            <a:xfrm>
              <a:off x="8767440" y="4518360"/>
              <a:ext cx="235800" cy="601920"/>
            </a:xfrm>
            <a:custGeom>
              <a:avLst/>
              <a:gdLst>
                <a:gd name="textAreaLeft" fmla="*/ 30960 w 235800"/>
                <a:gd name="textAreaRight" fmla="*/ 204840 w 235800"/>
                <a:gd name="textAreaTop" fmla="*/ 79200 h 601920"/>
                <a:gd name="textAreaBottom" fmla="*/ 522720 h 60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25" y="21600"/>
                  </a:lnTo>
                  <a:lnTo>
                    <a:pt x="1975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椭圆 7"/>
            <p:cNvSpPr/>
            <p:nvPr/>
          </p:nvSpPr>
          <p:spPr>
            <a:xfrm>
              <a:off x="8368200" y="3346560"/>
              <a:ext cx="950400" cy="949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圆角矩形 8"/>
            <p:cNvSpPr/>
            <p:nvPr/>
          </p:nvSpPr>
          <p:spPr>
            <a:xfrm rot="3217800">
              <a:off x="8655480" y="4184280"/>
              <a:ext cx="530640" cy="2350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任意多边形 9"/>
            <p:cNvSpPr/>
            <p:nvPr/>
          </p:nvSpPr>
          <p:spPr>
            <a:xfrm rot="18865200">
              <a:off x="9020160" y="4466520"/>
              <a:ext cx="2840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梯形 10"/>
            <p:cNvSpPr/>
            <p:nvPr/>
          </p:nvSpPr>
          <p:spPr>
            <a:xfrm>
              <a:off x="7531200" y="4867200"/>
              <a:ext cx="2992320" cy="723960"/>
            </a:xfrm>
            <a:custGeom>
              <a:avLst/>
              <a:gdLst>
                <a:gd name="textAreaLeft" fmla="*/ 708120 w 2992320"/>
                <a:gd name="textAreaRight" fmla="*/ 2284200 w 2992320"/>
                <a:gd name="textAreaTop" fmla="*/ 171360 h 723960"/>
                <a:gd name="textAreaBottom" fmla="*/ 552600 h 7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547" y="21600"/>
                  </a:lnTo>
                  <a:lnTo>
                    <a:pt x="6053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1" name="组合 11"/>
          <p:cNvGrpSpPr/>
          <p:nvPr/>
        </p:nvGrpSpPr>
        <p:grpSpPr>
          <a:xfrm>
            <a:off x="5372280" y="3862440"/>
            <a:ext cx="2089080" cy="1830240"/>
            <a:chOff x="5372280" y="3862440"/>
            <a:chExt cx="2089080" cy="1830240"/>
          </a:xfrm>
        </p:grpSpPr>
        <p:sp>
          <p:nvSpPr>
            <p:cNvPr id="1282" name="矩形 14"/>
            <p:cNvSpPr/>
            <p:nvPr/>
          </p:nvSpPr>
          <p:spPr>
            <a:xfrm rot="3022200">
              <a:off x="6270120" y="4529880"/>
              <a:ext cx="334800" cy="51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椭圆 13"/>
            <p:cNvSpPr/>
            <p:nvPr/>
          </p:nvSpPr>
          <p:spPr>
            <a:xfrm>
              <a:off x="6531120" y="4300560"/>
              <a:ext cx="628920" cy="62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梯形 14"/>
            <p:cNvSpPr/>
            <p:nvPr/>
          </p:nvSpPr>
          <p:spPr>
            <a:xfrm>
              <a:off x="6269040" y="4944960"/>
              <a:ext cx="235800" cy="602280"/>
            </a:xfrm>
            <a:custGeom>
              <a:avLst/>
              <a:gdLst>
                <a:gd name="textAreaLeft" fmla="*/ 30960 w 235800"/>
                <a:gd name="textAreaRight" fmla="*/ 204840 w 235800"/>
                <a:gd name="textAreaTop" fmla="*/ 79200 h 602280"/>
                <a:gd name="textAreaBottom" fmla="*/ 523080 h 60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25" y="21600"/>
                  </a:lnTo>
                  <a:lnTo>
                    <a:pt x="1975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椭圆 15"/>
            <p:cNvSpPr/>
            <p:nvPr/>
          </p:nvSpPr>
          <p:spPr>
            <a:xfrm>
              <a:off x="5710320" y="3862440"/>
              <a:ext cx="895680" cy="896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圆角矩形 16"/>
            <p:cNvSpPr/>
            <p:nvPr/>
          </p:nvSpPr>
          <p:spPr>
            <a:xfrm rot="1786200">
              <a:off x="6036480" y="4603320"/>
              <a:ext cx="531000" cy="2350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任意多边形 17"/>
            <p:cNvSpPr/>
            <p:nvPr/>
          </p:nvSpPr>
          <p:spPr>
            <a:xfrm rot="18865200">
              <a:off x="6472080" y="4762800"/>
              <a:ext cx="2840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梯形 18"/>
            <p:cNvSpPr/>
            <p:nvPr/>
          </p:nvSpPr>
          <p:spPr>
            <a:xfrm>
              <a:off x="5372280" y="5186880"/>
              <a:ext cx="2089080" cy="505800"/>
            </a:xfrm>
            <a:custGeom>
              <a:avLst/>
              <a:gdLst>
                <a:gd name="textAreaLeft" fmla="*/ 494280 w 2089080"/>
                <a:gd name="textAreaRight" fmla="*/ 1594800 w 2089080"/>
                <a:gd name="textAreaTop" fmla="*/ 119520 h 505800"/>
                <a:gd name="textAreaBottom" fmla="*/ 386280 h 50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547" y="21600"/>
                  </a:lnTo>
                  <a:lnTo>
                    <a:pt x="6053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组合 19"/>
          <p:cNvGrpSpPr/>
          <p:nvPr/>
        </p:nvGrpSpPr>
        <p:grpSpPr>
          <a:xfrm>
            <a:off x="3289320" y="4008600"/>
            <a:ext cx="1917720" cy="1560240"/>
            <a:chOff x="3289320" y="4008600"/>
            <a:chExt cx="1917720" cy="1560240"/>
          </a:xfrm>
        </p:grpSpPr>
        <p:sp>
          <p:nvSpPr>
            <p:cNvPr id="1290" name="矩形 14"/>
            <p:cNvSpPr/>
            <p:nvPr/>
          </p:nvSpPr>
          <p:spPr>
            <a:xfrm rot="2115600">
              <a:off x="4111200" y="4515120"/>
              <a:ext cx="33480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梯形 21"/>
            <p:cNvSpPr/>
            <p:nvPr/>
          </p:nvSpPr>
          <p:spPr>
            <a:xfrm>
              <a:off x="4085640" y="4906440"/>
              <a:ext cx="235800" cy="602280"/>
            </a:xfrm>
            <a:custGeom>
              <a:avLst/>
              <a:gdLst>
                <a:gd name="textAreaLeft" fmla="*/ 30960 w 235800"/>
                <a:gd name="textAreaRight" fmla="*/ 204840 w 235800"/>
                <a:gd name="textAreaTop" fmla="*/ 79200 h 602280"/>
                <a:gd name="textAreaBottom" fmla="*/ 523080 h 60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25" y="21600"/>
                  </a:lnTo>
                  <a:lnTo>
                    <a:pt x="1975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椭圆 22"/>
            <p:cNvSpPr/>
            <p:nvPr/>
          </p:nvSpPr>
          <p:spPr>
            <a:xfrm>
              <a:off x="3562560" y="4008600"/>
              <a:ext cx="797400" cy="797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圆角矩形 23"/>
            <p:cNvSpPr/>
            <p:nvPr/>
          </p:nvSpPr>
          <p:spPr>
            <a:xfrm rot="919800">
              <a:off x="3853440" y="4564800"/>
              <a:ext cx="531000" cy="2350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任意多边形 24"/>
            <p:cNvSpPr/>
            <p:nvPr/>
          </p:nvSpPr>
          <p:spPr>
            <a:xfrm rot="18865200">
              <a:off x="4343040" y="4725720"/>
              <a:ext cx="2840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椭圆 25"/>
            <p:cNvSpPr/>
            <p:nvPr/>
          </p:nvSpPr>
          <p:spPr>
            <a:xfrm>
              <a:off x="4325400" y="4143600"/>
              <a:ext cx="628920" cy="62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梯形 26"/>
            <p:cNvSpPr/>
            <p:nvPr/>
          </p:nvSpPr>
          <p:spPr>
            <a:xfrm>
              <a:off x="3289320" y="5104440"/>
              <a:ext cx="1917720" cy="464400"/>
            </a:xfrm>
            <a:custGeom>
              <a:avLst/>
              <a:gdLst>
                <a:gd name="textAreaLeft" fmla="*/ 453960 w 1917720"/>
                <a:gd name="textAreaRight" fmla="*/ 1463760 w 1917720"/>
                <a:gd name="textAreaTop" fmla="*/ 109800 h 464400"/>
                <a:gd name="textAreaBottom" fmla="*/ 354600 h 46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547" y="21600"/>
                  </a:lnTo>
                  <a:lnTo>
                    <a:pt x="6053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组合 27"/>
          <p:cNvGrpSpPr/>
          <p:nvPr/>
        </p:nvGrpSpPr>
        <p:grpSpPr>
          <a:xfrm>
            <a:off x="1363680" y="3990960"/>
            <a:ext cx="1668600" cy="1486080"/>
            <a:chOff x="1363680" y="3990960"/>
            <a:chExt cx="1668600" cy="1486080"/>
          </a:xfrm>
        </p:grpSpPr>
        <p:sp>
          <p:nvSpPr>
            <p:cNvPr id="1298" name="矩形 14"/>
            <p:cNvSpPr/>
            <p:nvPr/>
          </p:nvSpPr>
          <p:spPr>
            <a:xfrm rot="795600">
              <a:off x="2049840" y="4394160"/>
              <a:ext cx="334800" cy="51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椭圆 29"/>
            <p:cNvSpPr/>
            <p:nvPr/>
          </p:nvSpPr>
          <p:spPr>
            <a:xfrm>
              <a:off x="2194920" y="3990960"/>
              <a:ext cx="629280" cy="629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梯形 30"/>
            <p:cNvSpPr/>
            <p:nvPr/>
          </p:nvSpPr>
          <p:spPr>
            <a:xfrm>
              <a:off x="2048760" y="4809960"/>
              <a:ext cx="235800" cy="602640"/>
            </a:xfrm>
            <a:custGeom>
              <a:avLst/>
              <a:gdLst>
                <a:gd name="textAreaLeft" fmla="*/ 30960 w 235800"/>
                <a:gd name="textAreaRight" fmla="*/ 204840 w 235800"/>
                <a:gd name="textAreaTop" fmla="*/ 79200 h 602640"/>
                <a:gd name="textAreaBottom" fmla="*/ 523440 h 60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25" y="21600"/>
                  </a:lnTo>
                  <a:lnTo>
                    <a:pt x="1975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椭圆 31"/>
            <p:cNvSpPr/>
            <p:nvPr/>
          </p:nvSpPr>
          <p:spPr>
            <a:xfrm>
              <a:off x="1603800" y="4079880"/>
              <a:ext cx="605160" cy="605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圆角矩形 32"/>
            <p:cNvSpPr/>
            <p:nvPr/>
          </p:nvSpPr>
          <p:spPr>
            <a:xfrm rot="20929200">
              <a:off x="1816560" y="4467240"/>
              <a:ext cx="531000" cy="23544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任意多边形 33"/>
            <p:cNvSpPr/>
            <p:nvPr/>
          </p:nvSpPr>
          <p:spPr>
            <a:xfrm rot="18865200">
              <a:off x="2260440" y="4605120"/>
              <a:ext cx="284400" cy="29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梯形 34"/>
            <p:cNvSpPr/>
            <p:nvPr/>
          </p:nvSpPr>
          <p:spPr>
            <a:xfrm>
              <a:off x="1363680" y="5072760"/>
              <a:ext cx="1668600" cy="404280"/>
            </a:xfrm>
            <a:custGeom>
              <a:avLst/>
              <a:gdLst>
                <a:gd name="textAreaLeft" fmla="*/ 394920 w 1668600"/>
                <a:gd name="textAreaRight" fmla="*/ 1273680 w 1668600"/>
                <a:gd name="textAreaTop" fmla="*/ 95760 h 404280"/>
                <a:gd name="textAreaBottom" fmla="*/ 308520 h 40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547" y="21600"/>
                  </a:lnTo>
                  <a:lnTo>
                    <a:pt x="6053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矩形 35"/>
          <p:cNvSpPr/>
          <p:nvPr/>
        </p:nvSpPr>
        <p:spPr>
          <a:xfrm>
            <a:off x="0" y="5064120"/>
            <a:ext cx="1406520" cy="179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矩形 36"/>
          <p:cNvSpPr/>
          <p:nvPr/>
        </p:nvSpPr>
        <p:spPr>
          <a:xfrm>
            <a:off x="10785600" y="5064120"/>
            <a:ext cx="1406520" cy="179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椭圆 37"/>
          <p:cNvSpPr/>
          <p:nvPr/>
        </p:nvSpPr>
        <p:spPr>
          <a:xfrm>
            <a:off x="1081080" y="5427720"/>
            <a:ext cx="1922400" cy="1922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椭圆 38"/>
          <p:cNvSpPr/>
          <p:nvPr/>
        </p:nvSpPr>
        <p:spPr>
          <a:xfrm>
            <a:off x="2043000" y="5286240"/>
            <a:ext cx="1922400" cy="1924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椭圆 39"/>
          <p:cNvSpPr/>
          <p:nvPr/>
        </p:nvSpPr>
        <p:spPr>
          <a:xfrm>
            <a:off x="2951280" y="5627520"/>
            <a:ext cx="1922400" cy="1922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椭圆 40"/>
          <p:cNvSpPr/>
          <p:nvPr/>
        </p:nvSpPr>
        <p:spPr>
          <a:xfrm>
            <a:off x="3927600" y="5486400"/>
            <a:ext cx="1922400" cy="1922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椭圆 41"/>
          <p:cNvSpPr/>
          <p:nvPr/>
        </p:nvSpPr>
        <p:spPr>
          <a:xfrm>
            <a:off x="4578480" y="5591160"/>
            <a:ext cx="2830320" cy="1924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椭圆 42"/>
          <p:cNvSpPr/>
          <p:nvPr/>
        </p:nvSpPr>
        <p:spPr>
          <a:xfrm>
            <a:off x="6342120" y="5627520"/>
            <a:ext cx="1922400" cy="1922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椭圆 43"/>
          <p:cNvSpPr/>
          <p:nvPr/>
        </p:nvSpPr>
        <p:spPr>
          <a:xfrm>
            <a:off x="7318440" y="5486400"/>
            <a:ext cx="1922400" cy="1606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椭圆 44"/>
          <p:cNvSpPr/>
          <p:nvPr/>
        </p:nvSpPr>
        <p:spPr>
          <a:xfrm>
            <a:off x="8385120" y="5591160"/>
            <a:ext cx="2774880" cy="1924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椭圆 45"/>
          <p:cNvSpPr/>
          <p:nvPr/>
        </p:nvSpPr>
        <p:spPr>
          <a:xfrm>
            <a:off x="9823320" y="5438880"/>
            <a:ext cx="1924200" cy="1923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圆角矩形 46"/>
          <p:cNvSpPr/>
          <p:nvPr/>
        </p:nvSpPr>
        <p:spPr>
          <a:xfrm rot="19232400">
            <a:off x="10674360" y="3974760"/>
            <a:ext cx="104760" cy="520560"/>
          </a:xfrm>
          <a:custGeom>
            <a:avLst/>
            <a:gdLst>
              <a:gd name="textAreaLeft" fmla="*/ 15120 w 104760"/>
              <a:gd name="textAreaRight" fmla="*/ 89640 w 104760"/>
              <a:gd name="textAreaTop" fmla="*/ 15120 h 520560"/>
              <a:gd name="textAreaBottom" fmla="*/ 505440 h 520560"/>
            </a:gdLst>
            <a:ahLst/>
            <a:rect l="textAreaLeft" t="textAreaTop" r="textAreaRight" b="textAreaBottom"/>
            <a:pathLst>
              <a:path w="21600" h="107038">
                <a:moveTo>
                  <a:pt x="10800" y="0"/>
                </a:moveTo>
                <a:arcTo wR="10800" hR="10800" stAng="16200000" swAng="-5400000"/>
                <a:lnTo>
                  <a:pt x="0" y="96238"/>
                </a:lnTo>
                <a:arcTo wR="10800" hR="10800" stAng="10800000" swAng="-5400000"/>
                <a:lnTo>
                  <a:pt x="10800" y="1070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矩形 14"/>
          <p:cNvSpPr/>
          <p:nvPr/>
        </p:nvSpPr>
        <p:spPr>
          <a:xfrm>
            <a:off x="10826640" y="4184640"/>
            <a:ext cx="411120" cy="50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椭圆 48"/>
          <p:cNvSpPr/>
          <p:nvPr/>
        </p:nvSpPr>
        <p:spPr>
          <a:xfrm>
            <a:off x="10686960" y="3686040"/>
            <a:ext cx="628920" cy="63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梯形 49"/>
          <p:cNvSpPr/>
          <p:nvPr/>
        </p:nvSpPr>
        <p:spPr>
          <a:xfrm>
            <a:off x="10882440" y="4468680"/>
            <a:ext cx="236520" cy="601920"/>
          </a:xfrm>
          <a:custGeom>
            <a:avLst/>
            <a:gdLst>
              <a:gd name="textAreaLeft" fmla="*/ 30960 w 236520"/>
              <a:gd name="textAreaRight" fmla="*/ 205560 w 236520"/>
              <a:gd name="textAreaTop" fmla="*/ 79200 h 601920"/>
              <a:gd name="textAreaBottom" fmla="*/ 522720 h 6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5" y="21600"/>
                </a:lnTo>
                <a:lnTo>
                  <a:pt x="1975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任意多边形 50"/>
          <p:cNvSpPr/>
          <p:nvPr/>
        </p:nvSpPr>
        <p:spPr>
          <a:xfrm rot="18642600">
            <a:off x="10897560" y="4321440"/>
            <a:ext cx="25740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椭圆 51"/>
          <p:cNvSpPr/>
          <p:nvPr/>
        </p:nvSpPr>
        <p:spPr>
          <a:xfrm>
            <a:off x="11207880" y="4102200"/>
            <a:ext cx="990360" cy="990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矩形 52"/>
          <p:cNvSpPr/>
          <p:nvPr/>
        </p:nvSpPr>
        <p:spPr>
          <a:xfrm>
            <a:off x="9953640" y="3094200"/>
            <a:ext cx="2174760" cy="76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圆角矩形 53"/>
          <p:cNvSpPr/>
          <p:nvPr/>
        </p:nvSpPr>
        <p:spPr>
          <a:xfrm rot="2314800">
            <a:off x="11231640" y="3962160"/>
            <a:ext cx="104760" cy="520560"/>
          </a:xfrm>
          <a:custGeom>
            <a:avLst/>
            <a:gdLst>
              <a:gd name="textAreaLeft" fmla="*/ 15120 w 104760"/>
              <a:gd name="textAreaRight" fmla="*/ 89640 w 104760"/>
              <a:gd name="textAreaTop" fmla="*/ 15120 h 520560"/>
              <a:gd name="textAreaBottom" fmla="*/ 505440 h 520560"/>
            </a:gdLst>
            <a:ahLst/>
            <a:rect l="textAreaLeft" t="textAreaTop" r="textAreaRight" b="textAreaBottom"/>
            <a:pathLst>
              <a:path w="21600" h="107038">
                <a:moveTo>
                  <a:pt x="10800" y="0"/>
                </a:moveTo>
                <a:arcTo wR="10800" hR="10800" stAng="16200000" swAng="-5400000"/>
                <a:lnTo>
                  <a:pt x="0" y="96238"/>
                </a:lnTo>
                <a:arcTo wR="10800" hR="10800" stAng="10800000" swAng="-5400000"/>
                <a:lnTo>
                  <a:pt x="10800" y="1070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圆角矩形 54"/>
          <p:cNvSpPr/>
          <p:nvPr/>
        </p:nvSpPr>
        <p:spPr>
          <a:xfrm rot="21406800">
            <a:off x="10528200" y="3596760"/>
            <a:ext cx="104760" cy="522360"/>
          </a:xfrm>
          <a:custGeom>
            <a:avLst/>
            <a:gdLst>
              <a:gd name="textAreaLeft" fmla="*/ 15120 w 104760"/>
              <a:gd name="textAreaRight" fmla="*/ 89640 w 104760"/>
              <a:gd name="textAreaTop" fmla="*/ 15120 h 522360"/>
              <a:gd name="textAreaBottom" fmla="*/ 507240 h 522360"/>
            </a:gdLst>
            <a:ahLst/>
            <a:rect l="textAreaLeft" t="textAreaTop" r="textAreaRight" b="textAreaBottom"/>
            <a:pathLst>
              <a:path w="21600" h="107408">
                <a:moveTo>
                  <a:pt x="10800" y="0"/>
                </a:moveTo>
                <a:arcTo wR="10800" hR="10800" stAng="16200000" swAng="-5400000"/>
                <a:lnTo>
                  <a:pt x="0" y="96608"/>
                </a:lnTo>
                <a:arcTo wR="10800" hR="10800" stAng="10800000" swAng="-5400000"/>
                <a:lnTo>
                  <a:pt x="10800" y="10740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圆角矩形 55"/>
          <p:cNvSpPr/>
          <p:nvPr/>
        </p:nvSpPr>
        <p:spPr>
          <a:xfrm rot="21406800">
            <a:off x="11349000" y="3576240"/>
            <a:ext cx="104760" cy="522360"/>
          </a:xfrm>
          <a:custGeom>
            <a:avLst/>
            <a:gdLst>
              <a:gd name="textAreaLeft" fmla="*/ 15120 w 104760"/>
              <a:gd name="textAreaRight" fmla="*/ 89640 w 104760"/>
              <a:gd name="textAreaTop" fmla="*/ 15120 h 522360"/>
              <a:gd name="textAreaBottom" fmla="*/ 507240 h 522360"/>
            </a:gdLst>
            <a:ahLst/>
            <a:rect l="textAreaLeft" t="textAreaTop" r="textAreaRight" b="textAreaBottom"/>
            <a:pathLst>
              <a:path w="21600" h="107408">
                <a:moveTo>
                  <a:pt x="10800" y="0"/>
                </a:moveTo>
                <a:arcTo wR="10800" hR="10800" stAng="16200000" swAng="-5400000"/>
                <a:lnTo>
                  <a:pt x="0" y="96608"/>
                </a:lnTo>
                <a:arcTo wR="10800" hR="10800" stAng="10800000" swAng="-5400000"/>
                <a:lnTo>
                  <a:pt x="10800" y="10740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文本框 56"/>
          <p:cNvSpPr/>
          <p:nvPr/>
        </p:nvSpPr>
        <p:spPr>
          <a:xfrm>
            <a:off x="10387800" y="314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顺利过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文本框 57"/>
          <p:cNvSpPr/>
          <p:nvPr/>
        </p:nvSpPr>
        <p:spPr>
          <a:xfrm>
            <a:off x="2284560" y="728640"/>
            <a:ext cx="7826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你就</a:t>
            </a:r>
            <a:r>
              <a:rPr b="0" lang="zh-CN" sz="66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可能</a:t>
            </a:r>
            <a:r>
              <a:rPr b="0" lang="zh-CN" sz="66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会比别人更顺利的度过你的一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矩形 14"/>
          <p:cNvSpPr/>
          <p:nvPr/>
        </p:nvSpPr>
        <p:spPr>
          <a:xfrm>
            <a:off x="701640" y="4341960"/>
            <a:ext cx="362160" cy="509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椭圆 59"/>
          <p:cNvSpPr/>
          <p:nvPr/>
        </p:nvSpPr>
        <p:spPr>
          <a:xfrm>
            <a:off x="766800" y="3873600"/>
            <a:ext cx="630360" cy="628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梯形 60"/>
          <p:cNvSpPr/>
          <p:nvPr/>
        </p:nvSpPr>
        <p:spPr>
          <a:xfrm>
            <a:off x="757080" y="4626000"/>
            <a:ext cx="236520" cy="603360"/>
          </a:xfrm>
          <a:custGeom>
            <a:avLst/>
            <a:gdLst>
              <a:gd name="textAreaLeft" fmla="*/ 30960 w 236520"/>
              <a:gd name="textAreaRight" fmla="*/ 205560 w 236520"/>
              <a:gd name="textAreaTop" fmla="*/ 79560 h 603360"/>
              <a:gd name="textAreaBottom" fmla="*/ 523800 h 60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5" y="21600"/>
                </a:lnTo>
                <a:lnTo>
                  <a:pt x="1975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任意多边形 61"/>
          <p:cNvSpPr/>
          <p:nvPr/>
        </p:nvSpPr>
        <p:spPr>
          <a:xfrm rot="17741400">
            <a:off x="932400" y="4497840"/>
            <a:ext cx="257040" cy="233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椭圆 62"/>
          <p:cNvSpPr/>
          <p:nvPr/>
        </p:nvSpPr>
        <p:spPr>
          <a:xfrm>
            <a:off x="222120" y="4140360"/>
            <a:ext cx="606600" cy="604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圆角矩形 63"/>
          <p:cNvSpPr/>
          <p:nvPr/>
        </p:nvSpPr>
        <p:spPr>
          <a:xfrm rot="7858800">
            <a:off x="464040" y="4478760"/>
            <a:ext cx="530280" cy="2080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1763640" y="616572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文本框 3"/>
          <p:cNvSpPr/>
          <p:nvPr/>
        </p:nvSpPr>
        <p:spPr>
          <a:xfrm>
            <a:off x="3513240" y="25113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最后还是送大家</a:t>
            </a:r>
            <a:r>
              <a:rPr b="0" lang="zh-CN" sz="72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两句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组合 15"/>
          <p:cNvGrpSpPr/>
          <p:nvPr/>
        </p:nvGrpSpPr>
        <p:grpSpPr>
          <a:xfrm>
            <a:off x="2641320" y="-137160"/>
            <a:ext cx="5404320" cy="6145920"/>
            <a:chOff x="2641320" y="-137160"/>
            <a:chExt cx="5404320" cy="6145920"/>
          </a:xfrm>
        </p:grpSpPr>
        <p:sp>
          <p:nvSpPr>
            <p:cNvPr id="65" name="椭圆 4"/>
            <p:cNvSpPr/>
            <p:nvPr/>
          </p:nvSpPr>
          <p:spPr>
            <a:xfrm rot="1041600">
              <a:off x="2829600" y="919800"/>
              <a:ext cx="2299680" cy="161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椭圆 5"/>
            <p:cNvSpPr/>
            <p:nvPr/>
          </p:nvSpPr>
          <p:spPr>
            <a:xfrm rot="1041600">
              <a:off x="3711600" y="175320"/>
              <a:ext cx="2376000" cy="182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6"/>
            <p:cNvSpPr/>
            <p:nvPr/>
          </p:nvSpPr>
          <p:spPr>
            <a:xfrm rot="1041600">
              <a:off x="4707720" y="1238400"/>
              <a:ext cx="1829880" cy="182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7"/>
            <p:cNvSpPr/>
            <p:nvPr/>
          </p:nvSpPr>
          <p:spPr>
            <a:xfrm rot="1041600">
              <a:off x="5726520" y="1506960"/>
              <a:ext cx="2136960" cy="1545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8"/>
            <p:cNvSpPr/>
            <p:nvPr/>
          </p:nvSpPr>
          <p:spPr>
            <a:xfrm rot="1041600">
              <a:off x="4798080" y="1983600"/>
              <a:ext cx="2212200" cy="2211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9"/>
            <p:cNvSpPr/>
            <p:nvPr/>
          </p:nvSpPr>
          <p:spPr>
            <a:xfrm rot="1041600">
              <a:off x="2866320" y="1687680"/>
              <a:ext cx="1829880" cy="140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椭圆 10"/>
            <p:cNvSpPr/>
            <p:nvPr/>
          </p:nvSpPr>
          <p:spPr>
            <a:xfrm rot="1041600">
              <a:off x="3947040" y="1545120"/>
              <a:ext cx="1829880" cy="182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11"/>
            <p:cNvSpPr/>
            <p:nvPr/>
          </p:nvSpPr>
          <p:spPr>
            <a:xfrm rot="1041600">
              <a:off x="3890520" y="2516400"/>
              <a:ext cx="1829880" cy="182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12"/>
            <p:cNvSpPr/>
            <p:nvPr/>
          </p:nvSpPr>
          <p:spPr>
            <a:xfrm rot="1041600">
              <a:off x="3094200" y="3749400"/>
              <a:ext cx="1962000" cy="201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13"/>
            <p:cNvSpPr/>
            <p:nvPr/>
          </p:nvSpPr>
          <p:spPr>
            <a:xfrm rot="1041600">
              <a:off x="3365640" y="2215800"/>
              <a:ext cx="1829880" cy="1662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14"/>
            <p:cNvSpPr/>
            <p:nvPr/>
          </p:nvSpPr>
          <p:spPr>
            <a:xfrm rot="1041600">
              <a:off x="5037840" y="165240"/>
              <a:ext cx="1896840" cy="2041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7"/>
          <p:cNvSpPr/>
          <p:nvPr/>
        </p:nvSpPr>
        <p:spPr>
          <a:xfrm>
            <a:off x="0" y="5952960"/>
            <a:ext cx="12192120" cy="90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33"/>
          <p:cNvGrpSpPr/>
          <p:nvPr/>
        </p:nvGrpSpPr>
        <p:grpSpPr>
          <a:xfrm>
            <a:off x="4695840" y="4826160"/>
            <a:ext cx="1236600" cy="1341360"/>
            <a:chOff x="4695840" y="4826160"/>
            <a:chExt cx="1236600" cy="1341360"/>
          </a:xfrm>
        </p:grpSpPr>
        <p:sp>
          <p:nvSpPr>
            <p:cNvPr id="78" name="椭圆 18"/>
            <p:cNvSpPr/>
            <p:nvPr/>
          </p:nvSpPr>
          <p:spPr>
            <a:xfrm rot="915600">
              <a:off x="4881960" y="4884480"/>
              <a:ext cx="511920" cy="51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梯形 19"/>
            <p:cNvSpPr/>
            <p:nvPr/>
          </p:nvSpPr>
          <p:spPr>
            <a:xfrm flipV="1" rot="915000">
              <a:off x="4776480" y="5343840"/>
              <a:ext cx="532080" cy="685440"/>
            </a:xfrm>
            <a:custGeom>
              <a:avLst/>
              <a:gdLst>
                <a:gd name="textAreaLeft" fmla="*/ 117000 w 532080"/>
                <a:gd name="textAreaRight" fmla="*/ 415080 w 532080"/>
                <a:gd name="textAreaTop" fmla="*/ 150480 h 685440"/>
                <a:gd name="textAreaBottom" fmla="*/ 53496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21"/>
            <p:cNvSpPr/>
            <p:nvPr/>
          </p:nvSpPr>
          <p:spPr>
            <a:xfrm rot="4167600">
              <a:off x="5203080" y="5636160"/>
              <a:ext cx="199080" cy="47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22"/>
            <p:cNvSpPr/>
            <p:nvPr/>
          </p:nvSpPr>
          <p:spPr>
            <a:xfrm rot="8268600">
              <a:off x="5418720" y="5722920"/>
              <a:ext cx="200880" cy="30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23"/>
            <p:cNvSpPr/>
            <p:nvPr/>
          </p:nvSpPr>
          <p:spPr>
            <a:xfrm rot="5648400">
              <a:off x="5277960" y="5274360"/>
              <a:ext cx="165240" cy="47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组合 30"/>
            <p:cNvGrpSpPr/>
            <p:nvPr/>
          </p:nvGrpSpPr>
          <p:grpSpPr>
            <a:xfrm>
              <a:off x="5438160" y="4973400"/>
              <a:ext cx="494280" cy="605520"/>
              <a:chOff x="5438160" y="4973400"/>
              <a:chExt cx="494280" cy="605520"/>
            </a:xfrm>
          </p:grpSpPr>
          <p:sp>
            <p:nvSpPr>
              <p:cNvPr id="84" name="矩形 27"/>
              <p:cNvSpPr/>
              <p:nvPr/>
            </p:nvSpPr>
            <p:spPr>
              <a:xfrm rot="1315800">
                <a:off x="5495040" y="5030280"/>
                <a:ext cx="37980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矩形 29"/>
              <p:cNvSpPr/>
              <p:nvPr/>
            </p:nvSpPr>
            <p:spPr>
              <a:xfrm rot="1315800">
                <a:off x="5556600" y="5348160"/>
                <a:ext cx="36000" cy="232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椭圆 31"/>
            <p:cNvSpPr/>
            <p:nvPr/>
          </p:nvSpPr>
          <p:spPr>
            <a:xfrm rot="915600">
              <a:off x="5459400" y="5414760"/>
              <a:ext cx="208800" cy="208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32"/>
            <p:cNvSpPr/>
            <p:nvPr/>
          </p:nvSpPr>
          <p:spPr>
            <a:xfrm rot="915600">
              <a:off x="5520960" y="5880600"/>
              <a:ext cx="257040" cy="257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34"/>
          <p:cNvSpPr/>
          <p:nvPr/>
        </p:nvSpPr>
        <p:spPr>
          <a:xfrm>
            <a:off x="7765200" y="3203640"/>
            <a:ext cx="23907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你敢不敢纳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于</a:t>
            </a:r>
            <a:r>
              <a:rPr b="0" lang="zh-CN" sz="58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无根之木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38"/>
          <p:cNvSpPr/>
          <p:nvPr/>
        </p:nvSpPr>
        <p:spPr>
          <a:xfrm rot="541800">
            <a:off x="285840" y="5374800"/>
            <a:ext cx="18252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39"/>
          <p:cNvSpPr/>
          <p:nvPr/>
        </p:nvSpPr>
        <p:spPr>
          <a:xfrm rot="541800">
            <a:off x="220320" y="5516640"/>
            <a:ext cx="325440" cy="10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40"/>
          <p:cNvSpPr/>
          <p:nvPr/>
        </p:nvSpPr>
        <p:spPr>
          <a:xfrm rot="541800">
            <a:off x="349200" y="5372280"/>
            <a:ext cx="422280" cy="10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41"/>
          <p:cNvSpPr/>
          <p:nvPr/>
        </p:nvSpPr>
        <p:spPr>
          <a:xfrm rot="541800">
            <a:off x="755280" y="5524200"/>
            <a:ext cx="182520" cy="10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42"/>
          <p:cNvSpPr/>
          <p:nvPr/>
        </p:nvSpPr>
        <p:spPr>
          <a:xfrm rot="541800">
            <a:off x="690120" y="5667480"/>
            <a:ext cx="325440" cy="10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43"/>
          <p:cNvSpPr/>
          <p:nvPr/>
        </p:nvSpPr>
        <p:spPr>
          <a:xfrm rot="541800">
            <a:off x="819000" y="5522760"/>
            <a:ext cx="42228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44"/>
          <p:cNvSpPr/>
          <p:nvPr/>
        </p:nvSpPr>
        <p:spPr>
          <a:xfrm rot="541800">
            <a:off x="1379520" y="5095800"/>
            <a:ext cx="11916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45"/>
          <p:cNvSpPr/>
          <p:nvPr/>
        </p:nvSpPr>
        <p:spPr>
          <a:xfrm rot="541800">
            <a:off x="1314000" y="5238720"/>
            <a:ext cx="21276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46"/>
          <p:cNvSpPr/>
          <p:nvPr/>
        </p:nvSpPr>
        <p:spPr>
          <a:xfrm rot="541800">
            <a:off x="1441080" y="5095800"/>
            <a:ext cx="27612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47"/>
          <p:cNvSpPr/>
          <p:nvPr/>
        </p:nvSpPr>
        <p:spPr>
          <a:xfrm rot="541800">
            <a:off x="1765440" y="5495400"/>
            <a:ext cx="18252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48"/>
          <p:cNvSpPr/>
          <p:nvPr/>
        </p:nvSpPr>
        <p:spPr>
          <a:xfrm rot="541800">
            <a:off x="1698120" y="5637240"/>
            <a:ext cx="327240" cy="10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49"/>
          <p:cNvSpPr/>
          <p:nvPr/>
        </p:nvSpPr>
        <p:spPr>
          <a:xfrm rot="541800">
            <a:off x="1827360" y="5492880"/>
            <a:ext cx="423720" cy="10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50"/>
          <p:cNvSpPr/>
          <p:nvPr/>
        </p:nvSpPr>
        <p:spPr>
          <a:xfrm rot="541800">
            <a:off x="2346480" y="5533920"/>
            <a:ext cx="18072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51"/>
          <p:cNvSpPr/>
          <p:nvPr/>
        </p:nvSpPr>
        <p:spPr>
          <a:xfrm rot="541800">
            <a:off x="2279160" y="5676840"/>
            <a:ext cx="32724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52"/>
          <p:cNvSpPr/>
          <p:nvPr/>
        </p:nvSpPr>
        <p:spPr>
          <a:xfrm rot="541800">
            <a:off x="2408400" y="5530680"/>
            <a:ext cx="42372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53"/>
          <p:cNvSpPr/>
          <p:nvPr/>
        </p:nvSpPr>
        <p:spPr>
          <a:xfrm>
            <a:off x="6278400" y="5403960"/>
            <a:ext cx="238320" cy="10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54"/>
          <p:cNvSpPr/>
          <p:nvPr/>
        </p:nvSpPr>
        <p:spPr>
          <a:xfrm>
            <a:off x="6211800" y="5548320"/>
            <a:ext cx="42696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55"/>
          <p:cNvSpPr/>
          <p:nvPr/>
        </p:nvSpPr>
        <p:spPr>
          <a:xfrm>
            <a:off x="6338880" y="5407200"/>
            <a:ext cx="554040" cy="10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56"/>
          <p:cNvSpPr/>
          <p:nvPr/>
        </p:nvSpPr>
        <p:spPr>
          <a:xfrm>
            <a:off x="6778800" y="5560920"/>
            <a:ext cx="23796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任意多边形 57"/>
          <p:cNvSpPr/>
          <p:nvPr/>
        </p:nvSpPr>
        <p:spPr>
          <a:xfrm>
            <a:off x="6713640" y="5705640"/>
            <a:ext cx="425520" cy="10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58"/>
          <p:cNvSpPr/>
          <p:nvPr/>
        </p:nvSpPr>
        <p:spPr>
          <a:xfrm>
            <a:off x="6840360" y="5564160"/>
            <a:ext cx="55404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59"/>
          <p:cNvSpPr/>
          <p:nvPr/>
        </p:nvSpPr>
        <p:spPr>
          <a:xfrm>
            <a:off x="7385040" y="5273640"/>
            <a:ext cx="23796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60"/>
          <p:cNvSpPr/>
          <p:nvPr/>
        </p:nvSpPr>
        <p:spPr>
          <a:xfrm>
            <a:off x="7318440" y="5418000"/>
            <a:ext cx="42696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61"/>
          <p:cNvSpPr/>
          <p:nvPr/>
        </p:nvSpPr>
        <p:spPr>
          <a:xfrm>
            <a:off x="7446960" y="5276880"/>
            <a:ext cx="554040" cy="10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62"/>
          <p:cNvSpPr/>
          <p:nvPr/>
        </p:nvSpPr>
        <p:spPr>
          <a:xfrm>
            <a:off x="7829640" y="5345280"/>
            <a:ext cx="237960" cy="10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63"/>
          <p:cNvSpPr/>
          <p:nvPr/>
        </p:nvSpPr>
        <p:spPr>
          <a:xfrm>
            <a:off x="7763040" y="5489640"/>
            <a:ext cx="426960" cy="10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64"/>
          <p:cNvSpPr/>
          <p:nvPr/>
        </p:nvSpPr>
        <p:spPr>
          <a:xfrm>
            <a:off x="7889760" y="5348160"/>
            <a:ext cx="55584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65"/>
          <p:cNvSpPr/>
          <p:nvPr/>
        </p:nvSpPr>
        <p:spPr>
          <a:xfrm>
            <a:off x="8275680" y="5518080"/>
            <a:ext cx="23796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66"/>
          <p:cNvSpPr/>
          <p:nvPr/>
        </p:nvSpPr>
        <p:spPr>
          <a:xfrm>
            <a:off x="8209080" y="5664240"/>
            <a:ext cx="426960" cy="10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67"/>
          <p:cNvSpPr/>
          <p:nvPr/>
        </p:nvSpPr>
        <p:spPr>
          <a:xfrm>
            <a:off x="8337600" y="5521320"/>
            <a:ext cx="55404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任意多边形 68"/>
          <p:cNvSpPr/>
          <p:nvPr/>
        </p:nvSpPr>
        <p:spPr>
          <a:xfrm>
            <a:off x="8871120" y="5240160"/>
            <a:ext cx="8856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69"/>
          <p:cNvSpPr/>
          <p:nvPr/>
        </p:nvSpPr>
        <p:spPr>
          <a:xfrm>
            <a:off x="8805960" y="5386320"/>
            <a:ext cx="42552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任意多边形 70"/>
          <p:cNvSpPr/>
          <p:nvPr/>
        </p:nvSpPr>
        <p:spPr>
          <a:xfrm>
            <a:off x="8933040" y="5243400"/>
            <a:ext cx="20772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71"/>
          <p:cNvSpPr/>
          <p:nvPr/>
        </p:nvSpPr>
        <p:spPr>
          <a:xfrm>
            <a:off x="9231480" y="5462640"/>
            <a:ext cx="237960" cy="10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72"/>
          <p:cNvSpPr/>
          <p:nvPr/>
        </p:nvSpPr>
        <p:spPr>
          <a:xfrm>
            <a:off x="9166320" y="5607000"/>
            <a:ext cx="42552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任意多边形 73"/>
          <p:cNvSpPr/>
          <p:nvPr/>
        </p:nvSpPr>
        <p:spPr>
          <a:xfrm>
            <a:off x="9293400" y="5465880"/>
            <a:ext cx="554040" cy="10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74"/>
          <p:cNvSpPr/>
          <p:nvPr/>
        </p:nvSpPr>
        <p:spPr>
          <a:xfrm rot="629400">
            <a:off x="9734400" y="5132160"/>
            <a:ext cx="88920" cy="10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75"/>
          <p:cNvSpPr/>
          <p:nvPr/>
        </p:nvSpPr>
        <p:spPr>
          <a:xfrm rot="629400">
            <a:off x="9667800" y="5278320"/>
            <a:ext cx="42696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76"/>
          <p:cNvSpPr/>
          <p:nvPr/>
        </p:nvSpPr>
        <p:spPr>
          <a:xfrm rot="629400">
            <a:off x="9796320" y="5135040"/>
            <a:ext cx="20664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77"/>
          <p:cNvSpPr/>
          <p:nvPr/>
        </p:nvSpPr>
        <p:spPr>
          <a:xfrm rot="629400">
            <a:off x="10051560" y="5393880"/>
            <a:ext cx="23832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78"/>
          <p:cNvSpPr/>
          <p:nvPr/>
        </p:nvSpPr>
        <p:spPr>
          <a:xfrm rot="629400">
            <a:off x="9985320" y="5538960"/>
            <a:ext cx="426960" cy="10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79"/>
          <p:cNvSpPr/>
          <p:nvPr/>
        </p:nvSpPr>
        <p:spPr>
          <a:xfrm rot="629400">
            <a:off x="10112400" y="5397120"/>
            <a:ext cx="55548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80"/>
          <p:cNvSpPr/>
          <p:nvPr/>
        </p:nvSpPr>
        <p:spPr>
          <a:xfrm rot="629400">
            <a:off x="10521720" y="5517720"/>
            <a:ext cx="23796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任意多边形 81"/>
          <p:cNvSpPr/>
          <p:nvPr/>
        </p:nvSpPr>
        <p:spPr>
          <a:xfrm rot="629400">
            <a:off x="10455120" y="5662440"/>
            <a:ext cx="42732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任意多边形 82"/>
          <p:cNvSpPr/>
          <p:nvPr/>
        </p:nvSpPr>
        <p:spPr>
          <a:xfrm rot="629400">
            <a:off x="10584000" y="5520960"/>
            <a:ext cx="55404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任意多边形 83"/>
          <p:cNvSpPr/>
          <p:nvPr/>
        </p:nvSpPr>
        <p:spPr>
          <a:xfrm rot="629400">
            <a:off x="11034360" y="5571720"/>
            <a:ext cx="23796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任意多边形 84"/>
          <p:cNvSpPr/>
          <p:nvPr/>
        </p:nvSpPr>
        <p:spPr>
          <a:xfrm rot="629400">
            <a:off x="10969560" y="5718240"/>
            <a:ext cx="425520" cy="10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85"/>
          <p:cNvSpPr/>
          <p:nvPr/>
        </p:nvSpPr>
        <p:spPr>
          <a:xfrm rot="629400">
            <a:off x="11096280" y="5574960"/>
            <a:ext cx="554040" cy="10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86"/>
          <p:cNvSpPr/>
          <p:nvPr/>
        </p:nvSpPr>
        <p:spPr>
          <a:xfrm rot="629400">
            <a:off x="11439000" y="5528880"/>
            <a:ext cx="23832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87"/>
          <p:cNvSpPr/>
          <p:nvPr/>
        </p:nvSpPr>
        <p:spPr>
          <a:xfrm rot="629400">
            <a:off x="11372760" y="5673600"/>
            <a:ext cx="425520" cy="10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88"/>
          <p:cNvSpPr/>
          <p:nvPr/>
        </p:nvSpPr>
        <p:spPr>
          <a:xfrm rot="629400">
            <a:off x="11499840" y="5532120"/>
            <a:ext cx="555480" cy="10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89"/>
          <p:cNvSpPr/>
          <p:nvPr/>
        </p:nvSpPr>
        <p:spPr>
          <a:xfrm>
            <a:off x="10460880" y="2281320"/>
            <a:ext cx="12780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?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矩形 25"/>
          <p:cNvSpPr/>
          <p:nvPr/>
        </p:nvSpPr>
        <p:spPr>
          <a:xfrm>
            <a:off x="3575160" y="5610240"/>
            <a:ext cx="5257800" cy="127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24"/>
          <p:cNvSpPr/>
          <p:nvPr/>
        </p:nvSpPr>
        <p:spPr>
          <a:xfrm>
            <a:off x="10226520" y="777960"/>
            <a:ext cx="1538280" cy="538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23"/>
          <p:cNvSpPr/>
          <p:nvPr/>
        </p:nvSpPr>
        <p:spPr>
          <a:xfrm>
            <a:off x="747720" y="809640"/>
            <a:ext cx="1538280" cy="538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梯形 6"/>
          <p:cNvSpPr/>
          <p:nvPr/>
        </p:nvSpPr>
        <p:spPr>
          <a:xfrm>
            <a:off x="4689360" y="3193920"/>
            <a:ext cx="3046680" cy="2716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圆角矩形 14"/>
          <p:cNvSpPr/>
          <p:nvPr/>
        </p:nvSpPr>
        <p:spPr>
          <a:xfrm rot="6991800">
            <a:off x="4127760" y="4501080"/>
            <a:ext cx="2179800" cy="809640"/>
          </a:xfrm>
          <a:prstGeom prst="roundRect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圆角矩形 12"/>
          <p:cNvSpPr/>
          <p:nvPr/>
        </p:nvSpPr>
        <p:spPr>
          <a:xfrm rot="4416600">
            <a:off x="6185160" y="4564440"/>
            <a:ext cx="2178360" cy="808200"/>
          </a:xfrm>
          <a:prstGeom prst="roundRect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椭圆 5"/>
          <p:cNvSpPr/>
          <p:nvPr/>
        </p:nvSpPr>
        <p:spPr>
          <a:xfrm>
            <a:off x="4630680" y="806400"/>
            <a:ext cx="2998800" cy="2998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3" name="组合 11"/>
          <p:cNvGrpSpPr/>
          <p:nvPr/>
        </p:nvGrpSpPr>
        <p:grpSpPr>
          <a:xfrm>
            <a:off x="3787920" y="1609560"/>
            <a:ext cx="4848120" cy="3803760"/>
            <a:chOff x="3787920" y="1609560"/>
            <a:chExt cx="4848120" cy="3803760"/>
          </a:xfrm>
        </p:grpSpPr>
        <p:sp>
          <p:nvSpPr>
            <p:cNvPr id="1344" name="平行四边形 9"/>
            <p:cNvSpPr/>
            <p:nvPr/>
          </p:nvSpPr>
          <p:spPr>
            <a:xfrm flipH="1">
              <a:off x="3787920" y="1609560"/>
              <a:ext cx="2424240" cy="38037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平行四边形 9"/>
            <p:cNvSpPr/>
            <p:nvPr/>
          </p:nvSpPr>
          <p:spPr>
            <a:xfrm>
              <a:off x="6107400" y="1609560"/>
              <a:ext cx="2528640" cy="38037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6" name="圆角矩形 13"/>
          <p:cNvSpPr/>
          <p:nvPr/>
        </p:nvSpPr>
        <p:spPr>
          <a:xfrm rot="2091600">
            <a:off x="6028920" y="4900680"/>
            <a:ext cx="1957320" cy="809640"/>
          </a:xfrm>
          <a:prstGeom prst="roundRect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圆角矩形 15"/>
          <p:cNvSpPr/>
          <p:nvPr/>
        </p:nvSpPr>
        <p:spPr>
          <a:xfrm rot="21313200">
            <a:off x="4509720" y="5095800"/>
            <a:ext cx="1633680" cy="808200"/>
          </a:xfrm>
          <a:prstGeom prst="roundRect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文本框 16"/>
          <p:cNvSpPr/>
          <p:nvPr/>
        </p:nvSpPr>
        <p:spPr>
          <a:xfrm>
            <a:off x="7463160" y="1909800"/>
            <a:ext cx="7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吕建德字体"/>
                <a:ea typeface="方正吕建德字体"/>
              </a:rPr>
              <a:t>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吕建德字体"/>
                <a:ea typeface="方正吕建德字体"/>
              </a:rPr>
              <a:t>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9"/>
          <p:cNvSpPr/>
          <p:nvPr/>
        </p:nvSpPr>
        <p:spPr>
          <a:xfrm>
            <a:off x="4457160" y="19303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行黑简体"/>
                <a:ea typeface="方正行黑简体"/>
              </a:rPr>
              <a:t>腹有诗书气自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20"/>
          <p:cNvSpPr/>
          <p:nvPr/>
        </p:nvSpPr>
        <p:spPr>
          <a:xfrm>
            <a:off x="4340160" y="2057400"/>
            <a:ext cx="20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行黑简体"/>
                <a:ea typeface="方正行黑简体"/>
              </a:rPr>
              <a:t>胸藏文墨虚若谷</a:t>
            </a:r>
            <a:r>
              <a:rPr b="0" lang="en-US" sz="3200" spc="-1" strike="noStrike">
                <a:solidFill>
                  <a:srgbClr val="ffffff"/>
                </a:solidFill>
                <a:latin typeface="方正行黑简体"/>
                <a:ea typeface="方正行黑简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21"/>
          <p:cNvSpPr/>
          <p:nvPr/>
        </p:nvSpPr>
        <p:spPr>
          <a:xfrm>
            <a:off x="-118080" y="91296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吕建德字体"/>
                <a:ea typeface="方正吕建德字体"/>
              </a:rPr>
              <a:t>读书即未成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22"/>
          <p:cNvSpPr/>
          <p:nvPr/>
        </p:nvSpPr>
        <p:spPr>
          <a:xfrm>
            <a:off x="9432360" y="88092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吕建德字体"/>
                <a:ea typeface="方正吕建德字体"/>
              </a:rPr>
              <a:t>究竟人品高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梯形 28"/>
          <p:cNvSpPr/>
          <p:nvPr/>
        </p:nvSpPr>
        <p:spPr>
          <a:xfrm>
            <a:off x="4933800" y="6296040"/>
            <a:ext cx="2540160" cy="593640"/>
          </a:xfrm>
          <a:custGeom>
            <a:avLst/>
            <a:gdLst>
              <a:gd name="textAreaLeft" fmla="*/ 288000 w 2540160"/>
              <a:gd name="textAreaRight" fmla="*/ 2252160 w 2540160"/>
              <a:gd name="textAreaTop" fmla="*/ 67320 h 593640"/>
              <a:gd name="textAreaBottom" fmla="*/ 526320 h 59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38" y="21600"/>
                </a:lnTo>
                <a:lnTo>
                  <a:pt x="1262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AFE-3E7B-4EDE-B8B6-8F54C104A1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矩形 8"/>
          <p:cNvSpPr/>
          <p:nvPr/>
        </p:nvSpPr>
        <p:spPr>
          <a:xfrm>
            <a:off x="10226520" y="777960"/>
            <a:ext cx="1538280" cy="538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9"/>
          <p:cNvSpPr/>
          <p:nvPr/>
        </p:nvSpPr>
        <p:spPr>
          <a:xfrm>
            <a:off x="747720" y="809640"/>
            <a:ext cx="1538280" cy="538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4"/>
          <p:cNvSpPr/>
          <p:nvPr/>
        </p:nvSpPr>
        <p:spPr>
          <a:xfrm>
            <a:off x="-81360" y="91296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吕建德字体"/>
                <a:ea typeface="方正吕建德字体"/>
              </a:rPr>
              <a:t>修德不期获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5"/>
          <p:cNvSpPr/>
          <p:nvPr/>
        </p:nvSpPr>
        <p:spPr>
          <a:xfrm>
            <a:off x="9397440" y="94464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吕建德字体"/>
                <a:ea typeface="方正吕建德字体"/>
              </a:rPr>
              <a:t>自然梦稳心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1" name="组合 14"/>
          <p:cNvGrpSpPr/>
          <p:nvPr/>
        </p:nvGrpSpPr>
        <p:grpSpPr>
          <a:xfrm>
            <a:off x="2967120" y="2573280"/>
            <a:ext cx="5797440" cy="1060560"/>
            <a:chOff x="2967120" y="2573280"/>
            <a:chExt cx="5797440" cy="1060560"/>
          </a:xfrm>
        </p:grpSpPr>
        <p:sp>
          <p:nvSpPr>
            <p:cNvPr id="1362" name="矩形 12"/>
            <p:cNvSpPr/>
            <p:nvPr/>
          </p:nvSpPr>
          <p:spPr>
            <a:xfrm>
              <a:off x="2967120" y="2805120"/>
              <a:ext cx="2900880" cy="82872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矩形 12"/>
            <p:cNvSpPr/>
            <p:nvPr/>
          </p:nvSpPr>
          <p:spPr>
            <a:xfrm flipH="1">
              <a:off x="5863680" y="2646000"/>
              <a:ext cx="2143440" cy="98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椭圆 18"/>
            <p:cNvSpPr/>
            <p:nvPr/>
          </p:nvSpPr>
          <p:spPr>
            <a:xfrm>
              <a:off x="7805520" y="2573280"/>
              <a:ext cx="959040" cy="98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圆角矩形 18"/>
            <p:cNvSpPr/>
            <p:nvPr/>
          </p:nvSpPr>
          <p:spPr>
            <a:xfrm>
              <a:off x="5481720" y="2991240"/>
              <a:ext cx="2154960" cy="44748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6" name="任意多边形 25"/>
          <p:cNvSpPr/>
          <p:nvPr/>
        </p:nvSpPr>
        <p:spPr>
          <a:xfrm>
            <a:off x="7932600" y="2460600"/>
            <a:ext cx="150840" cy="136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任意多边形 26"/>
          <p:cNvSpPr/>
          <p:nvPr/>
        </p:nvSpPr>
        <p:spPr>
          <a:xfrm>
            <a:off x="8002440" y="2247840"/>
            <a:ext cx="150840" cy="136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任意多边形 27"/>
          <p:cNvSpPr/>
          <p:nvPr/>
        </p:nvSpPr>
        <p:spPr>
          <a:xfrm>
            <a:off x="8132760" y="2025720"/>
            <a:ext cx="146160" cy="1317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任意多边形 28"/>
          <p:cNvSpPr/>
          <p:nvPr/>
        </p:nvSpPr>
        <p:spPr>
          <a:xfrm>
            <a:off x="8205840" y="1849320"/>
            <a:ext cx="115920" cy="103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6"/>
          <p:cNvSpPr/>
          <p:nvPr/>
        </p:nvSpPr>
        <p:spPr>
          <a:xfrm>
            <a:off x="2473200" y="3487680"/>
            <a:ext cx="6899400" cy="419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7"/>
          <p:cNvSpPr/>
          <p:nvPr/>
        </p:nvSpPr>
        <p:spPr>
          <a:xfrm>
            <a:off x="8978760" y="2652840"/>
            <a:ext cx="679680" cy="333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33"/>
          <p:cNvSpPr/>
          <p:nvPr/>
        </p:nvSpPr>
        <p:spPr>
          <a:xfrm>
            <a:off x="2470320" y="3683160"/>
            <a:ext cx="403200" cy="251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34"/>
          <p:cNvSpPr/>
          <p:nvPr/>
        </p:nvSpPr>
        <p:spPr>
          <a:xfrm>
            <a:off x="8978760" y="1635120"/>
            <a:ext cx="679680" cy="3505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任意多边形 12"/>
          <p:cNvSpPr/>
          <p:nvPr/>
        </p:nvSpPr>
        <p:spPr>
          <a:xfrm>
            <a:off x="2347920" y="2427120"/>
            <a:ext cx="5925960" cy="3121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云形标注 13"/>
          <p:cNvSpPr/>
          <p:nvPr/>
        </p:nvSpPr>
        <p:spPr>
          <a:xfrm>
            <a:off x="6935760" y="0"/>
            <a:ext cx="2614680" cy="1752480"/>
          </a:xfrm>
          <a:prstGeom prst="cloudCallout">
            <a:avLst>
              <a:gd name="adj1" fmla="val -490"/>
              <a:gd name="adj2" fmla="val 2468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文本框 37"/>
          <p:cNvSpPr/>
          <p:nvPr/>
        </p:nvSpPr>
        <p:spPr>
          <a:xfrm>
            <a:off x="7622640" y="282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迷你简汉真广标"/>
                <a:ea typeface="迷你简汉真广标"/>
              </a:rPr>
              <a:t>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文本框 38"/>
          <p:cNvSpPr/>
          <p:nvPr/>
        </p:nvSpPr>
        <p:spPr>
          <a:xfrm>
            <a:off x="8255880" y="282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迷你简汉真广标"/>
                <a:ea typeface="迷你简汉真广标"/>
              </a:rPr>
              <a:t>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51"/>
          <p:cNvGrpSpPr/>
          <p:nvPr/>
        </p:nvGrpSpPr>
        <p:grpSpPr>
          <a:xfrm>
            <a:off x="6778800" y="450720"/>
            <a:ext cx="1949400" cy="5618160"/>
            <a:chOff x="6778800" y="450720"/>
            <a:chExt cx="1949400" cy="5618160"/>
          </a:xfrm>
        </p:grpSpPr>
        <p:sp>
          <p:nvSpPr>
            <p:cNvPr id="142" name="梯形 47"/>
            <p:cNvSpPr/>
            <p:nvPr/>
          </p:nvSpPr>
          <p:spPr>
            <a:xfrm flipV="1">
              <a:off x="6966720" y="1031040"/>
              <a:ext cx="1573560" cy="1364040"/>
            </a:xfrm>
            <a:custGeom>
              <a:avLst/>
              <a:gdLst>
                <a:gd name="textAreaLeft" fmla="*/ 316800 w 1573560"/>
                <a:gd name="textAreaRight" fmla="*/ 1256760 w 1573560"/>
                <a:gd name="textAreaTop" fmla="*/ 274680 h 1364040"/>
                <a:gd name="textAreaBottom" fmla="*/ 1089360 h 136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921" y="21600"/>
                  </a:lnTo>
                  <a:lnTo>
                    <a:pt x="4679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48"/>
            <p:cNvSpPr/>
            <p:nvPr/>
          </p:nvSpPr>
          <p:spPr>
            <a:xfrm>
              <a:off x="7337520" y="857160"/>
              <a:ext cx="830520" cy="85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圆角矩形 49"/>
            <p:cNvSpPr/>
            <p:nvPr/>
          </p:nvSpPr>
          <p:spPr>
            <a:xfrm>
              <a:off x="7281360" y="450720"/>
              <a:ext cx="961560" cy="4413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圆角矩形 50"/>
            <p:cNvSpPr/>
            <p:nvPr/>
          </p:nvSpPr>
          <p:spPr>
            <a:xfrm>
              <a:off x="6778800" y="1460520"/>
              <a:ext cx="1949400" cy="4608360"/>
            </a:xfrm>
            <a:custGeom>
              <a:avLst/>
              <a:gdLst>
                <a:gd name="textAreaLeft" fmla="*/ 228240 w 1949400"/>
                <a:gd name="textAreaRight" fmla="*/ 1721160 w 1949400"/>
                <a:gd name="textAreaTop" fmla="*/ 228240 h 4608360"/>
                <a:gd name="textAreaBottom" fmla="*/ 4380120 h 4608360"/>
              </a:gdLst>
              <a:ahLst/>
              <a:rect l="textAreaLeft" t="textAreaTop" r="textAreaRight" b="textAreaBottom"/>
              <a:pathLst>
                <a:path w="21600" h="51057">
                  <a:moveTo>
                    <a:pt x="8636" y="0"/>
                  </a:moveTo>
                  <a:arcTo wR="8636" hR="8636" stAng="16200000" swAng="-5400000"/>
                  <a:lnTo>
                    <a:pt x="0" y="42421"/>
                  </a:lnTo>
                  <a:arcTo wR="8636" hR="8636" stAng="10800000" swAng="-5400000"/>
                  <a:lnTo>
                    <a:pt x="12964" y="51057"/>
                  </a:lnTo>
                  <a:arcTo wR="8636" hR="8636" stAng="5400000" swAng="-5400000"/>
                  <a:lnTo>
                    <a:pt x="21600" y="8636"/>
                  </a:lnTo>
                  <a:arcTo wR="8636" hR="8636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文本框 21"/>
          <p:cNvSpPr/>
          <p:nvPr/>
        </p:nvSpPr>
        <p:spPr>
          <a:xfrm>
            <a:off x="7129440" y="3241800"/>
            <a:ext cx="124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康师傅出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2"/>
          <p:cNvSpPr/>
          <p:nvPr/>
        </p:nvSpPr>
        <p:spPr>
          <a:xfrm>
            <a:off x="7205760" y="2463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矿泉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53"/>
          <p:cNvGrpSpPr/>
          <p:nvPr/>
        </p:nvGrpSpPr>
        <p:grpSpPr>
          <a:xfrm>
            <a:off x="9036000" y="450720"/>
            <a:ext cx="1951200" cy="5618160"/>
            <a:chOff x="9036000" y="450720"/>
            <a:chExt cx="1951200" cy="5618160"/>
          </a:xfrm>
        </p:grpSpPr>
        <p:sp>
          <p:nvSpPr>
            <p:cNvPr id="149" name="梯形 54"/>
            <p:cNvSpPr/>
            <p:nvPr/>
          </p:nvSpPr>
          <p:spPr>
            <a:xfrm flipV="1">
              <a:off x="9223920" y="1031040"/>
              <a:ext cx="1575000" cy="1364040"/>
            </a:xfrm>
            <a:custGeom>
              <a:avLst/>
              <a:gdLst>
                <a:gd name="textAreaLeft" fmla="*/ 317160 w 1575000"/>
                <a:gd name="textAreaRight" fmla="*/ 1257840 w 1575000"/>
                <a:gd name="textAreaTop" fmla="*/ 274680 h 1364040"/>
                <a:gd name="textAreaBottom" fmla="*/ 1089360 h 136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921" y="21600"/>
                  </a:lnTo>
                  <a:lnTo>
                    <a:pt x="4679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55"/>
            <p:cNvSpPr/>
            <p:nvPr/>
          </p:nvSpPr>
          <p:spPr>
            <a:xfrm>
              <a:off x="9595080" y="857160"/>
              <a:ext cx="831240" cy="85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圆角矩形 56"/>
            <p:cNvSpPr/>
            <p:nvPr/>
          </p:nvSpPr>
          <p:spPr>
            <a:xfrm>
              <a:off x="9538920" y="450720"/>
              <a:ext cx="962640" cy="4413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圆角矩形 57"/>
            <p:cNvSpPr/>
            <p:nvPr/>
          </p:nvSpPr>
          <p:spPr>
            <a:xfrm>
              <a:off x="9036000" y="1460520"/>
              <a:ext cx="1951200" cy="4608360"/>
            </a:xfrm>
            <a:custGeom>
              <a:avLst/>
              <a:gdLst>
                <a:gd name="textAreaLeft" fmla="*/ 228240 w 1951200"/>
                <a:gd name="textAreaRight" fmla="*/ 1722960 w 1951200"/>
                <a:gd name="textAreaTop" fmla="*/ 228240 h 4608360"/>
                <a:gd name="textAreaBottom" fmla="*/ 4380120 h 4608360"/>
              </a:gdLst>
              <a:ahLst/>
              <a:rect l="textAreaLeft" t="textAreaTop" r="textAreaRight" b="textAreaBottom"/>
              <a:pathLst>
                <a:path w="21600" h="51010">
                  <a:moveTo>
                    <a:pt x="8636" y="0"/>
                  </a:moveTo>
                  <a:arcTo wR="8636" hR="8636" stAng="16200000" swAng="-5400000"/>
                  <a:lnTo>
                    <a:pt x="0" y="42374"/>
                  </a:lnTo>
                  <a:arcTo wR="8636" hR="8636" stAng="10800000" swAng="-5400000"/>
                  <a:lnTo>
                    <a:pt x="12964" y="51010"/>
                  </a:lnTo>
                  <a:arcTo wR="8636" hR="8636" stAng="5400000" swAng="-5400000"/>
                  <a:lnTo>
                    <a:pt x="21600" y="8636"/>
                  </a:lnTo>
                  <a:arcTo wR="8636" hR="8636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文本框 58"/>
          <p:cNvSpPr/>
          <p:nvPr/>
        </p:nvSpPr>
        <p:spPr>
          <a:xfrm>
            <a:off x="9387720" y="3241800"/>
            <a:ext cx="124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唐师傅</a:t>
            </a:r>
            <a:r>
              <a:rPr b="0" lang="zh-CN" sz="28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出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9"/>
          <p:cNvSpPr/>
          <p:nvPr/>
        </p:nvSpPr>
        <p:spPr>
          <a:xfrm>
            <a:off x="9464040" y="2463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矿泉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60"/>
          <p:cNvSpPr/>
          <p:nvPr/>
        </p:nvSpPr>
        <p:spPr>
          <a:xfrm>
            <a:off x="1786320" y="2560680"/>
            <a:ext cx="225324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你敢不敢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无根之水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62"/>
          <p:cNvSpPr/>
          <p:nvPr/>
        </p:nvSpPr>
        <p:spPr>
          <a:xfrm>
            <a:off x="4247640" y="1355760"/>
            <a:ext cx="149904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?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3"/>
          <p:cNvSpPr/>
          <p:nvPr/>
        </p:nvSpPr>
        <p:spPr>
          <a:xfrm>
            <a:off x="3876480" y="1998720"/>
            <a:ext cx="32288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你敢不敢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无德之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7461360" y="407880"/>
            <a:ext cx="20764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15"/>
          <p:cNvGrpSpPr/>
          <p:nvPr/>
        </p:nvGrpSpPr>
        <p:grpSpPr>
          <a:xfrm>
            <a:off x="5068440" y="2860560"/>
            <a:ext cx="3107160" cy="2941920"/>
            <a:chOff x="5068440" y="2860560"/>
            <a:chExt cx="3107160" cy="2941920"/>
          </a:xfrm>
        </p:grpSpPr>
        <p:sp>
          <p:nvSpPr>
            <p:cNvPr id="160" name="任意多边形 937"/>
            <p:cNvSpPr/>
            <p:nvPr/>
          </p:nvSpPr>
          <p:spPr>
            <a:xfrm>
              <a:off x="5874480" y="4385520"/>
              <a:ext cx="308160" cy="4392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任意多边形 938"/>
            <p:cNvSpPr/>
            <p:nvPr/>
          </p:nvSpPr>
          <p:spPr>
            <a:xfrm>
              <a:off x="5555160" y="3746880"/>
              <a:ext cx="352080" cy="16488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939"/>
            <p:cNvSpPr/>
            <p:nvPr/>
          </p:nvSpPr>
          <p:spPr>
            <a:xfrm>
              <a:off x="6017760" y="3614760"/>
              <a:ext cx="154080" cy="63864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940"/>
            <p:cNvSpPr/>
            <p:nvPr/>
          </p:nvSpPr>
          <p:spPr>
            <a:xfrm>
              <a:off x="6436080" y="4275720"/>
              <a:ext cx="231120" cy="26424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任意多边形 941"/>
            <p:cNvSpPr/>
            <p:nvPr/>
          </p:nvSpPr>
          <p:spPr>
            <a:xfrm>
              <a:off x="7185600" y="4022640"/>
              <a:ext cx="66960" cy="47340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942"/>
            <p:cNvSpPr/>
            <p:nvPr/>
          </p:nvSpPr>
          <p:spPr>
            <a:xfrm>
              <a:off x="6689160" y="4804200"/>
              <a:ext cx="484200" cy="16488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943"/>
            <p:cNvSpPr/>
            <p:nvPr/>
          </p:nvSpPr>
          <p:spPr>
            <a:xfrm>
              <a:off x="7239960" y="4264560"/>
              <a:ext cx="495360" cy="13212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944"/>
            <p:cNvSpPr/>
            <p:nvPr/>
          </p:nvSpPr>
          <p:spPr>
            <a:xfrm>
              <a:off x="5522040" y="3251520"/>
              <a:ext cx="1006920" cy="255096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945"/>
            <p:cNvSpPr/>
            <p:nvPr/>
          </p:nvSpPr>
          <p:spPr>
            <a:xfrm>
              <a:off x="6423480" y="3479400"/>
              <a:ext cx="333360" cy="186660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946"/>
            <p:cNvSpPr/>
            <p:nvPr/>
          </p:nvSpPr>
          <p:spPr>
            <a:xfrm>
              <a:off x="6501960" y="3516840"/>
              <a:ext cx="1306440" cy="2057760"/>
            </a:xfrm>
            <a:prstGeom prst="pi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组合 14"/>
            <p:cNvGrpSpPr/>
            <p:nvPr/>
          </p:nvGrpSpPr>
          <p:grpSpPr>
            <a:xfrm>
              <a:off x="5187960" y="2863440"/>
              <a:ext cx="727920" cy="698760"/>
              <a:chOff x="5187960" y="2863440"/>
              <a:chExt cx="727920" cy="698760"/>
            </a:xfrm>
          </p:grpSpPr>
          <p:grpSp>
            <p:nvGrpSpPr>
              <p:cNvPr id="171" name="组合 1380"/>
              <p:cNvGrpSpPr/>
              <p:nvPr/>
            </p:nvGrpSpPr>
            <p:grpSpPr>
              <a:xfrm>
                <a:off x="5187960" y="2863440"/>
                <a:ext cx="727920" cy="698760"/>
                <a:chOff x="5187960" y="2863440"/>
                <a:chExt cx="727920" cy="698760"/>
              </a:xfrm>
            </p:grpSpPr>
            <p:grpSp>
              <p:nvGrpSpPr>
                <p:cNvPr id="172" name="组合 1409"/>
                <p:cNvGrpSpPr/>
                <p:nvPr/>
              </p:nvGrpSpPr>
              <p:grpSpPr>
                <a:xfrm>
                  <a:off x="5187960" y="2863440"/>
                  <a:ext cx="727920" cy="474480"/>
                  <a:chOff x="5187960" y="2863440"/>
                  <a:chExt cx="727920" cy="474480"/>
                </a:xfrm>
              </p:grpSpPr>
              <p:sp>
                <p:nvSpPr>
                  <p:cNvPr id="173" name="椭圆 1416"/>
                  <p:cNvSpPr/>
                  <p:nvPr/>
                </p:nvSpPr>
                <p:spPr>
                  <a:xfrm>
                    <a:off x="5462280" y="2863440"/>
                    <a:ext cx="141480" cy="397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椭圆 1417"/>
                  <p:cNvSpPr/>
                  <p:nvPr/>
                </p:nvSpPr>
                <p:spPr>
                  <a:xfrm rot="1981200">
                    <a:off x="5541840" y="2876760"/>
                    <a:ext cx="160920" cy="397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椭圆 1418"/>
                  <p:cNvSpPr/>
                  <p:nvPr/>
                </p:nvSpPr>
                <p:spPr>
                  <a:xfrm rot="4173000">
                    <a:off x="5600520" y="2948400"/>
                    <a:ext cx="172080" cy="397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椭圆 1419"/>
                  <p:cNvSpPr/>
                  <p:nvPr/>
                </p:nvSpPr>
                <p:spPr>
                  <a:xfrm rot="5400000">
                    <a:off x="5646600" y="3033360"/>
                    <a:ext cx="141120" cy="397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椭圆 1420"/>
                  <p:cNvSpPr/>
                  <p:nvPr/>
                </p:nvSpPr>
                <p:spPr>
                  <a:xfrm rot="19085400">
                    <a:off x="5404680" y="2894760"/>
                    <a:ext cx="151920" cy="446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椭圆 1421"/>
                  <p:cNvSpPr/>
                  <p:nvPr/>
                </p:nvSpPr>
                <p:spPr>
                  <a:xfrm rot="17691600">
                    <a:off x="5346360" y="2951280"/>
                    <a:ext cx="151920" cy="446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组合 1410"/>
                <p:cNvGrpSpPr/>
                <p:nvPr/>
              </p:nvGrpSpPr>
              <p:grpSpPr>
                <a:xfrm>
                  <a:off x="5196960" y="3084120"/>
                  <a:ext cx="701280" cy="478080"/>
                  <a:chOff x="5196960" y="3084120"/>
                  <a:chExt cx="701280" cy="478080"/>
                </a:xfrm>
              </p:grpSpPr>
              <p:sp>
                <p:nvSpPr>
                  <p:cNvPr id="180" name="椭圆 1411"/>
                  <p:cNvSpPr/>
                  <p:nvPr/>
                </p:nvSpPr>
                <p:spPr>
                  <a:xfrm flipV="1" rot="715800">
                    <a:off x="5445360" y="3143520"/>
                    <a:ext cx="141480" cy="397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椭圆 1412"/>
                  <p:cNvSpPr/>
                  <p:nvPr/>
                </p:nvSpPr>
                <p:spPr>
                  <a:xfrm flipV="1" rot="20334600">
                    <a:off x="5526000" y="3148560"/>
                    <a:ext cx="160920" cy="397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椭圆 1413"/>
                  <p:cNvSpPr/>
                  <p:nvPr/>
                </p:nvSpPr>
                <p:spPr>
                  <a:xfrm flipV="1" rot="18142800">
                    <a:off x="5598000" y="3091680"/>
                    <a:ext cx="172080" cy="397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椭圆 1414"/>
                  <p:cNvSpPr/>
                  <p:nvPr/>
                </p:nvSpPr>
                <p:spPr>
                  <a:xfrm flipV="1" rot="3230400">
                    <a:off x="5400720" y="3053520"/>
                    <a:ext cx="151920" cy="446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椭圆 1415"/>
                  <p:cNvSpPr/>
                  <p:nvPr/>
                </p:nvSpPr>
                <p:spPr>
                  <a:xfrm flipV="1" rot="4623600">
                    <a:off x="5355360" y="2985840"/>
                    <a:ext cx="151920" cy="446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" name="组合 1422"/>
              <p:cNvGrpSpPr/>
              <p:nvPr/>
            </p:nvGrpSpPr>
            <p:grpSpPr>
              <a:xfrm>
                <a:off x="5331960" y="2987640"/>
                <a:ext cx="448200" cy="430920"/>
                <a:chOff x="5331960" y="2987640"/>
                <a:chExt cx="448200" cy="430920"/>
              </a:xfrm>
            </p:grpSpPr>
            <p:grpSp>
              <p:nvGrpSpPr>
                <p:cNvPr id="186" name="组合 1423"/>
                <p:cNvGrpSpPr/>
                <p:nvPr/>
              </p:nvGrpSpPr>
              <p:grpSpPr>
                <a:xfrm>
                  <a:off x="5331960" y="2987640"/>
                  <a:ext cx="448200" cy="291960"/>
                  <a:chOff x="5331960" y="2987640"/>
                  <a:chExt cx="448200" cy="291960"/>
                </a:xfrm>
              </p:grpSpPr>
              <p:sp>
                <p:nvSpPr>
                  <p:cNvPr id="187" name="椭圆 1430"/>
                  <p:cNvSpPr/>
                  <p:nvPr/>
                </p:nvSpPr>
                <p:spPr>
                  <a:xfrm>
                    <a:off x="5500800" y="2987640"/>
                    <a:ext cx="87120" cy="244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椭圆 1431"/>
                  <p:cNvSpPr/>
                  <p:nvPr/>
                </p:nvSpPr>
                <p:spPr>
                  <a:xfrm rot="1981200">
                    <a:off x="5549400" y="2995560"/>
                    <a:ext cx="99000" cy="244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椭圆 1432"/>
                  <p:cNvSpPr/>
                  <p:nvPr/>
                </p:nvSpPr>
                <p:spPr>
                  <a:xfrm rot="4173000">
                    <a:off x="5585760" y="3039840"/>
                    <a:ext cx="105840" cy="244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椭圆 1433"/>
                  <p:cNvSpPr/>
                  <p:nvPr/>
                </p:nvSpPr>
                <p:spPr>
                  <a:xfrm rot="5400000">
                    <a:off x="5614200" y="3092400"/>
                    <a:ext cx="87120" cy="244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椭圆 1434"/>
                  <p:cNvSpPr/>
                  <p:nvPr/>
                </p:nvSpPr>
                <p:spPr>
                  <a:xfrm rot="19085400">
                    <a:off x="5465160" y="3007080"/>
                    <a:ext cx="93600" cy="275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椭圆 1435"/>
                  <p:cNvSpPr/>
                  <p:nvPr/>
                </p:nvSpPr>
                <p:spPr>
                  <a:xfrm rot="17691600">
                    <a:off x="5429520" y="3041640"/>
                    <a:ext cx="93600" cy="275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组合 1424"/>
                <p:cNvGrpSpPr/>
                <p:nvPr/>
              </p:nvGrpSpPr>
              <p:grpSpPr>
                <a:xfrm>
                  <a:off x="5337360" y="3123720"/>
                  <a:ext cx="431640" cy="294840"/>
                  <a:chOff x="5337360" y="3123720"/>
                  <a:chExt cx="431640" cy="294840"/>
                </a:xfrm>
              </p:grpSpPr>
              <p:sp>
                <p:nvSpPr>
                  <p:cNvPr id="194" name="椭圆 1425"/>
                  <p:cNvSpPr/>
                  <p:nvPr/>
                </p:nvSpPr>
                <p:spPr>
                  <a:xfrm flipV="1" rot="715800">
                    <a:off x="5490000" y="3160080"/>
                    <a:ext cx="87120" cy="244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椭圆 1426"/>
                  <p:cNvSpPr/>
                  <p:nvPr/>
                </p:nvSpPr>
                <p:spPr>
                  <a:xfrm flipV="1" rot="20334600">
                    <a:off x="5539320" y="3163680"/>
                    <a:ext cx="99000" cy="244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椭圆 1427"/>
                  <p:cNvSpPr/>
                  <p:nvPr/>
                </p:nvSpPr>
                <p:spPr>
                  <a:xfrm flipV="1" rot="18142800">
                    <a:off x="5584320" y="3128760"/>
                    <a:ext cx="105840" cy="244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椭圆 1428"/>
                  <p:cNvSpPr/>
                  <p:nvPr/>
                </p:nvSpPr>
                <p:spPr>
                  <a:xfrm flipV="1" rot="3230400">
                    <a:off x="5463000" y="3104640"/>
                    <a:ext cx="93600" cy="275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椭圆 1429"/>
                  <p:cNvSpPr/>
                  <p:nvPr/>
                </p:nvSpPr>
                <p:spPr>
                  <a:xfrm flipV="1" rot="4623600">
                    <a:off x="5434920" y="3062880"/>
                    <a:ext cx="93600" cy="275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9" name="组合 1494"/>
            <p:cNvGrpSpPr/>
            <p:nvPr/>
          </p:nvGrpSpPr>
          <p:grpSpPr>
            <a:xfrm>
              <a:off x="6339240" y="2860560"/>
              <a:ext cx="1074960" cy="1032480"/>
              <a:chOff x="6339240" y="2860560"/>
              <a:chExt cx="1074960" cy="1032480"/>
            </a:xfrm>
          </p:grpSpPr>
          <p:grpSp>
            <p:nvGrpSpPr>
              <p:cNvPr id="200" name="组合 1495"/>
              <p:cNvGrpSpPr/>
              <p:nvPr/>
            </p:nvGrpSpPr>
            <p:grpSpPr>
              <a:xfrm>
                <a:off x="6339240" y="2860560"/>
                <a:ext cx="1074960" cy="1032480"/>
                <a:chOff x="6339240" y="2860560"/>
                <a:chExt cx="1074960" cy="1032480"/>
              </a:xfrm>
            </p:grpSpPr>
            <p:grpSp>
              <p:nvGrpSpPr>
                <p:cNvPr id="201" name="组合 1510"/>
                <p:cNvGrpSpPr/>
                <p:nvPr/>
              </p:nvGrpSpPr>
              <p:grpSpPr>
                <a:xfrm>
                  <a:off x="6339240" y="2860560"/>
                  <a:ext cx="1074960" cy="701280"/>
                  <a:chOff x="6339240" y="2860560"/>
                  <a:chExt cx="1074960" cy="701280"/>
                </a:xfrm>
              </p:grpSpPr>
              <p:sp>
                <p:nvSpPr>
                  <p:cNvPr id="202" name="椭圆 1517"/>
                  <p:cNvSpPr/>
                  <p:nvPr/>
                </p:nvSpPr>
                <p:spPr>
                  <a:xfrm>
                    <a:off x="6744600" y="2860560"/>
                    <a:ext cx="209160" cy="587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椭圆 1518"/>
                  <p:cNvSpPr/>
                  <p:nvPr/>
                </p:nvSpPr>
                <p:spPr>
                  <a:xfrm rot="1981200">
                    <a:off x="6861600" y="2880000"/>
                    <a:ext cx="237960" cy="587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椭圆 1519"/>
                  <p:cNvSpPr/>
                  <p:nvPr/>
                </p:nvSpPr>
                <p:spPr>
                  <a:xfrm rot="4173000">
                    <a:off x="6948360" y="2986560"/>
                    <a:ext cx="254160" cy="587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椭圆 1520"/>
                  <p:cNvSpPr/>
                  <p:nvPr/>
                </p:nvSpPr>
                <p:spPr>
                  <a:xfrm rot="5400000">
                    <a:off x="7016040" y="3111480"/>
                    <a:ext cx="208800" cy="587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椭圆 1521"/>
                  <p:cNvSpPr/>
                  <p:nvPr/>
                </p:nvSpPr>
                <p:spPr>
                  <a:xfrm rot="19085400">
                    <a:off x="6659280" y="2907000"/>
                    <a:ext cx="224640" cy="660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椭圆 1522"/>
                  <p:cNvSpPr/>
                  <p:nvPr/>
                </p:nvSpPr>
                <p:spPr>
                  <a:xfrm rot="17691600">
                    <a:off x="6573240" y="2990880"/>
                    <a:ext cx="224640" cy="659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组合 1511"/>
                <p:cNvGrpSpPr/>
                <p:nvPr/>
              </p:nvGrpSpPr>
              <p:grpSpPr>
                <a:xfrm>
                  <a:off x="6352200" y="3185640"/>
                  <a:ext cx="1035360" cy="707400"/>
                  <a:chOff x="6352200" y="3185640"/>
                  <a:chExt cx="1035360" cy="707400"/>
                </a:xfrm>
              </p:grpSpPr>
              <p:sp>
                <p:nvSpPr>
                  <p:cNvPr id="209" name="椭圆 1512"/>
                  <p:cNvSpPr/>
                  <p:nvPr/>
                </p:nvSpPr>
                <p:spPr>
                  <a:xfrm flipV="1" rot="715800">
                    <a:off x="6719400" y="3273840"/>
                    <a:ext cx="209160" cy="587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椭圆 1513"/>
                  <p:cNvSpPr/>
                  <p:nvPr/>
                </p:nvSpPr>
                <p:spPr>
                  <a:xfrm flipV="1" rot="20334600">
                    <a:off x="6838200" y="3281760"/>
                    <a:ext cx="237960" cy="587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椭圆 1514"/>
                  <p:cNvSpPr/>
                  <p:nvPr/>
                </p:nvSpPr>
                <p:spPr>
                  <a:xfrm flipV="1" rot="18142800">
                    <a:off x="6944400" y="3197880"/>
                    <a:ext cx="254160" cy="587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椭圆 1515"/>
                  <p:cNvSpPr/>
                  <p:nvPr/>
                </p:nvSpPr>
                <p:spPr>
                  <a:xfrm flipV="1" rot="3230400">
                    <a:off x="6653160" y="3140640"/>
                    <a:ext cx="224640" cy="660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椭圆 1516"/>
                  <p:cNvSpPr/>
                  <p:nvPr/>
                </p:nvSpPr>
                <p:spPr>
                  <a:xfrm flipV="1" rot="4623600">
                    <a:off x="6586200" y="3040920"/>
                    <a:ext cx="224640" cy="659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" name="组合 1496"/>
              <p:cNvGrpSpPr/>
              <p:nvPr/>
            </p:nvGrpSpPr>
            <p:grpSpPr>
              <a:xfrm>
                <a:off x="6552000" y="3043800"/>
                <a:ext cx="662040" cy="636120"/>
                <a:chOff x="6552000" y="3043800"/>
                <a:chExt cx="662040" cy="636120"/>
              </a:xfrm>
            </p:grpSpPr>
            <p:grpSp>
              <p:nvGrpSpPr>
                <p:cNvPr id="215" name="组合 1497"/>
                <p:cNvGrpSpPr/>
                <p:nvPr/>
              </p:nvGrpSpPr>
              <p:grpSpPr>
                <a:xfrm>
                  <a:off x="6552000" y="3043800"/>
                  <a:ext cx="662040" cy="432000"/>
                  <a:chOff x="6552000" y="3043800"/>
                  <a:chExt cx="662040" cy="432000"/>
                </a:xfrm>
              </p:grpSpPr>
              <p:sp>
                <p:nvSpPr>
                  <p:cNvPr id="216" name="椭圆 1504"/>
                  <p:cNvSpPr/>
                  <p:nvPr/>
                </p:nvSpPr>
                <p:spPr>
                  <a:xfrm>
                    <a:off x="6801840" y="3043800"/>
                    <a:ext cx="128880" cy="361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椭圆 1505"/>
                  <p:cNvSpPr/>
                  <p:nvPr/>
                </p:nvSpPr>
                <p:spPr>
                  <a:xfrm rot="1981200">
                    <a:off x="6873480" y="3055320"/>
                    <a:ext cx="146520" cy="361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椭圆 1506"/>
                  <p:cNvSpPr/>
                  <p:nvPr/>
                </p:nvSpPr>
                <p:spPr>
                  <a:xfrm rot="4173000">
                    <a:off x="6927120" y="3121200"/>
                    <a:ext cx="156600" cy="361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椭圆 1507"/>
                  <p:cNvSpPr/>
                  <p:nvPr/>
                </p:nvSpPr>
                <p:spPr>
                  <a:xfrm rot="5400000">
                    <a:off x="6968880" y="3198600"/>
                    <a:ext cx="128520" cy="361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椭圆 1508"/>
                  <p:cNvSpPr/>
                  <p:nvPr/>
                </p:nvSpPr>
                <p:spPr>
                  <a:xfrm rot="19085400">
                    <a:off x="6749280" y="3072240"/>
                    <a:ext cx="138240" cy="40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椭圆 1509"/>
                  <p:cNvSpPr/>
                  <p:nvPr/>
                </p:nvSpPr>
                <p:spPr>
                  <a:xfrm rot="17691600">
                    <a:off x="6696000" y="3124080"/>
                    <a:ext cx="138240" cy="40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组合 1498"/>
                <p:cNvGrpSpPr/>
                <p:nvPr/>
              </p:nvGrpSpPr>
              <p:grpSpPr>
                <a:xfrm>
                  <a:off x="6559920" y="3243960"/>
                  <a:ext cx="638280" cy="435960"/>
                  <a:chOff x="6559920" y="3243960"/>
                  <a:chExt cx="638280" cy="435960"/>
                </a:xfrm>
              </p:grpSpPr>
              <p:sp>
                <p:nvSpPr>
                  <p:cNvPr id="223" name="椭圆 1499"/>
                  <p:cNvSpPr/>
                  <p:nvPr/>
                </p:nvSpPr>
                <p:spPr>
                  <a:xfrm flipV="1" rot="715800">
                    <a:off x="6786360" y="3298320"/>
                    <a:ext cx="128880" cy="361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椭圆 1500"/>
                  <p:cNvSpPr/>
                  <p:nvPr/>
                </p:nvSpPr>
                <p:spPr>
                  <a:xfrm flipV="1" rot="20334600">
                    <a:off x="6859080" y="3303720"/>
                    <a:ext cx="146520" cy="361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椭圆 1501"/>
                  <p:cNvSpPr/>
                  <p:nvPr/>
                </p:nvSpPr>
                <p:spPr>
                  <a:xfrm flipV="1" rot="18142800">
                    <a:off x="6924960" y="3251160"/>
                    <a:ext cx="156600" cy="362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椭圆 1502"/>
                  <p:cNvSpPr/>
                  <p:nvPr/>
                </p:nvSpPr>
                <p:spPr>
                  <a:xfrm flipV="1" rot="3230400">
                    <a:off x="6745320" y="3215880"/>
                    <a:ext cx="138240" cy="40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椭圆 1503"/>
                  <p:cNvSpPr/>
                  <p:nvPr/>
                </p:nvSpPr>
                <p:spPr>
                  <a:xfrm flipV="1" rot="4623600">
                    <a:off x="6703920" y="3154680"/>
                    <a:ext cx="138240" cy="406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8" name="组合 1523"/>
            <p:cNvGrpSpPr/>
            <p:nvPr/>
          </p:nvGrpSpPr>
          <p:grpSpPr>
            <a:xfrm>
              <a:off x="7447680" y="3210120"/>
              <a:ext cx="727920" cy="698760"/>
              <a:chOff x="7447680" y="3210120"/>
              <a:chExt cx="727920" cy="698760"/>
            </a:xfrm>
          </p:grpSpPr>
          <p:grpSp>
            <p:nvGrpSpPr>
              <p:cNvPr id="229" name="组合 1524"/>
              <p:cNvGrpSpPr/>
              <p:nvPr/>
            </p:nvGrpSpPr>
            <p:grpSpPr>
              <a:xfrm>
                <a:off x="7447680" y="3210120"/>
                <a:ext cx="727920" cy="698760"/>
                <a:chOff x="7447680" y="3210120"/>
                <a:chExt cx="727920" cy="698760"/>
              </a:xfrm>
            </p:grpSpPr>
            <p:grpSp>
              <p:nvGrpSpPr>
                <p:cNvPr id="230" name="组合 1539"/>
                <p:cNvGrpSpPr/>
                <p:nvPr/>
              </p:nvGrpSpPr>
              <p:grpSpPr>
                <a:xfrm>
                  <a:off x="7447680" y="3210120"/>
                  <a:ext cx="727920" cy="474480"/>
                  <a:chOff x="7447680" y="3210120"/>
                  <a:chExt cx="727920" cy="474480"/>
                </a:xfrm>
              </p:grpSpPr>
              <p:sp>
                <p:nvSpPr>
                  <p:cNvPr id="231" name="椭圆 1546"/>
                  <p:cNvSpPr/>
                  <p:nvPr/>
                </p:nvSpPr>
                <p:spPr>
                  <a:xfrm>
                    <a:off x="7722000" y="3210120"/>
                    <a:ext cx="141480" cy="397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椭圆 1547"/>
                  <p:cNvSpPr/>
                  <p:nvPr/>
                </p:nvSpPr>
                <p:spPr>
                  <a:xfrm rot="1981200">
                    <a:off x="7801560" y="3223440"/>
                    <a:ext cx="160920" cy="397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椭圆 1548"/>
                  <p:cNvSpPr/>
                  <p:nvPr/>
                </p:nvSpPr>
                <p:spPr>
                  <a:xfrm rot="4173000">
                    <a:off x="7860240" y="3295080"/>
                    <a:ext cx="172080" cy="397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椭圆 1549"/>
                  <p:cNvSpPr/>
                  <p:nvPr/>
                </p:nvSpPr>
                <p:spPr>
                  <a:xfrm rot="5400000">
                    <a:off x="7906320" y="3380040"/>
                    <a:ext cx="141120" cy="397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椭圆 1550"/>
                  <p:cNvSpPr/>
                  <p:nvPr/>
                </p:nvSpPr>
                <p:spPr>
                  <a:xfrm rot="19085400">
                    <a:off x="7664400" y="3241440"/>
                    <a:ext cx="151920" cy="446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椭圆 1551"/>
                  <p:cNvSpPr/>
                  <p:nvPr/>
                </p:nvSpPr>
                <p:spPr>
                  <a:xfrm rot="17691600">
                    <a:off x="7606080" y="3297960"/>
                    <a:ext cx="151920" cy="446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组合 1540"/>
                <p:cNvGrpSpPr/>
                <p:nvPr/>
              </p:nvGrpSpPr>
              <p:grpSpPr>
                <a:xfrm>
                  <a:off x="7456680" y="3430800"/>
                  <a:ext cx="701280" cy="478080"/>
                  <a:chOff x="7456680" y="3430800"/>
                  <a:chExt cx="701280" cy="478080"/>
                </a:xfrm>
              </p:grpSpPr>
              <p:sp>
                <p:nvSpPr>
                  <p:cNvPr id="238" name="椭圆 1541"/>
                  <p:cNvSpPr/>
                  <p:nvPr/>
                </p:nvSpPr>
                <p:spPr>
                  <a:xfrm flipV="1" rot="715800">
                    <a:off x="7705080" y="3490200"/>
                    <a:ext cx="141480" cy="397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椭圆 1542"/>
                  <p:cNvSpPr/>
                  <p:nvPr/>
                </p:nvSpPr>
                <p:spPr>
                  <a:xfrm flipV="1" rot="20334600">
                    <a:off x="7785720" y="3495240"/>
                    <a:ext cx="160920" cy="397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椭圆 1543"/>
                  <p:cNvSpPr/>
                  <p:nvPr/>
                </p:nvSpPr>
                <p:spPr>
                  <a:xfrm flipV="1" rot="18142800">
                    <a:off x="7857720" y="3438360"/>
                    <a:ext cx="172080" cy="397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椭圆 1544"/>
                  <p:cNvSpPr/>
                  <p:nvPr/>
                </p:nvSpPr>
                <p:spPr>
                  <a:xfrm flipV="1" rot="3230400">
                    <a:off x="7660440" y="3400200"/>
                    <a:ext cx="151920" cy="446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椭圆 1545"/>
                  <p:cNvSpPr/>
                  <p:nvPr/>
                </p:nvSpPr>
                <p:spPr>
                  <a:xfrm flipV="1" rot="4623600">
                    <a:off x="7615080" y="3332520"/>
                    <a:ext cx="151920" cy="446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3" name="组合 1525"/>
              <p:cNvGrpSpPr/>
              <p:nvPr/>
            </p:nvGrpSpPr>
            <p:grpSpPr>
              <a:xfrm>
                <a:off x="7591680" y="3334320"/>
                <a:ext cx="448200" cy="430920"/>
                <a:chOff x="7591680" y="3334320"/>
                <a:chExt cx="448200" cy="430920"/>
              </a:xfrm>
            </p:grpSpPr>
            <p:grpSp>
              <p:nvGrpSpPr>
                <p:cNvPr id="244" name="组合 1526"/>
                <p:cNvGrpSpPr/>
                <p:nvPr/>
              </p:nvGrpSpPr>
              <p:grpSpPr>
                <a:xfrm>
                  <a:off x="7591680" y="3334320"/>
                  <a:ext cx="448200" cy="291960"/>
                  <a:chOff x="7591680" y="3334320"/>
                  <a:chExt cx="448200" cy="291960"/>
                </a:xfrm>
              </p:grpSpPr>
              <p:sp>
                <p:nvSpPr>
                  <p:cNvPr id="245" name="椭圆 1533"/>
                  <p:cNvSpPr/>
                  <p:nvPr/>
                </p:nvSpPr>
                <p:spPr>
                  <a:xfrm>
                    <a:off x="7760520" y="3334320"/>
                    <a:ext cx="87120" cy="244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椭圆 1534"/>
                  <p:cNvSpPr/>
                  <p:nvPr/>
                </p:nvSpPr>
                <p:spPr>
                  <a:xfrm rot="1981200">
                    <a:off x="7809120" y="3342240"/>
                    <a:ext cx="99000" cy="244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椭圆 1535"/>
                  <p:cNvSpPr/>
                  <p:nvPr/>
                </p:nvSpPr>
                <p:spPr>
                  <a:xfrm rot="4173000">
                    <a:off x="7845480" y="3386520"/>
                    <a:ext cx="105840" cy="244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椭圆 1536"/>
                  <p:cNvSpPr/>
                  <p:nvPr/>
                </p:nvSpPr>
                <p:spPr>
                  <a:xfrm rot="5400000">
                    <a:off x="7873920" y="3439080"/>
                    <a:ext cx="87120" cy="244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椭圆 1537"/>
                  <p:cNvSpPr/>
                  <p:nvPr/>
                </p:nvSpPr>
                <p:spPr>
                  <a:xfrm rot="19085400">
                    <a:off x="7724880" y="3353760"/>
                    <a:ext cx="93600" cy="275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椭圆 1538"/>
                  <p:cNvSpPr/>
                  <p:nvPr/>
                </p:nvSpPr>
                <p:spPr>
                  <a:xfrm rot="17691600">
                    <a:off x="7689240" y="3388320"/>
                    <a:ext cx="93600" cy="275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组合 1527"/>
                <p:cNvGrpSpPr/>
                <p:nvPr/>
              </p:nvGrpSpPr>
              <p:grpSpPr>
                <a:xfrm>
                  <a:off x="7597080" y="3470400"/>
                  <a:ext cx="431640" cy="294840"/>
                  <a:chOff x="7597080" y="3470400"/>
                  <a:chExt cx="431640" cy="294840"/>
                </a:xfrm>
              </p:grpSpPr>
              <p:sp>
                <p:nvSpPr>
                  <p:cNvPr id="252" name="椭圆 1528"/>
                  <p:cNvSpPr/>
                  <p:nvPr/>
                </p:nvSpPr>
                <p:spPr>
                  <a:xfrm flipV="1" rot="715800">
                    <a:off x="7749720" y="3506760"/>
                    <a:ext cx="87120" cy="244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椭圆 1529"/>
                  <p:cNvSpPr/>
                  <p:nvPr/>
                </p:nvSpPr>
                <p:spPr>
                  <a:xfrm flipV="1" rot="20334600">
                    <a:off x="7799040" y="3510360"/>
                    <a:ext cx="99000" cy="244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椭圆 1530"/>
                  <p:cNvSpPr/>
                  <p:nvPr/>
                </p:nvSpPr>
                <p:spPr>
                  <a:xfrm flipV="1" rot="18142800">
                    <a:off x="7844040" y="3475440"/>
                    <a:ext cx="105840" cy="244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椭圆 1531"/>
                  <p:cNvSpPr/>
                  <p:nvPr/>
                </p:nvSpPr>
                <p:spPr>
                  <a:xfrm flipV="1" rot="3230400">
                    <a:off x="7722720" y="3451320"/>
                    <a:ext cx="93600" cy="275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椭圆 1532"/>
                  <p:cNvSpPr/>
                  <p:nvPr/>
                </p:nvSpPr>
                <p:spPr>
                  <a:xfrm flipV="1" rot="4623600">
                    <a:off x="7694640" y="3409560"/>
                    <a:ext cx="93600" cy="275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7" name="组合 1552"/>
            <p:cNvGrpSpPr/>
            <p:nvPr/>
          </p:nvGrpSpPr>
          <p:grpSpPr>
            <a:xfrm>
              <a:off x="5068440" y="3464640"/>
              <a:ext cx="687960" cy="660240"/>
              <a:chOff x="5068440" y="3464640"/>
              <a:chExt cx="687960" cy="660240"/>
            </a:xfrm>
          </p:grpSpPr>
          <p:grpSp>
            <p:nvGrpSpPr>
              <p:cNvPr id="258" name="组合 1553"/>
              <p:cNvGrpSpPr/>
              <p:nvPr/>
            </p:nvGrpSpPr>
            <p:grpSpPr>
              <a:xfrm>
                <a:off x="5068440" y="3464640"/>
                <a:ext cx="687960" cy="660240"/>
                <a:chOff x="5068440" y="3464640"/>
                <a:chExt cx="687960" cy="660240"/>
              </a:xfrm>
            </p:grpSpPr>
            <p:grpSp>
              <p:nvGrpSpPr>
                <p:cNvPr id="259" name="组合 1568"/>
                <p:cNvGrpSpPr/>
                <p:nvPr/>
              </p:nvGrpSpPr>
              <p:grpSpPr>
                <a:xfrm>
                  <a:off x="5068440" y="3464640"/>
                  <a:ext cx="687960" cy="447840"/>
                  <a:chOff x="5068440" y="3464640"/>
                  <a:chExt cx="687960" cy="447840"/>
                </a:xfrm>
              </p:grpSpPr>
              <p:sp>
                <p:nvSpPr>
                  <p:cNvPr id="260" name="椭圆 1575"/>
                  <p:cNvSpPr/>
                  <p:nvPr/>
                </p:nvSpPr>
                <p:spPr>
                  <a:xfrm>
                    <a:off x="5327640" y="3464640"/>
                    <a:ext cx="133920" cy="375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椭圆 1576"/>
                  <p:cNvSpPr/>
                  <p:nvPr/>
                </p:nvSpPr>
                <p:spPr>
                  <a:xfrm rot="1981200">
                    <a:off x="5402880" y="3476880"/>
                    <a:ext cx="152280" cy="375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椭圆 1577"/>
                  <p:cNvSpPr/>
                  <p:nvPr/>
                </p:nvSpPr>
                <p:spPr>
                  <a:xfrm rot="4173000">
                    <a:off x="5457960" y="3545280"/>
                    <a:ext cx="162720" cy="375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椭圆 1578"/>
                  <p:cNvSpPr/>
                  <p:nvPr/>
                </p:nvSpPr>
                <p:spPr>
                  <a:xfrm rot="5400000">
                    <a:off x="5501520" y="3624840"/>
                    <a:ext cx="133560" cy="375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椭圆 1579"/>
                  <p:cNvSpPr/>
                  <p:nvPr/>
                </p:nvSpPr>
                <p:spPr>
                  <a:xfrm rot="19085400">
                    <a:off x="5272920" y="3494160"/>
                    <a:ext cx="143640" cy="4219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椭圆 1580"/>
                  <p:cNvSpPr/>
                  <p:nvPr/>
                </p:nvSpPr>
                <p:spPr>
                  <a:xfrm rot="17691600">
                    <a:off x="5218200" y="3547440"/>
                    <a:ext cx="143640" cy="422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组合 1569"/>
                <p:cNvGrpSpPr/>
                <p:nvPr/>
              </p:nvGrpSpPr>
              <p:grpSpPr>
                <a:xfrm>
                  <a:off x="5076720" y="3672720"/>
                  <a:ext cx="662760" cy="452160"/>
                  <a:chOff x="5076720" y="3672720"/>
                  <a:chExt cx="662760" cy="452160"/>
                </a:xfrm>
              </p:grpSpPr>
              <p:sp>
                <p:nvSpPr>
                  <p:cNvPr id="267" name="椭圆 1570"/>
                  <p:cNvSpPr/>
                  <p:nvPr/>
                </p:nvSpPr>
                <p:spPr>
                  <a:xfrm flipV="1" rot="715800">
                    <a:off x="5311800" y="3728520"/>
                    <a:ext cx="133920" cy="3762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椭圆 1571"/>
                  <p:cNvSpPr/>
                  <p:nvPr/>
                </p:nvSpPr>
                <p:spPr>
                  <a:xfrm flipV="1" rot="20334600">
                    <a:off x="5387760" y="3734280"/>
                    <a:ext cx="152280" cy="375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椭圆 1572"/>
                  <p:cNvSpPr/>
                  <p:nvPr/>
                </p:nvSpPr>
                <p:spPr>
                  <a:xfrm flipV="1" rot="18142800">
                    <a:off x="5455440" y="3679560"/>
                    <a:ext cx="162720" cy="375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椭圆 1573"/>
                  <p:cNvSpPr/>
                  <p:nvPr/>
                </p:nvSpPr>
                <p:spPr>
                  <a:xfrm flipV="1" rot="3230400">
                    <a:off x="5268960" y="3643560"/>
                    <a:ext cx="143640" cy="4219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椭圆 1574"/>
                  <p:cNvSpPr/>
                  <p:nvPr/>
                </p:nvSpPr>
                <p:spPr>
                  <a:xfrm flipV="1" rot="4623600">
                    <a:off x="5226840" y="3579840"/>
                    <a:ext cx="143640" cy="422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2" name="组合 1554"/>
              <p:cNvGrpSpPr/>
              <p:nvPr/>
            </p:nvGrpSpPr>
            <p:grpSpPr>
              <a:xfrm>
                <a:off x="5204160" y="3582000"/>
                <a:ext cx="423720" cy="407160"/>
                <a:chOff x="5204160" y="3582000"/>
                <a:chExt cx="423720" cy="407160"/>
              </a:xfrm>
            </p:grpSpPr>
            <p:grpSp>
              <p:nvGrpSpPr>
                <p:cNvPr id="273" name="组合 1555"/>
                <p:cNvGrpSpPr/>
                <p:nvPr/>
              </p:nvGrpSpPr>
              <p:grpSpPr>
                <a:xfrm>
                  <a:off x="5204160" y="3582000"/>
                  <a:ext cx="423720" cy="276480"/>
                  <a:chOff x="5204160" y="3582000"/>
                  <a:chExt cx="423720" cy="276480"/>
                </a:xfrm>
              </p:grpSpPr>
              <p:sp>
                <p:nvSpPr>
                  <p:cNvPr id="274" name="椭圆 1562"/>
                  <p:cNvSpPr/>
                  <p:nvPr/>
                </p:nvSpPr>
                <p:spPr>
                  <a:xfrm>
                    <a:off x="5364000" y="3582000"/>
                    <a:ext cx="82440" cy="23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椭圆 1563"/>
                  <p:cNvSpPr/>
                  <p:nvPr/>
                </p:nvSpPr>
                <p:spPr>
                  <a:xfrm rot="1981200">
                    <a:off x="5409720" y="3589560"/>
                    <a:ext cx="93960" cy="23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椭圆 1564"/>
                  <p:cNvSpPr/>
                  <p:nvPr/>
                </p:nvSpPr>
                <p:spPr>
                  <a:xfrm rot="4173000">
                    <a:off x="5443920" y="3632040"/>
                    <a:ext cx="100080" cy="231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椭圆 1565"/>
                  <p:cNvSpPr/>
                  <p:nvPr/>
                </p:nvSpPr>
                <p:spPr>
                  <a:xfrm rot="5400000">
                    <a:off x="5470920" y="3681000"/>
                    <a:ext cx="82440" cy="231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椭圆 1566"/>
                  <p:cNvSpPr/>
                  <p:nvPr/>
                </p:nvSpPr>
                <p:spPr>
                  <a:xfrm rot="19085400">
                    <a:off x="5330520" y="3600360"/>
                    <a:ext cx="88560" cy="260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椭圆 1567"/>
                  <p:cNvSpPr/>
                  <p:nvPr/>
                </p:nvSpPr>
                <p:spPr>
                  <a:xfrm rot="17691600">
                    <a:off x="5296320" y="3633120"/>
                    <a:ext cx="88560" cy="260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组合 1556"/>
                <p:cNvGrpSpPr/>
                <p:nvPr/>
              </p:nvGrpSpPr>
              <p:grpSpPr>
                <a:xfrm>
                  <a:off x="5209200" y="3710160"/>
                  <a:ext cx="408600" cy="279000"/>
                  <a:chOff x="5209200" y="3710160"/>
                  <a:chExt cx="408600" cy="279000"/>
                </a:xfrm>
              </p:grpSpPr>
              <p:sp>
                <p:nvSpPr>
                  <p:cNvPr id="281" name="椭圆 1557"/>
                  <p:cNvSpPr/>
                  <p:nvPr/>
                </p:nvSpPr>
                <p:spPr>
                  <a:xfrm flipV="1" rot="715800">
                    <a:off x="5353920" y="3744360"/>
                    <a:ext cx="82440" cy="23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椭圆 1558"/>
                  <p:cNvSpPr/>
                  <p:nvPr/>
                </p:nvSpPr>
                <p:spPr>
                  <a:xfrm flipV="1" rot="20334600">
                    <a:off x="5400720" y="3747600"/>
                    <a:ext cx="93960" cy="23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椭圆 1559"/>
                  <p:cNvSpPr/>
                  <p:nvPr/>
                </p:nvSpPr>
                <p:spPr>
                  <a:xfrm flipV="1" rot="18142800">
                    <a:off x="5442840" y="3714480"/>
                    <a:ext cx="100080" cy="23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椭圆 1560"/>
                  <p:cNvSpPr/>
                  <p:nvPr/>
                </p:nvSpPr>
                <p:spPr>
                  <a:xfrm flipV="1" rot="3230400">
                    <a:off x="5328000" y="3691800"/>
                    <a:ext cx="88560" cy="260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椭圆 1561"/>
                  <p:cNvSpPr/>
                  <p:nvPr/>
                </p:nvSpPr>
                <p:spPr>
                  <a:xfrm flipV="1" rot="4623600">
                    <a:off x="5301360" y="3652920"/>
                    <a:ext cx="88560" cy="260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6" name="组合 1581"/>
            <p:cNvGrpSpPr/>
            <p:nvPr/>
          </p:nvGrpSpPr>
          <p:grpSpPr>
            <a:xfrm>
              <a:off x="5789880" y="3315960"/>
              <a:ext cx="617040" cy="592560"/>
              <a:chOff x="5789880" y="3315960"/>
              <a:chExt cx="617040" cy="592560"/>
            </a:xfrm>
          </p:grpSpPr>
          <p:grpSp>
            <p:nvGrpSpPr>
              <p:cNvPr id="287" name="组合 1582"/>
              <p:cNvGrpSpPr/>
              <p:nvPr/>
            </p:nvGrpSpPr>
            <p:grpSpPr>
              <a:xfrm>
                <a:off x="5789880" y="3315960"/>
                <a:ext cx="617040" cy="592560"/>
                <a:chOff x="5789880" y="3315960"/>
                <a:chExt cx="617040" cy="592560"/>
              </a:xfrm>
            </p:grpSpPr>
            <p:grpSp>
              <p:nvGrpSpPr>
                <p:cNvPr id="288" name="组合 1597"/>
                <p:cNvGrpSpPr/>
                <p:nvPr/>
              </p:nvGrpSpPr>
              <p:grpSpPr>
                <a:xfrm>
                  <a:off x="5789880" y="3315960"/>
                  <a:ext cx="617040" cy="402480"/>
                  <a:chOff x="5789880" y="3315960"/>
                  <a:chExt cx="617040" cy="402480"/>
                </a:xfrm>
              </p:grpSpPr>
              <p:sp>
                <p:nvSpPr>
                  <p:cNvPr id="289" name="椭圆 1604"/>
                  <p:cNvSpPr/>
                  <p:nvPr/>
                </p:nvSpPr>
                <p:spPr>
                  <a:xfrm>
                    <a:off x="6022800" y="3315960"/>
                    <a:ext cx="11988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椭圆 1605"/>
                  <p:cNvSpPr/>
                  <p:nvPr/>
                </p:nvSpPr>
                <p:spPr>
                  <a:xfrm rot="1981200">
                    <a:off x="6089760" y="3327120"/>
                    <a:ext cx="13644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椭圆 1606"/>
                  <p:cNvSpPr/>
                  <p:nvPr/>
                </p:nvSpPr>
                <p:spPr>
                  <a:xfrm rot="4173000">
                    <a:off x="6139800" y="3387960"/>
                    <a:ext cx="14580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椭圆 1607"/>
                  <p:cNvSpPr/>
                  <p:nvPr/>
                </p:nvSpPr>
                <p:spPr>
                  <a:xfrm rot="5400000">
                    <a:off x="6178320" y="3459960"/>
                    <a:ext cx="11988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椭圆 1608"/>
                  <p:cNvSpPr/>
                  <p:nvPr/>
                </p:nvSpPr>
                <p:spPr>
                  <a:xfrm rot="19085400">
                    <a:off x="5973480" y="3342240"/>
                    <a:ext cx="128880" cy="3787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椭圆 1609"/>
                  <p:cNvSpPr/>
                  <p:nvPr/>
                </p:nvSpPr>
                <p:spPr>
                  <a:xfrm rot="17691600">
                    <a:off x="5924160" y="3391200"/>
                    <a:ext cx="128880" cy="3783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" name="组合 1598"/>
                <p:cNvGrpSpPr/>
                <p:nvPr/>
              </p:nvGrpSpPr>
              <p:grpSpPr>
                <a:xfrm>
                  <a:off x="5797080" y="3502800"/>
                  <a:ext cx="594720" cy="405720"/>
                  <a:chOff x="5797080" y="3502800"/>
                  <a:chExt cx="594720" cy="405720"/>
                </a:xfrm>
              </p:grpSpPr>
              <p:sp>
                <p:nvSpPr>
                  <p:cNvPr id="296" name="椭圆 1599"/>
                  <p:cNvSpPr/>
                  <p:nvPr/>
                </p:nvSpPr>
                <p:spPr>
                  <a:xfrm flipV="1" rot="715800">
                    <a:off x="6008400" y="3553200"/>
                    <a:ext cx="11988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椭圆 1600"/>
                  <p:cNvSpPr/>
                  <p:nvPr/>
                </p:nvSpPr>
                <p:spPr>
                  <a:xfrm flipV="1" rot="20334600">
                    <a:off x="6076440" y="3557160"/>
                    <a:ext cx="136440" cy="3373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椭圆 1601"/>
                  <p:cNvSpPr/>
                  <p:nvPr/>
                </p:nvSpPr>
                <p:spPr>
                  <a:xfrm flipV="1" rot="18142800">
                    <a:off x="6137280" y="3509640"/>
                    <a:ext cx="14580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椭圆 1602"/>
                  <p:cNvSpPr/>
                  <p:nvPr/>
                </p:nvSpPr>
                <p:spPr>
                  <a:xfrm flipV="1" rot="3230400">
                    <a:off x="5969880" y="3476880"/>
                    <a:ext cx="128880" cy="379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椭圆 1603"/>
                  <p:cNvSpPr/>
                  <p:nvPr/>
                </p:nvSpPr>
                <p:spPr>
                  <a:xfrm flipV="1" rot="4623600">
                    <a:off x="5931360" y="3420000"/>
                    <a:ext cx="128880" cy="3787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1" name="组合 1583"/>
              <p:cNvGrpSpPr/>
              <p:nvPr/>
            </p:nvGrpSpPr>
            <p:grpSpPr>
              <a:xfrm>
                <a:off x="5911920" y="3421080"/>
                <a:ext cx="379800" cy="365400"/>
                <a:chOff x="5911920" y="3421080"/>
                <a:chExt cx="379800" cy="365400"/>
              </a:xfrm>
            </p:grpSpPr>
            <p:grpSp>
              <p:nvGrpSpPr>
                <p:cNvPr id="302" name="组合 1584"/>
                <p:cNvGrpSpPr/>
                <p:nvPr/>
              </p:nvGrpSpPr>
              <p:grpSpPr>
                <a:xfrm>
                  <a:off x="5911920" y="3421080"/>
                  <a:ext cx="379800" cy="247680"/>
                  <a:chOff x="5911920" y="3421080"/>
                  <a:chExt cx="379800" cy="247680"/>
                </a:xfrm>
              </p:grpSpPr>
              <p:sp>
                <p:nvSpPr>
                  <p:cNvPr id="303" name="椭圆 1591"/>
                  <p:cNvSpPr/>
                  <p:nvPr/>
                </p:nvSpPr>
                <p:spPr>
                  <a:xfrm>
                    <a:off x="6055200" y="3421080"/>
                    <a:ext cx="73800" cy="20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椭圆 1592"/>
                  <p:cNvSpPr/>
                  <p:nvPr/>
                </p:nvSpPr>
                <p:spPr>
                  <a:xfrm rot="1981200">
                    <a:off x="6096240" y="3427560"/>
                    <a:ext cx="83880" cy="20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椭圆 1593"/>
                  <p:cNvSpPr/>
                  <p:nvPr/>
                </p:nvSpPr>
                <p:spPr>
                  <a:xfrm rot="4173000">
                    <a:off x="6126480" y="3465360"/>
                    <a:ext cx="90000" cy="20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椭圆 1594"/>
                  <p:cNvSpPr/>
                  <p:nvPr/>
                </p:nvSpPr>
                <p:spPr>
                  <a:xfrm rot="5400000">
                    <a:off x="6150960" y="3510000"/>
                    <a:ext cx="73800" cy="20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椭圆 1595"/>
                  <p:cNvSpPr/>
                  <p:nvPr/>
                </p:nvSpPr>
                <p:spPr>
                  <a:xfrm rot="19085400">
                    <a:off x="6024960" y="3436920"/>
                    <a:ext cx="79200" cy="233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椭圆 1596"/>
                  <p:cNvSpPr/>
                  <p:nvPr/>
                </p:nvSpPr>
                <p:spPr>
                  <a:xfrm rot="17691600">
                    <a:off x="5994720" y="3467160"/>
                    <a:ext cx="792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组合 1585"/>
                <p:cNvGrpSpPr/>
                <p:nvPr/>
              </p:nvGrpSpPr>
              <p:grpSpPr>
                <a:xfrm>
                  <a:off x="5916240" y="3537000"/>
                  <a:ext cx="366120" cy="249480"/>
                  <a:chOff x="5916240" y="3537000"/>
                  <a:chExt cx="366120" cy="249480"/>
                </a:xfrm>
              </p:grpSpPr>
              <p:sp>
                <p:nvSpPr>
                  <p:cNvPr id="310" name="椭圆 1586"/>
                  <p:cNvSpPr/>
                  <p:nvPr/>
                </p:nvSpPr>
                <p:spPr>
                  <a:xfrm flipV="1" rot="715800">
                    <a:off x="6045840" y="3567600"/>
                    <a:ext cx="73800" cy="20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椭圆 1587"/>
                  <p:cNvSpPr/>
                  <p:nvPr/>
                </p:nvSpPr>
                <p:spPr>
                  <a:xfrm flipV="1" rot="20334600">
                    <a:off x="6087960" y="3570480"/>
                    <a:ext cx="83880" cy="20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椭圆 1588"/>
                  <p:cNvSpPr/>
                  <p:nvPr/>
                </p:nvSpPr>
                <p:spPr>
                  <a:xfrm flipV="1" rot="18142800">
                    <a:off x="6125400" y="3540600"/>
                    <a:ext cx="90000" cy="20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椭圆 1589"/>
                  <p:cNvSpPr/>
                  <p:nvPr/>
                </p:nvSpPr>
                <p:spPr>
                  <a:xfrm flipV="1" rot="3230400">
                    <a:off x="6022440" y="3521160"/>
                    <a:ext cx="79200" cy="233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椭圆 1590"/>
                  <p:cNvSpPr/>
                  <p:nvPr/>
                </p:nvSpPr>
                <p:spPr>
                  <a:xfrm flipV="1" rot="4623600">
                    <a:off x="5999040" y="3484440"/>
                    <a:ext cx="792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5" name="组合 1610"/>
            <p:cNvGrpSpPr/>
            <p:nvPr/>
          </p:nvGrpSpPr>
          <p:grpSpPr>
            <a:xfrm>
              <a:off x="5466600" y="4177080"/>
              <a:ext cx="617040" cy="592560"/>
              <a:chOff x="5466600" y="4177080"/>
              <a:chExt cx="617040" cy="592560"/>
            </a:xfrm>
          </p:grpSpPr>
          <p:grpSp>
            <p:nvGrpSpPr>
              <p:cNvPr id="316" name="组合 1611"/>
              <p:cNvGrpSpPr/>
              <p:nvPr/>
            </p:nvGrpSpPr>
            <p:grpSpPr>
              <a:xfrm>
                <a:off x="5466600" y="4177080"/>
                <a:ext cx="617040" cy="592560"/>
                <a:chOff x="5466600" y="4177080"/>
                <a:chExt cx="617040" cy="592560"/>
              </a:xfrm>
            </p:grpSpPr>
            <p:grpSp>
              <p:nvGrpSpPr>
                <p:cNvPr id="317" name="组合 1626"/>
                <p:cNvGrpSpPr/>
                <p:nvPr/>
              </p:nvGrpSpPr>
              <p:grpSpPr>
                <a:xfrm>
                  <a:off x="5466600" y="4177080"/>
                  <a:ext cx="617040" cy="402480"/>
                  <a:chOff x="5466600" y="4177080"/>
                  <a:chExt cx="617040" cy="402480"/>
                </a:xfrm>
              </p:grpSpPr>
              <p:sp>
                <p:nvSpPr>
                  <p:cNvPr id="318" name="椭圆 1633"/>
                  <p:cNvSpPr/>
                  <p:nvPr/>
                </p:nvSpPr>
                <p:spPr>
                  <a:xfrm>
                    <a:off x="5699520" y="4177080"/>
                    <a:ext cx="11988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椭圆 1634"/>
                  <p:cNvSpPr/>
                  <p:nvPr/>
                </p:nvSpPr>
                <p:spPr>
                  <a:xfrm rot="1981200">
                    <a:off x="5766480" y="4188240"/>
                    <a:ext cx="13644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椭圆 1635"/>
                  <p:cNvSpPr/>
                  <p:nvPr/>
                </p:nvSpPr>
                <p:spPr>
                  <a:xfrm rot="4173000">
                    <a:off x="5816520" y="4249080"/>
                    <a:ext cx="14580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椭圆 1636"/>
                  <p:cNvSpPr/>
                  <p:nvPr/>
                </p:nvSpPr>
                <p:spPr>
                  <a:xfrm rot="5400000">
                    <a:off x="5855040" y="4321080"/>
                    <a:ext cx="11988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椭圆 1637"/>
                  <p:cNvSpPr/>
                  <p:nvPr/>
                </p:nvSpPr>
                <p:spPr>
                  <a:xfrm rot="19085400">
                    <a:off x="5650200" y="4203360"/>
                    <a:ext cx="128880" cy="3787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椭圆 1638"/>
                  <p:cNvSpPr/>
                  <p:nvPr/>
                </p:nvSpPr>
                <p:spPr>
                  <a:xfrm rot="17691600">
                    <a:off x="5600880" y="4252320"/>
                    <a:ext cx="128880" cy="3783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组合 1627"/>
                <p:cNvGrpSpPr/>
                <p:nvPr/>
              </p:nvGrpSpPr>
              <p:grpSpPr>
                <a:xfrm>
                  <a:off x="5473800" y="4363920"/>
                  <a:ext cx="594720" cy="405720"/>
                  <a:chOff x="5473800" y="4363920"/>
                  <a:chExt cx="594720" cy="405720"/>
                </a:xfrm>
              </p:grpSpPr>
              <p:sp>
                <p:nvSpPr>
                  <p:cNvPr id="325" name="椭圆 1628"/>
                  <p:cNvSpPr/>
                  <p:nvPr/>
                </p:nvSpPr>
                <p:spPr>
                  <a:xfrm flipV="1" rot="715800">
                    <a:off x="5685120" y="4414320"/>
                    <a:ext cx="11988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椭圆 1629"/>
                  <p:cNvSpPr/>
                  <p:nvPr/>
                </p:nvSpPr>
                <p:spPr>
                  <a:xfrm flipV="1" rot="20334600">
                    <a:off x="5753160" y="4418280"/>
                    <a:ext cx="136440" cy="3373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椭圆 1630"/>
                  <p:cNvSpPr/>
                  <p:nvPr/>
                </p:nvSpPr>
                <p:spPr>
                  <a:xfrm flipV="1" rot="18142800">
                    <a:off x="5814000" y="4370760"/>
                    <a:ext cx="14580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椭圆 1631"/>
                  <p:cNvSpPr/>
                  <p:nvPr/>
                </p:nvSpPr>
                <p:spPr>
                  <a:xfrm flipV="1" rot="3230400">
                    <a:off x="5646600" y="4338000"/>
                    <a:ext cx="128880" cy="379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椭圆 1632"/>
                  <p:cNvSpPr/>
                  <p:nvPr/>
                </p:nvSpPr>
                <p:spPr>
                  <a:xfrm flipV="1" rot="4623600">
                    <a:off x="5608080" y="4281120"/>
                    <a:ext cx="128880" cy="3787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0" name="组合 1612"/>
              <p:cNvGrpSpPr/>
              <p:nvPr/>
            </p:nvGrpSpPr>
            <p:grpSpPr>
              <a:xfrm>
                <a:off x="5588640" y="4282200"/>
                <a:ext cx="379800" cy="365400"/>
                <a:chOff x="5588640" y="4282200"/>
                <a:chExt cx="379800" cy="365400"/>
              </a:xfrm>
            </p:grpSpPr>
            <p:grpSp>
              <p:nvGrpSpPr>
                <p:cNvPr id="331" name="组合 1613"/>
                <p:cNvGrpSpPr/>
                <p:nvPr/>
              </p:nvGrpSpPr>
              <p:grpSpPr>
                <a:xfrm>
                  <a:off x="5588640" y="4282200"/>
                  <a:ext cx="379800" cy="247680"/>
                  <a:chOff x="5588640" y="4282200"/>
                  <a:chExt cx="379800" cy="247680"/>
                </a:xfrm>
              </p:grpSpPr>
              <p:sp>
                <p:nvSpPr>
                  <p:cNvPr id="332" name="椭圆 1620"/>
                  <p:cNvSpPr/>
                  <p:nvPr/>
                </p:nvSpPr>
                <p:spPr>
                  <a:xfrm>
                    <a:off x="5731920" y="4282200"/>
                    <a:ext cx="73800" cy="20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椭圆 1621"/>
                  <p:cNvSpPr/>
                  <p:nvPr/>
                </p:nvSpPr>
                <p:spPr>
                  <a:xfrm rot="1981200">
                    <a:off x="5772960" y="4288680"/>
                    <a:ext cx="83880" cy="20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椭圆 1622"/>
                  <p:cNvSpPr/>
                  <p:nvPr/>
                </p:nvSpPr>
                <p:spPr>
                  <a:xfrm rot="4173000">
                    <a:off x="5803200" y="4326480"/>
                    <a:ext cx="90000" cy="20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椭圆 1623"/>
                  <p:cNvSpPr/>
                  <p:nvPr/>
                </p:nvSpPr>
                <p:spPr>
                  <a:xfrm rot="5400000">
                    <a:off x="5827680" y="4371120"/>
                    <a:ext cx="73800" cy="20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椭圆 1624"/>
                  <p:cNvSpPr/>
                  <p:nvPr/>
                </p:nvSpPr>
                <p:spPr>
                  <a:xfrm rot="19085400">
                    <a:off x="5701680" y="4298040"/>
                    <a:ext cx="79200" cy="233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椭圆 1625"/>
                  <p:cNvSpPr/>
                  <p:nvPr/>
                </p:nvSpPr>
                <p:spPr>
                  <a:xfrm rot="17691600">
                    <a:off x="5671440" y="4328280"/>
                    <a:ext cx="792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组合 1614"/>
                <p:cNvGrpSpPr/>
                <p:nvPr/>
              </p:nvGrpSpPr>
              <p:grpSpPr>
                <a:xfrm>
                  <a:off x="5592960" y="4398120"/>
                  <a:ext cx="366120" cy="249480"/>
                  <a:chOff x="5592960" y="4398120"/>
                  <a:chExt cx="366120" cy="249480"/>
                </a:xfrm>
              </p:grpSpPr>
              <p:sp>
                <p:nvSpPr>
                  <p:cNvPr id="339" name="椭圆 1615"/>
                  <p:cNvSpPr/>
                  <p:nvPr/>
                </p:nvSpPr>
                <p:spPr>
                  <a:xfrm flipV="1" rot="715800">
                    <a:off x="5722560" y="4428720"/>
                    <a:ext cx="73800" cy="20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椭圆 1616"/>
                  <p:cNvSpPr/>
                  <p:nvPr/>
                </p:nvSpPr>
                <p:spPr>
                  <a:xfrm flipV="1" rot="20334600">
                    <a:off x="5764680" y="4431600"/>
                    <a:ext cx="83880" cy="20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椭圆 1617"/>
                  <p:cNvSpPr/>
                  <p:nvPr/>
                </p:nvSpPr>
                <p:spPr>
                  <a:xfrm flipV="1" rot="18142800">
                    <a:off x="5802120" y="4401720"/>
                    <a:ext cx="90000" cy="20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椭圆 1618"/>
                  <p:cNvSpPr/>
                  <p:nvPr/>
                </p:nvSpPr>
                <p:spPr>
                  <a:xfrm flipV="1" rot="3230400">
                    <a:off x="5699160" y="4382280"/>
                    <a:ext cx="79200" cy="233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椭圆 1619"/>
                  <p:cNvSpPr/>
                  <p:nvPr/>
                </p:nvSpPr>
                <p:spPr>
                  <a:xfrm flipV="1" rot="4623600">
                    <a:off x="5675760" y="4345560"/>
                    <a:ext cx="792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4" name="组合 1639"/>
            <p:cNvGrpSpPr/>
            <p:nvPr/>
          </p:nvGrpSpPr>
          <p:grpSpPr>
            <a:xfrm>
              <a:off x="7005600" y="4650840"/>
              <a:ext cx="617040" cy="592560"/>
              <a:chOff x="7005600" y="4650840"/>
              <a:chExt cx="617040" cy="592560"/>
            </a:xfrm>
          </p:grpSpPr>
          <p:grpSp>
            <p:nvGrpSpPr>
              <p:cNvPr id="345" name="组合 1640"/>
              <p:cNvGrpSpPr/>
              <p:nvPr/>
            </p:nvGrpSpPr>
            <p:grpSpPr>
              <a:xfrm>
                <a:off x="7005600" y="4650840"/>
                <a:ext cx="617040" cy="592560"/>
                <a:chOff x="7005600" y="4650840"/>
                <a:chExt cx="617040" cy="592560"/>
              </a:xfrm>
            </p:grpSpPr>
            <p:grpSp>
              <p:nvGrpSpPr>
                <p:cNvPr id="346" name="组合 1655"/>
                <p:cNvGrpSpPr/>
                <p:nvPr/>
              </p:nvGrpSpPr>
              <p:grpSpPr>
                <a:xfrm>
                  <a:off x="7005600" y="4650840"/>
                  <a:ext cx="617040" cy="402480"/>
                  <a:chOff x="7005600" y="4650840"/>
                  <a:chExt cx="617040" cy="402480"/>
                </a:xfrm>
              </p:grpSpPr>
              <p:sp>
                <p:nvSpPr>
                  <p:cNvPr id="347" name="椭圆 1662"/>
                  <p:cNvSpPr/>
                  <p:nvPr/>
                </p:nvSpPr>
                <p:spPr>
                  <a:xfrm>
                    <a:off x="7238520" y="4650840"/>
                    <a:ext cx="11988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椭圆 1663"/>
                  <p:cNvSpPr/>
                  <p:nvPr/>
                </p:nvSpPr>
                <p:spPr>
                  <a:xfrm rot="1981200">
                    <a:off x="7305480" y="4662000"/>
                    <a:ext cx="13644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椭圆 1664"/>
                  <p:cNvSpPr/>
                  <p:nvPr/>
                </p:nvSpPr>
                <p:spPr>
                  <a:xfrm rot="4173000">
                    <a:off x="7355520" y="4722840"/>
                    <a:ext cx="14580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椭圆 1665"/>
                  <p:cNvSpPr/>
                  <p:nvPr/>
                </p:nvSpPr>
                <p:spPr>
                  <a:xfrm rot="5400000">
                    <a:off x="7394040" y="4794840"/>
                    <a:ext cx="11988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椭圆 1666"/>
                  <p:cNvSpPr/>
                  <p:nvPr/>
                </p:nvSpPr>
                <p:spPr>
                  <a:xfrm rot="19085400">
                    <a:off x="7189200" y="4677120"/>
                    <a:ext cx="128880" cy="3787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椭圆 1667"/>
                  <p:cNvSpPr/>
                  <p:nvPr/>
                </p:nvSpPr>
                <p:spPr>
                  <a:xfrm rot="17691600">
                    <a:off x="7139880" y="4726080"/>
                    <a:ext cx="128880" cy="3783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组合 1656"/>
                <p:cNvGrpSpPr/>
                <p:nvPr/>
              </p:nvGrpSpPr>
              <p:grpSpPr>
                <a:xfrm>
                  <a:off x="7012800" y="4837680"/>
                  <a:ext cx="594720" cy="405720"/>
                  <a:chOff x="7012800" y="4837680"/>
                  <a:chExt cx="594720" cy="405720"/>
                </a:xfrm>
              </p:grpSpPr>
              <p:sp>
                <p:nvSpPr>
                  <p:cNvPr id="354" name="椭圆 1657"/>
                  <p:cNvSpPr/>
                  <p:nvPr/>
                </p:nvSpPr>
                <p:spPr>
                  <a:xfrm flipV="1" rot="715800">
                    <a:off x="7224120" y="4888080"/>
                    <a:ext cx="11988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椭圆 1658"/>
                  <p:cNvSpPr/>
                  <p:nvPr/>
                </p:nvSpPr>
                <p:spPr>
                  <a:xfrm flipV="1" rot="20334600">
                    <a:off x="7292160" y="4892040"/>
                    <a:ext cx="136440" cy="3373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椭圆 1659"/>
                  <p:cNvSpPr/>
                  <p:nvPr/>
                </p:nvSpPr>
                <p:spPr>
                  <a:xfrm flipV="1" rot="18142800">
                    <a:off x="7353000" y="4844520"/>
                    <a:ext cx="14580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椭圆 1660"/>
                  <p:cNvSpPr/>
                  <p:nvPr/>
                </p:nvSpPr>
                <p:spPr>
                  <a:xfrm flipV="1" rot="3230400">
                    <a:off x="7185600" y="4811760"/>
                    <a:ext cx="128880" cy="379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椭圆 1661"/>
                  <p:cNvSpPr/>
                  <p:nvPr/>
                </p:nvSpPr>
                <p:spPr>
                  <a:xfrm flipV="1" rot="4623600">
                    <a:off x="7147080" y="4754880"/>
                    <a:ext cx="128880" cy="3787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9" name="组合 1641"/>
              <p:cNvGrpSpPr/>
              <p:nvPr/>
            </p:nvGrpSpPr>
            <p:grpSpPr>
              <a:xfrm>
                <a:off x="7127640" y="4755960"/>
                <a:ext cx="379800" cy="365400"/>
                <a:chOff x="7127640" y="4755960"/>
                <a:chExt cx="379800" cy="365400"/>
              </a:xfrm>
            </p:grpSpPr>
            <p:grpSp>
              <p:nvGrpSpPr>
                <p:cNvPr id="360" name="组合 1642"/>
                <p:cNvGrpSpPr/>
                <p:nvPr/>
              </p:nvGrpSpPr>
              <p:grpSpPr>
                <a:xfrm>
                  <a:off x="7127640" y="4755960"/>
                  <a:ext cx="379800" cy="247680"/>
                  <a:chOff x="7127640" y="4755960"/>
                  <a:chExt cx="379800" cy="247680"/>
                </a:xfrm>
              </p:grpSpPr>
              <p:sp>
                <p:nvSpPr>
                  <p:cNvPr id="361" name="椭圆 1649"/>
                  <p:cNvSpPr/>
                  <p:nvPr/>
                </p:nvSpPr>
                <p:spPr>
                  <a:xfrm>
                    <a:off x="7270920" y="4755960"/>
                    <a:ext cx="73800" cy="20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椭圆 1650"/>
                  <p:cNvSpPr/>
                  <p:nvPr/>
                </p:nvSpPr>
                <p:spPr>
                  <a:xfrm rot="1981200">
                    <a:off x="7311960" y="4762440"/>
                    <a:ext cx="83880" cy="20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椭圆 1651"/>
                  <p:cNvSpPr/>
                  <p:nvPr/>
                </p:nvSpPr>
                <p:spPr>
                  <a:xfrm rot="4173000">
                    <a:off x="7342200" y="4800240"/>
                    <a:ext cx="90000" cy="20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椭圆 1652"/>
                  <p:cNvSpPr/>
                  <p:nvPr/>
                </p:nvSpPr>
                <p:spPr>
                  <a:xfrm rot="5400000">
                    <a:off x="7366680" y="4844880"/>
                    <a:ext cx="73800" cy="20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椭圆 1653"/>
                  <p:cNvSpPr/>
                  <p:nvPr/>
                </p:nvSpPr>
                <p:spPr>
                  <a:xfrm rot="19085400">
                    <a:off x="7240680" y="4771800"/>
                    <a:ext cx="79200" cy="233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椭圆 1654"/>
                  <p:cNvSpPr/>
                  <p:nvPr/>
                </p:nvSpPr>
                <p:spPr>
                  <a:xfrm rot="17691600">
                    <a:off x="7210440" y="4802040"/>
                    <a:ext cx="792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组合 1643"/>
                <p:cNvGrpSpPr/>
                <p:nvPr/>
              </p:nvGrpSpPr>
              <p:grpSpPr>
                <a:xfrm>
                  <a:off x="7131960" y="4871880"/>
                  <a:ext cx="366120" cy="249480"/>
                  <a:chOff x="7131960" y="4871880"/>
                  <a:chExt cx="366120" cy="249480"/>
                </a:xfrm>
              </p:grpSpPr>
              <p:sp>
                <p:nvSpPr>
                  <p:cNvPr id="368" name="椭圆 1644"/>
                  <p:cNvSpPr/>
                  <p:nvPr/>
                </p:nvSpPr>
                <p:spPr>
                  <a:xfrm flipV="1" rot="715800">
                    <a:off x="7261560" y="4902480"/>
                    <a:ext cx="73800" cy="20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椭圆 1645"/>
                  <p:cNvSpPr/>
                  <p:nvPr/>
                </p:nvSpPr>
                <p:spPr>
                  <a:xfrm flipV="1" rot="20334600">
                    <a:off x="7303680" y="4905360"/>
                    <a:ext cx="83880" cy="20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椭圆 1646"/>
                  <p:cNvSpPr/>
                  <p:nvPr/>
                </p:nvSpPr>
                <p:spPr>
                  <a:xfrm flipV="1" rot="18142800">
                    <a:off x="7341120" y="4875480"/>
                    <a:ext cx="90000" cy="20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椭圆 1647"/>
                  <p:cNvSpPr/>
                  <p:nvPr/>
                </p:nvSpPr>
                <p:spPr>
                  <a:xfrm flipV="1" rot="3230400">
                    <a:off x="7238160" y="4856040"/>
                    <a:ext cx="79200" cy="233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椭圆 1648"/>
                  <p:cNvSpPr/>
                  <p:nvPr/>
                </p:nvSpPr>
                <p:spPr>
                  <a:xfrm flipV="1" rot="4623600">
                    <a:off x="7214760" y="4819320"/>
                    <a:ext cx="792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3" name="组合 1668"/>
            <p:cNvGrpSpPr/>
            <p:nvPr/>
          </p:nvGrpSpPr>
          <p:grpSpPr>
            <a:xfrm>
              <a:off x="6563520" y="3995640"/>
              <a:ext cx="617040" cy="592560"/>
              <a:chOff x="6563520" y="3995640"/>
              <a:chExt cx="617040" cy="592560"/>
            </a:xfrm>
          </p:grpSpPr>
          <p:grpSp>
            <p:nvGrpSpPr>
              <p:cNvPr id="374" name="组合 1669"/>
              <p:cNvGrpSpPr/>
              <p:nvPr/>
            </p:nvGrpSpPr>
            <p:grpSpPr>
              <a:xfrm>
                <a:off x="6563520" y="3995640"/>
                <a:ext cx="617040" cy="592560"/>
                <a:chOff x="6563520" y="3995640"/>
                <a:chExt cx="617040" cy="592560"/>
              </a:xfrm>
            </p:grpSpPr>
            <p:grpSp>
              <p:nvGrpSpPr>
                <p:cNvPr id="375" name="组合 1684"/>
                <p:cNvGrpSpPr/>
                <p:nvPr/>
              </p:nvGrpSpPr>
              <p:grpSpPr>
                <a:xfrm>
                  <a:off x="6563520" y="3995640"/>
                  <a:ext cx="617040" cy="402480"/>
                  <a:chOff x="6563520" y="3995640"/>
                  <a:chExt cx="617040" cy="402480"/>
                </a:xfrm>
              </p:grpSpPr>
              <p:sp>
                <p:nvSpPr>
                  <p:cNvPr id="376" name="椭圆 1691"/>
                  <p:cNvSpPr/>
                  <p:nvPr/>
                </p:nvSpPr>
                <p:spPr>
                  <a:xfrm>
                    <a:off x="6796440" y="3995640"/>
                    <a:ext cx="11988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椭圆 1692"/>
                  <p:cNvSpPr/>
                  <p:nvPr/>
                </p:nvSpPr>
                <p:spPr>
                  <a:xfrm rot="1981200">
                    <a:off x="6863400" y="4006800"/>
                    <a:ext cx="13644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椭圆 1693"/>
                  <p:cNvSpPr/>
                  <p:nvPr/>
                </p:nvSpPr>
                <p:spPr>
                  <a:xfrm rot="4173000">
                    <a:off x="6913440" y="4067640"/>
                    <a:ext cx="14580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椭圆 1694"/>
                  <p:cNvSpPr/>
                  <p:nvPr/>
                </p:nvSpPr>
                <p:spPr>
                  <a:xfrm rot="5400000">
                    <a:off x="6951960" y="4139640"/>
                    <a:ext cx="11988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椭圆 1695"/>
                  <p:cNvSpPr/>
                  <p:nvPr/>
                </p:nvSpPr>
                <p:spPr>
                  <a:xfrm rot="19085400">
                    <a:off x="6747120" y="4021920"/>
                    <a:ext cx="128880" cy="3787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椭圆 1696"/>
                  <p:cNvSpPr/>
                  <p:nvPr/>
                </p:nvSpPr>
                <p:spPr>
                  <a:xfrm rot="17691600">
                    <a:off x="6697800" y="4070880"/>
                    <a:ext cx="128880" cy="3783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组合 1685"/>
                <p:cNvGrpSpPr/>
                <p:nvPr/>
              </p:nvGrpSpPr>
              <p:grpSpPr>
                <a:xfrm>
                  <a:off x="6570720" y="4182480"/>
                  <a:ext cx="594720" cy="405720"/>
                  <a:chOff x="6570720" y="4182480"/>
                  <a:chExt cx="594720" cy="405720"/>
                </a:xfrm>
              </p:grpSpPr>
              <p:sp>
                <p:nvSpPr>
                  <p:cNvPr id="383" name="椭圆 1686"/>
                  <p:cNvSpPr/>
                  <p:nvPr/>
                </p:nvSpPr>
                <p:spPr>
                  <a:xfrm flipV="1" rot="715800">
                    <a:off x="6782040" y="4232880"/>
                    <a:ext cx="11988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椭圆 1687"/>
                  <p:cNvSpPr/>
                  <p:nvPr/>
                </p:nvSpPr>
                <p:spPr>
                  <a:xfrm flipV="1" rot="20334600">
                    <a:off x="6850080" y="4236840"/>
                    <a:ext cx="136440" cy="3373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椭圆 1688"/>
                  <p:cNvSpPr/>
                  <p:nvPr/>
                </p:nvSpPr>
                <p:spPr>
                  <a:xfrm flipV="1" rot="18142800">
                    <a:off x="6910920" y="4189320"/>
                    <a:ext cx="14580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椭圆 1689"/>
                  <p:cNvSpPr/>
                  <p:nvPr/>
                </p:nvSpPr>
                <p:spPr>
                  <a:xfrm flipV="1" rot="3230400">
                    <a:off x="6743520" y="4156560"/>
                    <a:ext cx="128880" cy="379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椭圆 1690"/>
                  <p:cNvSpPr/>
                  <p:nvPr/>
                </p:nvSpPr>
                <p:spPr>
                  <a:xfrm flipV="1" rot="4623600">
                    <a:off x="6705000" y="4099680"/>
                    <a:ext cx="128880" cy="3787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8" name="组合 1670"/>
              <p:cNvGrpSpPr/>
              <p:nvPr/>
            </p:nvGrpSpPr>
            <p:grpSpPr>
              <a:xfrm>
                <a:off x="6685560" y="4100760"/>
                <a:ext cx="379800" cy="365400"/>
                <a:chOff x="6685560" y="4100760"/>
                <a:chExt cx="379800" cy="365400"/>
              </a:xfrm>
            </p:grpSpPr>
            <p:grpSp>
              <p:nvGrpSpPr>
                <p:cNvPr id="389" name="组合 1671"/>
                <p:cNvGrpSpPr/>
                <p:nvPr/>
              </p:nvGrpSpPr>
              <p:grpSpPr>
                <a:xfrm>
                  <a:off x="6685560" y="4100760"/>
                  <a:ext cx="379800" cy="247680"/>
                  <a:chOff x="6685560" y="4100760"/>
                  <a:chExt cx="379800" cy="247680"/>
                </a:xfrm>
              </p:grpSpPr>
              <p:sp>
                <p:nvSpPr>
                  <p:cNvPr id="390" name="椭圆 1678"/>
                  <p:cNvSpPr/>
                  <p:nvPr/>
                </p:nvSpPr>
                <p:spPr>
                  <a:xfrm>
                    <a:off x="6828840" y="4100760"/>
                    <a:ext cx="73800" cy="20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椭圆 1679"/>
                  <p:cNvSpPr/>
                  <p:nvPr/>
                </p:nvSpPr>
                <p:spPr>
                  <a:xfrm rot="1981200">
                    <a:off x="6869880" y="4107240"/>
                    <a:ext cx="83880" cy="20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椭圆 1680"/>
                  <p:cNvSpPr/>
                  <p:nvPr/>
                </p:nvSpPr>
                <p:spPr>
                  <a:xfrm rot="4173000">
                    <a:off x="6900120" y="4145040"/>
                    <a:ext cx="90000" cy="20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椭圆 1681"/>
                  <p:cNvSpPr/>
                  <p:nvPr/>
                </p:nvSpPr>
                <p:spPr>
                  <a:xfrm rot="5400000">
                    <a:off x="6924600" y="4189680"/>
                    <a:ext cx="73800" cy="20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椭圆 1682"/>
                  <p:cNvSpPr/>
                  <p:nvPr/>
                </p:nvSpPr>
                <p:spPr>
                  <a:xfrm rot="19085400">
                    <a:off x="6798600" y="4116600"/>
                    <a:ext cx="79200" cy="233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椭圆 1683"/>
                  <p:cNvSpPr/>
                  <p:nvPr/>
                </p:nvSpPr>
                <p:spPr>
                  <a:xfrm rot="17691600">
                    <a:off x="6768360" y="4146840"/>
                    <a:ext cx="792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组合 1672"/>
                <p:cNvGrpSpPr/>
                <p:nvPr/>
              </p:nvGrpSpPr>
              <p:grpSpPr>
                <a:xfrm>
                  <a:off x="6689880" y="4216680"/>
                  <a:ext cx="366120" cy="249480"/>
                  <a:chOff x="6689880" y="4216680"/>
                  <a:chExt cx="366120" cy="249480"/>
                </a:xfrm>
              </p:grpSpPr>
              <p:sp>
                <p:nvSpPr>
                  <p:cNvPr id="397" name="椭圆 1673"/>
                  <p:cNvSpPr/>
                  <p:nvPr/>
                </p:nvSpPr>
                <p:spPr>
                  <a:xfrm flipV="1" rot="715800">
                    <a:off x="6819480" y="4247280"/>
                    <a:ext cx="73800" cy="20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椭圆 1674"/>
                  <p:cNvSpPr/>
                  <p:nvPr/>
                </p:nvSpPr>
                <p:spPr>
                  <a:xfrm flipV="1" rot="20334600">
                    <a:off x="6861600" y="4250160"/>
                    <a:ext cx="83880" cy="20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椭圆 1675"/>
                  <p:cNvSpPr/>
                  <p:nvPr/>
                </p:nvSpPr>
                <p:spPr>
                  <a:xfrm flipV="1" rot="18142800">
                    <a:off x="6899040" y="4220280"/>
                    <a:ext cx="90000" cy="20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椭圆 1676"/>
                  <p:cNvSpPr/>
                  <p:nvPr/>
                </p:nvSpPr>
                <p:spPr>
                  <a:xfrm flipV="1" rot="3230400">
                    <a:off x="6796080" y="4200840"/>
                    <a:ext cx="79200" cy="233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椭圆 1677"/>
                  <p:cNvSpPr/>
                  <p:nvPr/>
                </p:nvSpPr>
                <p:spPr>
                  <a:xfrm flipV="1" rot="4623600">
                    <a:off x="6772680" y="4164120"/>
                    <a:ext cx="792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2" name="组合 1697"/>
            <p:cNvGrpSpPr/>
            <p:nvPr/>
          </p:nvGrpSpPr>
          <p:grpSpPr>
            <a:xfrm>
              <a:off x="7506000" y="4029120"/>
              <a:ext cx="617040" cy="592560"/>
              <a:chOff x="7506000" y="4029120"/>
              <a:chExt cx="617040" cy="592560"/>
            </a:xfrm>
          </p:grpSpPr>
          <p:grpSp>
            <p:nvGrpSpPr>
              <p:cNvPr id="403" name="组合 1698"/>
              <p:cNvGrpSpPr/>
              <p:nvPr/>
            </p:nvGrpSpPr>
            <p:grpSpPr>
              <a:xfrm>
                <a:off x="7506000" y="4029120"/>
                <a:ext cx="617040" cy="592560"/>
                <a:chOff x="7506000" y="4029120"/>
                <a:chExt cx="617040" cy="592560"/>
              </a:xfrm>
            </p:grpSpPr>
            <p:grpSp>
              <p:nvGrpSpPr>
                <p:cNvPr id="404" name="组合 1713"/>
                <p:cNvGrpSpPr/>
                <p:nvPr/>
              </p:nvGrpSpPr>
              <p:grpSpPr>
                <a:xfrm>
                  <a:off x="7506000" y="4029120"/>
                  <a:ext cx="617040" cy="402480"/>
                  <a:chOff x="7506000" y="4029120"/>
                  <a:chExt cx="617040" cy="402480"/>
                </a:xfrm>
              </p:grpSpPr>
              <p:sp>
                <p:nvSpPr>
                  <p:cNvPr id="405" name="椭圆 1720"/>
                  <p:cNvSpPr/>
                  <p:nvPr/>
                </p:nvSpPr>
                <p:spPr>
                  <a:xfrm>
                    <a:off x="7738920" y="4029120"/>
                    <a:ext cx="11988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椭圆 1721"/>
                  <p:cNvSpPr/>
                  <p:nvPr/>
                </p:nvSpPr>
                <p:spPr>
                  <a:xfrm rot="1981200">
                    <a:off x="7805880" y="4040280"/>
                    <a:ext cx="13644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椭圆 1722"/>
                  <p:cNvSpPr/>
                  <p:nvPr/>
                </p:nvSpPr>
                <p:spPr>
                  <a:xfrm rot="4173000">
                    <a:off x="7855920" y="4101120"/>
                    <a:ext cx="14580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椭圆 1723"/>
                  <p:cNvSpPr/>
                  <p:nvPr/>
                </p:nvSpPr>
                <p:spPr>
                  <a:xfrm rot="5400000">
                    <a:off x="7894440" y="4173120"/>
                    <a:ext cx="11988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椭圆 1724"/>
                  <p:cNvSpPr/>
                  <p:nvPr/>
                </p:nvSpPr>
                <p:spPr>
                  <a:xfrm rot="19085400">
                    <a:off x="7689600" y="4055400"/>
                    <a:ext cx="128880" cy="3787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椭圆 1725"/>
                  <p:cNvSpPr/>
                  <p:nvPr/>
                </p:nvSpPr>
                <p:spPr>
                  <a:xfrm rot="17691600">
                    <a:off x="7640280" y="4104360"/>
                    <a:ext cx="128880" cy="3783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组合 1714"/>
                <p:cNvGrpSpPr/>
                <p:nvPr/>
              </p:nvGrpSpPr>
              <p:grpSpPr>
                <a:xfrm>
                  <a:off x="7513200" y="4215960"/>
                  <a:ext cx="594720" cy="405720"/>
                  <a:chOff x="7513200" y="4215960"/>
                  <a:chExt cx="594720" cy="405720"/>
                </a:xfrm>
              </p:grpSpPr>
              <p:sp>
                <p:nvSpPr>
                  <p:cNvPr id="412" name="椭圆 1715"/>
                  <p:cNvSpPr/>
                  <p:nvPr/>
                </p:nvSpPr>
                <p:spPr>
                  <a:xfrm flipV="1" rot="715800">
                    <a:off x="7724520" y="4266360"/>
                    <a:ext cx="11988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椭圆 1716"/>
                  <p:cNvSpPr/>
                  <p:nvPr/>
                </p:nvSpPr>
                <p:spPr>
                  <a:xfrm flipV="1" rot="20334600">
                    <a:off x="7792560" y="4270320"/>
                    <a:ext cx="136440" cy="3373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椭圆 1717"/>
                  <p:cNvSpPr/>
                  <p:nvPr/>
                </p:nvSpPr>
                <p:spPr>
                  <a:xfrm flipV="1" rot="18142800">
                    <a:off x="7853400" y="4222800"/>
                    <a:ext cx="145800" cy="336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椭圆 1718"/>
                  <p:cNvSpPr/>
                  <p:nvPr/>
                </p:nvSpPr>
                <p:spPr>
                  <a:xfrm flipV="1" rot="3230400">
                    <a:off x="7686000" y="4190040"/>
                    <a:ext cx="128880" cy="379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椭圆 1719"/>
                  <p:cNvSpPr/>
                  <p:nvPr/>
                </p:nvSpPr>
                <p:spPr>
                  <a:xfrm flipV="1" rot="4623600">
                    <a:off x="7647480" y="4133160"/>
                    <a:ext cx="128880" cy="3787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7" name="组合 1699"/>
              <p:cNvGrpSpPr/>
              <p:nvPr/>
            </p:nvGrpSpPr>
            <p:grpSpPr>
              <a:xfrm>
                <a:off x="7628040" y="4134240"/>
                <a:ext cx="379800" cy="365400"/>
                <a:chOff x="7628040" y="4134240"/>
                <a:chExt cx="379800" cy="365400"/>
              </a:xfrm>
            </p:grpSpPr>
            <p:grpSp>
              <p:nvGrpSpPr>
                <p:cNvPr id="418" name="组合 1700"/>
                <p:cNvGrpSpPr/>
                <p:nvPr/>
              </p:nvGrpSpPr>
              <p:grpSpPr>
                <a:xfrm>
                  <a:off x="7628040" y="4134240"/>
                  <a:ext cx="379800" cy="247680"/>
                  <a:chOff x="7628040" y="4134240"/>
                  <a:chExt cx="379800" cy="247680"/>
                </a:xfrm>
              </p:grpSpPr>
              <p:sp>
                <p:nvSpPr>
                  <p:cNvPr id="419" name="椭圆 1707"/>
                  <p:cNvSpPr/>
                  <p:nvPr/>
                </p:nvSpPr>
                <p:spPr>
                  <a:xfrm>
                    <a:off x="7771320" y="4134240"/>
                    <a:ext cx="73800" cy="20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椭圆 1708"/>
                  <p:cNvSpPr/>
                  <p:nvPr/>
                </p:nvSpPr>
                <p:spPr>
                  <a:xfrm rot="1981200">
                    <a:off x="7812360" y="4140720"/>
                    <a:ext cx="83880" cy="20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椭圆 1709"/>
                  <p:cNvSpPr/>
                  <p:nvPr/>
                </p:nvSpPr>
                <p:spPr>
                  <a:xfrm rot="4173000">
                    <a:off x="7842600" y="4178520"/>
                    <a:ext cx="90000" cy="20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椭圆 1710"/>
                  <p:cNvSpPr/>
                  <p:nvPr/>
                </p:nvSpPr>
                <p:spPr>
                  <a:xfrm rot="5400000">
                    <a:off x="7867080" y="4223160"/>
                    <a:ext cx="73800" cy="20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椭圆 1711"/>
                  <p:cNvSpPr/>
                  <p:nvPr/>
                </p:nvSpPr>
                <p:spPr>
                  <a:xfrm rot="19085400">
                    <a:off x="7741080" y="4150080"/>
                    <a:ext cx="79200" cy="233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椭圆 1712"/>
                  <p:cNvSpPr/>
                  <p:nvPr/>
                </p:nvSpPr>
                <p:spPr>
                  <a:xfrm rot="17691600">
                    <a:off x="7710840" y="4180320"/>
                    <a:ext cx="792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组合 1701"/>
                <p:cNvGrpSpPr/>
                <p:nvPr/>
              </p:nvGrpSpPr>
              <p:grpSpPr>
                <a:xfrm>
                  <a:off x="7632360" y="4250160"/>
                  <a:ext cx="366120" cy="249480"/>
                  <a:chOff x="7632360" y="4250160"/>
                  <a:chExt cx="366120" cy="249480"/>
                </a:xfrm>
              </p:grpSpPr>
              <p:sp>
                <p:nvSpPr>
                  <p:cNvPr id="426" name="椭圆 1702"/>
                  <p:cNvSpPr/>
                  <p:nvPr/>
                </p:nvSpPr>
                <p:spPr>
                  <a:xfrm flipV="1" rot="715800">
                    <a:off x="7761960" y="4280760"/>
                    <a:ext cx="73800" cy="20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椭圆 1703"/>
                  <p:cNvSpPr/>
                  <p:nvPr/>
                </p:nvSpPr>
                <p:spPr>
                  <a:xfrm flipV="1" rot="20334600">
                    <a:off x="7804080" y="4283640"/>
                    <a:ext cx="83880" cy="20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椭圆 1704"/>
                  <p:cNvSpPr/>
                  <p:nvPr/>
                </p:nvSpPr>
                <p:spPr>
                  <a:xfrm flipV="1" rot="18142800">
                    <a:off x="7841520" y="4253760"/>
                    <a:ext cx="90000" cy="20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椭圆 1705"/>
                  <p:cNvSpPr/>
                  <p:nvPr/>
                </p:nvSpPr>
                <p:spPr>
                  <a:xfrm flipV="1" rot="3230400">
                    <a:off x="7738560" y="4234320"/>
                    <a:ext cx="79200" cy="233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椭圆 1706"/>
                  <p:cNvSpPr/>
                  <p:nvPr/>
                </p:nvSpPr>
                <p:spPr>
                  <a:xfrm flipV="1" rot="4623600">
                    <a:off x="7715160" y="4197600"/>
                    <a:ext cx="792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组合 1726"/>
            <p:cNvGrpSpPr/>
            <p:nvPr/>
          </p:nvGrpSpPr>
          <p:grpSpPr>
            <a:xfrm>
              <a:off x="7014960" y="3774960"/>
              <a:ext cx="452160" cy="434520"/>
              <a:chOff x="7014960" y="3774960"/>
              <a:chExt cx="452160" cy="434520"/>
            </a:xfrm>
          </p:grpSpPr>
          <p:grpSp>
            <p:nvGrpSpPr>
              <p:cNvPr id="432" name="组合 1727"/>
              <p:cNvGrpSpPr/>
              <p:nvPr/>
            </p:nvGrpSpPr>
            <p:grpSpPr>
              <a:xfrm>
                <a:off x="7014960" y="3774960"/>
                <a:ext cx="452160" cy="434520"/>
                <a:chOff x="7014960" y="3774960"/>
                <a:chExt cx="452160" cy="434520"/>
              </a:xfrm>
            </p:grpSpPr>
            <p:grpSp>
              <p:nvGrpSpPr>
                <p:cNvPr id="433" name="组合 1742"/>
                <p:cNvGrpSpPr/>
                <p:nvPr/>
              </p:nvGrpSpPr>
              <p:grpSpPr>
                <a:xfrm>
                  <a:off x="7014960" y="3774960"/>
                  <a:ext cx="452160" cy="295200"/>
                  <a:chOff x="7014960" y="3774960"/>
                  <a:chExt cx="452160" cy="295200"/>
                </a:xfrm>
              </p:grpSpPr>
              <p:sp>
                <p:nvSpPr>
                  <p:cNvPr id="434" name="椭圆 1749"/>
                  <p:cNvSpPr/>
                  <p:nvPr/>
                </p:nvSpPr>
                <p:spPr>
                  <a:xfrm>
                    <a:off x="7185600" y="3774960"/>
                    <a:ext cx="87840" cy="2473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椭圆 1750"/>
                  <p:cNvSpPr/>
                  <p:nvPr/>
                </p:nvSpPr>
                <p:spPr>
                  <a:xfrm rot="1981200">
                    <a:off x="7234560" y="3783240"/>
                    <a:ext cx="100080" cy="2473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椭圆 1751"/>
                  <p:cNvSpPr/>
                  <p:nvPr/>
                </p:nvSpPr>
                <p:spPr>
                  <a:xfrm rot="4173000">
                    <a:off x="7271280" y="3827520"/>
                    <a:ext cx="106920" cy="2473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椭圆 1752"/>
                  <p:cNvSpPr/>
                  <p:nvPr/>
                </p:nvSpPr>
                <p:spPr>
                  <a:xfrm rot="5400000">
                    <a:off x="7299360" y="3880440"/>
                    <a:ext cx="87840" cy="2473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椭圆 1753"/>
                  <p:cNvSpPr/>
                  <p:nvPr/>
                </p:nvSpPr>
                <p:spPr>
                  <a:xfrm rot="19085400">
                    <a:off x="7149600" y="3794040"/>
                    <a:ext cx="94320" cy="2779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椭圆 1754"/>
                  <p:cNvSpPr/>
                  <p:nvPr/>
                </p:nvSpPr>
                <p:spPr>
                  <a:xfrm rot="17691600">
                    <a:off x="7113600" y="3829680"/>
                    <a:ext cx="94320" cy="2779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组合 1743"/>
                <p:cNvGrpSpPr/>
                <p:nvPr/>
              </p:nvGrpSpPr>
              <p:grpSpPr>
                <a:xfrm>
                  <a:off x="7020360" y="3912120"/>
                  <a:ext cx="435600" cy="297360"/>
                  <a:chOff x="7020360" y="3912120"/>
                  <a:chExt cx="435600" cy="297360"/>
                </a:xfrm>
              </p:grpSpPr>
              <p:sp>
                <p:nvSpPr>
                  <p:cNvPr id="441" name="椭圆 1744"/>
                  <p:cNvSpPr/>
                  <p:nvPr/>
                </p:nvSpPr>
                <p:spPr>
                  <a:xfrm flipV="1" rot="715800">
                    <a:off x="7174440" y="3949200"/>
                    <a:ext cx="87840" cy="2473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椭圆 1745"/>
                  <p:cNvSpPr/>
                  <p:nvPr/>
                </p:nvSpPr>
                <p:spPr>
                  <a:xfrm flipV="1" rot="20334600">
                    <a:off x="7224480" y="3952080"/>
                    <a:ext cx="100080" cy="2473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椭圆 1746"/>
                  <p:cNvSpPr/>
                  <p:nvPr/>
                </p:nvSpPr>
                <p:spPr>
                  <a:xfrm flipV="1" rot="18142800">
                    <a:off x="7269120" y="3916440"/>
                    <a:ext cx="106920" cy="2473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椭圆 1747"/>
                  <p:cNvSpPr/>
                  <p:nvPr/>
                </p:nvSpPr>
                <p:spPr>
                  <a:xfrm flipV="1" rot="3230400">
                    <a:off x="7146720" y="3893040"/>
                    <a:ext cx="94680" cy="2779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椭圆 1748"/>
                  <p:cNvSpPr/>
                  <p:nvPr/>
                </p:nvSpPr>
                <p:spPr>
                  <a:xfrm flipV="1" rot="4623600">
                    <a:off x="7118640" y="3850560"/>
                    <a:ext cx="94320" cy="2772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6" name="组合 1728"/>
              <p:cNvGrpSpPr/>
              <p:nvPr/>
            </p:nvGrpSpPr>
            <p:grpSpPr>
              <a:xfrm>
                <a:off x="7104240" y="3852000"/>
                <a:ext cx="278640" cy="267480"/>
                <a:chOff x="7104240" y="3852000"/>
                <a:chExt cx="278640" cy="267480"/>
              </a:xfrm>
            </p:grpSpPr>
            <p:grpSp>
              <p:nvGrpSpPr>
                <p:cNvPr id="447" name="组合 1729"/>
                <p:cNvGrpSpPr/>
                <p:nvPr/>
              </p:nvGrpSpPr>
              <p:grpSpPr>
                <a:xfrm>
                  <a:off x="7104240" y="3852000"/>
                  <a:ext cx="278640" cy="181800"/>
                  <a:chOff x="7104240" y="3852000"/>
                  <a:chExt cx="278640" cy="181800"/>
                </a:xfrm>
              </p:grpSpPr>
              <p:sp>
                <p:nvSpPr>
                  <p:cNvPr id="448" name="椭圆 1736"/>
                  <p:cNvSpPr/>
                  <p:nvPr/>
                </p:nvSpPr>
                <p:spPr>
                  <a:xfrm>
                    <a:off x="7209360" y="3852000"/>
                    <a:ext cx="5436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椭圆 1737"/>
                  <p:cNvSpPr/>
                  <p:nvPr/>
                </p:nvSpPr>
                <p:spPr>
                  <a:xfrm rot="1981200">
                    <a:off x="7239600" y="3857040"/>
                    <a:ext cx="6156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椭圆 1738"/>
                  <p:cNvSpPr/>
                  <p:nvPr/>
                </p:nvSpPr>
                <p:spPr>
                  <a:xfrm rot="4173000">
                    <a:off x="7261920" y="3884760"/>
                    <a:ext cx="658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椭圆 1739"/>
                  <p:cNvSpPr/>
                  <p:nvPr/>
                </p:nvSpPr>
                <p:spPr>
                  <a:xfrm rot="5400000">
                    <a:off x="7279560" y="3916800"/>
                    <a:ext cx="5400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椭圆 1740"/>
                  <p:cNvSpPr/>
                  <p:nvPr/>
                </p:nvSpPr>
                <p:spPr>
                  <a:xfrm rot="19085400">
                    <a:off x="7187400" y="3863880"/>
                    <a:ext cx="58320" cy="171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椭圆 1741"/>
                  <p:cNvSpPr/>
                  <p:nvPr/>
                </p:nvSpPr>
                <p:spPr>
                  <a:xfrm rot="17691600">
                    <a:off x="7164720" y="3885480"/>
                    <a:ext cx="58320" cy="171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" name="组合 1730"/>
                <p:cNvGrpSpPr/>
                <p:nvPr/>
              </p:nvGrpSpPr>
              <p:grpSpPr>
                <a:xfrm>
                  <a:off x="7107840" y="3936240"/>
                  <a:ext cx="268920" cy="183240"/>
                  <a:chOff x="7107840" y="3936240"/>
                  <a:chExt cx="268920" cy="183240"/>
                </a:xfrm>
              </p:grpSpPr>
              <p:sp>
                <p:nvSpPr>
                  <p:cNvPr id="455" name="椭圆 1731"/>
                  <p:cNvSpPr/>
                  <p:nvPr/>
                </p:nvSpPr>
                <p:spPr>
                  <a:xfrm flipV="1" rot="715800">
                    <a:off x="7202520" y="3958920"/>
                    <a:ext cx="5436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椭圆 1732"/>
                  <p:cNvSpPr/>
                  <p:nvPr/>
                </p:nvSpPr>
                <p:spPr>
                  <a:xfrm flipV="1" rot="20334600">
                    <a:off x="7233480" y="3961080"/>
                    <a:ext cx="6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椭圆 1733"/>
                  <p:cNvSpPr/>
                  <p:nvPr/>
                </p:nvSpPr>
                <p:spPr>
                  <a:xfrm flipV="1" rot="18142800">
                    <a:off x="7261560" y="3938760"/>
                    <a:ext cx="658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椭圆 1734"/>
                  <p:cNvSpPr/>
                  <p:nvPr/>
                </p:nvSpPr>
                <p:spPr>
                  <a:xfrm flipV="1" rot="3230400">
                    <a:off x="7185600" y="3924720"/>
                    <a:ext cx="58320" cy="171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椭圆 1735"/>
                  <p:cNvSpPr/>
                  <p:nvPr/>
                </p:nvSpPr>
                <p:spPr>
                  <a:xfrm flipV="1" rot="4623600">
                    <a:off x="7168680" y="3898440"/>
                    <a:ext cx="58320" cy="171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60" name="组合 466"/>
          <p:cNvGrpSpPr/>
          <p:nvPr/>
        </p:nvGrpSpPr>
        <p:grpSpPr>
          <a:xfrm>
            <a:off x="1157760" y="1384200"/>
            <a:ext cx="2098080" cy="2067120"/>
            <a:chOff x="1157760" y="1384200"/>
            <a:chExt cx="2098080" cy="2067120"/>
          </a:xfrm>
        </p:grpSpPr>
        <p:sp>
          <p:nvSpPr>
            <p:cNvPr id="461" name="任意多边形 454"/>
            <p:cNvSpPr/>
            <p:nvPr/>
          </p:nvSpPr>
          <p:spPr>
            <a:xfrm>
              <a:off x="1646280" y="2458080"/>
              <a:ext cx="216000" cy="3060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任意多边形 455"/>
            <p:cNvSpPr/>
            <p:nvPr/>
          </p:nvSpPr>
          <p:spPr>
            <a:xfrm>
              <a:off x="1422360" y="2010240"/>
              <a:ext cx="246600" cy="1155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任意多边形 456"/>
            <p:cNvSpPr/>
            <p:nvPr/>
          </p:nvSpPr>
          <p:spPr>
            <a:xfrm>
              <a:off x="1746720" y="1917360"/>
              <a:ext cx="108000" cy="44748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任意多边形 457"/>
            <p:cNvSpPr/>
            <p:nvPr/>
          </p:nvSpPr>
          <p:spPr>
            <a:xfrm>
              <a:off x="2039760" y="2380680"/>
              <a:ext cx="162000" cy="1850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任意多边形 458"/>
            <p:cNvSpPr/>
            <p:nvPr/>
          </p:nvSpPr>
          <p:spPr>
            <a:xfrm>
              <a:off x="2565000" y="2203560"/>
              <a:ext cx="46800" cy="33192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任意多边形 459"/>
            <p:cNvSpPr/>
            <p:nvPr/>
          </p:nvSpPr>
          <p:spPr>
            <a:xfrm>
              <a:off x="2217240" y="2751480"/>
              <a:ext cx="339480" cy="1155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任意多边形 460"/>
            <p:cNvSpPr/>
            <p:nvPr/>
          </p:nvSpPr>
          <p:spPr>
            <a:xfrm>
              <a:off x="2603160" y="2373120"/>
              <a:ext cx="347040" cy="9252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任意多边形 4"/>
            <p:cNvSpPr/>
            <p:nvPr/>
          </p:nvSpPr>
          <p:spPr>
            <a:xfrm>
              <a:off x="1399320" y="1662840"/>
              <a:ext cx="705600" cy="178848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任意多边形 6"/>
            <p:cNvSpPr/>
            <p:nvPr/>
          </p:nvSpPr>
          <p:spPr>
            <a:xfrm>
              <a:off x="2031120" y="1822680"/>
              <a:ext cx="233280" cy="130860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任意多边形 7"/>
            <p:cNvSpPr/>
            <p:nvPr/>
          </p:nvSpPr>
          <p:spPr>
            <a:xfrm>
              <a:off x="2086200" y="1848960"/>
              <a:ext cx="915480" cy="144288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组合 66"/>
            <p:cNvGrpSpPr/>
            <p:nvPr/>
          </p:nvGrpSpPr>
          <p:grpSpPr>
            <a:xfrm>
              <a:off x="1176120" y="1384200"/>
              <a:ext cx="460800" cy="442800"/>
              <a:chOff x="1176120" y="1384200"/>
              <a:chExt cx="460800" cy="442800"/>
            </a:xfrm>
          </p:grpSpPr>
          <p:grpSp>
            <p:nvGrpSpPr>
              <p:cNvPr id="472" name="组合 37"/>
              <p:cNvGrpSpPr/>
              <p:nvPr/>
            </p:nvGrpSpPr>
            <p:grpSpPr>
              <a:xfrm>
                <a:off x="1176120" y="1384200"/>
                <a:ext cx="460800" cy="442800"/>
                <a:chOff x="1176120" y="1384200"/>
                <a:chExt cx="460800" cy="442800"/>
              </a:xfrm>
            </p:grpSpPr>
            <p:grpSp>
              <p:nvGrpSpPr>
                <p:cNvPr id="473" name="组合 29"/>
                <p:cNvGrpSpPr/>
                <p:nvPr/>
              </p:nvGrpSpPr>
              <p:grpSpPr>
                <a:xfrm>
                  <a:off x="1176120" y="1384200"/>
                  <a:ext cx="460800" cy="299880"/>
                  <a:chOff x="1176120" y="1384200"/>
                  <a:chExt cx="460800" cy="299880"/>
                </a:xfrm>
              </p:grpSpPr>
              <p:sp>
                <p:nvSpPr>
                  <p:cNvPr id="474" name="椭圆 9"/>
                  <p:cNvSpPr/>
                  <p:nvPr/>
                </p:nvSpPr>
                <p:spPr>
                  <a:xfrm>
                    <a:off x="1349640" y="1384200"/>
                    <a:ext cx="89640" cy="252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椭圆 24"/>
                  <p:cNvSpPr/>
                  <p:nvPr/>
                </p:nvSpPr>
                <p:spPr>
                  <a:xfrm rot="1981200">
                    <a:off x="1400040" y="1392480"/>
                    <a:ext cx="101880" cy="252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椭圆 25"/>
                  <p:cNvSpPr/>
                  <p:nvPr/>
                </p:nvSpPr>
                <p:spPr>
                  <a:xfrm rot="4173000">
                    <a:off x="1437120" y="1438200"/>
                    <a:ext cx="109080" cy="252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椭圆 26"/>
                  <p:cNvSpPr/>
                  <p:nvPr/>
                </p:nvSpPr>
                <p:spPr>
                  <a:xfrm rot="5400000">
                    <a:off x="1465920" y="1491840"/>
                    <a:ext cx="89640" cy="252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椭圆 27"/>
                  <p:cNvSpPr/>
                  <p:nvPr/>
                </p:nvSpPr>
                <p:spPr>
                  <a:xfrm rot="19085400">
                    <a:off x="1313280" y="1403640"/>
                    <a:ext cx="96120" cy="283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椭圆 28"/>
                  <p:cNvSpPr/>
                  <p:nvPr/>
                </p:nvSpPr>
                <p:spPr>
                  <a:xfrm rot="17691600">
                    <a:off x="1276560" y="1439640"/>
                    <a:ext cx="96120" cy="282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组合 30"/>
                <p:cNvGrpSpPr/>
                <p:nvPr/>
              </p:nvGrpSpPr>
              <p:grpSpPr>
                <a:xfrm>
                  <a:off x="1181520" y="1523880"/>
                  <a:ext cx="443880" cy="303120"/>
                  <a:chOff x="1181520" y="1523880"/>
                  <a:chExt cx="443880" cy="303120"/>
                </a:xfrm>
              </p:grpSpPr>
              <p:sp>
                <p:nvSpPr>
                  <p:cNvPr id="481" name="椭圆 31"/>
                  <p:cNvSpPr/>
                  <p:nvPr/>
                </p:nvSpPr>
                <p:spPr>
                  <a:xfrm flipV="1" rot="715800">
                    <a:off x="1338480" y="1561680"/>
                    <a:ext cx="89640" cy="251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椭圆 32"/>
                  <p:cNvSpPr/>
                  <p:nvPr/>
                </p:nvSpPr>
                <p:spPr>
                  <a:xfrm flipV="1" rot="20334600">
                    <a:off x="1389960" y="1564560"/>
                    <a:ext cx="101880" cy="252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椭圆 33"/>
                  <p:cNvSpPr/>
                  <p:nvPr/>
                </p:nvSpPr>
                <p:spPr>
                  <a:xfrm flipV="1" rot="18142800">
                    <a:off x="1435320" y="1528560"/>
                    <a:ext cx="109080" cy="251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椭圆 35"/>
                  <p:cNvSpPr/>
                  <p:nvPr/>
                </p:nvSpPr>
                <p:spPr>
                  <a:xfrm flipV="1" rot="3230400">
                    <a:off x="1310760" y="1504080"/>
                    <a:ext cx="96480" cy="283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椭圆 36"/>
                  <p:cNvSpPr/>
                  <p:nvPr/>
                </p:nvSpPr>
                <p:spPr>
                  <a:xfrm flipV="1" rot="4623600">
                    <a:off x="1281960" y="1461600"/>
                    <a:ext cx="96120" cy="282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6" name="组合 38"/>
              <p:cNvGrpSpPr/>
              <p:nvPr/>
            </p:nvGrpSpPr>
            <p:grpSpPr>
              <a:xfrm>
                <a:off x="1235520" y="1449720"/>
                <a:ext cx="340560" cy="327240"/>
                <a:chOff x="1235520" y="1449720"/>
                <a:chExt cx="340560" cy="327240"/>
              </a:xfrm>
            </p:grpSpPr>
            <p:grpSp>
              <p:nvGrpSpPr>
                <p:cNvPr id="487" name="组合 39"/>
                <p:cNvGrpSpPr/>
                <p:nvPr/>
              </p:nvGrpSpPr>
              <p:grpSpPr>
                <a:xfrm>
                  <a:off x="1235520" y="1449720"/>
                  <a:ext cx="340560" cy="222120"/>
                  <a:chOff x="1235520" y="1449720"/>
                  <a:chExt cx="340560" cy="222120"/>
                </a:xfrm>
              </p:grpSpPr>
              <p:sp>
                <p:nvSpPr>
                  <p:cNvPr id="488" name="椭圆 46"/>
                  <p:cNvSpPr/>
                  <p:nvPr/>
                </p:nvSpPr>
                <p:spPr>
                  <a:xfrm>
                    <a:off x="1364040" y="1449720"/>
                    <a:ext cx="66240" cy="18612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椭圆 47"/>
                  <p:cNvSpPr/>
                  <p:nvPr/>
                </p:nvSpPr>
                <p:spPr>
                  <a:xfrm rot="1981200">
                    <a:off x="1401120" y="1455840"/>
                    <a:ext cx="75240" cy="18612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椭圆 48"/>
                  <p:cNvSpPr/>
                  <p:nvPr/>
                </p:nvSpPr>
                <p:spPr>
                  <a:xfrm rot="4173000">
                    <a:off x="1428120" y="1489680"/>
                    <a:ext cx="80640" cy="18612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椭圆 49"/>
                  <p:cNvSpPr/>
                  <p:nvPr/>
                </p:nvSpPr>
                <p:spPr>
                  <a:xfrm rot="5400000">
                    <a:off x="1449720" y="1529280"/>
                    <a:ext cx="66240" cy="18612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椭圆 50"/>
                  <p:cNvSpPr/>
                  <p:nvPr/>
                </p:nvSpPr>
                <p:spPr>
                  <a:xfrm rot="19085400">
                    <a:off x="1336680" y="1464120"/>
                    <a:ext cx="70920" cy="2091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椭圆 51"/>
                  <p:cNvSpPr/>
                  <p:nvPr/>
                </p:nvSpPr>
                <p:spPr>
                  <a:xfrm rot="17691600">
                    <a:off x="1309680" y="1490760"/>
                    <a:ext cx="71280" cy="2091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组合 40"/>
                <p:cNvGrpSpPr/>
                <p:nvPr/>
              </p:nvGrpSpPr>
              <p:grpSpPr>
                <a:xfrm>
                  <a:off x="1239840" y="1552680"/>
                  <a:ext cx="327960" cy="224280"/>
                  <a:chOff x="1239840" y="1552680"/>
                  <a:chExt cx="327960" cy="224280"/>
                </a:xfrm>
              </p:grpSpPr>
              <p:sp>
                <p:nvSpPr>
                  <p:cNvPr id="495" name="椭圆 41"/>
                  <p:cNvSpPr/>
                  <p:nvPr/>
                </p:nvSpPr>
                <p:spPr>
                  <a:xfrm flipV="1" rot="715800">
                    <a:off x="1356120" y="1580760"/>
                    <a:ext cx="66240" cy="18612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椭圆 42"/>
                  <p:cNvSpPr/>
                  <p:nvPr/>
                </p:nvSpPr>
                <p:spPr>
                  <a:xfrm flipV="1" rot="20334600">
                    <a:off x="1393560" y="1583280"/>
                    <a:ext cx="75240" cy="18648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椭圆 43"/>
                  <p:cNvSpPr/>
                  <p:nvPr/>
                </p:nvSpPr>
                <p:spPr>
                  <a:xfrm flipV="1" rot="18142800">
                    <a:off x="1427040" y="1556280"/>
                    <a:ext cx="80640" cy="18612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椭圆 44"/>
                  <p:cNvSpPr/>
                  <p:nvPr/>
                </p:nvSpPr>
                <p:spPr>
                  <a:xfrm flipV="1" rot="3230400">
                    <a:off x="1335240" y="1538280"/>
                    <a:ext cx="70920" cy="2091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椭圆 45"/>
                  <p:cNvSpPr/>
                  <p:nvPr/>
                </p:nvSpPr>
                <p:spPr>
                  <a:xfrm flipV="1" rot="4623600">
                    <a:off x="1314000" y="1506960"/>
                    <a:ext cx="71280" cy="20952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0" name="组合 52"/>
              <p:cNvGrpSpPr/>
              <p:nvPr/>
            </p:nvGrpSpPr>
            <p:grpSpPr>
              <a:xfrm>
                <a:off x="1288800" y="1495080"/>
                <a:ext cx="253440" cy="243360"/>
                <a:chOff x="1288800" y="1495080"/>
                <a:chExt cx="253440" cy="243360"/>
              </a:xfrm>
            </p:grpSpPr>
            <p:grpSp>
              <p:nvGrpSpPr>
                <p:cNvPr id="501" name="组合 53"/>
                <p:cNvGrpSpPr/>
                <p:nvPr/>
              </p:nvGrpSpPr>
              <p:grpSpPr>
                <a:xfrm>
                  <a:off x="1288800" y="1495080"/>
                  <a:ext cx="253440" cy="164880"/>
                  <a:chOff x="1288800" y="1495080"/>
                  <a:chExt cx="253440" cy="164880"/>
                </a:xfrm>
              </p:grpSpPr>
              <p:sp>
                <p:nvSpPr>
                  <p:cNvPr id="502" name="椭圆 60"/>
                  <p:cNvSpPr/>
                  <p:nvPr/>
                </p:nvSpPr>
                <p:spPr>
                  <a:xfrm>
                    <a:off x="1384200" y="1495080"/>
                    <a:ext cx="49320" cy="13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椭圆 61"/>
                  <p:cNvSpPr/>
                  <p:nvPr/>
                </p:nvSpPr>
                <p:spPr>
                  <a:xfrm rot="1981200">
                    <a:off x="1411560" y="1499400"/>
                    <a:ext cx="56160" cy="13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椭圆 62"/>
                  <p:cNvSpPr/>
                  <p:nvPr/>
                </p:nvSpPr>
                <p:spPr>
                  <a:xfrm rot="4173000">
                    <a:off x="1432440" y="1524240"/>
                    <a:ext cx="59760" cy="13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椭圆 63"/>
                  <p:cNvSpPr/>
                  <p:nvPr/>
                </p:nvSpPr>
                <p:spPr>
                  <a:xfrm rot="5400000">
                    <a:off x="1448640" y="1554120"/>
                    <a:ext cx="48960" cy="13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椭圆 64"/>
                  <p:cNvSpPr/>
                  <p:nvPr/>
                </p:nvSpPr>
                <p:spPr>
                  <a:xfrm rot="19085400">
                    <a:off x="1364040" y="1505520"/>
                    <a:ext cx="52920" cy="15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椭圆 65"/>
                  <p:cNvSpPr/>
                  <p:nvPr/>
                </p:nvSpPr>
                <p:spPr>
                  <a:xfrm rot="17691600">
                    <a:off x="1343880" y="1525320"/>
                    <a:ext cx="52920" cy="15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组合 54"/>
                <p:cNvGrpSpPr/>
                <p:nvPr/>
              </p:nvGrpSpPr>
              <p:grpSpPr>
                <a:xfrm>
                  <a:off x="1292040" y="1572120"/>
                  <a:ext cx="244080" cy="166320"/>
                  <a:chOff x="1292040" y="1572120"/>
                  <a:chExt cx="244080" cy="166320"/>
                </a:xfrm>
              </p:grpSpPr>
              <p:sp>
                <p:nvSpPr>
                  <p:cNvPr id="509" name="椭圆 55"/>
                  <p:cNvSpPr/>
                  <p:nvPr/>
                </p:nvSpPr>
                <p:spPr>
                  <a:xfrm flipV="1" rot="715800">
                    <a:off x="1378080" y="1592280"/>
                    <a:ext cx="49320" cy="137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椭圆 56"/>
                  <p:cNvSpPr/>
                  <p:nvPr/>
                </p:nvSpPr>
                <p:spPr>
                  <a:xfrm flipV="1" rot="20334600">
                    <a:off x="1406160" y="1594800"/>
                    <a:ext cx="55800" cy="13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椭圆 57"/>
                  <p:cNvSpPr/>
                  <p:nvPr/>
                </p:nvSpPr>
                <p:spPr>
                  <a:xfrm flipV="1" rot="18142800">
                    <a:off x="1431720" y="1575000"/>
                    <a:ext cx="59760" cy="13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椭圆 58"/>
                  <p:cNvSpPr/>
                  <p:nvPr/>
                </p:nvSpPr>
                <p:spPr>
                  <a:xfrm flipV="1" rot="3230400">
                    <a:off x="1362960" y="1561680"/>
                    <a:ext cx="52920" cy="15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椭圆 59"/>
                  <p:cNvSpPr/>
                  <p:nvPr/>
                </p:nvSpPr>
                <p:spPr>
                  <a:xfrm flipV="1" rot="4623600">
                    <a:off x="1347120" y="1537560"/>
                    <a:ext cx="52920" cy="15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14" name="组合 67"/>
            <p:cNvGrpSpPr/>
            <p:nvPr/>
          </p:nvGrpSpPr>
          <p:grpSpPr>
            <a:xfrm>
              <a:off x="1157760" y="1848960"/>
              <a:ext cx="303480" cy="291960"/>
              <a:chOff x="1157760" y="1848960"/>
              <a:chExt cx="303480" cy="291960"/>
            </a:xfrm>
          </p:grpSpPr>
          <p:grpSp>
            <p:nvGrpSpPr>
              <p:cNvPr id="515" name="组合 68"/>
              <p:cNvGrpSpPr/>
              <p:nvPr/>
            </p:nvGrpSpPr>
            <p:grpSpPr>
              <a:xfrm>
                <a:off x="1157760" y="1848960"/>
                <a:ext cx="303480" cy="291960"/>
                <a:chOff x="1157760" y="1848960"/>
                <a:chExt cx="303480" cy="291960"/>
              </a:xfrm>
            </p:grpSpPr>
            <p:grpSp>
              <p:nvGrpSpPr>
                <p:cNvPr id="516" name="组合 97"/>
                <p:cNvGrpSpPr/>
                <p:nvPr/>
              </p:nvGrpSpPr>
              <p:grpSpPr>
                <a:xfrm>
                  <a:off x="1157760" y="1848960"/>
                  <a:ext cx="303480" cy="197640"/>
                  <a:chOff x="1157760" y="1848960"/>
                  <a:chExt cx="303480" cy="197640"/>
                </a:xfrm>
              </p:grpSpPr>
              <p:sp>
                <p:nvSpPr>
                  <p:cNvPr id="517" name="椭圆 104"/>
                  <p:cNvSpPr/>
                  <p:nvPr/>
                </p:nvSpPr>
                <p:spPr>
                  <a:xfrm>
                    <a:off x="1272240" y="1848960"/>
                    <a:ext cx="59040" cy="16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椭圆 105"/>
                  <p:cNvSpPr/>
                  <p:nvPr/>
                </p:nvSpPr>
                <p:spPr>
                  <a:xfrm rot="1981200">
                    <a:off x="1305000" y="1854000"/>
                    <a:ext cx="66960" cy="16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椭圆 106"/>
                  <p:cNvSpPr/>
                  <p:nvPr/>
                </p:nvSpPr>
                <p:spPr>
                  <a:xfrm rot="4173000">
                    <a:off x="1329480" y="1884240"/>
                    <a:ext cx="71640" cy="16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椭圆 107"/>
                  <p:cNvSpPr/>
                  <p:nvPr/>
                </p:nvSpPr>
                <p:spPr>
                  <a:xfrm rot="5400000">
                    <a:off x="1348920" y="1919880"/>
                    <a:ext cx="59040" cy="16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椭圆 108"/>
                  <p:cNvSpPr/>
                  <p:nvPr/>
                </p:nvSpPr>
                <p:spPr>
                  <a:xfrm rot="19085400">
                    <a:off x="1248120" y="1861560"/>
                    <a:ext cx="63360" cy="186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椭圆 109"/>
                  <p:cNvSpPr/>
                  <p:nvPr/>
                </p:nvSpPr>
                <p:spPr>
                  <a:xfrm rot="17691600">
                    <a:off x="1223640" y="1885680"/>
                    <a:ext cx="63360" cy="186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组合 98"/>
                <p:cNvGrpSpPr/>
                <p:nvPr/>
              </p:nvGrpSpPr>
              <p:grpSpPr>
                <a:xfrm>
                  <a:off x="1161360" y="1941120"/>
                  <a:ext cx="292320" cy="199800"/>
                  <a:chOff x="1161360" y="1941120"/>
                  <a:chExt cx="292320" cy="199800"/>
                </a:xfrm>
              </p:grpSpPr>
              <p:sp>
                <p:nvSpPr>
                  <p:cNvPr id="524" name="椭圆 99"/>
                  <p:cNvSpPr/>
                  <p:nvPr/>
                </p:nvSpPr>
                <p:spPr>
                  <a:xfrm flipV="1" rot="715800">
                    <a:off x="1265400" y="1965240"/>
                    <a:ext cx="59040" cy="16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椭圆 100"/>
                  <p:cNvSpPr/>
                  <p:nvPr/>
                </p:nvSpPr>
                <p:spPr>
                  <a:xfrm flipV="1" rot="20334600">
                    <a:off x="1298160" y="1968120"/>
                    <a:ext cx="66960" cy="16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椭圆 101"/>
                  <p:cNvSpPr/>
                  <p:nvPr/>
                </p:nvSpPr>
                <p:spPr>
                  <a:xfrm flipV="1" rot="18142800">
                    <a:off x="1328400" y="1944000"/>
                    <a:ext cx="71640" cy="16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椭圆 102"/>
                  <p:cNvSpPr/>
                  <p:nvPr/>
                </p:nvSpPr>
                <p:spPr>
                  <a:xfrm flipV="1" rot="3230400">
                    <a:off x="1246320" y="1928520"/>
                    <a:ext cx="63360" cy="186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椭圆 103"/>
                  <p:cNvSpPr/>
                  <p:nvPr/>
                </p:nvSpPr>
                <p:spPr>
                  <a:xfrm flipV="1" rot="4623600">
                    <a:off x="1227600" y="1900440"/>
                    <a:ext cx="63360" cy="186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9" name="组合 69"/>
              <p:cNvGrpSpPr/>
              <p:nvPr/>
            </p:nvGrpSpPr>
            <p:grpSpPr>
              <a:xfrm>
                <a:off x="1196640" y="1892160"/>
                <a:ext cx="224280" cy="215640"/>
                <a:chOff x="1196640" y="1892160"/>
                <a:chExt cx="224280" cy="215640"/>
              </a:xfrm>
            </p:grpSpPr>
            <p:grpSp>
              <p:nvGrpSpPr>
                <p:cNvPr id="530" name="组合 84"/>
                <p:cNvGrpSpPr/>
                <p:nvPr/>
              </p:nvGrpSpPr>
              <p:grpSpPr>
                <a:xfrm>
                  <a:off x="1196640" y="1892160"/>
                  <a:ext cx="224280" cy="146520"/>
                  <a:chOff x="1196640" y="1892160"/>
                  <a:chExt cx="224280" cy="146520"/>
                </a:xfrm>
              </p:grpSpPr>
              <p:sp>
                <p:nvSpPr>
                  <p:cNvPr id="531" name="椭圆 91"/>
                  <p:cNvSpPr/>
                  <p:nvPr/>
                </p:nvSpPr>
                <p:spPr>
                  <a:xfrm>
                    <a:off x="1281240" y="1892160"/>
                    <a:ext cx="43560" cy="122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椭圆 92"/>
                  <p:cNvSpPr/>
                  <p:nvPr/>
                </p:nvSpPr>
                <p:spPr>
                  <a:xfrm rot="1981200">
                    <a:off x="1305360" y="1896120"/>
                    <a:ext cx="49680" cy="122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椭圆 93"/>
                  <p:cNvSpPr/>
                  <p:nvPr/>
                </p:nvSpPr>
                <p:spPr>
                  <a:xfrm rot="4173000">
                    <a:off x="1323720" y="1918080"/>
                    <a:ext cx="52920" cy="122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椭圆 94"/>
                  <p:cNvSpPr/>
                  <p:nvPr/>
                </p:nvSpPr>
                <p:spPr>
                  <a:xfrm rot="5400000">
                    <a:off x="1337760" y="1944720"/>
                    <a:ext cx="43560" cy="122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椭圆 95"/>
                  <p:cNvSpPr/>
                  <p:nvPr/>
                </p:nvSpPr>
                <p:spPr>
                  <a:xfrm rot="19085400">
                    <a:off x="1263600" y="1901520"/>
                    <a:ext cx="46800" cy="13788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椭圆 96"/>
                  <p:cNvSpPr/>
                  <p:nvPr/>
                </p:nvSpPr>
                <p:spPr>
                  <a:xfrm rot="17691600">
                    <a:off x="1245600" y="1919520"/>
                    <a:ext cx="46800" cy="13788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组合 85"/>
                <p:cNvGrpSpPr/>
                <p:nvPr/>
              </p:nvGrpSpPr>
              <p:grpSpPr>
                <a:xfrm>
                  <a:off x="1199520" y="1960200"/>
                  <a:ext cx="216360" cy="147600"/>
                  <a:chOff x="1199520" y="1960200"/>
                  <a:chExt cx="216360" cy="147600"/>
                </a:xfrm>
              </p:grpSpPr>
              <p:sp>
                <p:nvSpPr>
                  <p:cNvPr id="538" name="椭圆 86"/>
                  <p:cNvSpPr/>
                  <p:nvPr/>
                </p:nvSpPr>
                <p:spPr>
                  <a:xfrm flipV="1" rot="715800">
                    <a:off x="1276200" y="1977480"/>
                    <a:ext cx="43560" cy="122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椭圆 87"/>
                  <p:cNvSpPr/>
                  <p:nvPr/>
                </p:nvSpPr>
                <p:spPr>
                  <a:xfrm flipV="1" rot="20334600">
                    <a:off x="1301040" y="1980000"/>
                    <a:ext cx="49680" cy="122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椭圆 88"/>
                  <p:cNvSpPr/>
                  <p:nvPr/>
                </p:nvSpPr>
                <p:spPr>
                  <a:xfrm flipV="1" rot="18142800">
                    <a:off x="1323360" y="1962000"/>
                    <a:ext cx="52920" cy="122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椭圆 89"/>
                  <p:cNvSpPr/>
                  <p:nvPr/>
                </p:nvSpPr>
                <p:spPr>
                  <a:xfrm flipV="1" rot="3230400">
                    <a:off x="1262160" y="1950480"/>
                    <a:ext cx="46800" cy="13788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椭圆 90"/>
                  <p:cNvSpPr/>
                  <p:nvPr/>
                </p:nvSpPr>
                <p:spPr>
                  <a:xfrm flipV="1" rot="4623600">
                    <a:off x="1248480" y="1929600"/>
                    <a:ext cx="46800" cy="13788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3" name="组合 70"/>
              <p:cNvGrpSpPr/>
              <p:nvPr/>
            </p:nvGrpSpPr>
            <p:grpSpPr>
              <a:xfrm>
                <a:off x="1231920" y="1922040"/>
                <a:ext cx="167040" cy="160200"/>
                <a:chOff x="1231920" y="1922040"/>
                <a:chExt cx="167040" cy="160200"/>
              </a:xfrm>
            </p:grpSpPr>
            <p:grpSp>
              <p:nvGrpSpPr>
                <p:cNvPr id="544" name="组合 71"/>
                <p:cNvGrpSpPr/>
                <p:nvPr/>
              </p:nvGrpSpPr>
              <p:grpSpPr>
                <a:xfrm>
                  <a:off x="1231920" y="1922040"/>
                  <a:ext cx="167040" cy="108720"/>
                  <a:chOff x="1231920" y="1922040"/>
                  <a:chExt cx="167040" cy="108720"/>
                </a:xfrm>
              </p:grpSpPr>
              <p:sp>
                <p:nvSpPr>
                  <p:cNvPr id="545" name="椭圆 78"/>
                  <p:cNvSpPr/>
                  <p:nvPr/>
                </p:nvSpPr>
                <p:spPr>
                  <a:xfrm>
                    <a:off x="1294920" y="1922040"/>
                    <a:ext cx="32400" cy="9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椭圆 79"/>
                  <p:cNvSpPr/>
                  <p:nvPr/>
                </p:nvSpPr>
                <p:spPr>
                  <a:xfrm rot="1981200">
                    <a:off x="1312560" y="1924920"/>
                    <a:ext cx="36720" cy="9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椭圆 80"/>
                  <p:cNvSpPr/>
                  <p:nvPr/>
                </p:nvSpPr>
                <p:spPr>
                  <a:xfrm rot="4173000">
                    <a:off x="1326600" y="1941120"/>
                    <a:ext cx="39600" cy="9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椭圆 81"/>
                  <p:cNvSpPr/>
                  <p:nvPr/>
                </p:nvSpPr>
                <p:spPr>
                  <a:xfrm rot="5400000">
                    <a:off x="1337040" y="1960920"/>
                    <a:ext cx="32400" cy="9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椭圆 82"/>
                  <p:cNvSpPr/>
                  <p:nvPr/>
                </p:nvSpPr>
                <p:spPr>
                  <a:xfrm rot="19085400">
                    <a:off x="1281240" y="1928880"/>
                    <a:ext cx="34920" cy="102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椭圆 83"/>
                  <p:cNvSpPr/>
                  <p:nvPr/>
                </p:nvSpPr>
                <p:spPr>
                  <a:xfrm rot="17691600">
                    <a:off x="1268280" y="1941840"/>
                    <a:ext cx="34920" cy="102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组合 72"/>
                <p:cNvGrpSpPr/>
                <p:nvPr/>
              </p:nvGrpSpPr>
              <p:grpSpPr>
                <a:xfrm>
                  <a:off x="1234080" y="1972440"/>
                  <a:ext cx="160560" cy="109800"/>
                  <a:chOff x="1234080" y="1972440"/>
                  <a:chExt cx="160560" cy="109800"/>
                </a:xfrm>
              </p:grpSpPr>
              <p:sp>
                <p:nvSpPr>
                  <p:cNvPr id="552" name="椭圆 73"/>
                  <p:cNvSpPr/>
                  <p:nvPr/>
                </p:nvSpPr>
                <p:spPr>
                  <a:xfrm flipV="1" rot="715800">
                    <a:off x="1291320" y="1985400"/>
                    <a:ext cx="32400" cy="91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椭圆 74"/>
                  <p:cNvSpPr/>
                  <p:nvPr/>
                </p:nvSpPr>
                <p:spPr>
                  <a:xfrm flipV="1" rot="20334600">
                    <a:off x="1308960" y="1986840"/>
                    <a:ext cx="36720" cy="9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椭圆 75"/>
                  <p:cNvSpPr/>
                  <p:nvPr/>
                </p:nvSpPr>
                <p:spPr>
                  <a:xfrm flipV="1" rot="18142800">
                    <a:off x="1325520" y="1973520"/>
                    <a:ext cx="39600" cy="91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椭圆 76"/>
                  <p:cNvSpPr/>
                  <p:nvPr/>
                </p:nvSpPr>
                <p:spPr>
                  <a:xfrm flipV="1" rot="3230400">
                    <a:off x="1280520" y="1965240"/>
                    <a:ext cx="34920" cy="102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椭圆 77"/>
                  <p:cNvSpPr/>
                  <p:nvPr/>
                </p:nvSpPr>
                <p:spPr>
                  <a:xfrm flipV="1" rot="4623600">
                    <a:off x="1270080" y="1949760"/>
                    <a:ext cx="35280" cy="10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57" name="组合 110"/>
            <p:cNvGrpSpPr/>
            <p:nvPr/>
          </p:nvGrpSpPr>
          <p:grpSpPr>
            <a:xfrm>
              <a:off x="1712160" y="1650600"/>
              <a:ext cx="414000" cy="397440"/>
              <a:chOff x="1712160" y="1650600"/>
              <a:chExt cx="414000" cy="397440"/>
            </a:xfrm>
          </p:grpSpPr>
          <p:grpSp>
            <p:nvGrpSpPr>
              <p:cNvPr id="558" name="组合 111"/>
              <p:cNvGrpSpPr/>
              <p:nvPr/>
            </p:nvGrpSpPr>
            <p:grpSpPr>
              <a:xfrm>
                <a:off x="1712160" y="1650600"/>
                <a:ext cx="414000" cy="397440"/>
                <a:chOff x="1712160" y="1650600"/>
                <a:chExt cx="414000" cy="397440"/>
              </a:xfrm>
            </p:grpSpPr>
            <p:grpSp>
              <p:nvGrpSpPr>
                <p:cNvPr id="559" name="组合 140"/>
                <p:cNvGrpSpPr/>
                <p:nvPr/>
              </p:nvGrpSpPr>
              <p:grpSpPr>
                <a:xfrm>
                  <a:off x="1712160" y="1650600"/>
                  <a:ext cx="414000" cy="269640"/>
                  <a:chOff x="1712160" y="1650600"/>
                  <a:chExt cx="414000" cy="269640"/>
                </a:xfrm>
              </p:grpSpPr>
              <p:sp>
                <p:nvSpPr>
                  <p:cNvPr id="560" name="椭圆 147"/>
                  <p:cNvSpPr/>
                  <p:nvPr/>
                </p:nvSpPr>
                <p:spPr>
                  <a:xfrm>
                    <a:off x="1868400" y="1650600"/>
                    <a:ext cx="80640" cy="226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椭圆 148"/>
                  <p:cNvSpPr/>
                  <p:nvPr/>
                </p:nvSpPr>
                <p:spPr>
                  <a:xfrm rot="1981200">
                    <a:off x="1913400" y="1658160"/>
                    <a:ext cx="91440" cy="226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椭圆 149"/>
                  <p:cNvSpPr/>
                  <p:nvPr/>
                </p:nvSpPr>
                <p:spPr>
                  <a:xfrm rot="4173000">
                    <a:off x="1946880" y="1699200"/>
                    <a:ext cx="97920" cy="226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椭圆 150"/>
                  <p:cNvSpPr/>
                  <p:nvPr/>
                </p:nvSpPr>
                <p:spPr>
                  <a:xfrm rot="5400000">
                    <a:off x="1972800" y="1747080"/>
                    <a:ext cx="80280" cy="226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椭圆 151"/>
                  <p:cNvSpPr/>
                  <p:nvPr/>
                </p:nvSpPr>
                <p:spPr>
                  <a:xfrm rot="19085400">
                    <a:off x="1835640" y="1668240"/>
                    <a:ext cx="86400" cy="254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椭圆 152"/>
                  <p:cNvSpPr/>
                  <p:nvPr/>
                </p:nvSpPr>
                <p:spPr>
                  <a:xfrm rot="17691600">
                    <a:off x="1802160" y="1700280"/>
                    <a:ext cx="86400" cy="254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组合 141"/>
                <p:cNvGrpSpPr/>
                <p:nvPr/>
              </p:nvGrpSpPr>
              <p:grpSpPr>
                <a:xfrm>
                  <a:off x="1716840" y="1775880"/>
                  <a:ext cx="399240" cy="272160"/>
                  <a:chOff x="1716840" y="1775880"/>
                  <a:chExt cx="399240" cy="272160"/>
                </a:xfrm>
              </p:grpSpPr>
              <p:sp>
                <p:nvSpPr>
                  <p:cNvPr id="567" name="椭圆 142"/>
                  <p:cNvSpPr/>
                  <p:nvPr/>
                </p:nvSpPr>
                <p:spPr>
                  <a:xfrm flipV="1" rot="715800">
                    <a:off x="1858680" y="1809720"/>
                    <a:ext cx="80640" cy="226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椭圆 143"/>
                  <p:cNvSpPr/>
                  <p:nvPr/>
                </p:nvSpPr>
                <p:spPr>
                  <a:xfrm flipV="1" rot="20334600">
                    <a:off x="1904040" y="1812600"/>
                    <a:ext cx="91440" cy="226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椭圆 144"/>
                  <p:cNvSpPr/>
                  <p:nvPr/>
                </p:nvSpPr>
                <p:spPr>
                  <a:xfrm flipV="1" rot="18142800">
                    <a:off x="1945080" y="1780200"/>
                    <a:ext cx="97920" cy="226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椭圆 145"/>
                  <p:cNvSpPr/>
                  <p:nvPr/>
                </p:nvSpPr>
                <p:spPr>
                  <a:xfrm flipV="1" rot="3230400">
                    <a:off x="1832760" y="1758240"/>
                    <a:ext cx="86400" cy="254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椭圆 146"/>
                  <p:cNvSpPr/>
                  <p:nvPr/>
                </p:nvSpPr>
                <p:spPr>
                  <a:xfrm flipV="1" rot="4623600">
                    <a:off x="1806840" y="1720080"/>
                    <a:ext cx="86400" cy="254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2" name="组合 112"/>
              <p:cNvGrpSpPr/>
              <p:nvPr/>
            </p:nvGrpSpPr>
            <p:grpSpPr>
              <a:xfrm>
                <a:off x="1765800" y="1709280"/>
                <a:ext cx="306000" cy="293760"/>
                <a:chOff x="1765800" y="1709280"/>
                <a:chExt cx="306000" cy="293760"/>
              </a:xfrm>
            </p:grpSpPr>
            <p:grpSp>
              <p:nvGrpSpPr>
                <p:cNvPr id="573" name="组合 127"/>
                <p:cNvGrpSpPr/>
                <p:nvPr/>
              </p:nvGrpSpPr>
              <p:grpSpPr>
                <a:xfrm>
                  <a:off x="1765800" y="1709280"/>
                  <a:ext cx="306000" cy="199440"/>
                  <a:chOff x="1765800" y="1709280"/>
                  <a:chExt cx="306000" cy="199440"/>
                </a:xfrm>
              </p:grpSpPr>
              <p:sp>
                <p:nvSpPr>
                  <p:cNvPr id="574" name="椭圆 134"/>
                  <p:cNvSpPr/>
                  <p:nvPr/>
                </p:nvSpPr>
                <p:spPr>
                  <a:xfrm>
                    <a:off x="1881000" y="1709280"/>
                    <a:ext cx="59400" cy="16740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椭圆 135"/>
                  <p:cNvSpPr/>
                  <p:nvPr/>
                </p:nvSpPr>
                <p:spPr>
                  <a:xfrm rot="1981200">
                    <a:off x="1914480" y="1714320"/>
                    <a:ext cx="67680" cy="16740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椭圆 136"/>
                  <p:cNvSpPr/>
                  <p:nvPr/>
                </p:nvSpPr>
                <p:spPr>
                  <a:xfrm rot="4173000">
                    <a:off x="1938960" y="1744920"/>
                    <a:ext cx="72360" cy="16704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椭圆 137"/>
                  <p:cNvSpPr/>
                  <p:nvPr/>
                </p:nvSpPr>
                <p:spPr>
                  <a:xfrm rot="5400000">
                    <a:off x="1958400" y="1780560"/>
                    <a:ext cx="59400" cy="16704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椭圆 138"/>
                  <p:cNvSpPr/>
                  <p:nvPr/>
                </p:nvSpPr>
                <p:spPr>
                  <a:xfrm rot="19085400">
                    <a:off x="1856520" y="1722600"/>
                    <a:ext cx="63720" cy="18792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椭圆 139"/>
                  <p:cNvSpPr/>
                  <p:nvPr/>
                </p:nvSpPr>
                <p:spPr>
                  <a:xfrm rot="17691600">
                    <a:off x="1832400" y="1746000"/>
                    <a:ext cx="64080" cy="18792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0" name="组合 128"/>
                <p:cNvGrpSpPr/>
                <p:nvPr/>
              </p:nvGrpSpPr>
              <p:grpSpPr>
                <a:xfrm>
                  <a:off x="1769400" y="1801800"/>
                  <a:ext cx="294840" cy="201240"/>
                  <a:chOff x="1769400" y="1801800"/>
                  <a:chExt cx="294840" cy="201240"/>
                </a:xfrm>
              </p:grpSpPr>
              <p:sp>
                <p:nvSpPr>
                  <p:cNvPr id="581" name="椭圆 129"/>
                  <p:cNvSpPr/>
                  <p:nvPr/>
                </p:nvSpPr>
                <p:spPr>
                  <a:xfrm flipV="1" rot="715800">
                    <a:off x="1873800" y="1825920"/>
                    <a:ext cx="59400" cy="16740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椭圆 130"/>
                  <p:cNvSpPr/>
                  <p:nvPr/>
                </p:nvSpPr>
                <p:spPr>
                  <a:xfrm flipV="1" rot="20334600">
                    <a:off x="1907280" y="1828800"/>
                    <a:ext cx="67680" cy="16740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椭圆 131"/>
                  <p:cNvSpPr/>
                  <p:nvPr/>
                </p:nvSpPr>
                <p:spPr>
                  <a:xfrm flipV="1" rot="18142800">
                    <a:off x="1937880" y="1804680"/>
                    <a:ext cx="72360" cy="16704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椭圆 132"/>
                  <p:cNvSpPr/>
                  <p:nvPr/>
                </p:nvSpPr>
                <p:spPr>
                  <a:xfrm flipV="1" rot="3230400">
                    <a:off x="1855080" y="1788480"/>
                    <a:ext cx="63720" cy="18792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椭圆 133"/>
                  <p:cNvSpPr/>
                  <p:nvPr/>
                </p:nvSpPr>
                <p:spPr>
                  <a:xfrm flipV="1" rot="4623600">
                    <a:off x="1835640" y="1759680"/>
                    <a:ext cx="64080" cy="1875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6" name="组合 113"/>
              <p:cNvGrpSpPr/>
              <p:nvPr/>
            </p:nvGrpSpPr>
            <p:grpSpPr>
              <a:xfrm>
                <a:off x="1813320" y="1750320"/>
                <a:ext cx="227880" cy="218160"/>
                <a:chOff x="1813320" y="1750320"/>
                <a:chExt cx="227880" cy="218160"/>
              </a:xfrm>
            </p:grpSpPr>
            <p:grpSp>
              <p:nvGrpSpPr>
                <p:cNvPr id="587" name="组合 114"/>
                <p:cNvGrpSpPr/>
                <p:nvPr/>
              </p:nvGrpSpPr>
              <p:grpSpPr>
                <a:xfrm>
                  <a:off x="1813320" y="1750320"/>
                  <a:ext cx="227880" cy="147960"/>
                  <a:chOff x="1813320" y="1750320"/>
                  <a:chExt cx="227880" cy="147960"/>
                </a:xfrm>
              </p:grpSpPr>
              <p:sp>
                <p:nvSpPr>
                  <p:cNvPr id="588" name="椭圆 121"/>
                  <p:cNvSpPr/>
                  <p:nvPr/>
                </p:nvSpPr>
                <p:spPr>
                  <a:xfrm>
                    <a:off x="1899360" y="1750320"/>
                    <a:ext cx="44280" cy="12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椭圆 122"/>
                  <p:cNvSpPr/>
                  <p:nvPr/>
                </p:nvSpPr>
                <p:spPr>
                  <a:xfrm rot="1981200">
                    <a:off x="1923840" y="1754280"/>
                    <a:ext cx="50400" cy="12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椭圆 123"/>
                  <p:cNvSpPr/>
                  <p:nvPr/>
                </p:nvSpPr>
                <p:spPr>
                  <a:xfrm rot="4173000">
                    <a:off x="1942560" y="1776600"/>
                    <a:ext cx="53640" cy="12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椭圆 124"/>
                  <p:cNvSpPr/>
                  <p:nvPr/>
                </p:nvSpPr>
                <p:spPr>
                  <a:xfrm rot="5400000">
                    <a:off x="1956960" y="1803240"/>
                    <a:ext cx="43920" cy="12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椭圆 125"/>
                  <p:cNvSpPr/>
                  <p:nvPr/>
                </p:nvSpPr>
                <p:spPr>
                  <a:xfrm rot="19085400">
                    <a:off x="1881000" y="1760040"/>
                    <a:ext cx="47520" cy="139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椭圆 126"/>
                  <p:cNvSpPr/>
                  <p:nvPr/>
                </p:nvSpPr>
                <p:spPr>
                  <a:xfrm rot="17691600">
                    <a:off x="1862640" y="1777320"/>
                    <a:ext cx="47520" cy="139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组合 115"/>
                <p:cNvGrpSpPr/>
                <p:nvPr/>
              </p:nvGrpSpPr>
              <p:grpSpPr>
                <a:xfrm>
                  <a:off x="1816200" y="1819080"/>
                  <a:ext cx="219240" cy="149400"/>
                  <a:chOff x="1816200" y="1819080"/>
                  <a:chExt cx="219240" cy="149400"/>
                </a:xfrm>
              </p:grpSpPr>
              <p:sp>
                <p:nvSpPr>
                  <p:cNvPr id="595" name="椭圆 116"/>
                  <p:cNvSpPr/>
                  <p:nvPr/>
                </p:nvSpPr>
                <p:spPr>
                  <a:xfrm flipV="1" rot="715800">
                    <a:off x="1893960" y="1836720"/>
                    <a:ext cx="44280" cy="12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椭圆 117"/>
                  <p:cNvSpPr/>
                  <p:nvPr/>
                </p:nvSpPr>
                <p:spPr>
                  <a:xfrm flipV="1" rot="20334600">
                    <a:off x="1919160" y="1839240"/>
                    <a:ext cx="50400" cy="12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椭圆 118"/>
                  <p:cNvSpPr/>
                  <p:nvPr/>
                </p:nvSpPr>
                <p:spPr>
                  <a:xfrm flipV="1" rot="18142800">
                    <a:off x="1941480" y="1820520"/>
                    <a:ext cx="53640" cy="124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椭圆 119"/>
                  <p:cNvSpPr/>
                  <p:nvPr/>
                </p:nvSpPr>
                <p:spPr>
                  <a:xfrm flipV="1" rot="3230400">
                    <a:off x="1879560" y="1809000"/>
                    <a:ext cx="47520" cy="139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椭圆 120"/>
                  <p:cNvSpPr/>
                  <p:nvPr/>
                </p:nvSpPr>
                <p:spPr>
                  <a:xfrm flipV="1" rot="4623600">
                    <a:off x="1865520" y="1788480"/>
                    <a:ext cx="47520" cy="139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00" name="组合 153"/>
            <p:cNvGrpSpPr/>
            <p:nvPr/>
          </p:nvGrpSpPr>
          <p:grpSpPr>
            <a:xfrm>
              <a:off x="1469520" y="2356200"/>
              <a:ext cx="245160" cy="235800"/>
              <a:chOff x="1469520" y="2356200"/>
              <a:chExt cx="245160" cy="235800"/>
            </a:xfrm>
          </p:grpSpPr>
          <p:grpSp>
            <p:nvGrpSpPr>
              <p:cNvPr id="601" name="组合 154"/>
              <p:cNvGrpSpPr/>
              <p:nvPr/>
            </p:nvGrpSpPr>
            <p:grpSpPr>
              <a:xfrm>
                <a:off x="1469520" y="2356200"/>
                <a:ext cx="245160" cy="235800"/>
                <a:chOff x="1469520" y="2356200"/>
                <a:chExt cx="245160" cy="235800"/>
              </a:xfrm>
            </p:grpSpPr>
            <p:grpSp>
              <p:nvGrpSpPr>
                <p:cNvPr id="602" name="组合 183"/>
                <p:cNvGrpSpPr/>
                <p:nvPr/>
              </p:nvGrpSpPr>
              <p:grpSpPr>
                <a:xfrm>
                  <a:off x="1469520" y="2356200"/>
                  <a:ext cx="245160" cy="160200"/>
                  <a:chOff x="1469520" y="2356200"/>
                  <a:chExt cx="245160" cy="160200"/>
                </a:xfrm>
              </p:grpSpPr>
              <p:sp>
                <p:nvSpPr>
                  <p:cNvPr id="603" name="椭圆 190"/>
                  <p:cNvSpPr/>
                  <p:nvPr/>
                </p:nvSpPr>
                <p:spPr>
                  <a:xfrm>
                    <a:off x="1562040" y="2356200"/>
                    <a:ext cx="47880" cy="134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椭圆 191"/>
                  <p:cNvSpPr/>
                  <p:nvPr/>
                </p:nvSpPr>
                <p:spPr>
                  <a:xfrm rot="1981200">
                    <a:off x="1588320" y="2360520"/>
                    <a:ext cx="54360" cy="134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椭圆 192"/>
                  <p:cNvSpPr/>
                  <p:nvPr/>
                </p:nvSpPr>
                <p:spPr>
                  <a:xfrm rot="4173000">
                    <a:off x="1608120" y="2384640"/>
                    <a:ext cx="57960" cy="134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椭圆 193"/>
                  <p:cNvSpPr/>
                  <p:nvPr/>
                </p:nvSpPr>
                <p:spPr>
                  <a:xfrm rot="5400000">
                    <a:off x="1623600" y="2413080"/>
                    <a:ext cx="47520" cy="134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椭圆 194"/>
                  <p:cNvSpPr/>
                  <p:nvPr/>
                </p:nvSpPr>
                <p:spPr>
                  <a:xfrm rot="19085400">
                    <a:off x="1542600" y="2366280"/>
                    <a:ext cx="51120" cy="150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椭圆 195"/>
                  <p:cNvSpPr/>
                  <p:nvPr/>
                </p:nvSpPr>
                <p:spPr>
                  <a:xfrm rot="17691600">
                    <a:off x="1522800" y="2386080"/>
                    <a:ext cx="51120" cy="150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" name="组合 184"/>
                <p:cNvGrpSpPr/>
                <p:nvPr/>
              </p:nvGrpSpPr>
              <p:grpSpPr>
                <a:xfrm>
                  <a:off x="1472400" y="2430360"/>
                  <a:ext cx="236160" cy="161640"/>
                  <a:chOff x="1472400" y="2430360"/>
                  <a:chExt cx="236160" cy="161640"/>
                </a:xfrm>
              </p:grpSpPr>
              <p:sp>
                <p:nvSpPr>
                  <p:cNvPr id="610" name="椭圆 185"/>
                  <p:cNvSpPr/>
                  <p:nvPr/>
                </p:nvSpPr>
                <p:spPr>
                  <a:xfrm flipV="1" rot="715800">
                    <a:off x="1555920" y="2450520"/>
                    <a:ext cx="47880" cy="133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椭圆 186"/>
                  <p:cNvSpPr/>
                  <p:nvPr/>
                </p:nvSpPr>
                <p:spPr>
                  <a:xfrm flipV="1" rot="20334600">
                    <a:off x="1582920" y="2452320"/>
                    <a:ext cx="54360" cy="134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椭圆 187"/>
                  <p:cNvSpPr/>
                  <p:nvPr/>
                </p:nvSpPr>
                <p:spPr>
                  <a:xfrm flipV="1" rot="18142800">
                    <a:off x="1607040" y="2433240"/>
                    <a:ext cx="57960" cy="134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椭圆 188"/>
                  <p:cNvSpPr/>
                  <p:nvPr/>
                </p:nvSpPr>
                <p:spPr>
                  <a:xfrm flipV="1" rot="3230400">
                    <a:off x="1541520" y="2420280"/>
                    <a:ext cx="51120" cy="150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椭圆 189"/>
                  <p:cNvSpPr/>
                  <p:nvPr/>
                </p:nvSpPr>
                <p:spPr>
                  <a:xfrm flipV="1" rot="4623600">
                    <a:off x="1525680" y="2396520"/>
                    <a:ext cx="51120" cy="150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5" name="组合 155"/>
              <p:cNvGrpSpPr/>
              <p:nvPr/>
            </p:nvGrpSpPr>
            <p:grpSpPr>
              <a:xfrm>
                <a:off x="1501560" y="2391120"/>
                <a:ext cx="181440" cy="174600"/>
                <a:chOff x="1501560" y="2391120"/>
                <a:chExt cx="181440" cy="174600"/>
              </a:xfrm>
            </p:grpSpPr>
            <p:grpSp>
              <p:nvGrpSpPr>
                <p:cNvPr id="616" name="组合 170"/>
                <p:cNvGrpSpPr/>
                <p:nvPr/>
              </p:nvGrpSpPr>
              <p:grpSpPr>
                <a:xfrm>
                  <a:off x="1501560" y="2391120"/>
                  <a:ext cx="181440" cy="118080"/>
                  <a:chOff x="1501560" y="2391120"/>
                  <a:chExt cx="181440" cy="118080"/>
                </a:xfrm>
              </p:grpSpPr>
              <p:sp>
                <p:nvSpPr>
                  <p:cNvPr id="617" name="椭圆 177"/>
                  <p:cNvSpPr/>
                  <p:nvPr/>
                </p:nvSpPr>
                <p:spPr>
                  <a:xfrm>
                    <a:off x="1569600" y="2391120"/>
                    <a:ext cx="35280" cy="993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椭圆 178"/>
                  <p:cNvSpPr/>
                  <p:nvPr/>
                </p:nvSpPr>
                <p:spPr>
                  <a:xfrm rot="1981200">
                    <a:off x="1589400" y="2394000"/>
                    <a:ext cx="39960" cy="993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椭圆 179"/>
                  <p:cNvSpPr/>
                  <p:nvPr/>
                </p:nvSpPr>
                <p:spPr>
                  <a:xfrm rot="4173000">
                    <a:off x="1604160" y="2412000"/>
                    <a:ext cx="42840" cy="993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椭圆 180"/>
                  <p:cNvSpPr/>
                  <p:nvPr/>
                </p:nvSpPr>
                <p:spPr>
                  <a:xfrm rot="5400000">
                    <a:off x="1615680" y="2433600"/>
                    <a:ext cx="35280" cy="993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椭圆 181"/>
                  <p:cNvSpPr/>
                  <p:nvPr/>
                </p:nvSpPr>
                <p:spPr>
                  <a:xfrm rot="19085400">
                    <a:off x="1555200" y="2398680"/>
                    <a:ext cx="37800" cy="11160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椭圆 182"/>
                  <p:cNvSpPr/>
                  <p:nvPr/>
                </p:nvSpPr>
                <p:spPr>
                  <a:xfrm rot="17691600">
                    <a:off x="1541160" y="2412720"/>
                    <a:ext cx="37800" cy="11160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" name="组合 171"/>
                <p:cNvGrpSpPr/>
                <p:nvPr/>
              </p:nvGrpSpPr>
              <p:grpSpPr>
                <a:xfrm>
                  <a:off x="1503720" y="2446200"/>
                  <a:ext cx="174960" cy="119520"/>
                  <a:chOff x="1503720" y="2446200"/>
                  <a:chExt cx="174960" cy="119520"/>
                </a:xfrm>
              </p:grpSpPr>
              <p:sp>
                <p:nvSpPr>
                  <p:cNvPr id="624" name="椭圆 172"/>
                  <p:cNvSpPr/>
                  <p:nvPr/>
                </p:nvSpPr>
                <p:spPr>
                  <a:xfrm flipV="1" rot="715800">
                    <a:off x="1565280" y="2460960"/>
                    <a:ext cx="35280" cy="993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椭圆 173"/>
                  <p:cNvSpPr/>
                  <p:nvPr/>
                </p:nvSpPr>
                <p:spPr>
                  <a:xfrm flipV="1" rot="20334600">
                    <a:off x="1585440" y="2462040"/>
                    <a:ext cx="39960" cy="993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椭圆 174"/>
                  <p:cNvSpPr/>
                  <p:nvPr/>
                </p:nvSpPr>
                <p:spPr>
                  <a:xfrm flipV="1" rot="18142800">
                    <a:off x="1603800" y="2447640"/>
                    <a:ext cx="42840" cy="993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椭圆 175"/>
                  <p:cNvSpPr/>
                  <p:nvPr/>
                </p:nvSpPr>
                <p:spPr>
                  <a:xfrm flipV="1" rot="3230400">
                    <a:off x="1554480" y="2438280"/>
                    <a:ext cx="37800" cy="11160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椭圆 176"/>
                  <p:cNvSpPr/>
                  <p:nvPr/>
                </p:nvSpPr>
                <p:spPr>
                  <a:xfrm flipV="1" rot="4623600">
                    <a:off x="1543320" y="2421000"/>
                    <a:ext cx="37800" cy="1119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9" name="组合 156"/>
              <p:cNvGrpSpPr/>
              <p:nvPr/>
            </p:nvGrpSpPr>
            <p:grpSpPr>
              <a:xfrm>
                <a:off x="1529280" y="2415240"/>
                <a:ext cx="135000" cy="129600"/>
                <a:chOff x="1529280" y="2415240"/>
                <a:chExt cx="135000" cy="129600"/>
              </a:xfrm>
            </p:grpSpPr>
            <p:grpSp>
              <p:nvGrpSpPr>
                <p:cNvPr id="630" name="组合 157"/>
                <p:cNvGrpSpPr/>
                <p:nvPr/>
              </p:nvGrpSpPr>
              <p:grpSpPr>
                <a:xfrm>
                  <a:off x="1529280" y="2415240"/>
                  <a:ext cx="135000" cy="88200"/>
                  <a:chOff x="1529280" y="2415240"/>
                  <a:chExt cx="135000" cy="88200"/>
                </a:xfrm>
              </p:grpSpPr>
              <p:sp>
                <p:nvSpPr>
                  <p:cNvPr id="631" name="椭圆 164"/>
                  <p:cNvSpPr/>
                  <p:nvPr/>
                </p:nvSpPr>
                <p:spPr>
                  <a:xfrm>
                    <a:off x="1580400" y="2415240"/>
                    <a:ext cx="26280" cy="74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椭圆 165"/>
                  <p:cNvSpPr/>
                  <p:nvPr/>
                </p:nvSpPr>
                <p:spPr>
                  <a:xfrm rot="1981200">
                    <a:off x="1595160" y="2417040"/>
                    <a:ext cx="29880" cy="74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椭圆 166"/>
                  <p:cNvSpPr/>
                  <p:nvPr/>
                </p:nvSpPr>
                <p:spPr>
                  <a:xfrm rot="4173000">
                    <a:off x="1605600" y="2431080"/>
                    <a:ext cx="32040" cy="73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椭圆 167"/>
                  <p:cNvSpPr/>
                  <p:nvPr/>
                </p:nvSpPr>
                <p:spPr>
                  <a:xfrm rot="5400000">
                    <a:off x="1614240" y="2446920"/>
                    <a:ext cx="26280" cy="73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椭圆 168"/>
                  <p:cNvSpPr/>
                  <p:nvPr/>
                </p:nvSpPr>
                <p:spPr>
                  <a:xfrm rot="19085400">
                    <a:off x="1569600" y="2420640"/>
                    <a:ext cx="28080" cy="83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椭圆 169"/>
                  <p:cNvSpPr/>
                  <p:nvPr/>
                </p:nvSpPr>
                <p:spPr>
                  <a:xfrm rot="17691600">
                    <a:off x="1558800" y="2431440"/>
                    <a:ext cx="28080" cy="83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组合 158"/>
                <p:cNvGrpSpPr/>
                <p:nvPr/>
              </p:nvGrpSpPr>
              <p:grpSpPr>
                <a:xfrm>
                  <a:off x="1531080" y="2455920"/>
                  <a:ext cx="130320" cy="88920"/>
                  <a:chOff x="1531080" y="2455920"/>
                  <a:chExt cx="130320" cy="88920"/>
                </a:xfrm>
              </p:grpSpPr>
              <p:sp>
                <p:nvSpPr>
                  <p:cNvPr id="638" name="椭圆 159"/>
                  <p:cNvSpPr/>
                  <p:nvPr/>
                </p:nvSpPr>
                <p:spPr>
                  <a:xfrm flipV="1" rot="715800">
                    <a:off x="1577160" y="2466000"/>
                    <a:ext cx="26280" cy="74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椭圆 160"/>
                  <p:cNvSpPr/>
                  <p:nvPr/>
                </p:nvSpPr>
                <p:spPr>
                  <a:xfrm flipV="1" rot="20334600">
                    <a:off x="1591920" y="2467800"/>
                    <a:ext cx="29880" cy="74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椭圆 161"/>
                  <p:cNvSpPr/>
                  <p:nvPr/>
                </p:nvSpPr>
                <p:spPr>
                  <a:xfrm flipV="1" rot="18142800">
                    <a:off x="1605600" y="2457000"/>
                    <a:ext cx="32040" cy="73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椭圆 162"/>
                  <p:cNvSpPr/>
                  <p:nvPr/>
                </p:nvSpPr>
                <p:spPr>
                  <a:xfrm flipV="1" rot="3230400">
                    <a:off x="1568880" y="2449800"/>
                    <a:ext cx="28080" cy="83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椭圆 163"/>
                  <p:cNvSpPr/>
                  <p:nvPr/>
                </p:nvSpPr>
                <p:spPr>
                  <a:xfrm flipV="1" rot="4623600">
                    <a:off x="1560600" y="2436840"/>
                    <a:ext cx="28080" cy="83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43" name="组合 196"/>
            <p:cNvGrpSpPr/>
            <p:nvPr/>
          </p:nvGrpSpPr>
          <p:grpSpPr>
            <a:xfrm>
              <a:off x="2167200" y="2201040"/>
              <a:ext cx="303480" cy="291960"/>
              <a:chOff x="2167200" y="2201040"/>
              <a:chExt cx="303480" cy="291960"/>
            </a:xfrm>
          </p:grpSpPr>
          <p:grpSp>
            <p:nvGrpSpPr>
              <p:cNvPr id="644" name="组合 197"/>
              <p:cNvGrpSpPr/>
              <p:nvPr/>
            </p:nvGrpSpPr>
            <p:grpSpPr>
              <a:xfrm>
                <a:off x="2167200" y="2201040"/>
                <a:ext cx="303480" cy="291960"/>
                <a:chOff x="2167200" y="2201040"/>
                <a:chExt cx="303480" cy="291960"/>
              </a:xfrm>
            </p:grpSpPr>
            <p:grpSp>
              <p:nvGrpSpPr>
                <p:cNvPr id="645" name="组合 226"/>
                <p:cNvGrpSpPr/>
                <p:nvPr/>
              </p:nvGrpSpPr>
              <p:grpSpPr>
                <a:xfrm>
                  <a:off x="2167200" y="2201040"/>
                  <a:ext cx="303480" cy="197640"/>
                  <a:chOff x="2167200" y="2201040"/>
                  <a:chExt cx="303480" cy="197640"/>
                </a:xfrm>
              </p:grpSpPr>
              <p:sp>
                <p:nvSpPr>
                  <p:cNvPr id="646" name="椭圆 233"/>
                  <p:cNvSpPr/>
                  <p:nvPr/>
                </p:nvSpPr>
                <p:spPr>
                  <a:xfrm>
                    <a:off x="2281680" y="2201040"/>
                    <a:ext cx="59040" cy="16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椭圆 234"/>
                  <p:cNvSpPr/>
                  <p:nvPr/>
                </p:nvSpPr>
                <p:spPr>
                  <a:xfrm rot="1981200">
                    <a:off x="2314440" y="2206080"/>
                    <a:ext cx="66960" cy="16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椭圆 235"/>
                  <p:cNvSpPr/>
                  <p:nvPr/>
                </p:nvSpPr>
                <p:spPr>
                  <a:xfrm rot="4173000">
                    <a:off x="2338920" y="2236320"/>
                    <a:ext cx="71640" cy="16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椭圆 236"/>
                  <p:cNvSpPr/>
                  <p:nvPr/>
                </p:nvSpPr>
                <p:spPr>
                  <a:xfrm rot="5400000">
                    <a:off x="2358360" y="2271960"/>
                    <a:ext cx="59040" cy="16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椭圆 237"/>
                  <p:cNvSpPr/>
                  <p:nvPr/>
                </p:nvSpPr>
                <p:spPr>
                  <a:xfrm rot="19085400">
                    <a:off x="2257560" y="2213640"/>
                    <a:ext cx="63360" cy="186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椭圆 238"/>
                  <p:cNvSpPr/>
                  <p:nvPr/>
                </p:nvSpPr>
                <p:spPr>
                  <a:xfrm rot="17691600">
                    <a:off x="2233080" y="2237760"/>
                    <a:ext cx="63360" cy="186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组合 227"/>
                <p:cNvGrpSpPr/>
                <p:nvPr/>
              </p:nvGrpSpPr>
              <p:grpSpPr>
                <a:xfrm>
                  <a:off x="2170800" y="2293200"/>
                  <a:ext cx="292320" cy="199800"/>
                  <a:chOff x="2170800" y="2293200"/>
                  <a:chExt cx="292320" cy="199800"/>
                </a:xfrm>
              </p:grpSpPr>
              <p:sp>
                <p:nvSpPr>
                  <p:cNvPr id="653" name="椭圆 228"/>
                  <p:cNvSpPr/>
                  <p:nvPr/>
                </p:nvSpPr>
                <p:spPr>
                  <a:xfrm flipV="1" rot="715800">
                    <a:off x="2274840" y="2317320"/>
                    <a:ext cx="59040" cy="16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椭圆 229"/>
                  <p:cNvSpPr/>
                  <p:nvPr/>
                </p:nvSpPr>
                <p:spPr>
                  <a:xfrm flipV="1" rot="20334600">
                    <a:off x="2307600" y="2320200"/>
                    <a:ext cx="66960" cy="16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椭圆 230"/>
                  <p:cNvSpPr/>
                  <p:nvPr/>
                </p:nvSpPr>
                <p:spPr>
                  <a:xfrm flipV="1" rot="18142800">
                    <a:off x="2337840" y="2296080"/>
                    <a:ext cx="71640" cy="16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椭圆 231"/>
                  <p:cNvSpPr/>
                  <p:nvPr/>
                </p:nvSpPr>
                <p:spPr>
                  <a:xfrm flipV="1" rot="3230400">
                    <a:off x="2255760" y="2280600"/>
                    <a:ext cx="63360" cy="186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椭圆 232"/>
                  <p:cNvSpPr/>
                  <p:nvPr/>
                </p:nvSpPr>
                <p:spPr>
                  <a:xfrm flipV="1" rot="4623600">
                    <a:off x="2237040" y="2252520"/>
                    <a:ext cx="63360" cy="186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8" name="组合 198"/>
              <p:cNvGrpSpPr/>
              <p:nvPr/>
            </p:nvGrpSpPr>
            <p:grpSpPr>
              <a:xfrm>
                <a:off x="2206080" y="2244240"/>
                <a:ext cx="224280" cy="215640"/>
                <a:chOff x="2206080" y="2244240"/>
                <a:chExt cx="224280" cy="215640"/>
              </a:xfrm>
            </p:grpSpPr>
            <p:grpSp>
              <p:nvGrpSpPr>
                <p:cNvPr id="659" name="组合 213"/>
                <p:cNvGrpSpPr/>
                <p:nvPr/>
              </p:nvGrpSpPr>
              <p:grpSpPr>
                <a:xfrm>
                  <a:off x="2206080" y="2244240"/>
                  <a:ext cx="224280" cy="146520"/>
                  <a:chOff x="2206080" y="2244240"/>
                  <a:chExt cx="224280" cy="146520"/>
                </a:xfrm>
              </p:grpSpPr>
              <p:sp>
                <p:nvSpPr>
                  <p:cNvPr id="660" name="椭圆 220"/>
                  <p:cNvSpPr/>
                  <p:nvPr/>
                </p:nvSpPr>
                <p:spPr>
                  <a:xfrm>
                    <a:off x="2290680" y="2244240"/>
                    <a:ext cx="43560" cy="122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椭圆 221"/>
                  <p:cNvSpPr/>
                  <p:nvPr/>
                </p:nvSpPr>
                <p:spPr>
                  <a:xfrm rot="1981200">
                    <a:off x="2314800" y="2248200"/>
                    <a:ext cx="49680" cy="122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椭圆 222"/>
                  <p:cNvSpPr/>
                  <p:nvPr/>
                </p:nvSpPr>
                <p:spPr>
                  <a:xfrm rot="4173000">
                    <a:off x="2333160" y="2270160"/>
                    <a:ext cx="52920" cy="122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椭圆 223"/>
                  <p:cNvSpPr/>
                  <p:nvPr/>
                </p:nvSpPr>
                <p:spPr>
                  <a:xfrm rot="5400000">
                    <a:off x="2347200" y="2296800"/>
                    <a:ext cx="43560" cy="122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椭圆 224"/>
                  <p:cNvSpPr/>
                  <p:nvPr/>
                </p:nvSpPr>
                <p:spPr>
                  <a:xfrm rot="19085400">
                    <a:off x="2273040" y="2253600"/>
                    <a:ext cx="46800" cy="13788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椭圆 225"/>
                  <p:cNvSpPr/>
                  <p:nvPr/>
                </p:nvSpPr>
                <p:spPr>
                  <a:xfrm rot="17691600">
                    <a:off x="2255040" y="2271600"/>
                    <a:ext cx="46800" cy="13788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6" name="组合 214"/>
                <p:cNvGrpSpPr/>
                <p:nvPr/>
              </p:nvGrpSpPr>
              <p:grpSpPr>
                <a:xfrm>
                  <a:off x="2208960" y="2312280"/>
                  <a:ext cx="216360" cy="147600"/>
                  <a:chOff x="2208960" y="2312280"/>
                  <a:chExt cx="216360" cy="147600"/>
                </a:xfrm>
              </p:grpSpPr>
              <p:sp>
                <p:nvSpPr>
                  <p:cNvPr id="667" name="椭圆 215"/>
                  <p:cNvSpPr/>
                  <p:nvPr/>
                </p:nvSpPr>
                <p:spPr>
                  <a:xfrm flipV="1" rot="715800">
                    <a:off x="2285640" y="2329560"/>
                    <a:ext cx="43560" cy="122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椭圆 216"/>
                  <p:cNvSpPr/>
                  <p:nvPr/>
                </p:nvSpPr>
                <p:spPr>
                  <a:xfrm flipV="1" rot="20334600">
                    <a:off x="2310480" y="2332080"/>
                    <a:ext cx="49680" cy="122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椭圆 217"/>
                  <p:cNvSpPr/>
                  <p:nvPr/>
                </p:nvSpPr>
                <p:spPr>
                  <a:xfrm flipV="1" rot="18142800">
                    <a:off x="2332800" y="2314080"/>
                    <a:ext cx="52920" cy="122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椭圆 218"/>
                  <p:cNvSpPr/>
                  <p:nvPr/>
                </p:nvSpPr>
                <p:spPr>
                  <a:xfrm flipV="1" rot="3230400">
                    <a:off x="2271600" y="2302560"/>
                    <a:ext cx="46800" cy="13788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椭圆 219"/>
                  <p:cNvSpPr/>
                  <p:nvPr/>
                </p:nvSpPr>
                <p:spPr>
                  <a:xfrm flipV="1" rot="4623600">
                    <a:off x="2257920" y="2281680"/>
                    <a:ext cx="46800" cy="13788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2" name="组合 199"/>
              <p:cNvGrpSpPr/>
              <p:nvPr/>
            </p:nvGrpSpPr>
            <p:grpSpPr>
              <a:xfrm>
                <a:off x="2241360" y="2274120"/>
                <a:ext cx="167040" cy="160200"/>
                <a:chOff x="2241360" y="2274120"/>
                <a:chExt cx="167040" cy="160200"/>
              </a:xfrm>
            </p:grpSpPr>
            <p:grpSp>
              <p:nvGrpSpPr>
                <p:cNvPr id="673" name="组合 200"/>
                <p:cNvGrpSpPr/>
                <p:nvPr/>
              </p:nvGrpSpPr>
              <p:grpSpPr>
                <a:xfrm>
                  <a:off x="2241360" y="2274120"/>
                  <a:ext cx="167040" cy="108720"/>
                  <a:chOff x="2241360" y="2274120"/>
                  <a:chExt cx="167040" cy="108720"/>
                </a:xfrm>
              </p:grpSpPr>
              <p:sp>
                <p:nvSpPr>
                  <p:cNvPr id="674" name="椭圆 207"/>
                  <p:cNvSpPr/>
                  <p:nvPr/>
                </p:nvSpPr>
                <p:spPr>
                  <a:xfrm>
                    <a:off x="2304360" y="2274120"/>
                    <a:ext cx="32400" cy="9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椭圆 208"/>
                  <p:cNvSpPr/>
                  <p:nvPr/>
                </p:nvSpPr>
                <p:spPr>
                  <a:xfrm rot="1981200">
                    <a:off x="2322000" y="2277000"/>
                    <a:ext cx="36720" cy="9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椭圆 209"/>
                  <p:cNvSpPr/>
                  <p:nvPr/>
                </p:nvSpPr>
                <p:spPr>
                  <a:xfrm rot="4173000">
                    <a:off x="2336040" y="2293200"/>
                    <a:ext cx="39600" cy="9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椭圆 210"/>
                  <p:cNvSpPr/>
                  <p:nvPr/>
                </p:nvSpPr>
                <p:spPr>
                  <a:xfrm rot="5400000">
                    <a:off x="2346480" y="2313000"/>
                    <a:ext cx="32400" cy="9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椭圆 211"/>
                  <p:cNvSpPr/>
                  <p:nvPr/>
                </p:nvSpPr>
                <p:spPr>
                  <a:xfrm rot="19085400">
                    <a:off x="2290680" y="2280960"/>
                    <a:ext cx="34920" cy="102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椭圆 212"/>
                  <p:cNvSpPr/>
                  <p:nvPr/>
                </p:nvSpPr>
                <p:spPr>
                  <a:xfrm rot="17691600">
                    <a:off x="2277720" y="2293920"/>
                    <a:ext cx="34920" cy="102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" name="组合 201"/>
                <p:cNvGrpSpPr/>
                <p:nvPr/>
              </p:nvGrpSpPr>
              <p:grpSpPr>
                <a:xfrm>
                  <a:off x="2243520" y="2324520"/>
                  <a:ext cx="160560" cy="109800"/>
                  <a:chOff x="2243520" y="2324520"/>
                  <a:chExt cx="160560" cy="109800"/>
                </a:xfrm>
              </p:grpSpPr>
              <p:sp>
                <p:nvSpPr>
                  <p:cNvPr id="681" name="椭圆 202"/>
                  <p:cNvSpPr/>
                  <p:nvPr/>
                </p:nvSpPr>
                <p:spPr>
                  <a:xfrm flipV="1" rot="715800">
                    <a:off x="2300760" y="2337480"/>
                    <a:ext cx="32400" cy="91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椭圆 203"/>
                  <p:cNvSpPr/>
                  <p:nvPr/>
                </p:nvSpPr>
                <p:spPr>
                  <a:xfrm flipV="1" rot="20334600">
                    <a:off x="2318400" y="2338920"/>
                    <a:ext cx="36720" cy="9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椭圆 204"/>
                  <p:cNvSpPr/>
                  <p:nvPr/>
                </p:nvSpPr>
                <p:spPr>
                  <a:xfrm flipV="1" rot="18142800">
                    <a:off x="2334960" y="2325600"/>
                    <a:ext cx="39600" cy="91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椭圆 205"/>
                  <p:cNvSpPr/>
                  <p:nvPr/>
                </p:nvSpPr>
                <p:spPr>
                  <a:xfrm flipV="1" rot="3230400">
                    <a:off x="2289960" y="2317320"/>
                    <a:ext cx="34920" cy="102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椭圆 206"/>
                  <p:cNvSpPr/>
                  <p:nvPr/>
                </p:nvSpPr>
                <p:spPr>
                  <a:xfrm flipV="1" rot="4623600">
                    <a:off x="2279520" y="2301840"/>
                    <a:ext cx="35280" cy="10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6" name="组合 239"/>
            <p:cNvGrpSpPr/>
            <p:nvPr/>
          </p:nvGrpSpPr>
          <p:grpSpPr>
            <a:xfrm>
              <a:off x="2096640" y="1538640"/>
              <a:ext cx="507600" cy="487800"/>
              <a:chOff x="2096640" y="1538640"/>
              <a:chExt cx="507600" cy="487800"/>
            </a:xfrm>
          </p:grpSpPr>
          <p:grpSp>
            <p:nvGrpSpPr>
              <p:cNvPr id="687" name="组合 240"/>
              <p:cNvGrpSpPr/>
              <p:nvPr/>
            </p:nvGrpSpPr>
            <p:grpSpPr>
              <a:xfrm>
                <a:off x="2096640" y="1538640"/>
                <a:ext cx="507600" cy="487800"/>
                <a:chOff x="2096640" y="1538640"/>
                <a:chExt cx="507600" cy="487800"/>
              </a:xfrm>
            </p:grpSpPr>
            <p:grpSp>
              <p:nvGrpSpPr>
                <p:cNvPr id="688" name="组合 269"/>
                <p:cNvGrpSpPr/>
                <p:nvPr/>
              </p:nvGrpSpPr>
              <p:grpSpPr>
                <a:xfrm>
                  <a:off x="2096640" y="1538640"/>
                  <a:ext cx="507600" cy="330840"/>
                  <a:chOff x="2096640" y="1538640"/>
                  <a:chExt cx="507600" cy="330840"/>
                </a:xfrm>
              </p:grpSpPr>
              <p:sp>
                <p:nvSpPr>
                  <p:cNvPr id="689" name="椭圆 276"/>
                  <p:cNvSpPr/>
                  <p:nvPr/>
                </p:nvSpPr>
                <p:spPr>
                  <a:xfrm>
                    <a:off x="2288160" y="1538640"/>
                    <a:ext cx="98640" cy="277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椭圆 277"/>
                  <p:cNvSpPr/>
                  <p:nvPr/>
                </p:nvSpPr>
                <p:spPr>
                  <a:xfrm rot="1981200">
                    <a:off x="2343240" y="1547280"/>
                    <a:ext cx="112320" cy="277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椭圆 278"/>
                  <p:cNvSpPr/>
                  <p:nvPr/>
                </p:nvSpPr>
                <p:spPr>
                  <a:xfrm rot="4173000">
                    <a:off x="2384280" y="1598040"/>
                    <a:ext cx="120240" cy="277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椭圆 279"/>
                  <p:cNvSpPr/>
                  <p:nvPr/>
                </p:nvSpPr>
                <p:spPr>
                  <a:xfrm rot="5400000">
                    <a:off x="2415960" y="1657080"/>
                    <a:ext cx="98640" cy="277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椭圆 280"/>
                  <p:cNvSpPr/>
                  <p:nvPr/>
                </p:nvSpPr>
                <p:spPr>
                  <a:xfrm rot="19085400">
                    <a:off x="2247840" y="1560600"/>
                    <a:ext cx="105840" cy="31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椭圆 281"/>
                  <p:cNvSpPr/>
                  <p:nvPr/>
                </p:nvSpPr>
                <p:spPr>
                  <a:xfrm rot="17691600">
                    <a:off x="2207160" y="1599840"/>
                    <a:ext cx="105840" cy="31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5" name="组合 270"/>
                <p:cNvGrpSpPr/>
                <p:nvPr/>
              </p:nvGrpSpPr>
              <p:grpSpPr>
                <a:xfrm>
                  <a:off x="2102760" y="1692360"/>
                  <a:ext cx="488880" cy="334080"/>
                  <a:chOff x="2102760" y="1692360"/>
                  <a:chExt cx="488880" cy="334080"/>
                </a:xfrm>
              </p:grpSpPr>
              <p:sp>
                <p:nvSpPr>
                  <p:cNvPr id="696" name="椭圆 271"/>
                  <p:cNvSpPr/>
                  <p:nvPr/>
                </p:nvSpPr>
                <p:spPr>
                  <a:xfrm flipV="1" rot="715800">
                    <a:off x="2276640" y="1733760"/>
                    <a:ext cx="98640" cy="277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椭圆 272"/>
                  <p:cNvSpPr/>
                  <p:nvPr/>
                </p:nvSpPr>
                <p:spPr>
                  <a:xfrm flipV="1" rot="20334600">
                    <a:off x="2332440" y="1737720"/>
                    <a:ext cx="112320" cy="277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椭圆 273"/>
                  <p:cNvSpPr/>
                  <p:nvPr/>
                </p:nvSpPr>
                <p:spPr>
                  <a:xfrm flipV="1" rot="18142800">
                    <a:off x="2382120" y="1697400"/>
                    <a:ext cx="120240" cy="277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椭圆 274"/>
                  <p:cNvSpPr/>
                  <p:nvPr/>
                </p:nvSpPr>
                <p:spPr>
                  <a:xfrm flipV="1" rot="3230400">
                    <a:off x="2245320" y="1670760"/>
                    <a:ext cx="105480" cy="312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椭圆 275"/>
                  <p:cNvSpPr/>
                  <p:nvPr/>
                </p:nvSpPr>
                <p:spPr>
                  <a:xfrm flipV="1" rot="4623600">
                    <a:off x="2213280" y="1623600"/>
                    <a:ext cx="105840" cy="311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1" name="组合 241"/>
              <p:cNvGrpSpPr/>
              <p:nvPr/>
            </p:nvGrpSpPr>
            <p:grpSpPr>
              <a:xfrm>
                <a:off x="2162160" y="1610640"/>
                <a:ext cx="375480" cy="361080"/>
                <a:chOff x="2162160" y="1610640"/>
                <a:chExt cx="375480" cy="361080"/>
              </a:xfrm>
            </p:grpSpPr>
            <p:grpSp>
              <p:nvGrpSpPr>
                <p:cNvPr id="702" name="组合 256"/>
                <p:cNvGrpSpPr/>
                <p:nvPr/>
              </p:nvGrpSpPr>
              <p:grpSpPr>
                <a:xfrm>
                  <a:off x="2162160" y="1610640"/>
                  <a:ext cx="375480" cy="244800"/>
                  <a:chOff x="2162160" y="1610640"/>
                  <a:chExt cx="375480" cy="244800"/>
                </a:xfrm>
              </p:grpSpPr>
              <p:sp>
                <p:nvSpPr>
                  <p:cNvPr id="703" name="椭圆 263"/>
                  <p:cNvSpPr/>
                  <p:nvPr/>
                </p:nvSpPr>
                <p:spPr>
                  <a:xfrm>
                    <a:off x="2303640" y="1610640"/>
                    <a:ext cx="73080" cy="2055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椭圆 264"/>
                  <p:cNvSpPr/>
                  <p:nvPr/>
                </p:nvSpPr>
                <p:spPr>
                  <a:xfrm rot="1981200">
                    <a:off x="2344320" y="1617120"/>
                    <a:ext cx="83160" cy="2055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椭圆 265"/>
                  <p:cNvSpPr/>
                  <p:nvPr/>
                </p:nvSpPr>
                <p:spPr>
                  <a:xfrm rot="4173000">
                    <a:off x="2374920" y="1654560"/>
                    <a:ext cx="88920" cy="20520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椭圆 266"/>
                  <p:cNvSpPr/>
                  <p:nvPr/>
                </p:nvSpPr>
                <p:spPr>
                  <a:xfrm rot="5400000">
                    <a:off x="2398320" y="1698480"/>
                    <a:ext cx="73080" cy="20520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椭圆 267"/>
                  <p:cNvSpPr/>
                  <p:nvPr/>
                </p:nvSpPr>
                <p:spPr>
                  <a:xfrm rot="19085400">
                    <a:off x="2274120" y="1626840"/>
                    <a:ext cx="78480" cy="230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椭圆 268"/>
                  <p:cNvSpPr/>
                  <p:nvPr/>
                </p:nvSpPr>
                <p:spPr>
                  <a:xfrm rot="17691600">
                    <a:off x="2243880" y="1656000"/>
                    <a:ext cx="78480" cy="23040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" name="组合 257"/>
                <p:cNvGrpSpPr/>
                <p:nvPr/>
              </p:nvGrpSpPr>
              <p:grpSpPr>
                <a:xfrm>
                  <a:off x="2166840" y="1724400"/>
                  <a:ext cx="361440" cy="247320"/>
                  <a:chOff x="2166840" y="1724400"/>
                  <a:chExt cx="361440" cy="247320"/>
                </a:xfrm>
              </p:grpSpPr>
              <p:sp>
                <p:nvSpPr>
                  <p:cNvPr id="710" name="椭圆 258"/>
                  <p:cNvSpPr/>
                  <p:nvPr/>
                </p:nvSpPr>
                <p:spPr>
                  <a:xfrm flipV="1" rot="715800">
                    <a:off x="2295000" y="1754280"/>
                    <a:ext cx="73080" cy="2055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椭圆 259"/>
                  <p:cNvSpPr/>
                  <p:nvPr/>
                </p:nvSpPr>
                <p:spPr>
                  <a:xfrm flipV="1" rot="20334600">
                    <a:off x="2336400" y="1757880"/>
                    <a:ext cx="83160" cy="2055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椭圆 260"/>
                  <p:cNvSpPr/>
                  <p:nvPr/>
                </p:nvSpPr>
                <p:spPr>
                  <a:xfrm flipV="1" rot="18142800">
                    <a:off x="2373480" y="1729080"/>
                    <a:ext cx="88920" cy="20448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椭圆 261"/>
                  <p:cNvSpPr/>
                  <p:nvPr/>
                </p:nvSpPr>
                <p:spPr>
                  <a:xfrm flipV="1" rot="3230400">
                    <a:off x="2271960" y="1708560"/>
                    <a:ext cx="78120" cy="230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椭圆 262"/>
                  <p:cNvSpPr/>
                  <p:nvPr/>
                </p:nvSpPr>
                <p:spPr>
                  <a:xfrm flipV="1" rot="4623600">
                    <a:off x="2248560" y="1673640"/>
                    <a:ext cx="78480" cy="23040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5" name="组合 242"/>
              <p:cNvGrpSpPr/>
              <p:nvPr/>
            </p:nvGrpSpPr>
            <p:grpSpPr>
              <a:xfrm>
                <a:off x="2221200" y="1660680"/>
                <a:ext cx="279360" cy="267480"/>
                <a:chOff x="2221200" y="1660680"/>
                <a:chExt cx="279360" cy="267480"/>
              </a:xfrm>
            </p:grpSpPr>
            <p:grpSp>
              <p:nvGrpSpPr>
                <p:cNvPr id="716" name="组合 243"/>
                <p:cNvGrpSpPr/>
                <p:nvPr/>
              </p:nvGrpSpPr>
              <p:grpSpPr>
                <a:xfrm>
                  <a:off x="2221200" y="1660680"/>
                  <a:ext cx="279360" cy="181800"/>
                  <a:chOff x="2221200" y="1660680"/>
                  <a:chExt cx="279360" cy="181800"/>
                </a:xfrm>
              </p:grpSpPr>
              <p:sp>
                <p:nvSpPr>
                  <p:cNvPr id="717" name="椭圆 250"/>
                  <p:cNvSpPr/>
                  <p:nvPr/>
                </p:nvSpPr>
                <p:spPr>
                  <a:xfrm>
                    <a:off x="2326680" y="1660680"/>
                    <a:ext cx="5436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椭圆 251"/>
                  <p:cNvSpPr/>
                  <p:nvPr/>
                </p:nvSpPr>
                <p:spPr>
                  <a:xfrm rot="1981200">
                    <a:off x="2356560" y="1665360"/>
                    <a:ext cx="6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椭圆 252"/>
                  <p:cNvSpPr/>
                  <p:nvPr/>
                </p:nvSpPr>
                <p:spPr>
                  <a:xfrm rot="4173000">
                    <a:off x="2379600" y="1693080"/>
                    <a:ext cx="658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椭圆 253"/>
                  <p:cNvSpPr/>
                  <p:nvPr/>
                </p:nvSpPr>
                <p:spPr>
                  <a:xfrm rot="5400000">
                    <a:off x="2397240" y="1725480"/>
                    <a:ext cx="5400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椭圆 254"/>
                  <p:cNvSpPr/>
                  <p:nvPr/>
                </p:nvSpPr>
                <p:spPr>
                  <a:xfrm rot="19085400">
                    <a:off x="2304360" y="1672560"/>
                    <a:ext cx="58320" cy="171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椭圆 255"/>
                  <p:cNvSpPr/>
                  <p:nvPr/>
                </p:nvSpPr>
                <p:spPr>
                  <a:xfrm rot="17691600">
                    <a:off x="2281680" y="1694160"/>
                    <a:ext cx="58320" cy="171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组合 244"/>
                <p:cNvGrpSpPr/>
                <p:nvPr/>
              </p:nvGrpSpPr>
              <p:grpSpPr>
                <a:xfrm>
                  <a:off x="2224800" y="1744920"/>
                  <a:ext cx="268920" cy="183240"/>
                  <a:chOff x="2224800" y="1744920"/>
                  <a:chExt cx="268920" cy="183240"/>
                </a:xfrm>
              </p:grpSpPr>
              <p:sp>
                <p:nvSpPr>
                  <p:cNvPr id="724" name="椭圆 245"/>
                  <p:cNvSpPr/>
                  <p:nvPr/>
                </p:nvSpPr>
                <p:spPr>
                  <a:xfrm flipV="1" rot="715800">
                    <a:off x="2319480" y="1767600"/>
                    <a:ext cx="5436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椭圆 246"/>
                  <p:cNvSpPr/>
                  <p:nvPr/>
                </p:nvSpPr>
                <p:spPr>
                  <a:xfrm flipV="1" rot="20334600">
                    <a:off x="2350440" y="1769760"/>
                    <a:ext cx="6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椭圆 247"/>
                  <p:cNvSpPr/>
                  <p:nvPr/>
                </p:nvSpPr>
                <p:spPr>
                  <a:xfrm flipV="1" rot="18142800">
                    <a:off x="2378520" y="1747440"/>
                    <a:ext cx="658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椭圆 248"/>
                  <p:cNvSpPr/>
                  <p:nvPr/>
                </p:nvSpPr>
                <p:spPr>
                  <a:xfrm flipV="1" rot="3230400">
                    <a:off x="2302560" y="1733400"/>
                    <a:ext cx="58320" cy="171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椭圆 249"/>
                  <p:cNvSpPr/>
                  <p:nvPr/>
                </p:nvSpPr>
                <p:spPr>
                  <a:xfrm flipV="1" rot="4623600">
                    <a:off x="2285640" y="1707120"/>
                    <a:ext cx="58320" cy="171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29" name="组合 282"/>
            <p:cNvGrpSpPr/>
            <p:nvPr/>
          </p:nvGrpSpPr>
          <p:grpSpPr>
            <a:xfrm>
              <a:off x="2467800" y="1990440"/>
              <a:ext cx="303480" cy="291960"/>
              <a:chOff x="2467800" y="1990440"/>
              <a:chExt cx="303480" cy="291960"/>
            </a:xfrm>
          </p:grpSpPr>
          <p:grpSp>
            <p:nvGrpSpPr>
              <p:cNvPr id="730" name="组合 283"/>
              <p:cNvGrpSpPr/>
              <p:nvPr/>
            </p:nvGrpSpPr>
            <p:grpSpPr>
              <a:xfrm>
                <a:off x="2467800" y="1990440"/>
                <a:ext cx="303480" cy="291960"/>
                <a:chOff x="2467800" y="1990440"/>
                <a:chExt cx="303480" cy="291960"/>
              </a:xfrm>
            </p:grpSpPr>
            <p:grpSp>
              <p:nvGrpSpPr>
                <p:cNvPr id="731" name="组合 312"/>
                <p:cNvGrpSpPr/>
                <p:nvPr/>
              </p:nvGrpSpPr>
              <p:grpSpPr>
                <a:xfrm>
                  <a:off x="2467800" y="1990440"/>
                  <a:ext cx="303480" cy="197640"/>
                  <a:chOff x="2467800" y="1990440"/>
                  <a:chExt cx="303480" cy="197640"/>
                </a:xfrm>
              </p:grpSpPr>
              <p:sp>
                <p:nvSpPr>
                  <p:cNvPr id="732" name="椭圆 319"/>
                  <p:cNvSpPr/>
                  <p:nvPr/>
                </p:nvSpPr>
                <p:spPr>
                  <a:xfrm>
                    <a:off x="2582280" y="1990440"/>
                    <a:ext cx="59040" cy="16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椭圆 320"/>
                  <p:cNvSpPr/>
                  <p:nvPr/>
                </p:nvSpPr>
                <p:spPr>
                  <a:xfrm rot="1981200">
                    <a:off x="2615040" y="1995480"/>
                    <a:ext cx="66960" cy="16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椭圆 321"/>
                  <p:cNvSpPr/>
                  <p:nvPr/>
                </p:nvSpPr>
                <p:spPr>
                  <a:xfrm rot="4173000">
                    <a:off x="2639520" y="2025720"/>
                    <a:ext cx="71640" cy="16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椭圆 322"/>
                  <p:cNvSpPr/>
                  <p:nvPr/>
                </p:nvSpPr>
                <p:spPr>
                  <a:xfrm rot="5400000">
                    <a:off x="2658960" y="2061360"/>
                    <a:ext cx="59040" cy="16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椭圆 323"/>
                  <p:cNvSpPr/>
                  <p:nvPr/>
                </p:nvSpPr>
                <p:spPr>
                  <a:xfrm rot="19085400">
                    <a:off x="2558160" y="2003040"/>
                    <a:ext cx="63360" cy="186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椭圆 324"/>
                  <p:cNvSpPr/>
                  <p:nvPr/>
                </p:nvSpPr>
                <p:spPr>
                  <a:xfrm rot="17691600">
                    <a:off x="2533680" y="2027160"/>
                    <a:ext cx="63360" cy="186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8" name="组合 313"/>
                <p:cNvGrpSpPr/>
                <p:nvPr/>
              </p:nvGrpSpPr>
              <p:grpSpPr>
                <a:xfrm>
                  <a:off x="2471400" y="2082600"/>
                  <a:ext cx="292320" cy="199800"/>
                  <a:chOff x="2471400" y="2082600"/>
                  <a:chExt cx="292320" cy="199800"/>
                </a:xfrm>
              </p:grpSpPr>
              <p:sp>
                <p:nvSpPr>
                  <p:cNvPr id="739" name="椭圆 314"/>
                  <p:cNvSpPr/>
                  <p:nvPr/>
                </p:nvSpPr>
                <p:spPr>
                  <a:xfrm flipV="1" rot="715800">
                    <a:off x="2575440" y="2106720"/>
                    <a:ext cx="59040" cy="16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椭圆 315"/>
                  <p:cNvSpPr/>
                  <p:nvPr/>
                </p:nvSpPr>
                <p:spPr>
                  <a:xfrm flipV="1" rot="20334600">
                    <a:off x="2608200" y="2109600"/>
                    <a:ext cx="66960" cy="16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椭圆 316"/>
                  <p:cNvSpPr/>
                  <p:nvPr/>
                </p:nvSpPr>
                <p:spPr>
                  <a:xfrm flipV="1" rot="18142800">
                    <a:off x="2638440" y="2085480"/>
                    <a:ext cx="71640" cy="16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椭圆 317"/>
                  <p:cNvSpPr/>
                  <p:nvPr/>
                </p:nvSpPr>
                <p:spPr>
                  <a:xfrm flipV="1" rot="3230400">
                    <a:off x="2556360" y="2070000"/>
                    <a:ext cx="63360" cy="186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椭圆 318"/>
                  <p:cNvSpPr/>
                  <p:nvPr/>
                </p:nvSpPr>
                <p:spPr>
                  <a:xfrm flipV="1" rot="4623600">
                    <a:off x="2537640" y="2041920"/>
                    <a:ext cx="63360" cy="186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4" name="组合 284"/>
              <p:cNvGrpSpPr/>
              <p:nvPr/>
            </p:nvGrpSpPr>
            <p:grpSpPr>
              <a:xfrm>
                <a:off x="2506680" y="2033640"/>
                <a:ext cx="224280" cy="215640"/>
                <a:chOff x="2506680" y="2033640"/>
                <a:chExt cx="224280" cy="215640"/>
              </a:xfrm>
            </p:grpSpPr>
            <p:grpSp>
              <p:nvGrpSpPr>
                <p:cNvPr id="745" name="组合 299"/>
                <p:cNvGrpSpPr/>
                <p:nvPr/>
              </p:nvGrpSpPr>
              <p:grpSpPr>
                <a:xfrm>
                  <a:off x="2506680" y="2033640"/>
                  <a:ext cx="224280" cy="146520"/>
                  <a:chOff x="2506680" y="2033640"/>
                  <a:chExt cx="224280" cy="146520"/>
                </a:xfrm>
              </p:grpSpPr>
              <p:sp>
                <p:nvSpPr>
                  <p:cNvPr id="746" name="椭圆 306"/>
                  <p:cNvSpPr/>
                  <p:nvPr/>
                </p:nvSpPr>
                <p:spPr>
                  <a:xfrm>
                    <a:off x="2591280" y="2033640"/>
                    <a:ext cx="43560" cy="122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椭圆 307"/>
                  <p:cNvSpPr/>
                  <p:nvPr/>
                </p:nvSpPr>
                <p:spPr>
                  <a:xfrm rot="1981200">
                    <a:off x="2615400" y="2037600"/>
                    <a:ext cx="49680" cy="122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椭圆 308"/>
                  <p:cNvSpPr/>
                  <p:nvPr/>
                </p:nvSpPr>
                <p:spPr>
                  <a:xfrm rot="4173000">
                    <a:off x="2633760" y="2059560"/>
                    <a:ext cx="52920" cy="122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椭圆 309"/>
                  <p:cNvSpPr/>
                  <p:nvPr/>
                </p:nvSpPr>
                <p:spPr>
                  <a:xfrm rot="5400000">
                    <a:off x="2647800" y="2086200"/>
                    <a:ext cx="43560" cy="122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椭圆 310"/>
                  <p:cNvSpPr/>
                  <p:nvPr/>
                </p:nvSpPr>
                <p:spPr>
                  <a:xfrm rot="19085400">
                    <a:off x="2573640" y="2043000"/>
                    <a:ext cx="46800" cy="13788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椭圆 311"/>
                  <p:cNvSpPr/>
                  <p:nvPr/>
                </p:nvSpPr>
                <p:spPr>
                  <a:xfrm rot="17691600">
                    <a:off x="2555640" y="2061000"/>
                    <a:ext cx="46800" cy="13788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2" name="组合 300"/>
                <p:cNvGrpSpPr/>
                <p:nvPr/>
              </p:nvGrpSpPr>
              <p:grpSpPr>
                <a:xfrm>
                  <a:off x="2509560" y="2101680"/>
                  <a:ext cx="216360" cy="147600"/>
                  <a:chOff x="2509560" y="2101680"/>
                  <a:chExt cx="216360" cy="147600"/>
                </a:xfrm>
              </p:grpSpPr>
              <p:sp>
                <p:nvSpPr>
                  <p:cNvPr id="753" name="椭圆 301"/>
                  <p:cNvSpPr/>
                  <p:nvPr/>
                </p:nvSpPr>
                <p:spPr>
                  <a:xfrm flipV="1" rot="715800">
                    <a:off x="2586240" y="2118960"/>
                    <a:ext cx="43560" cy="122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椭圆 302"/>
                  <p:cNvSpPr/>
                  <p:nvPr/>
                </p:nvSpPr>
                <p:spPr>
                  <a:xfrm flipV="1" rot="20334600">
                    <a:off x="2611080" y="2121480"/>
                    <a:ext cx="49680" cy="122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椭圆 303"/>
                  <p:cNvSpPr/>
                  <p:nvPr/>
                </p:nvSpPr>
                <p:spPr>
                  <a:xfrm flipV="1" rot="18142800">
                    <a:off x="2633400" y="2103480"/>
                    <a:ext cx="52920" cy="122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椭圆 304"/>
                  <p:cNvSpPr/>
                  <p:nvPr/>
                </p:nvSpPr>
                <p:spPr>
                  <a:xfrm flipV="1" rot="3230400">
                    <a:off x="2572200" y="2091960"/>
                    <a:ext cx="46800" cy="13788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椭圆 305"/>
                  <p:cNvSpPr/>
                  <p:nvPr/>
                </p:nvSpPr>
                <p:spPr>
                  <a:xfrm flipV="1" rot="4623600">
                    <a:off x="2558520" y="2071080"/>
                    <a:ext cx="46800" cy="13788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8" name="组合 285"/>
              <p:cNvGrpSpPr/>
              <p:nvPr/>
            </p:nvGrpSpPr>
            <p:grpSpPr>
              <a:xfrm>
                <a:off x="2541960" y="2063520"/>
                <a:ext cx="167040" cy="160200"/>
                <a:chOff x="2541960" y="2063520"/>
                <a:chExt cx="167040" cy="160200"/>
              </a:xfrm>
            </p:grpSpPr>
            <p:grpSp>
              <p:nvGrpSpPr>
                <p:cNvPr id="759" name="组合 286"/>
                <p:cNvGrpSpPr/>
                <p:nvPr/>
              </p:nvGrpSpPr>
              <p:grpSpPr>
                <a:xfrm>
                  <a:off x="2541960" y="2063520"/>
                  <a:ext cx="167040" cy="108720"/>
                  <a:chOff x="2541960" y="2063520"/>
                  <a:chExt cx="167040" cy="108720"/>
                </a:xfrm>
              </p:grpSpPr>
              <p:sp>
                <p:nvSpPr>
                  <p:cNvPr id="760" name="椭圆 293"/>
                  <p:cNvSpPr/>
                  <p:nvPr/>
                </p:nvSpPr>
                <p:spPr>
                  <a:xfrm>
                    <a:off x="2604960" y="2063520"/>
                    <a:ext cx="32400" cy="9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椭圆 294"/>
                  <p:cNvSpPr/>
                  <p:nvPr/>
                </p:nvSpPr>
                <p:spPr>
                  <a:xfrm rot="1981200">
                    <a:off x="2622600" y="2066400"/>
                    <a:ext cx="36720" cy="9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椭圆 295"/>
                  <p:cNvSpPr/>
                  <p:nvPr/>
                </p:nvSpPr>
                <p:spPr>
                  <a:xfrm rot="4173000">
                    <a:off x="2636640" y="2082600"/>
                    <a:ext cx="39600" cy="9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椭圆 296"/>
                  <p:cNvSpPr/>
                  <p:nvPr/>
                </p:nvSpPr>
                <p:spPr>
                  <a:xfrm rot="5400000">
                    <a:off x="2647080" y="2102400"/>
                    <a:ext cx="32400" cy="9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椭圆 297"/>
                  <p:cNvSpPr/>
                  <p:nvPr/>
                </p:nvSpPr>
                <p:spPr>
                  <a:xfrm rot="19085400">
                    <a:off x="2591280" y="2070360"/>
                    <a:ext cx="34920" cy="102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椭圆 298"/>
                  <p:cNvSpPr/>
                  <p:nvPr/>
                </p:nvSpPr>
                <p:spPr>
                  <a:xfrm rot="17691600">
                    <a:off x="2578320" y="2083320"/>
                    <a:ext cx="34920" cy="102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6" name="组合 287"/>
                <p:cNvGrpSpPr/>
                <p:nvPr/>
              </p:nvGrpSpPr>
              <p:grpSpPr>
                <a:xfrm>
                  <a:off x="2544120" y="2113920"/>
                  <a:ext cx="160560" cy="109800"/>
                  <a:chOff x="2544120" y="2113920"/>
                  <a:chExt cx="160560" cy="109800"/>
                </a:xfrm>
              </p:grpSpPr>
              <p:sp>
                <p:nvSpPr>
                  <p:cNvPr id="767" name="椭圆 288"/>
                  <p:cNvSpPr/>
                  <p:nvPr/>
                </p:nvSpPr>
                <p:spPr>
                  <a:xfrm flipV="1" rot="715800">
                    <a:off x="2601360" y="2126880"/>
                    <a:ext cx="32400" cy="91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椭圆 289"/>
                  <p:cNvSpPr/>
                  <p:nvPr/>
                </p:nvSpPr>
                <p:spPr>
                  <a:xfrm flipV="1" rot="20334600">
                    <a:off x="2619000" y="2128320"/>
                    <a:ext cx="36720" cy="9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椭圆 290"/>
                  <p:cNvSpPr/>
                  <p:nvPr/>
                </p:nvSpPr>
                <p:spPr>
                  <a:xfrm flipV="1" rot="18142800">
                    <a:off x="2635560" y="2115000"/>
                    <a:ext cx="39600" cy="91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椭圆 291"/>
                  <p:cNvSpPr/>
                  <p:nvPr/>
                </p:nvSpPr>
                <p:spPr>
                  <a:xfrm flipV="1" rot="3230400">
                    <a:off x="2590560" y="2106720"/>
                    <a:ext cx="34920" cy="102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椭圆 292"/>
                  <p:cNvSpPr/>
                  <p:nvPr/>
                </p:nvSpPr>
                <p:spPr>
                  <a:xfrm flipV="1" rot="4623600">
                    <a:off x="2580120" y="2091240"/>
                    <a:ext cx="35280" cy="10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72" name="组合 325"/>
            <p:cNvGrpSpPr/>
            <p:nvPr/>
          </p:nvGrpSpPr>
          <p:grpSpPr>
            <a:xfrm>
              <a:off x="2428920" y="2661840"/>
              <a:ext cx="392760" cy="376560"/>
              <a:chOff x="2428920" y="2661840"/>
              <a:chExt cx="392760" cy="376560"/>
            </a:xfrm>
          </p:grpSpPr>
          <p:grpSp>
            <p:nvGrpSpPr>
              <p:cNvPr id="773" name="组合 326"/>
              <p:cNvGrpSpPr/>
              <p:nvPr/>
            </p:nvGrpSpPr>
            <p:grpSpPr>
              <a:xfrm>
                <a:off x="2428920" y="2661840"/>
                <a:ext cx="392760" cy="376560"/>
                <a:chOff x="2428920" y="2661840"/>
                <a:chExt cx="392760" cy="376560"/>
              </a:xfrm>
            </p:grpSpPr>
            <p:grpSp>
              <p:nvGrpSpPr>
                <p:cNvPr id="774" name="组合 355"/>
                <p:cNvGrpSpPr/>
                <p:nvPr/>
              </p:nvGrpSpPr>
              <p:grpSpPr>
                <a:xfrm>
                  <a:off x="2428920" y="2661840"/>
                  <a:ext cx="392760" cy="255960"/>
                  <a:chOff x="2428920" y="2661840"/>
                  <a:chExt cx="392760" cy="255960"/>
                </a:xfrm>
              </p:grpSpPr>
              <p:sp>
                <p:nvSpPr>
                  <p:cNvPr id="775" name="椭圆 362"/>
                  <p:cNvSpPr/>
                  <p:nvPr/>
                </p:nvSpPr>
                <p:spPr>
                  <a:xfrm>
                    <a:off x="2576880" y="2661840"/>
                    <a:ext cx="76320" cy="214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椭圆 363"/>
                  <p:cNvSpPr/>
                  <p:nvPr/>
                </p:nvSpPr>
                <p:spPr>
                  <a:xfrm rot="1981200">
                    <a:off x="2619720" y="2669040"/>
                    <a:ext cx="86760" cy="214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椭圆 364"/>
                  <p:cNvSpPr/>
                  <p:nvPr/>
                </p:nvSpPr>
                <p:spPr>
                  <a:xfrm rot="4173000">
                    <a:off x="2651400" y="2707560"/>
                    <a:ext cx="92880" cy="214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椭圆 365"/>
                  <p:cNvSpPr/>
                  <p:nvPr/>
                </p:nvSpPr>
                <p:spPr>
                  <a:xfrm rot="5400000">
                    <a:off x="2676240" y="2753640"/>
                    <a:ext cx="76320" cy="214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椭圆 366"/>
                  <p:cNvSpPr/>
                  <p:nvPr/>
                </p:nvSpPr>
                <p:spPr>
                  <a:xfrm rot="19085400">
                    <a:off x="2545560" y="2678760"/>
                    <a:ext cx="82080" cy="24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椭圆 367"/>
                  <p:cNvSpPr/>
                  <p:nvPr/>
                </p:nvSpPr>
                <p:spPr>
                  <a:xfrm rot="17691600">
                    <a:off x="2514240" y="2709360"/>
                    <a:ext cx="82080" cy="240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1" name="组合 356"/>
                <p:cNvGrpSpPr/>
                <p:nvPr/>
              </p:nvGrpSpPr>
              <p:grpSpPr>
                <a:xfrm>
                  <a:off x="2433600" y="2780280"/>
                  <a:ext cx="378360" cy="258120"/>
                  <a:chOff x="2433600" y="2780280"/>
                  <a:chExt cx="378360" cy="258120"/>
                </a:xfrm>
              </p:grpSpPr>
              <p:sp>
                <p:nvSpPr>
                  <p:cNvPr id="782" name="椭圆 357"/>
                  <p:cNvSpPr/>
                  <p:nvPr/>
                </p:nvSpPr>
                <p:spPr>
                  <a:xfrm flipV="1" rot="715800">
                    <a:off x="2567880" y="2811960"/>
                    <a:ext cx="76320" cy="214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椭圆 358"/>
                  <p:cNvSpPr/>
                  <p:nvPr/>
                </p:nvSpPr>
                <p:spPr>
                  <a:xfrm flipV="1" rot="20334600">
                    <a:off x="2611080" y="2814840"/>
                    <a:ext cx="86760" cy="214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椭圆 359"/>
                  <p:cNvSpPr/>
                  <p:nvPr/>
                </p:nvSpPr>
                <p:spPr>
                  <a:xfrm flipV="1" rot="18142800">
                    <a:off x="2649960" y="2784240"/>
                    <a:ext cx="92880" cy="214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椭圆 360"/>
                  <p:cNvSpPr/>
                  <p:nvPr/>
                </p:nvSpPr>
                <p:spPr>
                  <a:xfrm flipV="1" rot="3230400">
                    <a:off x="2543400" y="2763360"/>
                    <a:ext cx="81720" cy="24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椭圆 361"/>
                  <p:cNvSpPr/>
                  <p:nvPr/>
                </p:nvSpPr>
                <p:spPr>
                  <a:xfrm flipV="1" rot="4623600">
                    <a:off x="2518920" y="2727360"/>
                    <a:ext cx="82080" cy="240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7" name="组合 327"/>
              <p:cNvGrpSpPr/>
              <p:nvPr/>
            </p:nvGrpSpPr>
            <p:grpSpPr>
              <a:xfrm>
                <a:off x="2479680" y="2717640"/>
                <a:ext cx="290160" cy="279000"/>
                <a:chOff x="2479680" y="2717640"/>
                <a:chExt cx="290160" cy="279000"/>
              </a:xfrm>
            </p:grpSpPr>
            <p:grpSp>
              <p:nvGrpSpPr>
                <p:cNvPr id="788" name="组合 342"/>
                <p:cNvGrpSpPr/>
                <p:nvPr/>
              </p:nvGrpSpPr>
              <p:grpSpPr>
                <a:xfrm>
                  <a:off x="2479680" y="2717640"/>
                  <a:ext cx="290160" cy="189000"/>
                  <a:chOff x="2479680" y="2717640"/>
                  <a:chExt cx="290160" cy="189000"/>
                </a:xfrm>
              </p:grpSpPr>
              <p:sp>
                <p:nvSpPr>
                  <p:cNvPr id="789" name="椭圆 349"/>
                  <p:cNvSpPr/>
                  <p:nvPr/>
                </p:nvSpPr>
                <p:spPr>
                  <a:xfrm>
                    <a:off x="2589120" y="2717640"/>
                    <a:ext cx="56520" cy="158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椭圆 350"/>
                  <p:cNvSpPr/>
                  <p:nvPr/>
                </p:nvSpPr>
                <p:spPr>
                  <a:xfrm rot="1981200">
                    <a:off x="2620440" y="2722320"/>
                    <a:ext cx="64080" cy="1587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椭圆 351"/>
                  <p:cNvSpPr/>
                  <p:nvPr/>
                </p:nvSpPr>
                <p:spPr>
                  <a:xfrm rot="4173000">
                    <a:off x="2643840" y="2751480"/>
                    <a:ext cx="68760" cy="15840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椭圆 352"/>
                  <p:cNvSpPr/>
                  <p:nvPr/>
                </p:nvSpPr>
                <p:spPr>
                  <a:xfrm rot="5400000">
                    <a:off x="2662560" y="2785320"/>
                    <a:ext cx="56160" cy="15840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椭圆 353"/>
                  <p:cNvSpPr/>
                  <p:nvPr/>
                </p:nvSpPr>
                <p:spPr>
                  <a:xfrm rot="19085400">
                    <a:off x="2566080" y="2729880"/>
                    <a:ext cx="60480" cy="17820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椭圆 354"/>
                  <p:cNvSpPr/>
                  <p:nvPr/>
                </p:nvSpPr>
                <p:spPr>
                  <a:xfrm rot="17691600">
                    <a:off x="2542680" y="2752560"/>
                    <a:ext cx="60480" cy="17820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" name="组合 343"/>
                <p:cNvGrpSpPr/>
                <p:nvPr/>
              </p:nvGrpSpPr>
              <p:grpSpPr>
                <a:xfrm>
                  <a:off x="2483280" y="2806200"/>
                  <a:ext cx="279720" cy="190440"/>
                  <a:chOff x="2483280" y="2806200"/>
                  <a:chExt cx="279720" cy="190440"/>
                </a:xfrm>
              </p:grpSpPr>
              <p:sp>
                <p:nvSpPr>
                  <p:cNvPr id="796" name="椭圆 344"/>
                  <p:cNvSpPr/>
                  <p:nvPr/>
                </p:nvSpPr>
                <p:spPr>
                  <a:xfrm flipV="1" rot="715800">
                    <a:off x="2581920" y="2828880"/>
                    <a:ext cx="56520" cy="15840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椭圆 345"/>
                  <p:cNvSpPr/>
                  <p:nvPr/>
                </p:nvSpPr>
                <p:spPr>
                  <a:xfrm flipV="1" rot="20334600">
                    <a:off x="2613960" y="2831400"/>
                    <a:ext cx="64080" cy="15912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椭圆 346"/>
                  <p:cNvSpPr/>
                  <p:nvPr/>
                </p:nvSpPr>
                <p:spPr>
                  <a:xfrm flipV="1" rot="18142800">
                    <a:off x="2643120" y="2808360"/>
                    <a:ext cx="68760" cy="15840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椭圆 347"/>
                  <p:cNvSpPr/>
                  <p:nvPr/>
                </p:nvSpPr>
                <p:spPr>
                  <a:xfrm flipV="1" rot="3230400">
                    <a:off x="2564640" y="2793600"/>
                    <a:ext cx="60480" cy="17820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椭圆 348"/>
                  <p:cNvSpPr/>
                  <p:nvPr/>
                </p:nvSpPr>
                <p:spPr>
                  <a:xfrm flipV="1" rot="4623600">
                    <a:off x="2546640" y="2766240"/>
                    <a:ext cx="60480" cy="17820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1" name="组合 328"/>
              <p:cNvGrpSpPr/>
              <p:nvPr/>
            </p:nvGrpSpPr>
            <p:grpSpPr>
              <a:xfrm>
                <a:off x="2525400" y="2756160"/>
                <a:ext cx="215280" cy="206640"/>
                <a:chOff x="2525400" y="2756160"/>
                <a:chExt cx="215280" cy="206640"/>
              </a:xfrm>
            </p:grpSpPr>
            <p:grpSp>
              <p:nvGrpSpPr>
                <p:cNvPr id="802" name="组合 329"/>
                <p:cNvGrpSpPr/>
                <p:nvPr/>
              </p:nvGrpSpPr>
              <p:grpSpPr>
                <a:xfrm>
                  <a:off x="2525400" y="2756160"/>
                  <a:ext cx="215280" cy="140400"/>
                  <a:chOff x="2525400" y="2756160"/>
                  <a:chExt cx="215280" cy="140400"/>
                </a:xfrm>
              </p:grpSpPr>
              <p:sp>
                <p:nvSpPr>
                  <p:cNvPr id="803" name="椭圆 336"/>
                  <p:cNvSpPr/>
                  <p:nvPr/>
                </p:nvSpPr>
                <p:spPr>
                  <a:xfrm>
                    <a:off x="2606760" y="2756160"/>
                    <a:ext cx="41760" cy="118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椭圆 337"/>
                  <p:cNvSpPr/>
                  <p:nvPr/>
                </p:nvSpPr>
                <p:spPr>
                  <a:xfrm rot="1981200">
                    <a:off x="2629800" y="2760120"/>
                    <a:ext cx="47520" cy="118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椭圆 338"/>
                  <p:cNvSpPr/>
                  <p:nvPr/>
                </p:nvSpPr>
                <p:spPr>
                  <a:xfrm rot="4173000">
                    <a:off x="2647080" y="2781720"/>
                    <a:ext cx="51120" cy="11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椭圆 339"/>
                  <p:cNvSpPr/>
                  <p:nvPr/>
                </p:nvSpPr>
                <p:spPr>
                  <a:xfrm rot="5400000">
                    <a:off x="2660760" y="2806560"/>
                    <a:ext cx="41760" cy="11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椭圆 340"/>
                  <p:cNvSpPr/>
                  <p:nvPr/>
                </p:nvSpPr>
                <p:spPr>
                  <a:xfrm rot="19085400">
                    <a:off x="2589120" y="2765160"/>
                    <a:ext cx="45000" cy="13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椭圆 341"/>
                  <p:cNvSpPr/>
                  <p:nvPr/>
                </p:nvSpPr>
                <p:spPr>
                  <a:xfrm rot="17691600">
                    <a:off x="2572200" y="2781720"/>
                    <a:ext cx="45000" cy="13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9" name="组合 330"/>
                <p:cNvGrpSpPr/>
                <p:nvPr/>
              </p:nvGrpSpPr>
              <p:grpSpPr>
                <a:xfrm>
                  <a:off x="2527920" y="2821680"/>
                  <a:ext cx="207720" cy="141120"/>
                  <a:chOff x="2527920" y="2821680"/>
                  <a:chExt cx="207720" cy="141120"/>
                </a:xfrm>
              </p:grpSpPr>
              <p:sp>
                <p:nvSpPr>
                  <p:cNvPr id="810" name="椭圆 331"/>
                  <p:cNvSpPr/>
                  <p:nvPr/>
                </p:nvSpPr>
                <p:spPr>
                  <a:xfrm flipV="1" rot="715800">
                    <a:off x="2601720" y="2838240"/>
                    <a:ext cx="41760" cy="118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椭圆 332"/>
                  <p:cNvSpPr/>
                  <p:nvPr/>
                </p:nvSpPr>
                <p:spPr>
                  <a:xfrm flipV="1" rot="20334600">
                    <a:off x="2625480" y="2839680"/>
                    <a:ext cx="47520" cy="118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椭圆 333"/>
                  <p:cNvSpPr/>
                  <p:nvPr/>
                </p:nvSpPr>
                <p:spPr>
                  <a:xfrm flipV="1" rot="18142800">
                    <a:off x="2646360" y="2822760"/>
                    <a:ext cx="51120" cy="11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椭圆 334"/>
                  <p:cNvSpPr/>
                  <p:nvPr/>
                </p:nvSpPr>
                <p:spPr>
                  <a:xfrm flipV="1" rot="3230400">
                    <a:off x="2588040" y="2812680"/>
                    <a:ext cx="45000" cy="13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椭圆 335"/>
                  <p:cNvSpPr/>
                  <p:nvPr/>
                </p:nvSpPr>
                <p:spPr>
                  <a:xfrm flipV="1" rot="4623600">
                    <a:off x="2574720" y="2792880"/>
                    <a:ext cx="45000" cy="132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15" name="组合 368"/>
            <p:cNvGrpSpPr/>
            <p:nvPr/>
          </p:nvGrpSpPr>
          <p:grpSpPr>
            <a:xfrm>
              <a:off x="2904840" y="2267280"/>
              <a:ext cx="202680" cy="194760"/>
              <a:chOff x="2904840" y="2267280"/>
              <a:chExt cx="202680" cy="194760"/>
            </a:xfrm>
          </p:grpSpPr>
          <p:grpSp>
            <p:nvGrpSpPr>
              <p:cNvPr id="816" name="组合 369"/>
              <p:cNvGrpSpPr/>
              <p:nvPr/>
            </p:nvGrpSpPr>
            <p:grpSpPr>
              <a:xfrm>
                <a:off x="2904840" y="2267280"/>
                <a:ext cx="202680" cy="194760"/>
                <a:chOff x="2904840" y="2267280"/>
                <a:chExt cx="202680" cy="194760"/>
              </a:xfrm>
            </p:grpSpPr>
            <p:grpSp>
              <p:nvGrpSpPr>
                <p:cNvPr id="817" name="组合 398"/>
                <p:cNvGrpSpPr/>
                <p:nvPr/>
              </p:nvGrpSpPr>
              <p:grpSpPr>
                <a:xfrm>
                  <a:off x="2904840" y="2267280"/>
                  <a:ext cx="202680" cy="131400"/>
                  <a:chOff x="2904840" y="2267280"/>
                  <a:chExt cx="202680" cy="131400"/>
                </a:xfrm>
              </p:grpSpPr>
              <p:sp>
                <p:nvSpPr>
                  <p:cNvPr id="818" name="椭圆 405"/>
                  <p:cNvSpPr/>
                  <p:nvPr/>
                </p:nvSpPr>
                <p:spPr>
                  <a:xfrm>
                    <a:off x="2981160" y="2267280"/>
                    <a:ext cx="39240" cy="110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椭圆 406"/>
                  <p:cNvSpPr/>
                  <p:nvPr/>
                </p:nvSpPr>
                <p:spPr>
                  <a:xfrm rot="1981200">
                    <a:off x="3002760" y="2270880"/>
                    <a:ext cx="45000" cy="110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椭圆 407"/>
                  <p:cNvSpPr/>
                  <p:nvPr/>
                </p:nvSpPr>
                <p:spPr>
                  <a:xfrm rot="4173000">
                    <a:off x="3019680" y="2290680"/>
                    <a:ext cx="47880" cy="110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椭圆 408"/>
                  <p:cNvSpPr/>
                  <p:nvPr/>
                </p:nvSpPr>
                <p:spPr>
                  <a:xfrm rot="5400000">
                    <a:off x="3032280" y="2314440"/>
                    <a:ext cx="39240" cy="110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椭圆 409"/>
                  <p:cNvSpPr/>
                  <p:nvPr/>
                </p:nvSpPr>
                <p:spPr>
                  <a:xfrm rot="19085400">
                    <a:off x="2964600" y="2275560"/>
                    <a:ext cx="42120" cy="124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椭圆 410"/>
                  <p:cNvSpPr/>
                  <p:nvPr/>
                </p:nvSpPr>
                <p:spPr>
                  <a:xfrm rot="17691600">
                    <a:off x="2949120" y="2291040"/>
                    <a:ext cx="42120" cy="124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4" name="组合 399"/>
                <p:cNvGrpSpPr/>
                <p:nvPr/>
              </p:nvGrpSpPr>
              <p:grpSpPr>
                <a:xfrm>
                  <a:off x="2907360" y="2328840"/>
                  <a:ext cx="195120" cy="133200"/>
                  <a:chOff x="2907360" y="2328840"/>
                  <a:chExt cx="195120" cy="133200"/>
                </a:xfrm>
              </p:grpSpPr>
              <p:sp>
                <p:nvSpPr>
                  <p:cNvPr id="825" name="椭圆 400"/>
                  <p:cNvSpPr/>
                  <p:nvPr/>
                </p:nvSpPr>
                <p:spPr>
                  <a:xfrm flipV="1" rot="715800">
                    <a:off x="2976840" y="2345400"/>
                    <a:ext cx="39240" cy="110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椭圆 401"/>
                  <p:cNvSpPr/>
                  <p:nvPr/>
                </p:nvSpPr>
                <p:spPr>
                  <a:xfrm flipV="1" rot="20334600">
                    <a:off x="2998800" y="2346480"/>
                    <a:ext cx="44640" cy="110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椭圆 402"/>
                  <p:cNvSpPr/>
                  <p:nvPr/>
                </p:nvSpPr>
                <p:spPr>
                  <a:xfrm flipV="1" rot="18142800">
                    <a:off x="3018960" y="2330640"/>
                    <a:ext cx="47880" cy="110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椭圆 403"/>
                  <p:cNvSpPr/>
                  <p:nvPr/>
                </p:nvSpPr>
                <p:spPr>
                  <a:xfrm flipV="1" rot="3230400">
                    <a:off x="2963520" y="2319840"/>
                    <a:ext cx="42120" cy="124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椭圆 404"/>
                  <p:cNvSpPr/>
                  <p:nvPr/>
                </p:nvSpPr>
                <p:spPr>
                  <a:xfrm flipV="1" rot="4623600">
                    <a:off x="2951640" y="2301480"/>
                    <a:ext cx="42120" cy="124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0" name="组合 370"/>
              <p:cNvGrpSpPr/>
              <p:nvPr/>
            </p:nvGrpSpPr>
            <p:grpSpPr>
              <a:xfrm>
                <a:off x="2931120" y="2296080"/>
                <a:ext cx="149400" cy="144720"/>
                <a:chOff x="2931120" y="2296080"/>
                <a:chExt cx="149400" cy="144720"/>
              </a:xfrm>
            </p:grpSpPr>
            <p:grpSp>
              <p:nvGrpSpPr>
                <p:cNvPr id="831" name="组合 385"/>
                <p:cNvGrpSpPr/>
                <p:nvPr/>
              </p:nvGrpSpPr>
              <p:grpSpPr>
                <a:xfrm>
                  <a:off x="2931120" y="2296080"/>
                  <a:ext cx="149400" cy="97560"/>
                  <a:chOff x="2931120" y="2296080"/>
                  <a:chExt cx="149400" cy="97560"/>
                </a:xfrm>
              </p:grpSpPr>
              <p:sp>
                <p:nvSpPr>
                  <p:cNvPr id="832" name="椭圆 392"/>
                  <p:cNvSpPr/>
                  <p:nvPr/>
                </p:nvSpPr>
                <p:spPr>
                  <a:xfrm>
                    <a:off x="2987280" y="2296080"/>
                    <a:ext cx="29160" cy="8208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椭圆 393"/>
                  <p:cNvSpPr/>
                  <p:nvPr/>
                </p:nvSpPr>
                <p:spPr>
                  <a:xfrm rot="1981200">
                    <a:off x="3003840" y="2298240"/>
                    <a:ext cx="33120" cy="8208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椭圆 394"/>
                  <p:cNvSpPr/>
                  <p:nvPr/>
                </p:nvSpPr>
                <p:spPr>
                  <a:xfrm rot="4173000">
                    <a:off x="3015360" y="2313720"/>
                    <a:ext cx="35280" cy="8172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椭圆 395"/>
                  <p:cNvSpPr/>
                  <p:nvPr/>
                </p:nvSpPr>
                <p:spPr>
                  <a:xfrm rot="5400000">
                    <a:off x="3025080" y="2331360"/>
                    <a:ext cx="29160" cy="8172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椭圆 396"/>
                  <p:cNvSpPr/>
                  <p:nvPr/>
                </p:nvSpPr>
                <p:spPr>
                  <a:xfrm rot="19085400">
                    <a:off x="2975400" y="2302200"/>
                    <a:ext cx="31320" cy="921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椭圆 397"/>
                  <p:cNvSpPr/>
                  <p:nvPr/>
                </p:nvSpPr>
                <p:spPr>
                  <a:xfrm rot="17691600">
                    <a:off x="2963520" y="2313720"/>
                    <a:ext cx="31320" cy="921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" name="组合 386"/>
                <p:cNvGrpSpPr/>
                <p:nvPr/>
              </p:nvGrpSpPr>
              <p:grpSpPr>
                <a:xfrm>
                  <a:off x="2932920" y="2341800"/>
                  <a:ext cx="144360" cy="99000"/>
                  <a:chOff x="2932920" y="2341800"/>
                  <a:chExt cx="144360" cy="99000"/>
                </a:xfrm>
              </p:grpSpPr>
              <p:sp>
                <p:nvSpPr>
                  <p:cNvPr id="839" name="椭圆 387"/>
                  <p:cNvSpPr/>
                  <p:nvPr/>
                </p:nvSpPr>
                <p:spPr>
                  <a:xfrm flipV="1" rot="715800">
                    <a:off x="2984400" y="2353680"/>
                    <a:ext cx="29160" cy="8208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椭圆 388"/>
                  <p:cNvSpPr/>
                  <p:nvPr/>
                </p:nvSpPr>
                <p:spPr>
                  <a:xfrm flipV="1" rot="20334600">
                    <a:off x="3000600" y="2355120"/>
                    <a:ext cx="33120" cy="8208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椭圆 389"/>
                  <p:cNvSpPr/>
                  <p:nvPr/>
                </p:nvSpPr>
                <p:spPr>
                  <a:xfrm flipV="1" rot="18142800">
                    <a:off x="3015360" y="2343600"/>
                    <a:ext cx="35280" cy="8172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椭圆 390"/>
                  <p:cNvSpPr/>
                  <p:nvPr/>
                </p:nvSpPr>
                <p:spPr>
                  <a:xfrm flipV="1" rot="3230400">
                    <a:off x="2974680" y="2334960"/>
                    <a:ext cx="31320" cy="921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椭圆 391"/>
                  <p:cNvSpPr/>
                  <p:nvPr/>
                </p:nvSpPr>
                <p:spPr>
                  <a:xfrm flipV="1" rot="4623600">
                    <a:off x="2965320" y="2321640"/>
                    <a:ext cx="31320" cy="921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4" name="组合 371"/>
              <p:cNvGrpSpPr/>
              <p:nvPr/>
            </p:nvGrpSpPr>
            <p:grpSpPr>
              <a:xfrm>
                <a:off x="2954160" y="2315880"/>
                <a:ext cx="111240" cy="107640"/>
                <a:chOff x="2954160" y="2315880"/>
                <a:chExt cx="111240" cy="107640"/>
              </a:xfrm>
            </p:grpSpPr>
            <p:grpSp>
              <p:nvGrpSpPr>
                <p:cNvPr id="845" name="组合 372"/>
                <p:cNvGrpSpPr/>
                <p:nvPr/>
              </p:nvGrpSpPr>
              <p:grpSpPr>
                <a:xfrm>
                  <a:off x="2954160" y="2315880"/>
                  <a:ext cx="111240" cy="72360"/>
                  <a:chOff x="2954160" y="2315880"/>
                  <a:chExt cx="111240" cy="72360"/>
                </a:xfrm>
              </p:grpSpPr>
              <p:sp>
                <p:nvSpPr>
                  <p:cNvPr id="846" name="椭圆 379"/>
                  <p:cNvSpPr/>
                  <p:nvPr/>
                </p:nvSpPr>
                <p:spPr>
                  <a:xfrm>
                    <a:off x="2996280" y="2315880"/>
                    <a:ext cx="21600" cy="61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椭圆 380"/>
                  <p:cNvSpPr/>
                  <p:nvPr/>
                </p:nvSpPr>
                <p:spPr>
                  <a:xfrm rot="1981200">
                    <a:off x="3008520" y="2317320"/>
                    <a:ext cx="24480" cy="61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椭圆 381"/>
                  <p:cNvSpPr/>
                  <p:nvPr/>
                </p:nvSpPr>
                <p:spPr>
                  <a:xfrm rot="4173000">
                    <a:off x="3017160" y="2328840"/>
                    <a:ext cx="26280" cy="60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椭圆 382"/>
                  <p:cNvSpPr/>
                  <p:nvPr/>
                </p:nvSpPr>
                <p:spPr>
                  <a:xfrm rot="5400000">
                    <a:off x="3024000" y="2341800"/>
                    <a:ext cx="21600" cy="60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椭圆 383"/>
                  <p:cNvSpPr/>
                  <p:nvPr/>
                </p:nvSpPr>
                <p:spPr>
                  <a:xfrm rot="19085400">
                    <a:off x="2987280" y="2320560"/>
                    <a:ext cx="23040" cy="68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椭圆 384"/>
                  <p:cNvSpPr/>
                  <p:nvPr/>
                </p:nvSpPr>
                <p:spPr>
                  <a:xfrm rot="17691600">
                    <a:off x="2978280" y="2328840"/>
                    <a:ext cx="23400" cy="68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2" name="组合 373"/>
                <p:cNvGrpSpPr/>
                <p:nvPr/>
              </p:nvGrpSpPr>
              <p:grpSpPr>
                <a:xfrm>
                  <a:off x="2955600" y="2349720"/>
                  <a:ext cx="107280" cy="73800"/>
                  <a:chOff x="2955600" y="2349720"/>
                  <a:chExt cx="107280" cy="73800"/>
                </a:xfrm>
              </p:grpSpPr>
              <p:sp>
                <p:nvSpPr>
                  <p:cNvPr id="853" name="椭圆 374"/>
                  <p:cNvSpPr/>
                  <p:nvPr/>
                </p:nvSpPr>
                <p:spPr>
                  <a:xfrm flipV="1" rot="715800">
                    <a:off x="2993760" y="2358000"/>
                    <a:ext cx="21600" cy="61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椭圆 375"/>
                  <p:cNvSpPr/>
                  <p:nvPr/>
                </p:nvSpPr>
                <p:spPr>
                  <a:xfrm flipV="1" rot="20334600">
                    <a:off x="3006360" y="2359440"/>
                    <a:ext cx="24120" cy="61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椭圆 376"/>
                  <p:cNvSpPr/>
                  <p:nvPr/>
                </p:nvSpPr>
                <p:spPr>
                  <a:xfrm flipV="1" rot="18142800">
                    <a:off x="3016800" y="2350800"/>
                    <a:ext cx="26280" cy="60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椭圆 377"/>
                  <p:cNvSpPr/>
                  <p:nvPr/>
                </p:nvSpPr>
                <p:spPr>
                  <a:xfrm flipV="1" rot="3230400">
                    <a:off x="2986920" y="2345400"/>
                    <a:ext cx="23040" cy="68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椭圆 378"/>
                  <p:cNvSpPr/>
                  <p:nvPr/>
                </p:nvSpPr>
                <p:spPr>
                  <a:xfrm flipV="1" rot="4623600">
                    <a:off x="2979720" y="2334240"/>
                    <a:ext cx="23400" cy="68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58" name="组合 411"/>
            <p:cNvGrpSpPr/>
            <p:nvPr/>
          </p:nvGrpSpPr>
          <p:grpSpPr>
            <a:xfrm>
              <a:off x="2745720" y="1610280"/>
              <a:ext cx="510120" cy="489960"/>
              <a:chOff x="2745720" y="1610280"/>
              <a:chExt cx="510120" cy="489960"/>
            </a:xfrm>
          </p:grpSpPr>
          <p:grpSp>
            <p:nvGrpSpPr>
              <p:cNvPr id="859" name="组合 412"/>
              <p:cNvGrpSpPr/>
              <p:nvPr/>
            </p:nvGrpSpPr>
            <p:grpSpPr>
              <a:xfrm>
                <a:off x="2745720" y="1610280"/>
                <a:ext cx="510120" cy="489960"/>
                <a:chOff x="2745720" y="1610280"/>
                <a:chExt cx="510120" cy="489960"/>
              </a:xfrm>
            </p:grpSpPr>
            <p:grpSp>
              <p:nvGrpSpPr>
                <p:cNvPr id="860" name="组合 441"/>
                <p:cNvGrpSpPr/>
                <p:nvPr/>
              </p:nvGrpSpPr>
              <p:grpSpPr>
                <a:xfrm>
                  <a:off x="2745720" y="1610280"/>
                  <a:ext cx="510120" cy="332640"/>
                  <a:chOff x="2745720" y="1610280"/>
                  <a:chExt cx="510120" cy="332640"/>
                </a:xfrm>
              </p:grpSpPr>
              <p:sp>
                <p:nvSpPr>
                  <p:cNvPr id="861" name="椭圆 448"/>
                  <p:cNvSpPr/>
                  <p:nvPr/>
                </p:nvSpPr>
                <p:spPr>
                  <a:xfrm>
                    <a:off x="2937960" y="1610280"/>
                    <a:ext cx="99360" cy="278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椭圆 449"/>
                  <p:cNvSpPr/>
                  <p:nvPr/>
                </p:nvSpPr>
                <p:spPr>
                  <a:xfrm rot="1981200">
                    <a:off x="2993400" y="1618920"/>
                    <a:ext cx="112680" cy="278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椭圆 450"/>
                  <p:cNvSpPr/>
                  <p:nvPr/>
                </p:nvSpPr>
                <p:spPr>
                  <a:xfrm rot="4173000">
                    <a:off x="3034800" y="1670040"/>
                    <a:ext cx="120600" cy="278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椭圆 451"/>
                  <p:cNvSpPr/>
                  <p:nvPr/>
                </p:nvSpPr>
                <p:spPr>
                  <a:xfrm rot="5400000">
                    <a:off x="3066840" y="1729080"/>
                    <a:ext cx="99000" cy="278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椭圆 452"/>
                  <p:cNvSpPr/>
                  <p:nvPr/>
                </p:nvSpPr>
                <p:spPr>
                  <a:xfrm rot="19085400">
                    <a:off x="2897280" y="1631880"/>
                    <a:ext cx="106560" cy="313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椭圆 453"/>
                  <p:cNvSpPr/>
                  <p:nvPr/>
                </p:nvSpPr>
                <p:spPr>
                  <a:xfrm rot="17691600">
                    <a:off x="2856600" y="1672200"/>
                    <a:ext cx="106560" cy="31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7" name="组合 442"/>
                <p:cNvGrpSpPr/>
                <p:nvPr/>
              </p:nvGrpSpPr>
              <p:grpSpPr>
                <a:xfrm>
                  <a:off x="2751840" y="1764360"/>
                  <a:ext cx="491400" cy="335880"/>
                  <a:chOff x="2751840" y="1764360"/>
                  <a:chExt cx="491400" cy="335880"/>
                </a:xfrm>
              </p:grpSpPr>
              <p:sp>
                <p:nvSpPr>
                  <p:cNvPr id="868" name="椭圆 443"/>
                  <p:cNvSpPr/>
                  <p:nvPr/>
                </p:nvSpPr>
                <p:spPr>
                  <a:xfrm flipV="1" rot="715800">
                    <a:off x="2925720" y="1806480"/>
                    <a:ext cx="99360" cy="278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椭圆 444"/>
                  <p:cNvSpPr/>
                  <p:nvPr/>
                </p:nvSpPr>
                <p:spPr>
                  <a:xfrm flipV="1" rot="20334600">
                    <a:off x="2981880" y="1810080"/>
                    <a:ext cx="112680" cy="278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椭圆 445"/>
                  <p:cNvSpPr/>
                  <p:nvPr/>
                </p:nvSpPr>
                <p:spPr>
                  <a:xfrm flipV="1" rot="18142800">
                    <a:off x="3033000" y="1770480"/>
                    <a:ext cx="120600" cy="278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椭圆 446"/>
                  <p:cNvSpPr/>
                  <p:nvPr/>
                </p:nvSpPr>
                <p:spPr>
                  <a:xfrm flipV="1" rot="3230400">
                    <a:off x="2894400" y="1743120"/>
                    <a:ext cx="106560" cy="31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椭圆 447"/>
                  <p:cNvSpPr/>
                  <p:nvPr/>
                </p:nvSpPr>
                <p:spPr>
                  <a:xfrm flipV="1" rot="4623600">
                    <a:off x="2863080" y="1695600"/>
                    <a:ext cx="106200" cy="313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3" name="组合 413"/>
              <p:cNvGrpSpPr/>
              <p:nvPr/>
            </p:nvGrpSpPr>
            <p:grpSpPr>
              <a:xfrm>
                <a:off x="2811600" y="1682640"/>
                <a:ext cx="376920" cy="362160"/>
                <a:chOff x="2811600" y="1682640"/>
                <a:chExt cx="376920" cy="362160"/>
              </a:xfrm>
            </p:grpSpPr>
            <p:grpSp>
              <p:nvGrpSpPr>
                <p:cNvPr id="874" name="组合 428"/>
                <p:cNvGrpSpPr/>
                <p:nvPr/>
              </p:nvGrpSpPr>
              <p:grpSpPr>
                <a:xfrm>
                  <a:off x="2811600" y="1682640"/>
                  <a:ext cx="376920" cy="245520"/>
                  <a:chOff x="2811600" y="1682640"/>
                  <a:chExt cx="376920" cy="245520"/>
                </a:xfrm>
              </p:grpSpPr>
              <p:sp>
                <p:nvSpPr>
                  <p:cNvPr id="875" name="椭圆 435"/>
                  <p:cNvSpPr/>
                  <p:nvPr/>
                </p:nvSpPr>
                <p:spPr>
                  <a:xfrm>
                    <a:off x="2953800" y="1682640"/>
                    <a:ext cx="73440" cy="20592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椭圆 436"/>
                  <p:cNvSpPr/>
                  <p:nvPr/>
                </p:nvSpPr>
                <p:spPr>
                  <a:xfrm rot="1981200">
                    <a:off x="2994840" y="1689480"/>
                    <a:ext cx="83520" cy="20592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椭圆 437"/>
                  <p:cNvSpPr/>
                  <p:nvPr/>
                </p:nvSpPr>
                <p:spPr>
                  <a:xfrm rot="4173000">
                    <a:off x="3025080" y="1726920"/>
                    <a:ext cx="89280" cy="20592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椭圆 438"/>
                  <p:cNvSpPr/>
                  <p:nvPr/>
                </p:nvSpPr>
                <p:spPr>
                  <a:xfrm rot="5400000">
                    <a:off x="3048840" y="1770480"/>
                    <a:ext cx="73080" cy="20592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椭圆 439"/>
                  <p:cNvSpPr/>
                  <p:nvPr/>
                </p:nvSpPr>
                <p:spPr>
                  <a:xfrm rot="19085400">
                    <a:off x="2923560" y="1698480"/>
                    <a:ext cx="78480" cy="23148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椭圆 440"/>
                  <p:cNvSpPr/>
                  <p:nvPr/>
                </p:nvSpPr>
                <p:spPr>
                  <a:xfrm rot="17691600">
                    <a:off x="2893680" y="1728000"/>
                    <a:ext cx="78840" cy="23148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1" name="组合 429"/>
                <p:cNvGrpSpPr/>
                <p:nvPr/>
              </p:nvGrpSpPr>
              <p:grpSpPr>
                <a:xfrm>
                  <a:off x="2816280" y="1796760"/>
                  <a:ext cx="363240" cy="248040"/>
                  <a:chOff x="2816280" y="1796760"/>
                  <a:chExt cx="363240" cy="248040"/>
                </a:xfrm>
              </p:grpSpPr>
              <p:sp>
                <p:nvSpPr>
                  <p:cNvPr id="882" name="椭圆 430"/>
                  <p:cNvSpPr/>
                  <p:nvPr/>
                </p:nvSpPr>
                <p:spPr>
                  <a:xfrm flipV="1" rot="715800">
                    <a:off x="2944800" y="1827360"/>
                    <a:ext cx="73440" cy="20556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椭圆 431"/>
                  <p:cNvSpPr/>
                  <p:nvPr/>
                </p:nvSpPr>
                <p:spPr>
                  <a:xfrm flipV="1" rot="20334600">
                    <a:off x="2986920" y="1830240"/>
                    <a:ext cx="83160" cy="20592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椭圆 432"/>
                  <p:cNvSpPr/>
                  <p:nvPr/>
                </p:nvSpPr>
                <p:spPr>
                  <a:xfrm flipV="1" rot="18142800">
                    <a:off x="3024000" y="1800720"/>
                    <a:ext cx="89280" cy="20592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椭圆 433"/>
                  <p:cNvSpPr/>
                  <p:nvPr/>
                </p:nvSpPr>
                <p:spPr>
                  <a:xfrm flipV="1" rot="3230400">
                    <a:off x="2921760" y="1780920"/>
                    <a:ext cx="78480" cy="23148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椭圆 434"/>
                  <p:cNvSpPr/>
                  <p:nvPr/>
                </p:nvSpPr>
                <p:spPr>
                  <a:xfrm flipV="1" rot="4623600">
                    <a:off x="2898360" y="1745280"/>
                    <a:ext cx="78840" cy="231480"/>
                  </a:xfrm>
                  <a:prstGeom prst="ellipse">
                    <a:avLst/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7" name="组合 414"/>
              <p:cNvGrpSpPr/>
              <p:nvPr/>
            </p:nvGrpSpPr>
            <p:grpSpPr>
              <a:xfrm>
                <a:off x="2870640" y="1733040"/>
                <a:ext cx="280080" cy="268920"/>
                <a:chOff x="2870640" y="1733040"/>
                <a:chExt cx="280080" cy="268920"/>
              </a:xfrm>
            </p:grpSpPr>
            <p:grpSp>
              <p:nvGrpSpPr>
                <p:cNvPr id="888" name="组合 415"/>
                <p:cNvGrpSpPr/>
                <p:nvPr/>
              </p:nvGrpSpPr>
              <p:grpSpPr>
                <a:xfrm>
                  <a:off x="2870640" y="1733040"/>
                  <a:ext cx="280080" cy="182520"/>
                  <a:chOff x="2870640" y="1733040"/>
                  <a:chExt cx="280080" cy="182520"/>
                </a:xfrm>
              </p:grpSpPr>
              <p:sp>
                <p:nvSpPr>
                  <p:cNvPr id="889" name="椭圆 422"/>
                  <p:cNvSpPr/>
                  <p:nvPr/>
                </p:nvSpPr>
                <p:spPr>
                  <a:xfrm>
                    <a:off x="2976480" y="1733040"/>
                    <a:ext cx="54360" cy="15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椭圆 423"/>
                  <p:cNvSpPr/>
                  <p:nvPr/>
                </p:nvSpPr>
                <p:spPr>
                  <a:xfrm rot="1981200">
                    <a:off x="3007080" y="1738080"/>
                    <a:ext cx="61920" cy="15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椭圆 424"/>
                  <p:cNvSpPr/>
                  <p:nvPr/>
                </p:nvSpPr>
                <p:spPr>
                  <a:xfrm rot="4173000">
                    <a:off x="3029040" y="1765800"/>
                    <a:ext cx="66240" cy="153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椭圆 425"/>
                  <p:cNvSpPr/>
                  <p:nvPr/>
                </p:nvSpPr>
                <p:spPr>
                  <a:xfrm rot="5400000">
                    <a:off x="3047040" y="1798560"/>
                    <a:ext cx="54360" cy="153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椭圆 426"/>
                  <p:cNvSpPr/>
                  <p:nvPr/>
                </p:nvSpPr>
                <p:spPr>
                  <a:xfrm rot="19085400">
                    <a:off x="2954160" y="1744560"/>
                    <a:ext cx="58320" cy="172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椭圆 427"/>
                  <p:cNvSpPr/>
                  <p:nvPr/>
                </p:nvSpPr>
                <p:spPr>
                  <a:xfrm rot="17691600">
                    <a:off x="2931480" y="1766520"/>
                    <a:ext cx="58680" cy="172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5" name="组合 416"/>
                <p:cNvGrpSpPr/>
                <p:nvPr/>
              </p:nvGrpSpPr>
              <p:grpSpPr>
                <a:xfrm>
                  <a:off x="2874240" y="1818000"/>
                  <a:ext cx="269640" cy="183960"/>
                  <a:chOff x="2874240" y="1818000"/>
                  <a:chExt cx="269640" cy="183960"/>
                </a:xfrm>
              </p:grpSpPr>
              <p:sp>
                <p:nvSpPr>
                  <p:cNvPr id="896" name="椭圆 417"/>
                  <p:cNvSpPr/>
                  <p:nvPr/>
                </p:nvSpPr>
                <p:spPr>
                  <a:xfrm flipV="1" rot="715800">
                    <a:off x="2969640" y="1840320"/>
                    <a:ext cx="54360" cy="15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椭圆 418"/>
                  <p:cNvSpPr/>
                  <p:nvPr/>
                </p:nvSpPr>
                <p:spPr>
                  <a:xfrm flipV="1" rot="20334600">
                    <a:off x="3000600" y="1842840"/>
                    <a:ext cx="61920" cy="153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椭圆 419"/>
                  <p:cNvSpPr/>
                  <p:nvPr/>
                </p:nvSpPr>
                <p:spPr>
                  <a:xfrm flipV="1" rot="18142800">
                    <a:off x="3028320" y="1820520"/>
                    <a:ext cx="66240" cy="153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椭圆 420"/>
                  <p:cNvSpPr/>
                  <p:nvPr/>
                </p:nvSpPr>
                <p:spPr>
                  <a:xfrm flipV="1" rot="3230400">
                    <a:off x="2952720" y="1806120"/>
                    <a:ext cx="58320" cy="172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椭圆 421"/>
                  <p:cNvSpPr/>
                  <p:nvPr/>
                </p:nvSpPr>
                <p:spPr>
                  <a:xfrm flipV="1" rot="4623600">
                    <a:off x="2935080" y="1780200"/>
                    <a:ext cx="58680" cy="172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01" name="组合 468"/>
          <p:cNvGrpSpPr/>
          <p:nvPr/>
        </p:nvGrpSpPr>
        <p:grpSpPr>
          <a:xfrm>
            <a:off x="120600" y="1951200"/>
            <a:ext cx="2133720" cy="3425400"/>
            <a:chOff x="120600" y="1951200"/>
            <a:chExt cx="2133720" cy="3425400"/>
          </a:xfrm>
        </p:grpSpPr>
        <p:sp>
          <p:nvSpPr>
            <p:cNvPr id="902" name="梯形 463"/>
            <p:cNvSpPr/>
            <p:nvPr/>
          </p:nvSpPr>
          <p:spPr>
            <a:xfrm flipV="1">
              <a:off x="393840" y="4238280"/>
              <a:ext cx="709200" cy="113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3" name="组合 467"/>
            <p:cNvGrpSpPr/>
            <p:nvPr/>
          </p:nvGrpSpPr>
          <p:grpSpPr>
            <a:xfrm>
              <a:off x="120600" y="1951200"/>
              <a:ext cx="2133720" cy="2432880"/>
              <a:chOff x="120600" y="1951200"/>
              <a:chExt cx="2133720" cy="2432880"/>
            </a:xfrm>
          </p:grpSpPr>
          <p:sp>
            <p:nvSpPr>
              <p:cNvPr id="904" name="椭圆 461"/>
              <p:cNvSpPr/>
              <p:nvPr/>
            </p:nvSpPr>
            <p:spPr>
              <a:xfrm>
                <a:off x="120600" y="1951200"/>
                <a:ext cx="1377000" cy="1377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梯形 462"/>
              <p:cNvSpPr/>
              <p:nvPr/>
            </p:nvSpPr>
            <p:spPr>
              <a:xfrm>
                <a:off x="316800" y="3190320"/>
                <a:ext cx="984240" cy="119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圆角矩形 464"/>
              <p:cNvSpPr/>
              <p:nvPr/>
            </p:nvSpPr>
            <p:spPr>
              <a:xfrm>
                <a:off x="538200" y="3303000"/>
                <a:ext cx="1583280" cy="475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椭圆 465"/>
              <p:cNvSpPr/>
              <p:nvPr/>
            </p:nvSpPr>
            <p:spPr>
              <a:xfrm>
                <a:off x="1660680" y="3214800"/>
                <a:ext cx="593640" cy="593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8" name="文本框 470"/>
          <p:cNvSpPr/>
          <p:nvPr/>
        </p:nvSpPr>
        <p:spPr>
          <a:xfrm>
            <a:off x="7761600" y="225360"/>
            <a:ext cx="237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无德之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如同无根之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几天就会枯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组合 474"/>
          <p:cNvGrpSpPr/>
          <p:nvPr/>
        </p:nvGrpSpPr>
        <p:grpSpPr>
          <a:xfrm>
            <a:off x="3570120" y="458640"/>
            <a:ext cx="2133720" cy="3426120"/>
            <a:chOff x="3570120" y="458640"/>
            <a:chExt cx="2133720" cy="3426120"/>
          </a:xfrm>
        </p:grpSpPr>
        <p:sp>
          <p:nvSpPr>
            <p:cNvPr id="910" name="梯形 463"/>
            <p:cNvSpPr/>
            <p:nvPr/>
          </p:nvSpPr>
          <p:spPr>
            <a:xfrm flipV="1">
              <a:off x="3843360" y="2746440"/>
              <a:ext cx="709200" cy="113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1" name="组合 477"/>
            <p:cNvGrpSpPr/>
            <p:nvPr/>
          </p:nvGrpSpPr>
          <p:grpSpPr>
            <a:xfrm>
              <a:off x="3570120" y="458640"/>
              <a:ext cx="2133720" cy="2433240"/>
              <a:chOff x="3570120" y="458640"/>
              <a:chExt cx="2133720" cy="2433240"/>
            </a:xfrm>
          </p:grpSpPr>
          <p:sp>
            <p:nvSpPr>
              <p:cNvPr id="912" name="椭圆 478"/>
              <p:cNvSpPr/>
              <p:nvPr/>
            </p:nvSpPr>
            <p:spPr>
              <a:xfrm>
                <a:off x="3570120" y="458640"/>
                <a:ext cx="1377000" cy="1377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梯形 462"/>
              <p:cNvSpPr/>
              <p:nvPr/>
            </p:nvSpPr>
            <p:spPr>
              <a:xfrm>
                <a:off x="3766320" y="1697760"/>
                <a:ext cx="984240" cy="119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圆角矩形 480"/>
              <p:cNvSpPr/>
              <p:nvPr/>
            </p:nvSpPr>
            <p:spPr>
              <a:xfrm>
                <a:off x="3987720" y="1810800"/>
                <a:ext cx="1583280" cy="475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椭圆 481"/>
              <p:cNvSpPr/>
              <p:nvPr/>
            </p:nvSpPr>
            <p:spPr>
              <a:xfrm>
                <a:off x="5110200" y="1722240"/>
                <a:ext cx="593640" cy="593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6" name="组合 934"/>
          <p:cNvGrpSpPr/>
          <p:nvPr/>
        </p:nvGrpSpPr>
        <p:grpSpPr>
          <a:xfrm>
            <a:off x="4670640" y="-25920"/>
            <a:ext cx="1915560" cy="1873800"/>
            <a:chOff x="4670640" y="-25920"/>
            <a:chExt cx="1915560" cy="1873800"/>
          </a:xfrm>
        </p:grpSpPr>
        <p:sp>
          <p:nvSpPr>
            <p:cNvPr id="917" name="任意多边形 482"/>
            <p:cNvSpPr/>
            <p:nvPr/>
          </p:nvSpPr>
          <p:spPr>
            <a:xfrm rot="17909400">
              <a:off x="5035320" y="855360"/>
              <a:ext cx="216000" cy="3060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任意多边形 483"/>
            <p:cNvSpPr/>
            <p:nvPr/>
          </p:nvSpPr>
          <p:spPr>
            <a:xfrm rot="17408400">
              <a:off x="4811760" y="407160"/>
              <a:ext cx="246600" cy="1155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任意多边形 484"/>
            <p:cNvSpPr/>
            <p:nvPr/>
          </p:nvSpPr>
          <p:spPr>
            <a:xfrm flipH="1">
              <a:off x="5002560" y="467280"/>
              <a:ext cx="284400" cy="10188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任意多边形 485"/>
            <p:cNvSpPr/>
            <p:nvPr/>
          </p:nvSpPr>
          <p:spPr>
            <a:xfrm rot="3843600">
              <a:off x="5460480" y="801720"/>
              <a:ext cx="162000" cy="18504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任意多边形 486"/>
            <p:cNvSpPr/>
            <p:nvPr/>
          </p:nvSpPr>
          <p:spPr>
            <a:xfrm flipH="1">
              <a:off x="5824800" y="766080"/>
              <a:ext cx="153000" cy="13428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任意多边形 487"/>
            <p:cNvSpPr/>
            <p:nvPr/>
          </p:nvSpPr>
          <p:spPr>
            <a:xfrm rot="4263000">
              <a:off x="5662440" y="1203840"/>
              <a:ext cx="339480" cy="1155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任意多边形 488"/>
            <p:cNvSpPr/>
            <p:nvPr/>
          </p:nvSpPr>
          <p:spPr>
            <a:xfrm rot="5400000">
              <a:off x="5992200" y="770040"/>
              <a:ext cx="347040" cy="9252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任意多边形 489"/>
            <p:cNvSpPr/>
            <p:nvPr/>
          </p:nvSpPr>
          <p:spPr>
            <a:xfrm>
              <a:off x="4788360" y="60480"/>
              <a:ext cx="705960" cy="178740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490"/>
            <p:cNvSpPr/>
            <p:nvPr/>
          </p:nvSpPr>
          <p:spPr>
            <a:xfrm>
              <a:off x="5420160" y="220320"/>
              <a:ext cx="233640" cy="130788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491"/>
            <p:cNvSpPr/>
            <p:nvPr/>
          </p:nvSpPr>
          <p:spPr>
            <a:xfrm>
              <a:off x="5475600" y="246240"/>
              <a:ext cx="915840" cy="144180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流程图: 库存数据 922"/>
            <p:cNvSpPr/>
            <p:nvPr/>
          </p:nvSpPr>
          <p:spPr>
            <a:xfrm rot="5173800">
              <a:off x="5788440" y="1318320"/>
              <a:ext cx="226440" cy="20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流程图: 库存数据 922"/>
            <p:cNvSpPr/>
            <p:nvPr/>
          </p:nvSpPr>
          <p:spPr>
            <a:xfrm rot="5173800">
              <a:off x="6087960" y="879840"/>
              <a:ext cx="226440" cy="20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流程图: 库存数据 922"/>
            <p:cNvSpPr/>
            <p:nvPr/>
          </p:nvSpPr>
          <p:spPr>
            <a:xfrm rot="5173800">
              <a:off x="5676480" y="790200"/>
              <a:ext cx="226440" cy="20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流程图: 库存数据 922"/>
            <p:cNvSpPr/>
            <p:nvPr/>
          </p:nvSpPr>
          <p:spPr>
            <a:xfrm rot="5173800">
              <a:off x="5489640" y="837000"/>
              <a:ext cx="226440" cy="20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流程图: 库存数据 922"/>
            <p:cNvSpPr/>
            <p:nvPr/>
          </p:nvSpPr>
          <p:spPr>
            <a:xfrm rot="5173800">
              <a:off x="4975920" y="811440"/>
              <a:ext cx="226440" cy="20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流程图: 库存数据 922"/>
            <p:cNvSpPr/>
            <p:nvPr/>
          </p:nvSpPr>
          <p:spPr>
            <a:xfrm rot="5173800">
              <a:off x="4725000" y="373680"/>
              <a:ext cx="226440" cy="20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流程图: 库存数据 922"/>
            <p:cNvSpPr/>
            <p:nvPr/>
          </p:nvSpPr>
          <p:spPr>
            <a:xfrm rot="5173800">
              <a:off x="5176440" y="474840"/>
              <a:ext cx="226440" cy="20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流程图: 库存数据 922"/>
            <p:cNvSpPr/>
            <p:nvPr/>
          </p:nvSpPr>
          <p:spPr>
            <a:xfrm rot="5173800">
              <a:off x="5427360" y="183240"/>
              <a:ext cx="384480" cy="35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流程图: 库存数据 922"/>
            <p:cNvSpPr/>
            <p:nvPr/>
          </p:nvSpPr>
          <p:spPr>
            <a:xfrm rot="5173800">
              <a:off x="6240960" y="240480"/>
              <a:ext cx="349200" cy="31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流程图: 库存数据 922"/>
            <p:cNvSpPr/>
            <p:nvPr/>
          </p:nvSpPr>
          <p:spPr>
            <a:xfrm rot="5173800">
              <a:off x="4666320" y="-720"/>
              <a:ext cx="344520" cy="31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梯形 935"/>
          <p:cNvSpPr/>
          <p:nvPr/>
        </p:nvSpPr>
        <p:spPr>
          <a:xfrm>
            <a:off x="5857920" y="5540400"/>
            <a:ext cx="1413000" cy="1317600"/>
          </a:xfrm>
          <a:custGeom>
            <a:avLst/>
            <a:gdLst>
              <a:gd name="textAreaLeft" fmla="*/ 297360 w 1413000"/>
              <a:gd name="textAreaRight" fmla="*/ 1115640 w 1413000"/>
              <a:gd name="textAreaTop" fmla="*/ 277200 h 1317600"/>
              <a:gd name="textAreaBottom" fmla="*/ 1040400 h 13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63" y="21600"/>
                </a:lnTo>
                <a:lnTo>
                  <a:pt x="5037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任意多边形 2"/>
          <p:cNvSpPr/>
          <p:nvPr/>
        </p:nvSpPr>
        <p:spPr>
          <a:xfrm>
            <a:off x="592200" y="3156120"/>
            <a:ext cx="2911320" cy="218916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任意多边形 3"/>
          <p:cNvSpPr/>
          <p:nvPr/>
        </p:nvSpPr>
        <p:spPr>
          <a:xfrm>
            <a:off x="2421000" y="5345280"/>
            <a:ext cx="3287520" cy="4572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直接连接符 8"/>
          <p:cNvSpPr/>
          <p:nvPr/>
        </p:nvSpPr>
        <p:spPr>
          <a:xfrm flipV="1">
            <a:off x="2460600" y="3884760"/>
            <a:ext cx="2000160" cy="1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文本框 1378"/>
          <p:cNvSpPr/>
          <p:nvPr/>
        </p:nvSpPr>
        <p:spPr>
          <a:xfrm>
            <a:off x="8903880" y="4032360"/>
            <a:ext cx="237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有德之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如同</a:t>
            </a:r>
            <a:r>
              <a:rPr b="0" lang="zh-CN" sz="48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有根之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才会越长越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矩形 3"/>
          <p:cNvSpPr/>
          <p:nvPr/>
        </p:nvSpPr>
        <p:spPr>
          <a:xfrm>
            <a:off x="0" y="5064120"/>
            <a:ext cx="1406520" cy="179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矩形 4"/>
          <p:cNvSpPr/>
          <p:nvPr/>
        </p:nvSpPr>
        <p:spPr>
          <a:xfrm>
            <a:off x="10785600" y="5064120"/>
            <a:ext cx="1406520" cy="179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椭圆 5"/>
          <p:cNvSpPr/>
          <p:nvPr/>
        </p:nvSpPr>
        <p:spPr>
          <a:xfrm>
            <a:off x="1081080" y="5427720"/>
            <a:ext cx="1922400" cy="1922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椭圆 6"/>
          <p:cNvSpPr/>
          <p:nvPr/>
        </p:nvSpPr>
        <p:spPr>
          <a:xfrm>
            <a:off x="2043000" y="5286240"/>
            <a:ext cx="1922400" cy="1924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椭圆 7"/>
          <p:cNvSpPr/>
          <p:nvPr/>
        </p:nvSpPr>
        <p:spPr>
          <a:xfrm>
            <a:off x="2951280" y="5627520"/>
            <a:ext cx="1922400" cy="1922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椭圆 8"/>
          <p:cNvSpPr/>
          <p:nvPr/>
        </p:nvSpPr>
        <p:spPr>
          <a:xfrm>
            <a:off x="3927600" y="5486400"/>
            <a:ext cx="1922400" cy="1922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椭圆 9"/>
          <p:cNvSpPr/>
          <p:nvPr/>
        </p:nvSpPr>
        <p:spPr>
          <a:xfrm>
            <a:off x="4578480" y="5591160"/>
            <a:ext cx="2830320" cy="1924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椭圆 10"/>
          <p:cNvSpPr/>
          <p:nvPr/>
        </p:nvSpPr>
        <p:spPr>
          <a:xfrm>
            <a:off x="6342120" y="5627520"/>
            <a:ext cx="1922400" cy="1922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椭圆 11"/>
          <p:cNvSpPr/>
          <p:nvPr/>
        </p:nvSpPr>
        <p:spPr>
          <a:xfrm>
            <a:off x="7318440" y="5486400"/>
            <a:ext cx="1922400" cy="1606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椭圆 12"/>
          <p:cNvSpPr/>
          <p:nvPr/>
        </p:nvSpPr>
        <p:spPr>
          <a:xfrm>
            <a:off x="8385120" y="5591160"/>
            <a:ext cx="2774880" cy="1924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椭圆 13"/>
          <p:cNvSpPr/>
          <p:nvPr/>
        </p:nvSpPr>
        <p:spPr>
          <a:xfrm>
            <a:off x="9823320" y="5438880"/>
            <a:ext cx="1924200" cy="1923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矩形 14"/>
          <p:cNvSpPr/>
          <p:nvPr/>
        </p:nvSpPr>
        <p:spPr>
          <a:xfrm>
            <a:off x="701640" y="4341960"/>
            <a:ext cx="362160" cy="509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椭圆 27"/>
          <p:cNvSpPr/>
          <p:nvPr/>
        </p:nvSpPr>
        <p:spPr>
          <a:xfrm>
            <a:off x="766800" y="3873600"/>
            <a:ext cx="630360" cy="628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梯形 28"/>
          <p:cNvSpPr/>
          <p:nvPr/>
        </p:nvSpPr>
        <p:spPr>
          <a:xfrm>
            <a:off x="757080" y="4626000"/>
            <a:ext cx="236520" cy="603360"/>
          </a:xfrm>
          <a:custGeom>
            <a:avLst/>
            <a:gdLst>
              <a:gd name="textAreaLeft" fmla="*/ 30960 w 236520"/>
              <a:gd name="textAreaRight" fmla="*/ 205560 w 236520"/>
              <a:gd name="textAreaTop" fmla="*/ 79560 h 603360"/>
              <a:gd name="textAreaBottom" fmla="*/ 523800 h 60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5" y="21600"/>
                </a:lnTo>
                <a:lnTo>
                  <a:pt x="1975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任意多边形 30"/>
          <p:cNvSpPr/>
          <p:nvPr/>
        </p:nvSpPr>
        <p:spPr>
          <a:xfrm rot="17741400">
            <a:off x="932400" y="4497840"/>
            <a:ext cx="257040" cy="233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椭圆 31"/>
          <p:cNvSpPr/>
          <p:nvPr/>
        </p:nvSpPr>
        <p:spPr>
          <a:xfrm>
            <a:off x="222120" y="4140360"/>
            <a:ext cx="606600" cy="604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圆角矩形 29"/>
          <p:cNvSpPr/>
          <p:nvPr/>
        </p:nvSpPr>
        <p:spPr>
          <a:xfrm rot="7858800">
            <a:off x="464040" y="4478760"/>
            <a:ext cx="530280" cy="2080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文本框 18"/>
          <p:cNvSpPr/>
          <p:nvPr/>
        </p:nvSpPr>
        <p:spPr>
          <a:xfrm>
            <a:off x="5424480" y="120960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人生如同要背着一个袋子乘船过一条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梯形 19"/>
          <p:cNvSpPr/>
          <p:nvPr/>
        </p:nvSpPr>
        <p:spPr>
          <a:xfrm>
            <a:off x="1397160" y="5064120"/>
            <a:ext cx="1666800" cy="403200"/>
          </a:xfrm>
          <a:custGeom>
            <a:avLst/>
            <a:gdLst>
              <a:gd name="textAreaLeft" fmla="*/ 394200 w 1666800"/>
              <a:gd name="textAreaRight" fmla="*/ 1272600 w 1666800"/>
              <a:gd name="textAreaTop" fmla="*/ 95400 h 403200"/>
              <a:gd name="textAreaBottom" fmla="*/ 30780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549" y="21600"/>
                </a:lnTo>
                <a:lnTo>
                  <a:pt x="6051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文本框 20"/>
          <p:cNvSpPr/>
          <p:nvPr/>
        </p:nvSpPr>
        <p:spPr>
          <a:xfrm>
            <a:off x="3848040" y="2101680"/>
            <a:ext cx="47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袋子</a:t>
            </a:r>
            <a:r>
              <a:rPr b="0" lang="zh-CN" sz="5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如同财富权力和名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21"/>
          <p:cNvSpPr/>
          <p:nvPr/>
        </p:nvSpPr>
        <p:spPr>
          <a:xfrm>
            <a:off x="4671720" y="306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船如同你的德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矩形 34"/>
          <p:cNvSpPr/>
          <p:nvPr/>
        </p:nvSpPr>
        <p:spPr>
          <a:xfrm>
            <a:off x="0" y="5370480"/>
            <a:ext cx="12192120" cy="148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文本框 35"/>
          <p:cNvSpPr/>
          <p:nvPr/>
        </p:nvSpPr>
        <p:spPr>
          <a:xfrm>
            <a:off x="1474560" y="5551560"/>
            <a:ext cx="9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文本框 36"/>
          <p:cNvSpPr/>
          <p:nvPr/>
        </p:nvSpPr>
        <p:spPr>
          <a:xfrm>
            <a:off x="3735000" y="5610240"/>
            <a:ext cx="9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文本框 37"/>
          <p:cNvSpPr/>
          <p:nvPr/>
        </p:nvSpPr>
        <p:spPr>
          <a:xfrm>
            <a:off x="6426000" y="5591160"/>
            <a:ext cx="9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文本框 38"/>
          <p:cNvSpPr/>
          <p:nvPr/>
        </p:nvSpPr>
        <p:spPr>
          <a:xfrm>
            <a:off x="9656640" y="5553000"/>
            <a:ext cx="9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40</a:t>
            </a:r>
            <a:r>
              <a:rPr b="0" lang="zh-CN" sz="32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梯形 39"/>
          <p:cNvSpPr/>
          <p:nvPr/>
        </p:nvSpPr>
        <p:spPr>
          <a:xfrm>
            <a:off x="1096920" y="4960800"/>
            <a:ext cx="1668600" cy="405000"/>
          </a:xfrm>
          <a:custGeom>
            <a:avLst/>
            <a:gdLst>
              <a:gd name="textAreaLeft" fmla="*/ 394920 w 1668600"/>
              <a:gd name="textAreaRight" fmla="*/ 1273680 w 1668600"/>
              <a:gd name="textAreaTop" fmla="*/ 95760 h 405000"/>
              <a:gd name="textAreaBottom" fmla="*/ 309240 h 4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549" y="21600"/>
                </a:lnTo>
                <a:lnTo>
                  <a:pt x="6051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矩形 14"/>
          <p:cNvSpPr/>
          <p:nvPr/>
        </p:nvSpPr>
        <p:spPr>
          <a:xfrm rot="795600">
            <a:off x="1782720" y="4282560"/>
            <a:ext cx="335160" cy="50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椭圆 41"/>
          <p:cNvSpPr/>
          <p:nvPr/>
        </p:nvSpPr>
        <p:spPr>
          <a:xfrm>
            <a:off x="1927080" y="3879720"/>
            <a:ext cx="630360" cy="628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梯形 42"/>
          <p:cNvSpPr/>
          <p:nvPr/>
        </p:nvSpPr>
        <p:spPr>
          <a:xfrm>
            <a:off x="1781280" y="4699080"/>
            <a:ext cx="236520" cy="601560"/>
          </a:xfrm>
          <a:custGeom>
            <a:avLst/>
            <a:gdLst>
              <a:gd name="textAreaLeft" fmla="*/ 30960 w 236520"/>
              <a:gd name="textAreaRight" fmla="*/ 205560 w 236520"/>
              <a:gd name="textAreaTop" fmla="*/ 79200 h 601560"/>
              <a:gd name="textAreaBottom" fmla="*/ 522360 h 6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5" y="21600"/>
                </a:lnTo>
                <a:lnTo>
                  <a:pt x="1975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椭圆 43"/>
          <p:cNvSpPr/>
          <p:nvPr/>
        </p:nvSpPr>
        <p:spPr>
          <a:xfrm>
            <a:off x="1336680" y="3968640"/>
            <a:ext cx="604800" cy="604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圆角矩形 44"/>
          <p:cNvSpPr/>
          <p:nvPr/>
        </p:nvSpPr>
        <p:spPr>
          <a:xfrm rot="20929200">
            <a:off x="1549440" y="4356000"/>
            <a:ext cx="530280" cy="2350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任意多边形 45"/>
          <p:cNvSpPr/>
          <p:nvPr/>
        </p:nvSpPr>
        <p:spPr>
          <a:xfrm rot="18865200">
            <a:off x="1991880" y="4494240"/>
            <a:ext cx="285840" cy="29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梯形 46"/>
          <p:cNvSpPr/>
          <p:nvPr/>
        </p:nvSpPr>
        <p:spPr>
          <a:xfrm>
            <a:off x="3405240" y="4971960"/>
            <a:ext cx="1668240" cy="405000"/>
          </a:xfrm>
          <a:custGeom>
            <a:avLst/>
            <a:gdLst>
              <a:gd name="textAreaLeft" fmla="*/ 394560 w 1668240"/>
              <a:gd name="textAreaRight" fmla="*/ 1273680 w 1668240"/>
              <a:gd name="textAreaTop" fmla="*/ 95760 h 405000"/>
              <a:gd name="textAreaBottom" fmla="*/ 309240 h 4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549" y="21600"/>
                </a:lnTo>
                <a:lnTo>
                  <a:pt x="6051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矩形 14"/>
          <p:cNvSpPr/>
          <p:nvPr/>
        </p:nvSpPr>
        <p:spPr>
          <a:xfrm rot="2115600">
            <a:off x="4227120" y="4382640"/>
            <a:ext cx="335160" cy="50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梯形 48"/>
          <p:cNvSpPr/>
          <p:nvPr/>
        </p:nvSpPr>
        <p:spPr>
          <a:xfrm>
            <a:off x="4200480" y="4775040"/>
            <a:ext cx="236520" cy="601920"/>
          </a:xfrm>
          <a:custGeom>
            <a:avLst/>
            <a:gdLst>
              <a:gd name="textAreaLeft" fmla="*/ 30960 w 236520"/>
              <a:gd name="textAreaRight" fmla="*/ 205560 w 236520"/>
              <a:gd name="textAreaTop" fmla="*/ 79200 h 601920"/>
              <a:gd name="textAreaBottom" fmla="*/ 522720 h 6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5" y="21600"/>
                </a:lnTo>
                <a:lnTo>
                  <a:pt x="1975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椭圆 49"/>
          <p:cNvSpPr/>
          <p:nvPr/>
        </p:nvSpPr>
        <p:spPr>
          <a:xfrm>
            <a:off x="3584520" y="3782880"/>
            <a:ext cx="890640" cy="890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圆角矩形 50"/>
          <p:cNvSpPr/>
          <p:nvPr/>
        </p:nvSpPr>
        <p:spPr>
          <a:xfrm rot="919800">
            <a:off x="3968280" y="4432320"/>
            <a:ext cx="530280" cy="2365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任意多边形 51"/>
          <p:cNvSpPr/>
          <p:nvPr/>
        </p:nvSpPr>
        <p:spPr>
          <a:xfrm rot="18865200">
            <a:off x="4458960" y="4594320"/>
            <a:ext cx="284400" cy="29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椭圆 52"/>
          <p:cNvSpPr/>
          <p:nvPr/>
        </p:nvSpPr>
        <p:spPr>
          <a:xfrm>
            <a:off x="4440240" y="4011480"/>
            <a:ext cx="630360" cy="63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梯形 53"/>
          <p:cNvSpPr/>
          <p:nvPr/>
        </p:nvSpPr>
        <p:spPr>
          <a:xfrm>
            <a:off x="6040440" y="4987800"/>
            <a:ext cx="1668600" cy="403200"/>
          </a:xfrm>
          <a:custGeom>
            <a:avLst/>
            <a:gdLst>
              <a:gd name="textAreaLeft" fmla="*/ 394920 w 1668600"/>
              <a:gd name="textAreaRight" fmla="*/ 1273680 w 1668600"/>
              <a:gd name="textAreaTop" fmla="*/ 95400 h 403200"/>
              <a:gd name="textAreaBottom" fmla="*/ 30780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549" y="21600"/>
                </a:lnTo>
                <a:lnTo>
                  <a:pt x="6051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矩形 14"/>
          <p:cNvSpPr/>
          <p:nvPr/>
        </p:nvSpPr>
        <p:spPr>
          <a:xfrm rot="3022200">
            <a:off x="6726960" y="4309200"/>
            <a:ext cx="333360" cy="50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椭圆 55"/>
          <p:cNvSpPr/>
          <p:nvPr/>
        </p:nvSpPr>
        <p:spPr>
          <a:xfrm>
            <a:off x="6988320" y="4079880"/>
            <a:ext cx="628560" cy="63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梯形 56"/>
          <p:cNvSpPr/>
          <p:nvPr/>
        </p:nvSpPr>
        <p:spPr>
          <a:xfrm>
            <a:off x="6724800" y="4724280"/>
            <a:ext cx="236520" cy="603360"/>
          </a:xfrm>
          <a:custGeom>
            <a:avLst/>
            <a:gdLst>
              <a:gd name="textAreaLeft" fmla="*/ 30960 w 236520"/>
              <a:gd name="textAreaRight" fmla="*/ 205560 w 236520"/>
              <a:gd name="textAreaTop" fmla="*/ 79560 h 603360"/>
              <a:gd name="textAreaBottom" fmla="*/ 523800 h 60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5" y="21600"/>
                </a:lnTo>
                <a:lnTo>
                  <a:pt x="1975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椭圆 57"/>
          <p:cNvSpPr/>
          <p:nvPr/>
        </p:nvSpPr>
        <p:spPr>
          <a:xfrm>
            <a:off x="5861160" y="3575160"/>
            <a:ext cx="1023840" cy="1025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圆角矩形 58"/>
          <p:cNvSpPr/>
          <p:nvPr/>
        </p:nvSpPr>
        <p:spPr>
          <a:xfrm rot="1786200">
            <a:off x="6492600" y="4383000"/>
            <a:ext cx="530280" cy="2365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任意多边形 59"/>
          <p:cNvSpPr/>
          <p:nvPr/>
        </p:nvSpPr>
        <p:spPr>
          <a:xfrm rot="18865200">
            <a:off x="6928560" y="4543920"/>
            <a:ext cx="284400" cy="29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梯形 60"/>
          <p:cNvSpPr/>
          <p:nvPr/>
        </p:nvSpPr>
        <p:spPr>
          <a:xfrm>
            <a:off x="9174240" y="4971960"/>
            <a:ext cx="1668240" cy="405000"/>
          </a:xfrm>
          <a:custGeom>
            <a:avLst/>
            <a:gdLst>
              <a:gd name="textAreaLeft" fmla="*/ 394560 w 1668240"/>
              <a:gd name="textAreaRight" fmla="*/ 1273680 w 1668240"/>
              <a:gd name="textAreaTop" fmla="*/ 95760 h 405000"/>
              <a:gd name="textAreaBottom" fmla="*/ 309240 h 4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549" y="21600"/>
                </a:lnTo>
                <a:lnTo>
                  <a:pt x="6051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矩形 14"/>
          <p:cNvSpPr/>
          <p:nvPr/>
        </p:nvSpPr>
        <p:spPr>
          <a:xfrm rot="4540200">
            <a:off x="9860040" y="4293720"/>
            <a:ext cx="334800" cy="50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椭圆 62"/>
          <p:cNvSpPr/>
          <p:nvPr/>
        </p:nvSpPr>
        <p:spPr>
          <a:xfrm>
            <a:off x="10198080" y="4170240"/>
            <a:ext cx="628560" cy="628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梯形 63"/>
          <p:cNvSpPr/>
          <p:nvPr/>
        </p:nvSpPr>
        <p:spPr>
          <a:xfrm>
            <a:off x="9836280" y="4680000"/>
            <a:ext cx="236520" cy="603360"/>
          </a:xfrm>
          <a:custGeom>
            <a:avLst/>
            <a:gdLst>
              <a:gd name="textAreaLeft" fmla="*/ 30960 w 236520"/>
              <a:gd name="textAreaRight" fmla="*/ 205560 w 236520"/>
              <a:gd name="textAreaTop" fmla="*/ 79560 h 603360"/>
              <a:gd name="textAreaBottom" fmla="*/ 523800 h 60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5" y="21600"/>
                </a:lnTo>
                <a:lnTo>
                  <a:pt x="1975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椭圆 64"/>
          <p:cNvSpPr/>
          <p:nvPr/>
        </p:nvSpPr>
        <p:spPr>
          <a:xfrm>
            <a:off x="8829720" y="2610000"/>
            <a:ext cx="1847880" cy="1847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圆角矩形 65"/>
          <p:cNvSpPr/>
          <p:nvPr/>
        </p:nvSpPr>
        <p:spPr>
          <a:xfrm rot="3217800">
            <a:off x="9724680" y="4344840"/>
            <a:ext cx="530280" cy="2350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任意多边形 66"/>
          <p:cNvSpPr/>
          <p:nvPr/>
        </p:nvSpPr>
        <p:spPr>
          <a:xfrm rot="18865200">
            <a:off x="10089360" y="4627800"/>
            <a:ext cx="284040" cy="29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文本框 67"/>
          <p:cNvSpPr/>
          <p:nvPr/>
        </p:nvSpPr>
        <p:spPr>
          <a:xfrm>
            <a:off x="2783880" y="907920"/>
            <a:ext cx="47527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随着你不断的前行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你背负的东西也</a:t>
            </a:r>
            <a:r>
              <a:rPr b="0" lang="zh-CN" sz="54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越来越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文本框 17"/>
          <p:cNvSpPr/>
          <p:nvPr/>
        </p:nvSpPr>
        <p:spPr>
          <a:xfrm>
            <a:off x="3360600" y="2227320"/>
            <a:ext cx="55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如果你的</a:t>
            </a:r>
            <a:r>
              <a:rPr b="0" lang="zh-CN" sz="88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船</a:t>
            </a:r>
            <a:r>
              <a:rPr b="0" lang="zh-CN" sz="88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不够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梯形 9"/>
          <p:cNvSpPr/>
          <p:nvPr/>
        </p:nvSpPr>
        <p:spPr>
          <a:xfrm>
            <a:off x="4017960" y="3673440"/>
            <a:ext cx="4229280" cy="1023840"/>
          </a:xfrm>
          <a:custGeom>
            <a:avLst/>
            <a:gdLst>
              <a:gd name="textAreaLeft" fmla="*/ 1001160 w 4229280"/>
              <a:gd name="textAreaRight" fmla="*/ 3228120 w 4229280"/>
              <a:gd name="textAreaTop" fmla="*/ 242280 h 1023840"/>
              <a:gd name="textAreaBottom" fmla="*/ 781560 h 10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547" y="21600"/>
                </a:lnTo>
                <a:lnTo>
                  <a:pt x="6053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文本框 1"/>
          <p:cNvSpPr/>
          <p:nvPr/>
        </p:nvSpPr>
        <p:spPr>
          <a:xfrm>
            <a:off x="3463200" y="998640"/>
            <a:ext cx="56671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你随时可能</a:t>
            </a:r>
            <a:r>
              <a:rPr b="0" lang="zh-CN" sz="80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沉入大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永远没有机会到达彼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37"/>
          <p:cNvSpPr/>
          <p:nvPr/>
        </p:nvSpPr>
        <p:spPr>
          <a:xfrm>
            <a:off x="0" y="5064120"/>
            <a:ext cx="1406520" cy="179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矩形 38"/>
          <p:cNvSpPr/>
          <p:nvPr/>
        </p:nvSpPr>
        <p:spPr>
          <a:xfrm>
            <a:off x="10785600" y="5064120"/>
            <a:ext cx="1406520" cy="179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椭圆 39"/>
          <p:cNvSpPr/>
          <p:nvPr/>
        </p:nvSpPr>
        <p:spPr>
          <a:xfrm>
            <a:off x="1081080" y="5427720"/>
            <a:ext cx="1922400" cy="1922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椭圆 40"/>
          <p:cNvSpPr/>
          <p:nvPr/>
        </p:nvSpPr>
        <p:spPr>
          <a:xfrm>
            <a:off x="2043000" y="5286240"/>
            <a:ext cx="1922400" cy="1924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椭圆 41"/>
          <p:cNvSpPr/>
          <p:nvPr/>
        </p:nvSpPr>
        <p:spPr>
          <a:xfrm>
            <a:off x="2951280" y="5627520"/>
            <a:ext cx="1922400" cy="1922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椭圆 42"/>
          <p:cNvSpPr/>
          <p:nvPr/>
        </p:nvSpPr>
        <p:spPr>
          <a:xfrm>
            <a:off x="3927600" y="5486400"/>
            <a:ext cx="1922400" cy="1922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椭圆 43"/>
          <p:cNvSpPr/>
          <p:nvPr/>
        </p:nvSpPr>
        <p:spPr>
          <a:xfrm>
            <a:off x="4578480" y="5591160"/>
            <a:ext cx="2830320" cy="1924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椭圆 44"/>
          <p:cNvSpPr/>
          <p:nvPr/>
        </p:nvSpPr>
        <p:spPr>
          <a:xfrm>
            <a:off x="6342120" y="5627520"/>
            <a:ext cx="1922400" cy="1922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椭圆 45"/>
          <p:cNvSpPr/>
          <p:nvPr/>
        </p:nvSpPr>
        <p:spPr>
          <a:xfrm>
            <a:off x="7318440" y="5486400"/>
            <a:ext cx="1922400" cy="1606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椭圆 46"/>
          <p:cNvSpPr/>
          <p:nvPr/>
        </p:nvSpPr>
        <p:spPr>
          <a:xfrm>
            <a:off x="8385120" y="5591160"/>
            <a:ext cx="2774880" cy="1924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椭圆 47"/>
          <p:cNvSpPr/>
          <p:nvPr/>
        </p:nvSpPr>
        <p:spPr>
          <a:xfrm>
            <a:off x="9823320" y="5438880"/>
            <a:ext cx="1924200" cy="1923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组合 2"/>
          <p:cNvGrpSpPr/>
          <p:nvPr/>
        </p:nvGrpSpPr>
        <p:grpSpPr>
          <a:xfrm>
            <a:off x="1363680" y="3990960"/>
            <a:ext cx="1668600" cy="1486080"/>
            <a:chOff x="1363680" y="3990960"/>
            <a:chExt cx="1668600" cy="1486080"/>
          </a:xfrm>
        </p:grpSpPr>
        <p:sp>
          <p:nvSpPr>
            <p:cNvPr id="1012" name="梯形 83"/>
            <p:cNvSpPr/>
            <p:nvPr/>
          </p:nvSpPr>
          <p:spPr>
            <a:xfrm>
              <a:off x="1363680" y="5072760"/>
              <a:ext cx="1668600" cy="404280"/>
            </a:xfrm>
            <a:custGeom>
              <a:avLst/>
              <a:gdLst>
                <a:gd name="textAreaLeft" fmla="*/ 394920 w 1668600"/>
                <a:gd name="textAreaRight" fmla="*/ 1273680 w 1668600"/>
                <a:gd name="textAreaTop" fmla="*/ 95760 h 404280"/>
                <a:gd name="textAreaBottom" fmla="*/ 308520 h 40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547" y="21600"/>
                  </a:lnTo>
                  <a:lnTo>
                    <a:pt x="6053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矩形 14"/>
            <p:cNvSpPr/>
            <p:nvPr/>
          </p:nvSpPr>
          <p:spPr>
            <a:xfrm rot="795600">
              <a:off x="2049840" y="4394160"/>
              <a:ext cx="334800" cy="51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椭圆 87"/>
            <p:cNvSpPr/>
            <p:nvPr/>
          </p:nvSpPr>
          <p:spPr>
            <a:xfrm>
              <a:off x="2194920" y="3990960"/>
              <a:ext cx="629280" cy="629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梯形 88"/>
            <p:cNvSpPr/>
            <p:nvPr/>
          </p:nvSpPr>
          <p:spPr>
            <a:xfrm>
              <a:off x="2048760" y="4809960"/>
              <a:ext cx="235800" cy="602640"/>
            </a:xfrm>
            <a:custGeom>
              <a:avLst/>
              <a:gdLst>
                <a:gd name="textAreaLeft" fmla="*/ 30960 w 235800"/>
                <a:gd name="textAreaRight" fmla="*/ 204840 w 235800"/>
                <a:gd name="textAreaTop" fmla="*/ 79200 h 602640"/>
                <a:gd name="textAreaBottom" fmla="*/ 523440 h 60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25" y="21600"/>
                  </a:lnTo>
                  <a:lnTo>
                    <a:pt x="1975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椭圆 89"/>
            <p:cNvSpPr/>
            <p:nvPr/>
          </p:nvSpPr>
          <p:spPr>
            <a:xfrm>
              <a:off x="1603800" y="4079880"/>
              <a:ext cx="605160" cy="605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圆角矩形 90"/>
            <p:cNvSpPr/>
            <p:nvPr/>
          </p:nvSpPr>
          <p:spPr>
            <a:xfrm rot="20929200">
              <a:off x="1816560" y="4467240"/>
              <a:ext cx="531000" cy="23544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任意多边形 91"/>
            <p:cNvSpPr/>
            <p:nvPr/>
          </p:nvSpPr>
          <p:spPr>
            <a:xfrm rot="18865200">
              <a:off x="2260440" y="4605120"/>
              <a:ext cx="284400" cy="29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组合 3"/>
          <p:cNvGrpSpPr/>
          <p:nvPr/>
        </p:nvGrpSpPr>
        <p:grpSpPr>
          <a:xfrm>
            <a:off x="3422520" y="4098960"/>
            <a:ext cx="1667160" cy="1593720"/>
            <a:chOff x="3422520" y="4098960"/>
            <a:chExt cx="1667160" cy="1593720"/>
          </a:xfrm>
        </p:grpSpPr>
        <p:sp>
          <p:nvSpPr>
            <p:cNvPr id="1020" name="梯形 92"/>
            <p:cNvSpPr/>
            <p:nvPr/>
          </p:nvSpPr>
          <p:spPr>
            <a:xfrm>
              <a:off x="3422520" y="5288760"/>
              <a:ext cx="1667160" cy="403560"/>
            </a:xfrm>
            <a:custGeom>
              <a:avLst/>
              <a:gdLst>
                <a:gd name="textAreaLeft" fmla="*/ 394560 w 1667160"/>
                <a:gd name="textAreaRight" fmla="*/ 1272600 w 1667160"/>
                <a:gd name="textAreaTop" fmla="*/ 95400 h 403560"/>
                <a:gd name="textAreaBottom" fmla="*/ 308160 h 40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547" y="21600"/>
                  </a:lnTo>
                  <a:lnTo>
                    <a:pt x="6053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矩形 14"/>
            <p:cNvSpPr/>
            <p:nvPr/>
          </p:nvSpPr>
          <p:spPr>
            <a:xfrm rot="2115600">
              <a:off x="4244400" y="4699440"/>
              <a:ext cx="33444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梯形 94"/>
            <p:cNvSpPr/>
            <p:nvPr/>
          </p:nvSpPr>
          <p:spPr>
            <a:xfrm>
              <a:off x="4218480" y="5090760"/>
              <a:ext cx="235800" cy="601920"/>
            </a:xfrm>
            <a:custGeom>
              <a:avLst/>
              <a:gdLst>
                <a:gd name="textAreaLeft" fmla="*/ 30960 w 235800"/>
                <a:gd name="textAreaRight" fmla="*/ 204840 w 235800"/>
                <a:gd name="textAreaTop" fmla="*/ 79200 h 601920"/>
                <a:gd name="textAreaBottom" fmla="*/ 522720 h 60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25" y="21600"/>
                  </a:lnTo>
                  <a:lnTo>
                    <a:pt x="1975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椭圆 95"/>
            <p:cNvSpPr/>
            <p:nvPr/>
          </p:nvSpPr>
          <p:spPr>
            <a:xfrm>
              <a:off x="3601800" y="4098960"/>
              <a:ext cx="891000" cy="891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圆角矩形 96"/>
            <p:cNvSpPr/>
            <p:nvPr/>
          </p:nvSpPr>
          <p:spPr>
            <a:xfrm rot="919800">
              <a:off x="3986280" y="4748760"/>
              <a:ext cx="530640" cy="2350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任意多边形 97"/>
            <p:cNvSpPr/>
            <p:nvPr/>
          </p:nvSpPr>
          <p:spPr>
            <a:xfrm rot="18865200">
              <a:off x="4475880" y="4909680"/>
              <a:ext cx="2840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椭圆 98"/>
            <p:cNvSpPr/>
            <p:nvPr/>
          </p:nvSpPr>
          <p:spPr>
            <a:xfrm>
              <a:off x="4457880" y="4327920"/>
              <a:ext cx="628560" cy="62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组合 4"/>
          <p:cNvGrpSpPr/>
          <p:nvPr/>
        </p:nvGrpSpPr>
        <p:grpSpPr>
          <a:xfrm>
            <a:off x="5784840" y="4102200"/>
            <a:ext cx="1847880" cy="1815840"/>
            <a:chOff x="5784840" y="4102200"/>
            <a:chExt cx="1847880" cy="1815840"/>
          </a:xfrm>
        </p:grpSpPr>
        <p:sp>
          <p:nvSpPr>
            <p:cNvPr id="1028" name="梯形 99"/>
            <p:cNvSpPr/>
            <p:nvPr/>
          </p:nvSpPr>
          <p:spPr>
            <a:xfrm>
              <a:off x="5964480" y="5514120"/>
              <a:ext cx="1668240" cy="403920"/>
            </a:xfrm>
            <a:custGeom>
              <a:avLst/>
              <a:gdLst>
                <a:gd name="textAreaLeft" fmla="*/ 394920 w 1668240"/>
                <a:gd name="textAreaRight" fmla="*/ 1273320 w 1668240"/>
                <a:gd name="textAreaTop" fmla="*/ 95400 h 403920"/>
                <a:gd name="textAreaBottom" fmla="*/ 308520 h 40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547" y="21600"/>
                  </a:lnTo>
                  <a:lnTo>
                    <a:pt x="6053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矩形 14"/>
            <p:cNvSpPr/>
            <p:nvPr/>
          </p:nvSpPr>
          <p:spPr>
            <a:xfrm rot="3022200">
              <a:off x="6650280" y="4835880"/>
              <a:ext cx="334800" cy="51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椭圆 101"/>
            <p:cNvSpPr/>
            <p:nvPr/>
          </p:nvSpPr>
          <p:spPr>
            <a:xfrm>
              <a:off x="6911640" y="4606920"/>
              <a:ext cx="629280" cy="62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梯形 102"/>
            <p:cNvSpPr/>
            <p:nvPr/>
          </p:nvSpPr>
          <p:spPr>
            <a:xfrm>
              <a:off x="6649200" y="5251320"/>
              <a:ext cx="235800" cy="602280"/>
            </a:xfrm>
            <a:custGeom>
              <a:avLst/>
              <a:gdLst>
                <a:gd name="textAreaLeft" fmla="*/ 30960 w 235800"/>
                <a:gd name="textAreaRight" fmla="*/ 204840 w 235800"/>
                <a:gd name="textAreaTop" fmla="*/ 79200 h 602280"/>
                <a:gd name="textAreaBottom" fmla="*/ 523080 h 60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25" y="21600"/>
                  </a:lnTo>
                  <a:lnTo>
                    <a:pt x="1975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椭圆 103"/>
            <p:cNvSpPr/>
            <p:nvPr/>
          </p:nvSpPr>
          <p:spPr>
            <a:xfrm>
              <a:off x="5784840" y="4102200"/>
              <a:ext cx="1024920" cy="102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圆角矩形 104"/>
            <p:cNvSpPr/>
            <p:nvPr/>
          </p:nvSpPr>
          <p:spPr>
            <a:xfrm rot="1786200">
              <a:off x="6417000" y="4909320"/>
              <a:ext cx="531000" cy="2350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任意多边形 105"/>
            <p:cNvSpPr/>
            <p:nvPr/>
          </p:nvSpPr>
          <p:spPr>
            <a:xfrm rot="18865200">
              <a:off x="6852240" y="5069160"/>
              <a:ext cx="2840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组合 6"/>
          <p:cNvGrpSpPr/>
          <p:nvPr/>
        </p:nvGrpSpPr>
        <p:grpSpPr>
          <a:xfrm>
            <a:off x="8431200" y="4130640"/>
            <a:ext cx="2013120" cy="2765520"/>
            <a:chOff x="8431200" y="4130640"/>
            <a:chExt cx="2013120" cy="2765520"/>
          </a:xfrm>
        </p:grpSpPr>
        <p:sp>
          <p:nvSpPr>
            <p:cNvPr id="1036" name="梯形 109"/>
            <p:cNvSpPr/>
            <p:nvPr/>
          </p:nvSpPr>
          <p:spPr>
            <a:xfrm>
              <a:off x="9437760" y="6199200"/>
              <a:ext cx="235800" cy="602280"/>
            </a:xfrm>
            <a:custGeom>
              <a:avLst/>
              <a:gdLst>
                <a:gd name="textAreaLeft" fmla="*/ 30960 w 235800"/>
                <a:gd name="textAreaRight" fmla="*/ 204840 w 235800"/>
                <a:gd name="textAreaTop" fmla="*/ 79200 h 602280"/>
                <a:gd name="textAreaBottom" fmla="*/ 523080 h 60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25" y="21600"/>
                  </a:lnTo>
                  <a:lnTo>
                    <a:pt x="1975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梯形 106"/>
            <p:cNvSpPr/>
            <p:nvPr/>
          </p:nvSpPr>
          <p:spPr>
            <a:xfrm>
              <a:off x="8776080" y="6492240"/>
              <a:ext cx="1668240" cy="403920"/>
            </a:xfrm>
            <a:custGeom>
              <a:avLst/>
              <a:gdLst>
                <a:gd name="textAreaLeft" fmla="*/ 394920 w 1668240"/>
                <a:gd name="textAreaRight" fmla="*/ 1273320 w 1668240"/>
                <a:gd name="textAreaTop" fmla="*/ 95400 h 403920"/>
                <a:gd name="textAreaBottom" fmla="*/ 308520 h 40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547" y="21600"/>
                  </a:lnTo>
                  <a:lnTo>
                    <a:pt x="6053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矩形 14"/>
            <p:cNvSpPr/>
            <p:nvPr/>
          </p:nvSpPr>
          <p:spPr>
            <a:xfrm rot="4540200">
              <a:off x="9461880" y="5814360"/>
              <a:ext cx="334800" cy="5101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椭圆 108"/>
            <p:cNvSpPr/>
            <p:nvPr/>
          </p:nvSpPr>
          <p:spPr>
            <a:xfrm>
              <a:off x="9799920" y="5689440"/>
              <a:ext cx="629280" cy="62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椭圆 110"/>
            <p:cNvSpPr/>
            <p:nvPr/>
          </p:nvSpPr>
          <p:spPr>
            <a:xfrm>
              <a:off x="8431200" y="4130640"/>
              <a:ext cx="1847160" cy="1846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圆角矩形 111"/>
            <p:cNvSpPr/>
            <p:nvPr/>
          </p:nvSpPr>
          <p:spPr>
            <a:xfrm rot="3217800">
              <a:off x="9325800" y="5864760"/>
              <a:ext cx="531000" cy="23508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任意多边形 112"/>
            <p:cNvSpPr/>
            <p:nvPr/>
          </p:nvSpPr>
          <p:spPr>
            <a:xfrm rot="18865200">
              <a:off x="9690480" y="6147360"/>
              <a:ext cx="284040" cy="295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9T01:58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43Z</dcterms:modified>
  <cp:revision>5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