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03E-B2DC-4C0A-8482-73ED9369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5DF-177F-4392-BBDC-958824A4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B60-A91C-46AF-B16D-F1678CD0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DFF-C49E-465D-AF42-FFFF5F05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E7E-2871-437A-974F-C2A2BB7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FBE-0951-475C-9783-1AA79CE8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B1C-7F60-49FB-8281-96525EE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603-8421-4158-80E5-8EEFBCE7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DA6-6FDA-4970-9952-3F30CDE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AE1-6A03-49E3-91E1-DE27B10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14B-84AE-4599-BA0B-A659782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8E8-2840-4EFD-A24B-66C5E45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203-030A-47B9-94FC-4996991DCE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4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389480" y="2937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大海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5711760" y="220824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662080" y="3030480"/>
            <a:ext cx="15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 快乐 自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836680" y="3849840"/>
            <a:ext cx="19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就是你的游乐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64720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4595400" y="22813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63560" y="33336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3"/>
          <p:cNvSpPr/>
          <p:nvPr/>
        </p:nvSpPr>
        <p:spPr>
          <a:xfrm>
            <a:off x="324000" y="981000"/>
            <a:ext cx="113169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47080" y="1197000"/>
            <a:ext cx="431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绪和压力束缚着你的行动和判断，是时候对无奈的现实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眺望蓝天大海，大吼一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扔走一切悲观失望，重拾自信，让好心情如影随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944-1BB3-4FED-8609-85D238EBB9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2:58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