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B2A-70B3-4CA9-97AC-F0200983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7DE-9669-413E-B51B-B27A76DB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A31B-DC85-4E2E-9712-378B36F7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6AF-19C3-413F-8917-B5623009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F894-3244-4255-B84B-0E391859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3992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5124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3992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5124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596A-A4C2-4BAC-8338-E375B66E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B285-B5EB-4A11-A739-CBE29814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CB0B-D32A-4A6C-80EC-15636608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D318-8986-47B7-B2A7-D66C7A9D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9D3A-6FE4-4477-8934-785FE488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D8C9-4707-4D78-97DF-35A95547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21D1-D33B-4F9B-949A-8AA5AF9E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A47F-A8CE-4FA0-A1E2-21579D28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477F-5A61-45FE-B849-174AC6CE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851F-2267-46E3-8BDD-0AC0654C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6D2E-05F7-4BCE-B256-9466825C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539D-047C-4F18-80DE-EC56DEC1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3992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5124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60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3992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5124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F58B-391E-4657-AA74-8DD6161A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9F9-4372-47CC-9D8D-5EE26563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E43-344F-4F48-BB74-8432C866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845-7EBF-440E-88C6-3B850AD6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227-C1AF-478C-8C1F-C1C11F0A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8D1-8132-4BAA-9650-D871B7EE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033-E44B-4338-9F5C-7CEB4966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6528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65FE-6BCA-4B2A-98A5-2C169A5E3601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407808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c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c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logo"/>
          <p:cNvPicPr/>
          <p:nvPr/>
        </p:nvPicPr>
        <p:blipFill>
          <a:blip r:embed="rId2"/>
          <a:stretch/>
        </p:blipFill>
        <p:spPr>
          <a:xfrm>
            <a:off x="3116160" y="2525760"/>
            <a:ext cx="782640" cy="73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395A-0A4A-443E-9BD0-9777DBF778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32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09560" y="26668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党建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6000" y="1150920"/>
            <a:ext cx="86868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配色方案修改：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配色方案在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格式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幻灯片设计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配色方案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编辑配色方案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下调整。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LOGO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的添加：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添加修改在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视图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母版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幻灯片母版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下调整。直接选择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图片删除或修改。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括标题和文本格式的设置在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视图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母版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幻灯片母版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下调整。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默认设置：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首页主标题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44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号（中文黑体英文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Arial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）加粗；副标题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号（中文黑体英文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Arial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）加粗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内页标题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40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号（中文黑体英文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Arial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）加粗；内页内容文字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</a:rPr>
              <a:t>号（宋体）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F6B3-AD6A-4134-9C63-9C326D17AE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标题 1"/>
          <p:cNvSpPr/>
          <p:nvPr/>
        </p:nvSpPr>
        <p:spPr>
          <a:xfrm>
            <a:off x="3276720" y="2571840"/>
            <a:ext cx="43099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黑体"/>
              </a:rPr>
              <a:t>感谢您的关注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6324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06:29:4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31:54Z</dcterms:modified>
  <cp:revision>32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