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63C-1BA3-4A6B-BD24-87578A8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9D5-3990-40B0-B0E5-456E74E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B42-3A70-4181-ABE4-FFEEA71D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504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5680" y="17319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504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15680" y="3852360"/>
            <a:ext cx="333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72A-B259-4577-95C8-B06245D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72B-7A0A-4261-94E6-D51E161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3BF-55E4-45FF-B742-6B8EC35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357-D4DD-4AF2-BE5E-70585C5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B6B-4202-4EC8-BC5B-BD135AA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1035360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624-C805-4379-B639-22CCB10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3B8-437D-46C0-B721-C7BF4EB1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720" y="38523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72F-D3B2-4ACF-B5A4-7C10C5E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720" y="1731960"/>
            <a:ext cx="5052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52360"/>
            <a:ext cx="103536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CB0-572A-4B92-BF00-9A7073D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103536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dadada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31960"/>
            <a:ext cx="103536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0492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1" marL="450720" indent="64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2" marL="811080" indent="-3538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3" marL="1171440" indent="-71424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4" marL="1459080" indent="-1001880">
              <a:spcBef>
                <a:spcPts val="499"/>
              </a:spcBef>
              <a:spcAft>
                <a:spcPts val="601"/>
              </a:spcAft>
              <a:buClr>
                <a:srgbClr val="dadada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5" marL="1459080" indent="-10018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  <a:p>
            <a:pPr lvl="6" marL="1459080" indent="-10018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 2" charset="2"/>
              <a:buChar char="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adada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2BE-2520-4371-81F9-430250631F64}" type="datetime">
              <a:rPr b="0" lang="zh-CN" sz="1000" spc="-1" strike="noStrike">
                <a:solidFill>
                  <a:srgbClr val="f2f2f2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DB6-B352-43FA-B58D-1B9A7D520950}" type="slidenum">
              <a:rPr b="0" lang="zh-CN" sz="10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5041440" y="2235240"/>
            <a:ext cx="236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10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0560" y="284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倒计时</a:t>
            </a: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12123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dadada"/>
                </a:solidFill>
                <a:latin typeface="Calisto MT"/>
              </a:rPr>
              <a:t>使用规范说明</a:t>
            </a:r>
            <a:endParaRPr b="0" lang="en-US" sz="36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站点介绍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Calisto MT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7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特别说明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Calisto MT"/>
              </a:rPr>
              <a:t>栏目推荐：</a:t>
            </a: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600" spc="-1" strike="noStrike" u="sng">
                <a:solidFill>
                  <a:srgbClr val="e98052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dadada"/>
              </a:solidFill>
              <a:latin typeface="Calisto M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407-D236-409B-B6EE-FB2D94BC85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1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"/>
                            </p:stCondLst>
                            <p:childTnLst>
                              <p:par>
                                <p:cTn id="215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10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45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9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"/>
                            </p:stCondLst>
                            <p:childTnLst>
                              <p:par>
                                <p:cTn id="31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98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8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55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7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43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6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0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86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5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10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4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e98052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3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"/>
                            </p:stCondLst>
                            <p:childTnLst>
                              <p:par>
                                <p:cTn id="169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七角星 3"/>
          <p:cNvSpPr/>
          <p:nvPr/>
        </p:nvSpPr>
        <p:spPr>
          <a:xfrm>
            <a:off x="2906640" y="628560"/>
            <a:ext cx="6373800" cy="5362560"/>
          </a:xfrm>
          <a:prstGeom prst="pi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正五边形 4"/>
          <p:cNvSpPr/>
          <p:nvPr/>
        </p:nvSpPr>
        <p:spPr>
          <a:xfrm>
            <a:off x="4127400" y="1351080"/>
            <a:ext cx="3930840" cy="3725640"/>
          </a:xfrm>
          <a:prstGeom prst="pentagon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等腰三角形 5"/>
          <p:cNvSpPr/>
          <p:nvPr/>
        </p:nvSpPr>
        <p:spPr>
          <a:xfrm rot="5608800">
            <a:off x="3537360" y="1647000"/>
            <a:ext cx="6075360" cy="3574800"/>
          </a:xfrm>
          <a:prstGeom prst="triangle">
            <a:avLst>
              <a:gd name="adj" fmla="val 50000"/>
            </a:avLst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文本框 6"/>
          <p:cNvSpPr/>
          <p:nvPr/>
        </p:nvSpPr>
        <p:spPr>
          <a:xfrm>
            <a:off x="5466960" y="223200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华文琥珀"/>
                <a:ea typeface="华文琥珀"/>
              </a:rPr>
              <a:t>2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椭圆 7"/>
          <p:cNvSpPr/>
          <p:nvPr/>
        </p:nvSpPr>
        <p:spPr>
          <a:xfrm>
            <a:off x="9156600" y="199224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椭圆 8"/>
          <p:cNvSpPr/>
          <p:nvPr/>
        </p:nvSpPr>
        <p:spPr>
          <a:xfrm>
            <a:off x="9321840" y="2736720"/>
            <a:ext cx="47628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椭圆 9"/>
          <p:cNvSpPr/>
          <p:nvPr/>
        </p:nvSpPr>
        <p:spPr>
          <a:xfrm>
            <a:off x="8188200" y="873000"/>
            <a:ext cx="4780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椭圆 10"/>
          <p:cNvSpPr/>
          <p:nvPr/>
        </p:nvSpPr>
        <p:spPr>
          <a:xfrm>
            <a:off x="5602320" y="13824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椭圆 11"/>
          <p:cNvSpPr/>
          <p:nvPr/>
        </p:nvSpPr>
        <p:spPr>
          <a:xfrm>
            <a:off x="3651120" y="42696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2978280" y="2259000"/>
            <a:ext cx="477720" cy="47772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椭圆 13"/>
          <p:cNvSpPr/>
          <p:nvPr/>
        </p:nvSpPr>
        <p:spPr>
          <a:xfrm>
            <a:off x="2556000" y="5076720"/>
            <a:ext cx="47772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4"/>
          <p:cNvSpPr/>
          <p:nvPr/>
        </p:nvSpPr>
        <p:spPr>
          <a:xfrm>
            <a:off x="6102360" y="6099120"/>
            <a:ext cx="477720" cy="4762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5"/>
          <p:cNvSpPr/>
          <p:nvPr/>
        </p:nvSpPr>
        <p:spPr>
          <a:xfrm>
            <a:off x="8613720" y="5076720"/>
            <a:ext cx="476280" cy="478080"/>
          </a:xfrm>
          <a:prstGeom prst="ellipse">
            <a:avLst/>
          </a:prstGeom>
          <a:noFill/>
          <a:ln cap="rnd"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ircl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"/>
                            </p:stCondLst>
                            <p:childTnLst>
                              <p:par>
                                <p:cTn id="192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10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3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04:33Z</dcterms:modified>
  <cp:revision>1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