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B141-ABAE-41ED-9C7F-7B3A90CE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632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42920" y="3899880"/>
            <a:ext cx="7632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9E0A-9CAD-470B-82C5-13111B8C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396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42920" y="389988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960" y="389988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B14-1438-4C86-BD07-8B1BD130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23400" y="134136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04240" y="134136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42920" y="389988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23400" y="389988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04240" y="389988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9AD1-66A1-4AFB-8B67-6DF1D5CF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63272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632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24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960" y="1341360"/>
            <a:ext cx="3724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92360" y="115560"/>
            <a:ext cx="7199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3960" y="1341360"/>
            <a:ext cx="3724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42920" y="389988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63272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2C40-D826-460B-85F9-9679B7DF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24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396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3960" y="389988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396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42920" y="3899880"/>
            <a:ext cx="7632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632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42920" y="3899880"/>
            <a:ext cx="7632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5396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42920" y="389988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960" y="389988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23400" y="134136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04240" y="134136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42920" y="389988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23400" y="389988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204240" y="389988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632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840-D292-436B-BBA3-1648E8E5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24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3960" y="1341360"/>
            <a:ext cx="3724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41C-1405-46A6-99D2-4E71056E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1A6-A01B-41F3-80C2-DCE188F2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692360" y="115560"/>
            <a:ext cx="7199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F63-2CA1-48EA-8C33-7E14CC78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3960" y="1341360"/>
            <a:ext cx="3724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42920" y="389988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FDC-2036-4E5F-AF3B-8BA1B6AE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24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96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960" y="389988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C07-D808-4574-A203-F4124A68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96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42920" y="3899880"/>
            <a:ext cx="7632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5C05-8F70-4700-866C-D1563AC0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solidFill>
            <a:srgbClr val="186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17040" y="6552720"/>
            <a:ext cx="2514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pt.glzy8.com</a:t>
            </a: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海量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模板免费下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59432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南极冰作品 </a:t>
            </a:r>
            <a:r>
              <a:rPr b="1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QQ:14362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359100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B576-254E-485A-BB73-00D039A7CF0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3200" y="6380280"/>
            <a:ext cx="304920" cy="334800"/>
          </a:xfrm>
          <a:prstGeom prst="diamond">
            <a:avLst/>
          </a:prstGeom>
          <a:solidFill>
            <a:srgbClr val="4b99d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5" name=""/>
          <p:cNvSpPr/>
          <p:nvPr/>
        </p:nvSpPr>
        <p:spPr>
          <a:xfrm>
            <a:off x="-1440" y="692280"/>
            <a:ext cx="9154800" cy="288720"/>
          </a:xfrm>
          <a:prstGeom prst="rect">
            <a:avLst/>
          </a:prstGeom>
          <a:solidFill>
            <a:srgbClr val="051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6" name=""/>
          <p:cNvSpPr/>
          <p:nvPr/>
        </p:nvSpPr>
        <p:spPr>
          <a:xfrm>
            <a:off x="28440" y="6480"/>
            <a:ext cx="9115560" cy="780840"/>
          </a:xfrm>
          <a:prstGeom prst="rect">
            <a:avLst/>
          </a:prstGeom>
          <a:solidFill>
            <a:srgbClr val="4b99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1440" y="0"/>
            <a:ext cx="1617840" cy="2082960"/>
          </a:xfrm>
          <a:custGeom>
            <a:avLst/>
            <a:gdLst/>
            <a:ahLst/>
            <a:rect l="l" t="t" r="r" b="b"/>
            <a:pathLst>
              <a:path w="1706" h="1951">
                <a:moveTo>
                  <a:pt x="1130" y="1364"/>
                </a:moveTo>
                <a:cubicBezTo>
                  <a:pt x="743" y="1725"/>
                  <a:pt x="236" y="1893"/>
                  <a:pt x="0" y="1951"/>
                </a:cubicBezTo>
                <a:lnTo>
                  <a:pt x="0" y="0"/>
                </a:lnTo>
                <a:lnTo>
                  <a:pt x="1678" y="0"/>
                </a:lnTo>
                <a:cubicBezTo>
                  <a:pt x="1706" y="371"/>
                  <a:pt x="1517" y="1003"/>
                  <a:pt x="1130" y="1364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9" name=""/>
          <p:cNvSpPr/>
          <p:nvPr/>
        </p:nvSpPr>
        <p:spPr>
          <a:xfrm>
            <a:off x="-6480" y="-4680"/>
            <a:ext cx="1584360" cy="1871640"/>
          </a:xfrm>
          <a:custGeom>
            <a:avLst/>
            <a:gdLst/>
            <a:ahLst/>
            <a:rect l="l" t="t" r="r" b="b"/>
            <a:pathLst>
              <a:path w="1706" h="1951">
                <a:moveTo>
                  <a:pt x="1130" y="1364"/>
                </a:moveTo>
                <a:cubicBezTo>
                  <a:pt x="743" y="1725"/>
                  <a:pt x="236" y="1893"/>
                  <a:pt x="0" y="1951"/>
                </a:cubicBezTo>
                <a:lnTo>
                  <a:pt x="0" y="0"/>
                </a:lnTo>
                <a:lnTo>
                  <a:pt x="1678" y="0"/>
                </a:lnTo>
                <a:cubicBezTo>
                  <a:pt x="1706" y="371"/>
                  <a:pt x="1517" y="1003"/>
                  <a:pt x="1130" y="1364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42920" y="1341360"/>
            <a:ext cx="7632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1b6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9d3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861a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9d3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2a9fa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9d3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51b6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9d3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9d3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51b6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9d3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51b6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9d3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920" y="1114560"/>
            <a:ext cx="5400720" cy="5322600"/>
          </a:xfrm>
          <a:custGeom>
            <a:avLst/>
            <a:gdLst/>
            <a:ahLst/>
            <a:rect l="l" t="t" r="r" b="b"/>
            <a:pathLst>
              <a:path w="3282" h="3353">
                <a:moveTo>
                  <a:pt x="3282" y="0"/>
                </a:moveTo>
                <a:cubicBezTo>
                  <a:pt x="2282" y="285"/>
                  <a:pt x="1799" y="1073"/>
                  <a:pt x="1792" y="1728"/>
                </a:cubicBezTo>
                <a:cubicBezTo>
                  <a:pt x="1785" y="2383"/>
                  <a:pt x="1871" y="2798"/>
                  <a:pt x="2795" y="3353"/>
                </a:cubicBezTo>
                <a:lnTo>
                  <a:pt x="0" y="3353"/>
                </a:lnTo>
                <a:lnTo>
                  <a:pt x="0" y="1"/>
                </a:lnTo>
                <a:lnTo>
                  <a:pt x="3282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6122880"/>
            <a:ext cx="6012000" cy="408240"/>
          </a:xfrm>
          <a:prstGeom prst="rect">
            <a:avLst/>
          </a:prstGeom>
          <a:solidFill>
            <a:srgbClr val="186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40"/>
            <a:ext cx="9144000" cy="906480"/>
          </a:xfrm>
          <a:prstGeom prst="rect">
            <a:avLst/>
          </a:prstGeom>
          <a:gradFill rotWithShape="0">
            <a:gsLst>
              <a:gs pos="0">
                <a:srgbClr val="4b99d3"/>
              </a:gs>
              <a:gs pos="100000">
                <a:srgbClr val="1861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50" name=""/>
          <p:cNvSpPr/>
          <p:nvPr/>
        </p:nvSpPr>
        <p:spPr>
          <a:xfrm>
            <a:off x="4680" y="6524640"/>
            <a:ext cx="9147240" cy="333360"/>
          </a:xfrm>
          <a:prstGeom prst="rect">
            <a:avLst/>
          </a:prstGeom>
          <a:solidFill>
            <a:srgbClr val="93c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51" name=""/>
          <p:cNvSpPr/>
          <p:nvPr/>
        </p:nvSpPr>
        <p:spPr>
          <a:xfrm>
            <a:off x="-3240" y="1114560"/>
            <a:ext cx="4359240" cy="5411520"/>
          </a:xfrm>
          <a:custGeom>
            <a:avLst/>
            <a:gdLst/>
            <a:ahLst/>
            <a:rect l="l" t="t" r="r" b="b"/>
            <a:pathLst>
              <a:path w="2676" h="3765">
                <a:moveTo>
                  <a:pt x="2540" y="0"/>
                </a:moveTo>
                <a:cubicBezTo>
                  <a:pt x="2089" y="229"/>
                  <a:pt x="1644" y="1070"/>
                  <a:pt x="1638" y="1752"/>
                </a:cubicBezTo>
                <a:cubicBezTo>
                  <a:pt x="1632" y="2434"/>
                  <a:pt x="1791" y="3142"/>
                  <a:pt x="2676" y="3765"/>
                </a:cubicBezTo>
                <a:lnTo>
                  <a:pt x="0" y="3765"/>
                </a:lnTo>
                <a:lnTo>
                  <a:pt x="0" y="0"/>
                </a:lnTo>
                <a:lnTo>
                  <a:pt x="254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07920"/>
            <a:ext cx="9144000" cy="217440"/>
          </a:xfrm>
          <a:prstGeom prst="rect">
            <a:avLst/>
          </a:prstGeom>
          <a:solidFill>
            <a:srgbClr val="051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63640" y="2781360"/>
            <a:ext cx="53290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51b61"/>
                </a:solidFill>
                <a:latin typeface="黑体"/>
              </a:rPr>
              <a:t>Click to edit the title text format</a:t>
            </a:r>
            <a:endParaRPr b="1" i="1" lang="en-US" sz="5400" spc="-1" strike="noStrike">
              <a:solidFill>
                <a:srgbClr val="051b61"/>
              </a:solidFill>
              <a:latin typeface="黑体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453360"/>
            <a:ext cx="9144000" cy="71280"/>
          </a:xfrm>
          <a:prstGeom prst="rect">
            <a:avLst/>
          </a:prstGeom>
          <a:solidFill>
            <a:srgbClr val="051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79280" y="44280"/>
            <a:ext cx="2627280" cy="765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084720" y="-387360"/>
            <a:ext cx="2880000" cy="1731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1a4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1861a4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2a9fa2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1a4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1861a4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51b61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1a4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861a4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1a4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861a4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51b6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1a4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861a4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51b6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1a4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861a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63640" y="2781360"/>
            <a:ext cx="53290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51b61"/>
              </a:solidFill>
              <a:latin typeface="黑体"/>
              <a:ea typeface="黑体"/>
            </a:endParaRPr>
          </a:p>
        </p:txBody>
      </p:sp>
      <p:sp>
        <p:nvSpPr>
          <p:cNvPr id="95" name=""/>
          <p:cNvSpPr/>
          <p:nvPr/>
        </p:nvSpPr>
        <p:spPr>
          <a:xfrm>
            <a:off x="-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Gulim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96" name=""/>
          <p:cNvSpPr/>
          <p:nvPr/>
        </p:nvSpPr>
        <p:spPr>
          <a:xfrm>
            <a:off x="4845600" y="1701720"/>
            <a:ext cx="312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51b61"/>
                </a:solidFill>
                <a:latin typeface="Times New Roman"/>
              </a:rPr>
              <a:t>电力安全</a:t>
            </a:r>
            <a:r>
              <a:rPr b="0" lang="zh-CN" sz="4000" spc="-1" strike="noStrike">
                <a:solidFill>
                  <a:srgbClr val="051b61"/>
                </a:solidFill>
                <a:latin typeface="Times New Roman"/>
                <a:ea typeface="宋体"/>
              </a:rPr>
              <a:t>PPT</a:t>
            </a:r>
            <a:r>
              <a:rPr b="0" lang="ko-KR" sz="4000" spc="-1" strike="noStrike">
                <a:solidFill>
                  <a:srgbClr val="051b61"/>
                </a:solidFill>
                <a:latin typeface="Times New Roman"/>
              </a:rPr>
              <a:t>素材</a:t>
            </a:r>
            <a:endParaRPr b="0" lang="en-US" sz="4000" spc="-1" strike="noStrike">
              <a:solidFill>
                <a:srgbClr val="051b61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51b61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E52-75F8-441E-9722-44ABBE5C98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3:53:2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37:59Z</dcterms:modified>
  <cp:revision>9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fc03000000000001024140</vt:lpwstr>
  </property>
</Properties>
</file>