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48C-5A8C-4D9A-ACB4-99BD13F7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CC1-F3BA-469F-9F6D-50227031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AA6-ADB4-4CF8-AFB7-DD9AADB2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1DC-07F1-4552-A82E-6FF531D6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CD1-0D82-4B12-BCCC-80D533FD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528-41C7-4054-AC02-EF94C82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37C-16FC-48A6-AAF1-362E5A5C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023-AA86-4E0D-9394-1DD452A6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7E7-82FD-4762-BBDC-AFB3031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ABC-BB39-4755-AB8C-3B3495E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A34-6970-493F-96C8-ABC43DD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867-4959-40C8-AA21-38D1229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91C1-0604-41EB-AD8A-63E01FEBB6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82C7-A96C-446E-A866-CEB8B0277D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2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6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27.png"/><Relationship Id="rId35" Type="http://schemas.openxmlformats.org/officeDocument/2006/relationships/image" Target="../media/image28.png"/><Relationship Id="rId36" Type="http://schemas.openxmlformats.org/officeDocument/2006/relationships/image" Target="../media/image15.png"/><Relationship Id="rId37" Type="http://schemas.openxmlformats.org/officeDocument/2006/relationships/image" Target="../media/image16.png"/><Relationship Id="rId38" Type="http://schemas.openxmlformats.org/officeDocument/2006/relationships/image" Target="../media/image29.png"/><Relationship Id="rId39" Type="http://schemas.openxmlformats.org/officeDocument/2006/relationships/image" Target="../media/image30.png"/><Relationship Id="rId40" Type="http://schemas.openxmlformats.org/officeDocument/2006/relationships/image" Target="../media/image31.png"/><Relationship Id="rId41" Type="http://schemas.openxmlformats.org/officeDocument/2006/relationships/image" Target="../media/image19.png"/><Relationship Id="rId42" Type="http://schemas.openxmlformats.org/officeDocument/2006/relationships/image" Target="../media/image20.png"/><Relationship Id="rId4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91080" y="4159080"/>
            <a:ext cx="3031920" cy="3028680"/>
            <a:chOff x="5491080" y="4159080"/>
            <a:chExt cx="3031920" cy="3028680"/>
          </a:xfrm>
        </p:grpSpPr>
        <p:pic>
          <p:nvPicPr>
            <p:cNvPr id="42" name="椭圆 3" descr=""/>
            <p:cNvPicPr/>
            <p:nvPr/>
          </p:nvPicPr>
          <p:blipFill>
            <a:blip r:embed="rId1"/>
            <a:stretch/>
          </p:blipFill>
          <p:spPr>
            <a:xfrm>
              <a:off x="5491080" y="4159080"/>
              <a:ext cx="303192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5943600" y="4605480"/>
              <a:ext cx="21283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4240" y="2949480"/>
            <a:ext cx="2220480" cy="2230200"/>
            <a:chOff x="5394240" y="2949480"/>
            <a:chExt cx="2220480" cy="2230200"/>
          </a:xfrm>
        </p:grpSpPr>
        <p:pic>
          <p:nvPicPr>
            <p:cNvPr id="45" name="椭圆 4" descr=""/>
            <p:cNvPicPr/>
            <p:nvPr/>
          </p:nvPicPr>
          <p:blipFill>
            <a:blip r:embed="rId2"/>
            <a:stretch/>
          </p:blipFill>
          <p:spPr>
            <a:xfrm>
              <a:off x="5394240" y="2949480"/>
              <a:ext cx="222048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7"/>
            <p:cNvSpPr/>
            <p:nvPr/>
          </p:nvSpPr>
          <p:spPr>
            <a:xfrm>
              <a:off x="5724360" y="3280320"/>
              <a:ext cx="1561680" cy="15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697800" y="2741760"/>
            <a:ext cx="2228400" cy="2231640"/>
            <a:chOff x="6697800" y="2741760"/>
            <a:chExt cx="2228400" cy="2231640"/>
          </a:xfrm>
        </p:grpSpPr>
        <p:pic>
          <p:nvPicPr>
            <p:cNvPr id="48" name="椭圆 5" descr=""/>
            <p:cNvPicPr/>
            <p:nvPr/>
          </p:nvPicPr>
          <p:blipFill>
            <a:blip r:embed="rId3"/>
            <a:stretch/>
          </p:blipFill>
          <p:spPr>
            <a:xfrm>
              <a:off x="6697800" y="2741760"/>
              <a:ext cx="22284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>
              <a:off x="7030080" y="3079080"/>
              <a:ext cx="1561680" cy="15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084560" y="3755880"/>
            <a:ext cx="2226960" cy="2220840"/>
            <a:chOff x="4084560" y="3755880"/>
            <a:chExt cx="2226960" cy="2220840"/>
          </a:xfrm>
        </p:grpSpPr>
        <p:pic>
          <p:nvPicPr>
            <p:cNvPr id="51" name="椭圆 6" descr=""/>
            <p:cNvPicPr/>
            <p:nvPr/>
          </p:nvPicPr>
          <p:blipFill>
            <a:blip r:embed="rId4"/>
            <a:stretch/>
          </p:blipFill>
          <p:spPr>
            <a:xfrm>
              <a:off x="4084560" y="3755880"/>
              <a:ext cx="222696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3"/>
            <p:cNvSpPr/>
            <p:nvPr/>
          </p:nvSpPr>
          <p:spPr>
            <a:xfrm>
              <a:off x="4419000" y="4084200"/>
              <a:ext cx="1562040" cy="15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907400" y="3952800"/>
            <a:ext cx="1617120" cy="1630080"/>
            <a:chOff x="7907400" y="3952800"/>
            <a:chExt cx="1617120" cy="1630080"/>
          </a:xfrm>
        </p:grpSpPr>
        <p:pic>
          <p:nvPicPr>
            <p:cNvPr id="54" name="椭圆 7" descr=""/>
            <p:cNvPicPr/>
            <p:nvPr/>
          </p:nvPicPr>
          <p:blipFill>
            <a:blip r:embed="rId5"/>
            <a:stretch/>
          </p:blipFill>
          <p:spPr>
            <a:xfrm>
              <a:off x="7907400" y="3952800"/>
              <a:ext cx="1617120" cy="16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6"/>
            <p:cNvSpPr/>
            <p:nvPr/>
          </p:nvSpPr>
          <p:spPr>
            <a:xfrm>
              <a:off x="8146080" y="4196160"/>
              <a:ext cx="113760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84320" y="2143080"/>
            <a:ext cx="2620800" cy="2633400"/>
            <a:chOff x="2884320" y="2143080"/>
            <a:chExt cx="2620800" cy="2633400"/>
          </a:xfrm>
        </p:grpSpPr>
        <p:pic>
          <p:nvPicPr>
            <p:cNvPr id="57" name="椭圆 8" descr=""/>
            <p:cNvPicPr/>
            <p:nvPr/>
          </p:nvPicPr>
          <p:blipFill>
            <a:blip r:embed="rId6"/>
            <a:stretch/>
          </p:blipFill>
          <p:spPr>
            <a:xfrm>
              <a:off x="2884320" y="2143080"/>
              <a:ext cx="2620800" cy="26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9"/>
            <p:cNvSpPr/>
            <p:nvPr/>
          </p:nvSpPr>
          <p:spPr>
            <a:xfrm>
              <a:off x="3272040" y="2534040"/>
              <a:ext cx="184716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186000" y="4253040"/>
            <a:ext cx="2207880" cy="1723680"/>
            <a:chOff x="3186000" y="4253040"/>
            <a:chExt cx="2207880" cy="1723680"/>
          </a:xfrm>
        </p:grpSpPr>
        <p:pic>
          <p:nvPicPr>
            <p:cNvPr id="60" name="正五边形 9" descr=""/>
            <p:cNvPicPr/>
            <p:nvPr/>
          </p:nvPicPr>
          <p:blipFill>
            <a:blip r:embed="rId7"/>
            <a:stretch/>
          </p:blipFill>
          <p:spPr>
            <a:xfrm>
              <a:off x="3186000" y="4253040"/>
              <a:ext cx="220788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3611520" y="4668120"/>
              <a:ext cx="135576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74640" y="2246400"/>
            <a:ext cx="2981160" cy="2322000"/>
            <a:chOff x="674640" y="2246400"/>
            <a:chExt cx="2981160" cy="2322000"/>
          </a:xfrm>
        </p:grpSpPr>
        <p:pic>
          <p:nvPicPr>
            <p:cNvPr id="63" name="正五边形 10" descr=""/>
            <p:cNvPicPr/>
            <p:nvPr/>
          </p:nvPicPr>
          <p:blipFill>
            <a:blip r:embed="rId8"/>
            <a:stretch/>
          </p:blipFill>
          <p:spPr>
            <a:xfrm>
              <a:off x="674640" y="2246400"/>
              <a:ext cx="2981160" cy="232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5"/>
            <p:cNvSpPr/>
            <p:nvPr/>
          </p:nvSpPr>
          <p:spPr>
            <a:xfrm>
              <a:off x="1247760" y="2797560"/>
              <a:ext cx="1837080" cy="17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871880" y="3352680"/>
            <a:ext cx="1439640" cy="1122120"/>
            <a:chOff x="4871880" y="3352680"/>
            <a:chExt cx="1439640" cy="1122120"/>
          </a:xfrm>
        </p:grpSpPr>
        <p:pic>
          <p:nvPicPr>
            <p:cNvPr id="66" name="正五边形 11" descr=""/>
            <p:cNvPicPr/>
            <p:nvPr/>
          </p:nvPicPr>
          <p:blipFill>
            <a:blip r:embed="rId9"/>
            <a:stretch/>
          </p:blipFill>
          <p:spPr>
            <a:xfrm>
              <a:off x="4871880" y="3352680"/>
              <a:ext cx="143964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8"/>
            <p:cNvSpPr/>
            <p:nvPr/>
          </p:nvSpPr>
          <p:spPr>
            <a:xfrm>
              <a:off x="5155200" y="3620160"/>
              <a:ext cx="877320" cy="8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78400" y="4253040"/>
            <a:ext cx="2476440" cy="1928160"/>
            <a:chOff x="6278400" y="4253040"/>
            <a:chExt cx="2476440" cy="1928160"/>
          </a:xfrm>
        </p:grpSpPr>
        <p:pic>
          <p:nvPicPr>
            <p:cNvPr id="69" name="正五边形 12" descr=""/>
            <p:cNvPicPr/>
            <p:nvPr/>
          </p:nvPicPr>
          <p:blipFill>
            <a:blip r:embed="rId10"/>
            <a:stretch/>
          </p:blipFill>
          <p:spPr>
            <a:xfrm>
              <a:off x="6278400" y="4253040"/>
              <a:ext cx="2476440" cy="192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31"/>
            <p:cNvSpPr/>
            <p:nvPr/>
          </p:nvSpPr>
          <p:spPr>
            <a:xfrm>
              <a:off x="6760440" y="4714920"/>
              <a:ext cx="1514520" cy="14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186680" y="2246400"/>
            <a:ext cx="1694880" cy="1320480"/>
            <a:chOff x="7186680" y="2246400"/>
            <a:chExt cx="1694880" cy="1320480"/>
          </a:xfrm>
        </p:grpSpPr>
        <p:pic>
          <p:nvPicPr>
            <p:cNvPr id="72" name="正五边形 13" descr=""/>
            <p:cNvPicPr/>
            <p:nvPr/>
          </p:nvPicPr>
          <p:blipFill>
            <a:blip r:embed="rId11"/>
            <a:stretch/>
          </p:blipFill>
          <p:spPr>
            <a:xfrm>
              <a:off x="7186680" y="2246400"/>
              <a:ext cx="1694880" cy="13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4"/>
            <p:cNvSpPr/>
            <p:nvPr/>
          </p:nvSpPr>
          <p:spPr>
            <a:xfrm>
              <a:off x="7514280" y="2561400"/>
              <a:ext cx="103716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695920" y="2647800"/>
            <a:ext cx="2022120" cy="2023920"/>
            <a:chOff x="5695920" y="2647800"/>
            <a:chExt cx="2022120" cy="2023920"/>
          </a:xfrm>
        </p:grpSpPr>
        <p:pic>
          <p:nvPicPr>
            <p:cNvPr id="75" name="菱形 14" descr=""/>
            <p:cNvPicPr/>
            <p:nvPr/>
          </p:nvPicPr>
          <p:blipFill>
            <a:blip r:embed="rId12"/>
            <a:stretch/>
          </p:blipFill>
          <p:spPr>
            <a:xfrm>
              <a:off x="5695920" y="2647800"/>
              <a:ext cx="202212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37"/>
            <p:cNvSpPr/>
            <p:nvPr/>
          </p:nvSpPr>
          <p:spPr>
            <a:xfrm>
              <a:off x="6204600" y="3156840"/>
              <a:ext cx="100476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095800" y="4354560"/>
            <a:ext cx="3025440" cy="3038040"/>
            <a:chOff x="5095800" y="4354560"/>
            <a:chExt cx="3025440" cy="3038040"/>
          </a:xfrm>
        </p:grpSpPr>
        <p:pic>
          <p:nvPicPr>
            <p:cNvPr id="78" name="菱形 15" descr=""/>
            <p:cNvPicPr/>
            <p:nvPr/>
          </p:nvPicPr>
          <p:blipFill>
            <a:blip r:embed="rId13"/>
            <a:stretch/>
          </p:blipFill>
          <p:spPr>
            <a:xfrm>
              <a:off x="5095800" y="4354560"/>
              <a:ext cx="3025440" cy="30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40"/>
            <p:cNvSpPr/>
            <p:nvPr/>
          </p:nvSpPr>
          <p:spPr>
            <a:xfrm>
              <a:off x="5853960" y="5118480"/>
              <a:ext cx="1506240" cy="15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287880" y="2847960"/>
            <a:ext cx="1215360" cy="1225080"/>
            <a:chOff x="3287880" y="2847960"/>
            <a:chExt cx="1215360" cy="1225080"/>
          </a:xfrm>
        </p:grpSpPr>
        <p:pic>
          <p:nvPicPr>
            <p:cNvPr id="81" name="菱形 16" descr=""/>
            <p:cNvPicPr/>
            <p:nvPr/>
          </p:nvPicPr>
          <p:blipFill>
            <a:blip r:embed="rId14"/>
            <a:stretch/>
          </p:blipFill>
          <p:spPr>
            <a:xfrm>
              <a:off x="3287880" y="2847960"/>
              <a:ext cx="1215360" cy="122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43"/>
            <p:cNvSpPr/>
            <p:nvPr/>
          </p:nvSpPr>
          <p:spPr>
            <a:xfrm>
              <a:off x="3593160" y="3157920"/>
              <a:ext cx="60228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695920" y="1440000"/>
            <a:ext cx="2123640" cy="1929960"/>
            <a:chOff x="5695920" y="1440000"/>
            <a:chExt cx="2123640" cy="1929960"/>
          </a:xfrm>
        </p:grpSpPr>
        <p:pic>
          <p:nvPicPr>
            <p:cNvPr id="84" name="菱形 17" descr=""/>
            <p:cNvPicPr/>
            <p:nvPr/>
          </p:nvPicPr>
          <p:blipFill>
            <a:blip r:embed="rId15"/>
            <a:stretch/>
          </p:blipFill>
          <p:spPr>
            <a:xfrm>
              <a:off x="5695920" y="1440000"/>
              <a:ext cx="212364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6"/>
            <p:cNvSpPr/>
            <p:nvPr/>
          </p:nvSpPr>
          <p:spPr>
            <a:xfrm>
              <a:off x="6229080" y="1926720"/>
              <a:ext cx="1055160" cy="9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999120" y="3052800"/>
            <a:ext cx="2226960" cy="1723680"/>
            <a:chOff x="6999120" y="3052800"/>
            <a:chExt cx="2226960" cy="1723680"/>
          </a:xfrm>
        </p:grpSpPr>
        <p:pic>
          <p:nvPicPr>
            <p:cNvPr id="87" name="正五边形 22" descr=""/>
            <p:cNvPicPr/>
            <p:nvPr/>
          </p:nvPicPr>
          <p:blipFill>
            <a:blip r:embed="rId16"/>
            <a:stretch/>
          </p:blipFill>
          <p:spPr>
            <a:xfrm>
              <a:off x="6999120" y="3052800"/>
              <a:ext cx="222696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9"/>
            <p:cNvSpPr/>
            <p:nvPr/>
          </p:nvSpPr>
          <p:spPr>
            <a:xfrm>
              <a:off x="7429680" y="3461400"/>
              <a:ext cx="136584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88000" y="2041560"/>
            <a:ext cx="2123640" cy="2228400"/>
            <a:chOff x="4788000" y="2041560"/>
            <a:chExt cx="2123640" cy="2228400"/>
          </a:xfrm>
        </p:grpSpPr>
        <p:pic>
          <p:nvPicPr>
            <p:cNvPr id="90" name="菱形 23" descr=""/>
            <p:cNvPicPr/>
            <p:nvPr/>
          </p:nvPicPr>
          <p:blipFill>
            <a:blip r:embed="rId17"/>
            <a:stretch/>
          </p:blipFill>
          <p:spPr>
            <a:xfrm>
              <a:off x="4788000" y="2041560"/>
              <a:ext cx="2123640" cy="22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52"/>
            <p:cNvSpPr/>
            <p:nvPr/>
          </p:nvSpPr>
          <p:spPr>
            <a:xfrm>
              <a:off x="5325480" y="2603880"/>
              <a:ext cx="1055160" cy="11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481040" y="3755880"/>
            <a:ext cx="2020680" cy="2023920"/>
            <a:chOff x="1481040" y="3755880"/>
            <a:chExt cx="2020680" cy="2023920"/>
          </a:xfrm>
        </p:grpSpPr>
        <p:pic>
          <p:nvPicPr>
            <p:cNvPr id="93" name="菱形 24" descr=""/>
            <p:cNvPicPr/>
            <p:nvPr/>
          </p:nvPicPr>
          <p:blipFill>
            <a:blip r:embed="rId18"/>
            <a:stretch/>
          </p:blipFill>
          <p:spPr>
            <a:xfrm>
              <a:off x="1481040" y="3755880"/>
              <a:ext cx="20206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55"/>
            <p:cNvSpPr/>
            <p:nvPr/>
          </p:nvSpPr>
          <p:spPr>
            <a:xfrm>
              <a:off x="1987200" y="4262760"/>
              <a:ext cx="10033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94400" y="4862520"/>
            <a:ext cx="2217240" cy="1723680"/>
            <a:chOff x="4694400" y="4862520"/>
            <a:chExt cx="2217240" cy="1723680"/>
          </a:xfrm>
        </p:grpSpPr>
        <p:pic>
          <p:nvPicPr>
            <p:cNvPr id="96" name="正五边形 25" descr=""/>
            <p:cNvPicPr/>
            <p:nvPr/>
          </p:nvPicPr>
          <p:blipFill>
            <a:blip r:embed="rId19"/>
            <a:stretch/>
          </p:blipFill>
          <p:spPr>
            <a:xfrm>
              <a:off x="4694400" y="4862520"/>
              <a:ext cx="221724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8"/>
            <p:cNvSpPr/>
            <p:nvPr/>
          </p:nvSpPr>
          <p:spPr>
            <a:xfrm>
              <a:off x="5120280" y="5271120"/>
              <a:ext cx="136548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79600" y="4253040"/>
            <a:ext cx="1695240" cy="1329840"/>
            <a:chOff x="2379600" y="4253040"/>
            <a:chExt cx="1695240" cy="1329840"/>
          </a:xfrm>
        </p:grpSpPr>
        <p:pic>
          <p:nvPicPr>
            <p:cNvPr id="99" name="正五边形 26" descr=""/>
            <p:cNvPicPr/>
            <p:nvPr/>
          </p:nvPicPr>
          <p:blipFill>
            <a:blip r:embed="rId20"/>
            <a:stretch/>
          </p:blipFill>
          <p:spPr>
            <a:xfrm>
              <a:off x="2379600" y="4253040"/>
              <a:ext cx="1695240" cy="13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61"/>
            <p:cNvSpPr/>
            <p:nvPr/>
          </p:nvSpPr>
          <p:spPr>
            <a:xfrm>
              <a:off x="2709720" y="4572360"/>
              <a:ext cx="10350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786120" y="2143080"/>
            <a:ext cx="2827080" cy="2830320"/>
            <a:chOff x="3786120" y="2143080"/>
            <a:chExt cx="2827080" cy="2830320"/>
          </a:xfrm>
        </p:grpSpPr>
        <p:pic>
          <p:nvPicPr>
            <p:cNvPr id="102" name="椭圆 27" descr=""/>
            <p:cNvPicPr/>
            <p:nvPr/>
          </p:nvPicPr>
          <p:blipFill>
            <a:blip r:embed="rId21"/>
            <a:stretch/>
          </p:blipFill>
          <p:spPr>
            <a:xfrm>
              <a:off x="3786120" y="2143080"/>
              <a:ext cx="2827080" cy="28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64"/>
            <p:cNvSpPr/>
            <p:nvPr/>
          </p:nvSpPr>
          <p:spPr>
            <a:xfrm>
              <a:off x="4207320" y="2565000"/>
              <a:ext cx="1986120" cy="19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894360" y="4253040"/>
            <a:ext cx="3035160" cy="3036240"/>
            <a:chOff x="6894360" y="4253040"/>
            <a:chExt cx="3035160" cy="3036240"/>
          </a:xfrm>
        </p:grpSpPr>
        <p:pic>
          <p:nvPicPr>
            <p:cNvPr id="105" name="椭圆 28" descr=""/>
            <p:cNvPicPr/>
            <p:nvPr/>
          </p:nvPicPr>
          <p:blipFill>
            <a:blip r:embed="rId22"/>
            <a:stretch/>
          </p:blipFill>
          <p:spPr>
            <a:xfrm>
              <a:off x="6894360" y="4253040"/>
              <a:ext cx="3035160" cy="30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7"/>
            <p:cNvSpPr/>
            <p:nvPr/>
          </p:nvSpPr>
          <p:spPr>
            <a:xfrm>
              <a:off x="7349760" y="4705920"/>
              <a:ext cx="2128680" cy="21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799240" y="2546280"/>
            <a:ext cx="2219040" cy="2230200"/>
            <a:chOff x="5799240" y="2546280"/>
            <a:chExt cx="2219040" cy="2230200"/>
          </a:xfrm>
        </p:grpSpPr>
        <p:pic>
          <p:nvPicPr>
            <p:cNvPr id="108" name="椭圆 29" descr=""/>
            <p:cNvPicPr/>
            <p:nvPr/>
          </p:nvPicPr>
          <p:blipFill>
            <a:blip r:embed="rId23"/>
            <a:stretch/>
          </p:blipFill>
          <p:spPr>
            <a:xfrm>
              <a:off x="5799240" y="2546280"/>
              <a:ext cx="221904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0"/>
            <p:cNvSpPr/>
            <p:nvPr/>
          </p:nvSpPr>
          <p:spPr>
            <a:xfrm>
              <a:off x="6126840" y="2878920"/>
              <a:ext cx="1560960" cy="15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102440" y="2349360"/>
            <a:ext cx="2225520" cy="2219040"/>
            <a:chOff x="7102440" y="2349360"/>
            <a:chExt cx="2225520" cy="2219040"/>
          </a:xfrm>
        </p:grpSpPr>
        <p:pic>
          <p:nvPicPr>
            <p:cNvPr id="111" name="椭圆 30" descr=""/>
            <p:cNvPicPr/>
            <p:nvPr/>
          </p:nvPicPr>
          <p:blipFill>
            <a:blip r:embed="rId24"/>
            <a:stretch/>
          </p:blipFill>
          <p:spPr>
            <a:xfrm>
              <a:off x="7102440" y="2349360"/>
              <a:ext cx="222552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73"/>
            <p:cNvSpPr/>
            <p:nvPr/>
          </p:nvSpPr>
          <p:spPr>
            <a:xfrm>
              <a:off x="7432560" y="2677320"/>
              <a:ext cx="1560600" cy="15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86320" y="3352680"/>
            <a:ext cx="2228400" cy="2230200"/>
            <a:chOff x="4486320" y="3352680"/>
            <a:chExt cx="2228400" cy="2230200"/>
          </a:xfrm>
        </p:grpSpPr>
        <p:pic>
          <p:nvPicPr>
            <p:cNvPr id="114" name="椭圆 31" descr=""/>
            <p:cNvPicPr/>
            <p:nvPr/>
          </p:nvPicPr>
          <p:blipFill>
            <a:blip r:embed="rId25"/>
            <a:stretch/>
          </p:blipFill>
          <p:spPr>
            <a:xfrm>
              <a:off x="4486320" y="3352680"/>
              <a:ext cx="222840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6"/>
            <p:cNvSpPr/>
            <p:nvPr/>
          </p:nvSpPr>
          <p:spPr>
            <a:xfrm>
              <a:off x="4820400" y="3683160"/>
              <a:ext cx="156168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8299440" y="3548160"/>
            <a:ext cx="1630080" cy="1631520"/>
            <a:chOff x="8299440" y="3548160"/>
            <a:chExt cx="1630080" cy="1631520"/>
          </a:xfrm>
        </p:grpSpPr>
        <p:pic>
          <p:nvPicPr>
            <p:cNvPr id="117" name="椭圆 32" descr=""/>
            <p:cNvPicPr/>
            <p:nvPr/>
          </p:nvPicPr>
          <p:blipFill>
            <a:blip r:embed="rId26"/>
            <a:stretch/>
          </p:blipFill>
          <p:spPr>
            <a:xfrm>
              <a:off x="8299440" y="3548160"/>
              <a:ext cx="1630080" cy="16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79"/>
            <p:cNvSpPr/>
            <p:nvPr/>
          </p:nvSpPr>
          <p:spPr>
            <a:xfrm>
              <a:off x="8546760" y="3793680"/>
              <a:ext cx="113868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287880" y="1739880"/>
            <a:ext cx="2621880" cy="2633400"/>
            <a:chOff x="3287880" y="1739880"/>
            <a:chExt cx="2621880" cy="2633400"/>
          </a:xfrm>
        </p:grpSpPr>
        <p:pic>
          <p:nvPicPr>
            <p:cNvPr id="120" name="椭圆 33" descr=""/>
            <p:cNvPicPr/>
            <p:nvPr/>
          </p:nvPicPr>
          <p:blipFill>
            <a:blip r:embed="rId27"/>
            <a:stretch/>
          </p:blipFill>
          <p:spPr>
            <a:xfrm>
              <a:off x="3287880" y="1739880"/>
              <a:ext cx="2621880" cy="26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82"/>
            <p:cNvSpPr/>
            <p:nvPr/>
          </p:nvSpPr>
          <p:spPr>
            <a:xfrm>
              <a:off x="3673800" y="2132640"/>
              <a:ext cx="184752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587760" y="3849840"/>
            <a:ext cx="2211120" cy="1733040"/>
            <a:chOff x="3587760" y="3849840"/>
            <a:chExt cx="2211120" cy="1733040"/>
          </a:xfrm>
        </p:grpSpPr>
        <p:pic>
          <p:nvPicPr>
            <p:cNvPr id="123" name="正五边形 34" descr=""/>
            <p:cNvPicPr/>
            <p:nvPr/>
          </p:nvPicPr>
          <p:blipFill>
            <a:blip r:embed="rId28"/>
            <a:stretch/>
          </p:blipFill>
          <p:spPr>
            <a:xfrm>
              <a:off x="3587760" y="3849840"/>
              <a:ext cx="2211120" cy="17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85"/>
            <p:cNvSpPr/>
            <p:nvPr/>
          </p:nvSpPr>
          <p:spPr>
            <a:xfrm>
              <a:off x="4013640" y="4264920"/>
              <a:ext cx="135648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76400" y="1841400"/>
            <a:ext cx="2980800" cy="2334960"/>
            <a:chOff x="1076400" y="1841400"/>
            <a:chExt cx="2980800" cy="2334960"/>
          </a:xfrm>
        </p:grpSpPr>
        <p:pic>
          <p:nvPicPr>
            <p:cNvPr id="126" name="正五边形 35" descr=""/>
            <p:cNvPicPr/>
            <p:nvPr/>
          </p:nvPicPr>
          <p:blipFill>
            <a:blip r:embed="rId29"/>
            <a:stretch/>
          </p:blipFill>
          <p:spPr>
            <a:xfrm>
              <a:off x="1076400" y="1841400"/>
              <a:ext cx="298080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8"/>
            <p:cNvSpPr/>
            <p:nvPr/>
          </p:nvSpPr>
          <p:spPr>
            <a:xfrm>
              <a:off x="1649520" y="2395800"/>
              <a:ext cx="1836720" cy="17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76880" y="2949480"/>
            <a:ext cx="1437840" cy="1123560"/>
            <a:chOff x="5276880" y="2949480"/>
            <a:chExt cx="1437840" cy="1123560"/>
          </a:xfrm>
        </p:grpSpPr>
        <p:pic>
          <p:nvPicPr>
            <p:cNvPr id="129" name="正五边形 36" descr=""/>
            <p:cNvPicPr/>
            <p:nvPr/>
          </p:nvPicPr>
          <p:blipFill>
            <a:blip r:embed="rId30"/>
            <a:stretch/>
          </p:blipFill>
          <p:spPr>
            <a:xfrm>
              <a:off x="5276880" y="2949480"/>
              <a:ext cx="1437840" cy="112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91"/>
            <p:cNvSpPr/>
            <p:nvPr/>
          </p:nvSpPr>
          <p:spPr>
            <a:xfrm>
              <a:off x="5557680" y="3217320"/>
              <a:ext cx="8762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680160" y="3849840"/>
            <a:ext cx="2476080" cy="1929960"/>
            <a:chOff x="6680160" y="3849840"/>
            <a:chExt cx="2476080" cy="1929960"/>
          </a:xfrm>
        </p:grpSpPr>
        <p:pic>
          <p:nvPicPr>
            <p:cNvPr id="132" name="正五边形 37" descr=""/>
            <p:cNvPicPr/>
            <p:nvPr/>
          </p:nvPicPr>
          <p:blipFill>
            <a:blip r:embed="rId31"/>
            <a:stretch/>
          </p:blipFill>
          <p:spPr>
            <a:xfrm>
              <a:off x="6680160" y="3849840"/>
              <a:ext cx="247608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94"/>
            <p:cNvSpPr/>
            <p:nvPr/>
          </p:nvSpPr>
          <p:spPr>
            <a:xfrm>
              <a:off x="7162200" y="4312080"/>
              <a:ext cx="151452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589880" y="1841400"/>
            <a:ext cx="1696680" cy="1322280"/>
            <a:chOff x="7589880" y="1841400"/>
            <a:chExt cx="1696680" cy="1322280"/>
          </a:xfrm>
        </p:grpSpPr>
        <p:pic>
          <p:nvPicPr>
            <p:cNvPr id="135" name="正五边形 38" descr=""/>
            <p:cNvPicPr/>
            <p:nvPr/>
          </p:nvPicPr>
          <p:blipFill>
            <a:blip r:embed="rId32"/>
            <a:stretch/>
          </p:blipFill>
          <p:spPr>
            <a:xfrm>
              <a:off x="7589880" y="1841400"/>
              <a:ext cx="16966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7"/>
            <p:cNvSpPr/>
            <p:nvPr/>
          </p:nvSpPr>
          <p:spPr>
            <a:xfrm>
              <a:off x="7915680" y="2158200"/>
              <a:ext cx="103788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097680" y="2246400"/>
            <a:ext cx="2023560" cy="2023560"/>
            <a:chOff x="6097680" y="2246400"/>
            <a:chExt cx="2023560" cy="2023560"/>
          </a:xfrm>
        </p:grpSpPr>
        <p:pic>
          <p:nvPicPr>
            <p:cNvPr id="138" name="菱形 39" descr=""/>
            <p:cNvPicPr/>
            <p:nvPr/>
          </p:nvPicPr>
          <p:blipFill>
            <a:blip r:embed="rId33"/>
            <a:stretch/>
          </p:blipFill>
          <p:spPr>
            <a:xfrm>
              <a:off x="6097680" y="2246400"/>
              <a:ext cx="2023560" cy="202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0"/>
            <p:cNvSpPr/>
            <p:nvPr/>
          </p:nvSpPr>
          <p:spPr>
            <a:xfrm>
              <a:off x="6606000" y="2755440"/>
              <a:ext cx="100404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381480" y="4056120"/>
            <a:ext cx="3033360" cy="3028680"/>
            <a:chOff x="3381480" y="4056120"/>
            <a:chExt cx="3033360" cy="3028680"/>
          </a:xfrm>
        </p:grpSpPr>
        <p:pic>
          <p:nvPicPr>
            <p:cNvPr id="141" name="菱形 40" descr=""/>
            <p:cNvPicPr/>
            <p:nvPr/>
          </p:nvPicPr>
          <p:blipFill>
            <a:blip r:embed="rId34"/>
            <a:stretch/>
          </p:blipFill>
          <p:spPr>
            <a:xfrm>
              <a:off x="3381480" y="4056120"/>
              <a:ext cx="303336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03"/>
            <p:cNvSpPr/>
            <p:nvPr/>
          </p:nvSpPr>
          <p:spPr>
            <a:xfrm>
              <a:off x="4147200" y="4817880"/>
              <a:ext cx="150624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681360" y="2443320"/>
            <a:ext cx="1226880" cy="1225080"/>
            <a:chOff x="3681360" y="2443320"/>
            <a:chExt cx="1226880" cy="1225080"/>
          </a:xfrm>
        </p:grpSpPr>
        <p:pic>
          <p:nvPicPr>
            <p:cNvPr id="144" name="菱形 41" descr=""/>
            <p:cNvPicPr/>
            <p:nvPr/>
          </p:nvPicPr>
          <p:blipFill>
            <a:blip r:embed="rId35"/>
            <a:stretch/>
          </p:blipFill>
          <p:spPr>
            <a:xfrm>
              <a:off x="3681360" y="2443320"/>
              <a:ext cx="1226880" cy="122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06"/>
            <p:cNvSpPr/>
            <p:nvPr/>
          </p:nvSpPr>
          <p:spPr>
            <a:xfrm>
              <a:off x="3996000" y="2755440"/>
              <a:ext cx="6019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7680" y="1035000"/>
            <a:ext cx="2126880" cy="1929960"/>
            <a:chOff x="6097680" y="1035000"/>
            <a:chExt cx="2126880" cy="1929960"/>
          </a:xfrm>
        </p:grpSpPr>
        <p:pic>
          <p:nvPicPr>
            <p:cNvPr id="147" name="菱形 42" descr=""/>
            <p:cNvPicPr/>
            <p:nvPr/>
          </p:nvPicPr>
          <p:blipFill>
            <a:blip r:embed="rId36"/>
            <a:stretch/>
          </p:blipFill>
          <p:spPr>
            <a:xfrm>
              <a:off x="6097680" y="1035000"/>
              <a:ext cx="212688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09"/>
            <p:cNvSpPr/>
            <p:nvPr/>
          </p:nvSpPr>
          <p:spPr>
            <a:xfrm>
              <a:off x="6631200" y="1524240"/>
              <a:ext cx="1055880" cy="9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400880" y="2647800"/>
            <a:ext cx="2226960" cy="1725480"/>
            <a:chOff x="7400880" y="2647800"/>
            <a:chExt cx="2226960" cy="1725480"/>
          </a:xfrm>
        </p:grpSpPr>
        <p:pic>
          <p:nvPicPr>
            <p:cNvPr id="150" name="正五边形 43" descr=""/>
            <p:cNvPicPr/>
            <p:nvPr/>
          </p:nvPicPr>
          <p:blipFill>
            <a:blip r:embed="rId37"/>
            <a:stretch/>
          </p:blipFill>
          <p:spPr>
            <a:xfrm>
              <a:off x="7400880" y="2647800"/>
              <a:ext cx="222696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2"/>
            <p:cNvSpPr/>
            <p:nvPr/>
          </p:nvSpPr>
          <p:spPr>
            <a:xfrm>
              <a:off x="7831440" y="3058920"/>
              <a:ext cx="136584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89400" y="1646280"/>
            <a:ext cx="2126880" cy="2221920"/>
            <a:chOff x="5189400" y="1646280"/>
            <a:chExt cx="2126880" cy="2221920"/>
          </a:xfrm>
        </p:grpSpPr>
        <p:pic>
          <p:nvPicPr>
            <p:cNvPr id="153" name="菱形 44" descr=""/>
            <p:cNvPicPr/>
            <p:nvPr/>
          </p:nvPicPr>
          <p:blipFill>
            <a:blip r:embed="rId38"/>
            <a:stretch/>
          </p:blipFill>
          <p:spPr>
            <a:xfrm>
              <a:off x="5189400" y="1646280"/>
              <a:ext cx="2126880" cy="22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15"/>
            <p:cNvSpPr/>
            <p:nvPr/>
          </p:nvSpPr>
          <p:spPr>
            <a:xfrm>
              <a:off x="5727240" y="2202120"/>
              <a:ext cx="1055880" cy="11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873080" y="3352680"/>
            <a:ext cx="2030400" cy="2022120"/>
            <a:chOff x="1873080" y="3352680"/>
            <a:chExt cx="2030400" cy="2022120"/>
          </a:xfrm>
        </p:grpSpPr>
        <p:pic>
          <p:nvPicPr>
            <p:cNvPr id="156" name="菱形 45" descr=""/>
            <p:cNvPicPr/>
            <p:nvPr/>
          </p:nvPicPr>
          <p:blipFill>
            <a:blip r:embed="rId39"/>
            <a:stretch/>
          </p:blipFill>
          <p:spPr>
            <a:xfrm>
              <a:off x="1873080" y="3352680"/>
              <a:ext cx="2030400" cy="20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18"/>
            <p:cNvSpPr/>
            <p:nvPr/>
          </p:nvSpPr>
          <p:spPr>
            <a:xfrm>
              <a:off x="2388600" y="3861360"/>
              <a:ext cx="1003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79600" y="4862520"/>
            <a:ext cx="2226960" cy="1723680"/>
            <a:chOff x="2379600" y="4862520"/>
            <a:chExt cx="2226960" cy="1723680"/>
          </a:xfrm>
        </p:grpSpPr>
        <p:pic>
          <p:nvPicPr>
            <p:cNvPr id="159" name="正五边形 46" descr=""/>
            <p:cNvPicPr/>
            <p:nvPr/>
          </p:nvPicPr>
          <p:blipFill>
            <a:blip r:embed="rId40"/>
            <a:stretch/>
          </p:blipFill>
          <p:spPr>
            <a:xfrm>
              <a:off x="2379600" y="4862520"/>
              <a:ext cx="222696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21"/>
            <p:cNvSpPr/>
            <p:nvPr/>
          </p:nvSpPr>
          <p:spPr>
            <a:xfrm>
              <a:off x="2810160" y="5271120"/>
              <a:ext cx="136584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81360" y="3849840"/>
            <a:ext cx="1698120" cy="1329840"/>
            <a:chOff x="2781360" y="3849840"/>
            <a:chExt cx="1698120" cy="1329840"/>
          </a:xfrm>
        </p:grpSpPr>
        <p:pic>
          <p:nvPicPr>
            <p:cNvPr id="162" name="正五边形 47" descr=""/>
            <p:cNvPicPr/>
            <p:nvPr/>
          </p:nvPicPr>
          <p:blipFill>
            <a:blip r:embed="rId41"/>
            <a:stretch/>
          </p:blipFill>
          <p:spPr>
            <a:xfrm>
              <a:off x="2781360" y="3849840"/>
              <a:ext cx="1698120" cy="13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24"/>
            <p:cNvSpPr/>
            <p:nvPr/>
          </p:nvSpPr>
          <p:spPr>
            <a:xfrm>
              <a:off x="3111480" y="4169520"/>
              <a:ext cx="103536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87880" y="1739880"/>
            <a:ext cx="2827080" cy="2828520"/>
            <a:chOff x="4187880" y="1739880"/>
            <a:chExt cx="2827080" cy="2828520"/>
          </a:xfrm>
        </p:grpSpPr>
        <p:pic>
          <p:nvPicPr>
            <p:cNvPr id="165" name="椭圆 48" descr=""/>
            <p:cNvPicPr/>
            <p:nvPr/>
          </p:nvPicPr>
          <p:blipFill>
            <a:blip r:embed="rId42"/>
            <a:stretch/>
          </p:blipFill>
          <p:spPr>
            <a:xfrm>
              <a:off x="4187880" y="1739880"/>
              <a:ext cx="2827080" cy="28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27"/>
            <p:cNvSpPr/>
            <p:nvPr/>
          </p:nvSpPr>
          <p:spPr>
            <a:xfrm>
              <a:off x="4609080" y="2163960"/>
              <a:ext cx="1986120" cy="19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6656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67200" y="83664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结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500"/>
                            </p:stCondLst>
                            <p:childTnLst>
                              <p:par>
                                <p:cTn id="26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4808520" y="-20520"/>
            <a:ext cx="822240" cy="292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5619600" y="-38160"/>
            <a:ext cx="820800" cy="3502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6407280" y="-20520"/>
            <a:ext cx="814320" cy="423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7192800" y="-23760"/>
            <a:ext cx="820800" cy="485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603680" y="2362320"/>
            <a:ext cx="10270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5620320" y="240516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70c0"/>
                </a:solidFill>
                <a:latin typeface="微软雅黑"/>
                <a:ea typeface="微软雅黑"/>
              </a:rPr>
              <a:t>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6420600" y="241452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92d050"/>
                </a:solidFill>
                <a:latin typeface="微软雅黑"/>
                <a:ea typeface="微软雅黑"/>
              </a:rPr>
              <a:t>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/>
          <p:cNvSpPr/>
          <p:nvPr/>
        </p:nvSpPr>
        <p:spPr>
          <a:xfrm>
            <a:off x="7211160" y="240048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7206120" y="480996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6409440" y="411624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1"/>
          <p:cNvSpPr/>
          <p:nvPr/>
        </p:nvSpPr>
        <p:spPr>
          <a:xfrm>
            <a:off x="5476320" y="3414600"/>
            <a:ext cx="928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4603680" y="2879640"/>
            <a:ext cx="10270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"/>
                            </p:stCondLst>
                            <p:childTnLst>
                              <p:par>
                                <p:cTn id="286" dur="indefinite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588 E">
                                      <p:cBhvr>
                                        <p:cTn id="303" dur="2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07361 E">
                                      <p:cBhvr>
                                        <p:cTn id="305" dur="2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0.1419 E">
                                      <p:cBhvr>
                                        <p:cTn id="307" dur="2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23634 E">
                                      <p:cBhvr>
                                        <p:cTn id="309" dur="2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00"/>
                            </p:stCondLst>
                            <p:childTnLst>
                              <p:par>
                                <p:cTn id="311" dur="indefinite" nodeType="after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2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xit" presetID="1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5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1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8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"/>
                            </p:stCondLst>
                            <p:childTnLst>
                              <p:par>
                                <p:cTn id="33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208 L -0.00052 0.43727 E">
                                      <p:cBhvr>
                                        <p:cTn id="337" dur="2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.00255 L -0.00243 0.36852 E">
                                      <p:cBhvr>
                                        <p:cTn id="339" dur="2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52 0.00231 L -0.00069 0.27129 E">
                                      <p:cBhvr>
                                        <p:cTn id="341" dur="2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0.00232 L -0.00122 0.17546 E">
                                      <p:cBhvr>
                                        <p:cTn id="343" dur="2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B58-2CC5-4DBC-822A-B43B608B1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0:4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4:46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