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2292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286080"/>
            <a:ext cx="82292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86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286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432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432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286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286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286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EC8-FF8E-49AF-9F84-B6E5300A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2292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513-E90E-4758-A93C-88DDBA34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2292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4B2-5465-4BCB-BA6F-5BDC4D64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A7F-3329-427A-9877-C849796C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AC2-93A6-482A-B641-C088FB5B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44080"/>
            <a:ext cx="82292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A10-0CDD-48C6-BDBB-AB096C51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286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173-E984-4BBE-88B3-940E3B0C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432080"/>
            <a:ext cx="82292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286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936-B0BB-4CA1-A1FC-3F1DB34C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286080"/>
            <a:ext cx="82292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2C04-C566-40B9-AA29-228FF950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2292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286080"/>
            <a:ext cx="82292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FD8-0165-4AD9-AD73-ED31A1BB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286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286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7A6-647C-4A49-9315-B133D9F6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432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432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286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286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286080"/>
            <a:ext cx="26496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EF2-8EDA-4DF6-90D5-895BF74B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82292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44080"/>
            <a:ext cx="82292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286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286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2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32080"/>
            <a:ext cx="40158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286080"/>
            <a:ext cx="82292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3DD6-3290-4F16-9363-7EABA11126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地铁十八怪"/>
          <p:cNvPicPr/>
          <p:nvPr/>
        </p:nvPicPr>
        <p:blipFill>
          <a:blip r:embed="rId1">
            <a:lum bright="70000" contrast="-70000"/>
          </a:blip>
          <a:srcRect l="0" t="25488" r="0" b="0"/>
          <a:stretch/>
        </p:blipFill>
        <p:spPr>
          <a:xfrm>
            <a:off x="36360" y="2197080"/>
            <a:ext cx="6980400" cy="392436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3"/>
          <p:cNvGrpSpPr/>
          <p:nvPr/>
        </p:nvGrpSpPr>
        <p:grpSpPr>
          <a:xfrm>
            <a:off x="1468440" y="1488960"/>
            <a:ext cx="6075360" cy="2349720"/>
            <a:chOff x="1468440" y="1488960"/>
            <a:chExt cx="6075360" cy="2349720"/>
          </a:xfrm>
        </p:grpSpPr>
        <p:sp>
          <p:nvSpPr>
            <p:cNvPr id="77" name="自由曲线 397"/>
            <p:cNvSpPr/>
            <p:nvPr/>
          </p:nvSpPr>
          <p:spPr>
            <a:xfrm>
              <a:off x="1468440" y="1488960"/>
              <a:ext cx="6075360" cy="234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5"/>
            <p:cNvSpPr/>
            <p:nvPr/>
          </p:nvSpPr>
          <p:spPr>
            <a:xfrm>
              <a:off x="2706120" y="1619640"/>
              <a:ext cx="32670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72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117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1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矩形 12"/>
          <p:cNvSpPr/>
          <p:nvPr/>
        </p:nvSpPr>
        <p:spPr>
          <a:xfrm>
            <a:off x="331560" y="55800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9"/>
          <p:cNvPicPr/>
          <p:nvPr/>
        </p:nvPicPr>
        <p:blipFill>
          <a:blip r:embed="rId1"/>
          <a:srcRect l="4374" t="0" r="3469" b="29902"/>
          <a:stretch/>
        </p:blipFill>
        <p:spPr>
          <a:xfrm>
            <a:off x="685800" y="1838160"/>
            <a:ext cx="4532400" cy="23734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4"/>
          <p:cNvSpPr/>
          <p:nvPr/>
        </p:nvSpPr>
        <p:spPr>
          <a:xfrm>
            <a:off x="5227560" y="2244600"/>
            <a:ext cx="324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九怪：见缝插针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缩骨柔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6416640" y="3225960"/>
            <a:ext cx="1603440" cy="342720"/>
            <a:chOff x="6416640" y="3225960"/>
            <a:chExt cx="1603440" cy="342720"/>
          </a:xfrm>
        </p:grpSpPr>
        <p:sp>
          <p:nvSpPr>
            <p:cNvPr id="209" name="AutoShape 6"/>
            <p:cNvSpPr/>
            <p:nvPr/>
          </p:nvSpPr>
          <p:spPr>
            <a:xfrm>
              <a:off x="7004880" y="322848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7"/>
            <p:cNvSpPr/>
            <p:nvPr/>
          </p:nvSpPr>
          <p:spPr>
            <a:xfrm>
              <a:off x="7309440" y="323100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8"/>
            <p:cNvGrpSpPr/>
            <p:nvPr/>
          </p:nvGrpSpPr>
          <p:grpSpPr>
            <a:xfrm>
              <a:off x="7609680" y="3225960"/>
              <a:ext cx="410400" cy="342720"/>
              <a:chOff x="7609680" y="3225960"/>
              <a:chExt cx="410400" cy="342720"/>
            </a:xfrm>
          </p:grpSpPr>
          <p:sp>
            <p:nvSpPr>
              <p:cNvPr id="212" name="AutoShape 9"/>
              <p:cNvSpPr/>
              <p:nvPr/>
            </p:nvSpPr>
            <p:spPr>
              <a:xfrm>
                <a:off x="7609680" y="322596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0"/>
              <p:cNvSpPr/>
              <p:nvPr/>
            </p:nvSpPr>
            <p:spPr>
              <a:xfrm>
                <a:off x="7732080" y="3225960"/>
                <a:ext cx="2880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AutoShape 11"/>
            <p:cNvSpPr/>
            <p:nvPr/>
          </p:nvSpPr>
          <p:spPr>
            <a:xfrm>
              <a:off x="6710400" y="322848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2"/>
            <p:cNvSpPr/>
            <p:nvPr/>
          </p:nvSpPr>
          <p:spPr>
            <a:xfrm>
              <a:off x="6416640" y="323172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3"/>
          <p:cNvGrpSpPr/>
          <p:nvPr/>
        </p:nvGrpSpPr>
        <p:grpSpPr>
          <a:xfrm>
            <a:off x="6416640" y="3641760"/>
            <a:ext cx="1309680" cy="342720"/>
            <a:chOff x="6416640" y="3641760"/>
            <a:chExt cx="1309680" cy="342720"/>
          </a:xfrm>
        </p:grpSpPr>
        <p:sp>
          <p:nvSpPr>
            <p:cNvPr id="217" name="AutoShape 14"/>
            <p:cNvSpPr/>
            <p:nvPr/>
          </p:nvSpPr>
          <p:spPr>
            <a:xfrm>
              <a:off x="6710760" y="364428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5"/>
            <p:cNvSpPr/>
            <p:nvPr/>
          </p:nvSpPr>
          <p:spPr>
            <a:xfrm>
              <a:off x="7015680" y="364680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16"/>
            <p:cNvGrpSpPr/>
            <p:nvPr/>
          </p:nvGrpSpPr>
          <p:grpSpPr>
            <a:xfrm>
              <a:off x="7315920" y="3641760"/>
              <a:ext cx="410400" cy="342720"/>
              <a:chOff x="7315920" y="3641760"/>
              <a:chExt cx="410400" cy="342720"/>
            </a:xfrm>
          </p:grpSpPr>
          <p:sp>
            <p:nvSpPr>
              <p:cNvPr id="220" name="AutoShape 17"/>
              <p:cNvSpPr/>
              <p:nvPr/>
            </p:nvSpPr>
            <p:spPr>
              <a:xfrm>
                <a:off x="7315920" y="364176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8"/>
              <p:cNvSpPr/>
              <p:nvPr/>
            </p:nvSpPr>
            <p:spPr>
              <a:xfrm>
                <a:off x="7438320" y="3641760"/>
                <a:ext cx="2880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AutoShape 19"/>
            <p:cNvSpPr/>
            <p:nvPr/>
          </p:nvSpPr>
          <p:spPr>
            <a:xfrm>
              <a:off x="6416640" y="364428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20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224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2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10"/>
          <p:cNvPicPr/>
          <p:nvPr/>
        </p:nvPicPr>
        <p:blipFill>
          <a:blip r:embed="rId1"/>
          <a:srcRect l="0" t="0" r="0" b="15082"/>
          <a:stretch/>
        </p:blipFill>
        <p:spPr>
          <a:xfrm>
            <a:off x="971640" y="1692360"/>
            <a:ext cx="4197240" cy="25448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怪：走你推人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推碑手、弓箭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6175440" y="3235320"/>
            <a:ext cx="410760" cy="343080"/>
            <a:chOff x="6175440" y="3235320"/>
            <a:chExt cx="410760" cy="343080"/>
          </a:xfrm>
        </p:grpSpPr>
        <p:sp>
          <p:nvSpPr>
            <p:cNvPr id="230" name="AutoShape 6"/>
            <p:cNvSpPr/>
            <p:nvPr/>
          </p:nvSpPr>
          <p:spPr>
            <a:xfrm>
              <a:off x="6175440" y="3235320"/>
              <a:ext cx="24912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7"/>
            <p:cNvSpPr/>
            <p:nvPr/>
          </p:nvSpPr>
          <p:spPr>
            <a:xfrm>
              <a:off x="6297840" y="3235320"/>
              <a:ext cx="28836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6168960" y="3645000"/>
            <a:ext cx="1460520" cy="253440"/>
            <a:chOff x="6168960" y="3645000"/>
            <a:chExt cx="1460520" cy="253440"/>
          </a:xfrm>
        </p:grpSpPr>
        <p:sp>
          <p:nvSpPr>
            <p:cNvPr id="233" name="AutoShape 9"/>
            <p:cNvSpPr/>
            <p:nvPr/>
          </p:nvSpPr>
          <p:spPr>
            <a:xfrm>
              <a:off x="6463440" y="364500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>
              <a:off x="6768000" y="3647520"/>
              <a:ext cx="248400" cy="248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>
              <a:off x="6168960" y="364500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>
              <a:off x="7075800" y="364788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3"/>
            <p:cNvSpPr/>
            <p:nvPr/>
          </p:nvSpPr>
          <p:spPr>
            <a:xfrm>
              <a:off x="7380720" y="3650400"/>
              <a:ext cx="248760" cy="248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4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239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6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11"/>
          <p:cNvPicPr/>
          <p:nvPr/>
        </p:nvPicPr>
        <p:blipFill>
          <a:blip r:embed="rId1"/>
          <a:srcRect l="0" t="0" r="4703" b="32443"/>
          <a:stretch/>
        </p:blipFill>
        <p:spPr>
          <a:xfrm>
            <a:off x="901800" y="1886040"/>
            <a:ext cx="4205160" cy="21160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5227560" y="2263680"/>
            <a:ext cx="37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一怪：下流猥琐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咸猪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6435720" y="3254400"/>
            <a:ext cx="1603440" cy="342720"/>
            <a:chOff x="6435720" y="3254400"/>
            <a:chExt cx="1603440" cy="342720"/>
          </a:xfrm>
        </p:grpSpPr>
        <p:sp>
          <p:nvSpPr>
            <p:cNvPr id="245" name="AutoShape 6"/>
            <p:cNvSpPr/>
            <p:nvPr/>
          </p:nvSpPr>
          <p:spPr>
            <a:xfrm>
              <a:off x="7023960" y="325692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7"/>
            <p:cNvSpPr/>
            <p:nvPr/>
          </p:nvSpPr>
          <p:spPr>
            <a:xfrm>
              <a:off x="7328520" y="325944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8"/>
            <p:cNvGrpSpPr/>
            <p:nvPr/>
          </p:nvGrpSpPr>
          <p:grpSpPr>
            <a:xfrm>
              <a:off x="7628760" y="3254400"/>
              <a:ext cx="410400" cy="342720"/>
              <a:chOff x="7628760" y="3254400"/>
              <a:chExt cx="410400" cy="342720"/>
            </a:xfrm>
          </p:grpSpPr>
          <p:sp>
            <p:nvSpPr>
              <p:cNvPr id="248" name="AutoShape 9"/>
              <p:cNvSpPr/>
              <p:nvPr/>
            </p:nvSpPr>
            <p:spPr>
              <a:xfrm>
                <a:off x="7628760" y="325440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0"/>
              <p:cNvSpPr/>
              <p:nvPr/>
            </p:nvSpPr>
            <p:spPr>
              <a:xfrm>
                <a:off x="7751160" y="3254400"/>
                <a:ext cx="2880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AutoShape 11"/>
            <p:cNvSpPr/>
            <p:nvPr/>
          </p:nvSpPr>
          <p:spPr>
            <a:xfrm>
              <a:off x="6729480" y="325692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2"/>
            <p:cNvSpPr/>
            <p:nvPr/>
          </p:nvSpPr>
          <p:spPr>
            <a:xfrm>
              <a:off x="6435720" y="326016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3"/>
          <p:cNvGrpSpPr/>
          <p:nvPr/>
        </p:nvGrpSpPr>
        <p:grpSpPr>
          <a:xfrm>
            <a:off x="6445080" y="3664080"/>
            <a:ext cx="1155960" cy="252000"/>
            <a:chOff x="6445080" y="3664080"/>
            <a:chExt cx="1155960" cy="252000"/>
          </a:xfrm>
        </p:grpSpPr>
        <p:sp>
          <p:nvSpPr>
            <p:cNvPr id="253" name="AutoShape 14"/>
            <p:cNvSpPr/>
            <p:nvPr/>
          </p:nvSpPr>
          <p:spPr>
            <a:xfrm>
              <a:off x="6739560" y="366408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5"/>
            <p:cNvSpPr/>
            <p:nvPr/>
          </p:nvSpPr>
          <p:spPr>
            <a:xfrm>
              <a:off x="7044120" y="366660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6"/>
            <p:cNvSpPr/>
            <p:nvPr/>
          </p:nvSpPr>
          <p:spPr>
            <a:xfrm>
              <a:off x="6445080" y="366408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7"/>
            <p:cNvSpPr/>
            <p:nvPr/>
          </p:nvSpPr>
          <p:spPr>
            <a:xfrm>
              <a:off x="7352280" y="366696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8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258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0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12"/>
          <p:cNvPicPr/>
          <p:nvPr/>
        </p:nvPicPr>
        <p:blipFill>
          <a:blip r:embed="rId1"/>
          <a:srcRect l="4209" t="0" r="9955" b="29668"/>
          <a:stretch/>
        </p:blipFill>
        <p:spPr>
          <a:xfrm>
            <a:off x="785880" y="1665360"/>
            <a:ext cx="4232160" cy="26175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5362560" y="2244600"/>
            <a:ext cx="321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二怪：轻舞飞扬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钢管、扶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5"/>
          <p:cNvGrpSpPr/>
          <p:nvPr/>
        </p:nvGrpSpPr>
        <p:grpSpPr>
          <a:xfrm>
            <a:off x="6597720" y="3257640"/>
            <a:ext cx="1143000" cy="252000"/>
            <a:chOff x="6597720" y="3257640"/>
            <a:chExt cx="1143000" cy="252000"/>
          </a:xfrm>
        </p:grpSpPr>
        <p:sp>
          <p:nvSpPr>
            <p:cNvPr id="264" name="AutoShape 6"/>
            <p:cNvSpPr/>
            <p:nvPr/>
          </p:nvSpPr>
          <p:spPr>
            <a:xfrm>
              <a:off x="7186680" y="325764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>
              <a:off x="7491600" y="326016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8"/>
            <p:cNvSpPr/>
            <p:nvPr/>
          </p:nvSpPr>
          <p:spPr>
            <a:xfrm>
              <a:off x="6891840" y="325764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9"/>
            <p:cNvSpPr/>
            <p:nvPr/>
          </p:nvSpPr>
          <p:spPr>
            <a:xfrm>
              <a:off x="6597720" y="326052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0"/>
          <p:cNvGrpSpPr/>
          <p:nvPr/>
        </p:nvGrpSpPr>
        <p:grpSpPr>
          <a:xfrm>
            <a:off x="6597720" y="3641760"/>
            <a:ext cx="1309680" cy="342720"/>
            <a:chOff x="6597720" y="3641760"/>
            <a:chExt cx="1309680" cy="342720"/>
          </a:xfrm>
        </p:grpSpPr>
        <p:sp>
          <p:nvSpPr>
            <p:cNvPr id="269" name="AutoShape 11"/>
            <p:cNvSpPr/>
            <p:nvPr/>
          </p:nvSpPr>
          <p:spPr>
            <a:xfrm>
              <a:off x="6891840" y="364428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12"/>
            <p:cNvSpPr/>
            <p:nvPr/>
          </p:nvSpPr>
          <p:spPr>
            <a:xfrm>
              <a:off x="7196760" y="364680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13"/>
            <p:cNvGrpSpPr/>
            <p:nvPr/>
          </p:nvGrpSpPr>
          <p:grpSpPr>
            <a:xfrm>
              <a:off x="7497000" y="3641760"/>
              <a:ext cx="410400" cy="342720"/>
              <a:chOff x="7497000" y="3641760"/>
              <a:chExt cx="410400" cy="34272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7497000" y="364176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15"/>
              <p:cNvSpPr/>
              <p:nvPr/>
            </p:nvSpPr>
            <p:spPr>
              <a:xfrm>
                <a:off x="7619400" y="3641760"/>
                <a:ext cx="2880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AutoShape 16"/>
            <p:cNvSpPr/>
            <p:nvPr/>
          </p:nvSpPr>
          <p:spPr>
            <a:xfrm>
              <a:off x="6597720" y="364428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7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276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9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13、14"/>
          <p:cNvPicPr/>
          <p:nvPr/>
        </p:nvPicPr>
        <p:blipFill>
          <a:blip r:embed="rId1"/>
          <a:srcRect l="0" t="0" r="11901" b="62037"/>
          <a:stretch/>
        </p:blipFill>
        <p:spPr>
          <a:xfrm>
            <a:off x="828720" y="1822320"/>
            <a:ext cx="3863880" cy="24861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4941720" y="2244600"/>
            <a:ext cx="402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三怪：又脏又臭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灰头、土脸、孜然味的胳肢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6197760" y="3638520"/>
            <a:ext cx="1143000" cy="252000"/>
            <a:chOff x="6197760" y="3638520"/>
            <a:chExt cx="1143000" cy="252000"/>
          </a:xfrm>
        </p:grpSpPr>
        <p:sp>
          <p:nvSpPr>
            <p:cNvPr id="282" name="AutoShape 6"/>
            <p:cNvSpPr/>
            <p:nvPr/>
          </p:nvSpPr>
          <p:spPr>
            <a:xfrm>
              <a:off x="6786720" y="363852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7"/>
            <p:cNvSpPr/>
            <p:nvPr/>
          </p:nvSpPr>
          <p:spPr>
            <a:xfrm>
              <a:off x="7091640" y="364104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8"/>
            <p:cNvSpPr/>
            <p:nvPr/>
          </p:nvSpPr>
          <p:spPr>
            <a:xfrm>
              <a:off x="6491880" y="363852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9"/>
            <p:cNvSpPr/>
            <p:nvPr/>
          </p:nvSpPr>
          <p:spPr>
            <a:xfrm>
              <a:off x="6197760" y="364140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6197760" y="4044960"/>
            <a:ext cx="1460520" cy="253800"/>
            <a:chOff x="6197760" y="4044960"/>
            <a:chExt cx="1460520" cy="253800"/>
          </a:xfrm>
        </p:grpSpPr>
        <p:sp>
          <p:nvSpPr>
            <p:cNvPr id="287" name="AutoShape 11"/>
            <p:cNvSpPr/>
            <p:nvPr/>
          </p:nvSpPr>
          <p:spPr>
            <a:xfrm>
              <a:off x="6492240" y="404496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2"/>
            <p:cNvSpPr/>
            <p:nvPr/>
          </p:nvSpPr>
          <p:spPr>
            <a:xfrm>
              <a:off x="6796800" y="4047480"/>
              <a:ext cx="24840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3"/>
            <p:cNvSpPr/>
            <p:nvPr/>
          </p:nvSpPr>
          <p:spPr>
            <a:xfrm>
              <a:off x="6197760" y="404496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4"/>
            <p:cNvSpPr/>
            <p:nvPr/>
          </p:nvSpPr>
          <p:spPr>
            <a:xfrm>
              <a:off x="7104600" y="404784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5"/>
            <p:cNvSpPr/>
            <p:nvPr/>
          </p:nvSpPr>
          <p:spPr>
            <a:xfrm>
              <a:off x="7409520" y="405036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6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293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8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13、14"/>
          <p:cNvPicPr/>
          <p:nvPr/>
        </p:nvPicPr>
        <p:blipFill>
          <a:blip r:embed="rId1"/>
          <a:srcRect l="0" t="50287" r="7853" b="14294"/>
          <a:stretch/>
        </p:blipFill>
        <p:spPr>
          <a:xfrm>
            <a:off x="612720" y="1822320"/>
            <a:ext cx="4164120" cy="23893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4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四怪：嘚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嘚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6188040" y="3254400"/>
            <a:ext cx="1603440" cy="342720"/>
            <a:chOff x="6188040" y="3254400"/>
            <a:chExt cx="1603440" cy="342720"/>
          </a:xfrm>
        </p:grpSpPr>
        <p:sp>
          <p:nvSpPr>
            <p:cNvPr id="299" name="AutoShape 6"/>
            <p:cNvSpPr/>
            <p:nvPr/>
          </p:nvSpPr>
          <p:spPr>
            <a:xfrm>
              <a:off x="6776280" y="325692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7"/>
            <p:cNvSpPr/>
            <p:nvPr/>
          </p:nvSpPr>
          <p:spPr>
            <a:xfrm>
              <a:off x="7080840" y="325944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8"/>
            <p:cNvGrpSpPr/>
            <p:nvPr/>
          </p:nvGrpSpPr>
          <p:grpSpPr>
            <a:xfrm>
              <a:off x="7381080" y="3254400"/>
              <a:ext cx="410400" cy="342720"/>
              <a:chOff x="7381080" y="3254400"/>
              <a:chExt cx="410400" cy="342720"/>
            </a:xfrm>
          </p:grpSpPr>
          <p:sp>
            <p:nvSpPr>
              <p:cNvPr id="302" name="AutoShape 9"/>
              <p:cNvSpPr/>
              <p:nvPr/>
            </p:nvSpPr>
            <p:spPr>
              <a:xfrm>
                <a:off x="7381080" y="325440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0"/>
              <p:cNvSpPr/>
              <p:nvPr/>
            </p:nvSpPr>
            <p:spPr>
              <a:xfrm>
                <a:off x="7503480" y="3254400"/>
                <a:ext cx="2880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AutoShape 11"/>
            <p:cNvSpPr/>
            <p:nvPr/>
          </p:nvSpPr>
          <p:spPr>
            <a:xfrm>
              <a:off x="6481800" y="325692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12"/>
            <p:cNvSpPr/>
            <p:nvPr/>
          </p:nvSpPr>
          <p:spPr>
            <a:xfrm>
              <a:off x="6188040" y="326016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3"/>
          <p:cNvGrpSpPr/>
          <p:nvPr/>
        </p:nvGrpSpPr>
        <p:grpSpPr>
          <a:xfrm>
            <a:off x="6191280" y="3638520"/>
            <a:ext cx="1603440" cy="343080"/>
            <a:chOff x="6191280" y="3638520"/>
            <a:chExt cx="1603440" cy="343080"/>
          </a:xfrm>
        </p:grpSpPr>
        <p:sp>
          <p:nvSpPr>
            <p:cNvPr id="307" name="AutoShape 14"/>
            <p:cNvSpPr/>
            <p:nvPr/>
          </p:nvSpPr>
          <p:spPr>
            <a:xfrm>
              <a:off x="6779520" y="3641040"/>
              <a:ext cx="24840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5"/>
            <p:cNvSpPr/>
            <p:nvPr/>
          </p:nvSpPr>
          <p:spPr>
            <a:xfrm>
              <a:off x="7084080" y="364356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6"/>
            <p:cNvGrpSpPr/>
            <p:nvPr/>
          </p:nvGrpSpPr>
          <p:grpSpPr>
            <a:xfrm>
              <a:off x="7384320" y="3638520"/>
              <a:ext cx="410400" cy="343080"/>
              <a:chOff x="7384320" y="3638520"/>
              <a:chExt cx="410400" cy="343080"/>
            </a:xfrm>
          </p:grpSpPr>
          <p:sp>
            <p:nvSpPr>
              <p:cNvPr id="310" name="AutoShape 17"/>
              <p:cNvSpPr/>
              <p:nvPr/>
            </p:nvSpPr>
            <p:spPr>
              <a:xfrm>
                <a:off x="7384320" y="3638520"/>
                <a:ext cx="248760" cy="2487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8"/>
              <p:cNvSpPr/>
              <p:nvPr/>
            </p:nvSpPr>
            <p:spPr>
              <a:xfrm>
                <a:off x="7506720" y="3638520"/>
                <a:ext cx="288000" cy="34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AutoShape 19"/>
            <p:cNvSpPr/>
            <p:nvPr/>
          </p:nvSpPr>
          <p:spPr>
            <a:xfrm>
              <a:off x="6485040" y="3641040"/>
              <a:ext cx="24840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20"/>
            <p:cNvSpPr/>
            <p:nvPr/>
          </p:nvSpPr>
          <p:spPr>
            <a:xfrm>
              <a:off x="6191280" y="364428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21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315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23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五怪：泰山压顶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金刚铁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13、15"/>
          <p:cNvPicPr/>
          <p:nvPr/>
        </p:nvPicPr>
        <p:blipFill>
          <a:blip r:embed="rId1"/>
          <a:srcRect l="0" t="0" r="5346" b="64714"/>
          <a:stretch/>
        </p:blipFill>
        <p:spPr>
          <a:xfrm>
            <a:off x="900000" y="1722600"/>
            <a:ext cx="3902040" cy="249048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5"/>
          <p:cNvGrpSpPr/>
          <p:nvPr/>
        </p:nvGrpSpPr>
        <p:grpSpPr>
          <a:xfrm>
            <a:off x="6168960" y="3238560"/>
            <a:ext cx="838440" cy="252000"/>
            <a:chOff x="6168960" y="3238560"/>
            <a:chExt cx="838440" cy="252000"/>
          </a:xfrm>
        </p:grpSpPr>
        <p:sp>
          <p:nvSpPr>
            <p:cNvPr id="321" name="AutoShape 6"/>
            <p:cNvSpPr/>
            <p:nvPr/>
          </p:nvSpPr>
          <p:spPr>
            <a:xfrm>
              <a:off x="6758280" y="323856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7"/>
            <p:cNvSpPr/>
            <p:nvPr/>
          </p:nvSpPr>
          <p:spPr>
            <a:xfrm>
              <a:off x="6463080" y="323856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8"/>
            <p:cNvSpPr/>
            <p:nvPr/>
          </p:nvSpPr>
          <p:spPr>
            <a:xfrm>
              <a:off x="6168960" y="324144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9"/>
          <p:cNvGrpSpPr/>
          <p:nvPr/>
        </p:nvGrpSpPr>
        <p:grpSpPr>
          <a:xfrm>
            <a:off x="6168960" y="3641760"/>
            <a:ext cx="1309680" cy="342720"/>
            <a:chOff x="6168960" y="3641760"/>
            <a:chExt cx="1309680" cy="342720"/>
          </a:xfrm>
        </p:grpSpPr>
        <p:sp>
          <p:nvSpPr>
            <p:cNvPr id="325" name="AutoShape 10"/>
            <p:cNvSpPr/>
            <p:nvPr/>
          </p:nvSpPr>
          <p:spPr>
            <a:xfrm>
              <a:off x="6463080" y="364428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11"/>
            <p:cNvSpPr/>
            <p:nvPr/>
          </p:nvSpPr>
          <p:spPr>
            <a:xfrm>
              <a:off x="6768000" y="364680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2"/>
            <p:cNvGrpSpPr/>
            <p:nvPr/>
          </p:nvGrpSpPr>
          <p:grpSpPr>
            <a:xfrm>
              <a:off x="7068240" y="3641760"/>
              <a:ext cx="410400" cy="342720"/>
              <a:chOff x="7068240" y="3641760"/>
              <a:chExt cx="410400" cy="342720"/>
            </a:xfrm>
          </p:grpSpPr>
          <p:sp>
            <p:nvSpPr>
              <p:cNvPr id="328" name="AutoShape 13"/>
              <p:cNvSpPr/>
              <p:nvPr/>
            </p:nvSpPr>
            <p:spPr>
              <a:xfrm>
                <a:off x="7068240" y="364176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14"/>
              <p:cNvSpPr/>
              <p:nvPr/>
            </p:nvSpPr>
            <p:spPr>
              <a:xfrm>
                <a:off x="7190640" y="3641760"/>
                <a:ext cx="2880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AutoShape 15"/>
            <p:cNvSpPr/>
            <p:nvPr/>
          </p:nvSpPr>
          <p:spPr>
            <a:xfrm>
              <a:off x="6168960" y="364428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16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332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8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16"/>
          <p:cNvPicPr/>
          <p:nvPr/>
        </p:nvPicPr>
        <p:blipFill>
          <a:blip r:embed="rId1"/>
          <a:srcRect l="3820" t="0" r="12936" b="29167"/>
          <a:stretch/>
        </p:blipFill>
        <p:spPr>
          <a:xfrm>
            <a:off x="971640" y="1760400"/>
            <a:ext cx="3703680" cy="245124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4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六怪：音乐公放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山寨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5"/>
          <p:cNvGrpSpPr/>
          <p:nvPr/>
        </p:nvGrpSpPr>
        <p:grpSpPr>
          <a:xfrm>
            <a:off x="6178680" y="3247920"/>
            <a:ext cx="1143000" cy="252000"/>
            <a:chOff x="6178680" y="3247920"/>
            <a:chExt cx="1143000" cy="252000"/>
          </a:xfrm>
        </p:grpSpPr>
        <p:sp>
          <p:nvSpPr>
            <p:cNvPr id="338" name="AutoShape 6"/>
            <p:cNvSpPr/>
            <p:nvPr/>
          </p:nvSpPr>
          <p:spPr>
            <a:xfrm>
              <a:off x="6767640" y="324792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7"/>
            <p:cNvSpPr/>
            <p:nvPr/>
          </p:nvSpPr>
          <p:spPr>
            <a:xfrm>
              <a:off x="7072560" y="325044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8"/>
            <p:cNvSpPr/>
            <p:nvPr/>
          </p:nvSpPr>
          <p:spPr>
            <a:xfrm>
              <a:off x="6472800" y="324792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9"/>
            <p:cNvSpPr/>
            <p:nvPr/>
          </p:nvSpPr>
          <p:spPr>
            <a:xfrm>
              <a:off x="6178680" y="325080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0"/>
          <p:cNvGrpSpPr/>
          <p:nvPr/>
        </p:nvGrpSpPr>
        <p:grpSpPr>
          <a:xfrm>
            <a:off x="6181560" y="3651120"/>
            <a:ext cx="1143000" cy="252360"/>
            <a:chOff x="6181560" y="3651120"/>
            <a:chExt cx="1143000" cy="252360"/>
          </a:xfrm>
        </p:grpSpPr>
        <p:sp>
          <p:nvSpPr>
            <p:cNvPr id="343" name="AutoShape 11"/>
            <p:cNvSpPr/>
            <p:nvPr/>
          </p:nvSpPr>
          <p:spPr>
            <a:xfrm>
              <a:off x="6770520" y="3651120"/>
              <a:ext cx="248760" cy="24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2"/>
            <p:cNvSpPr/>
            <p:nvPr/>
          </p:nvSpPr>
          <p:spPr>
            <a:xfrm>
              <a:off x="7075440" y="3653640"/>
              <a:ext cx="249120" cy="24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3"/>
            <p:cNvSpPr/>
            <p:nvPr/>
          </p:nvSpPr>
          <p:spPr>
            <a:xfrm>
              <a:off x="6475680" y="3651120"/>
              <a:ext cx="248760" cy="24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4"/>
            <p:cNvSpPr/>
            <p:nvPr/>
          </p:nvSpPr>
          <p:spPr>
            <a:xfrm>
              <a:off x="6181560" y="3654000"/>
              <a:ext cx="249120" cy="24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5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348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7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17、18"/>
          <p:cNvPicPr/>
          <p:nvPr/>
        </p:nvPicPr>
        <p:blipFill>
          <a:blip r:embed="rId1"/>
          <a:srcRect l="10242" t="0" r="12863" b="68871"/>
          <a:stretch/>
        </p:blipFill>
        <p:spPr>
          <a:xfrm>
            <a:off x="858960" y="1836720"/>
            <a:ext cx="4073400" cy="24843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5006880" y="22446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七怪：席地而坐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编织袋、随身背包、各种包和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5"/>
          <p:cNvGrpSpPr/>
          <p:nvPr/>
        </p:nvGrpSpPr>
        <p:grpSpPr>
          <a:xfrm>
            <a:off x="6251400" y="3645000"/>
            <a:ext cx="1309680" cy="342720"/>
            <a:chOff x="6251400" y="3645000"/>
            <a:chExt cx="1309680" cy="342720"/>
          </a:xfrm>
        </p:grpSpPr>
        <p:sp>
          <p:nvSpPr>
            <p:cNvPr id="354" name="AutoShape 6"/>
            <p:cNvSpPr/>
            <p:nvPr/>
          </p:nvSpPr>
          <p:spPr>
            <a:xfrm>
              <a:off x="6545880" y="364752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7"/>
            <p:cNvSpPr/>
            <p:nvPr/>
          </p:nvSpPr>
          <p:spPr>
            <a:xfrm>
              <a:off x="6850440" y="365004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8"/>
            <p:cNvGrpSpPr/>
            <p:nvPr/>
          </p:nvGrpSpPr>
          <p:grpSpPr>
            <a:xfrm>
              <a:off x="7150680" y="3645000"/>
              <a:ext cx="410400" cy="342720"/>
              <a:chOff x="7150680" y="3645000"/>
              <a:chExt cx="410400" cy="342720"/>
            </a:xfrm>
          </p:grpSpPr>
          <p:sp>
            <p:nvSpPr>
              <p:cNvPr id="357" name="AutoShape 9"/>
              <p:cNvSpPr/>
              <p:nvPr/>
            </p:nvSpPr>
            <p:spPr>
              <a:xfrm>
                <a:off x="7150680" y="364500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0"/>
              <p:cNvSpPr/>
              <p:nvPr/>
            </p:nvSpPr>
            <p:spPr>
              <a:xfrm>
                <a:off x="7273080" y="3645000"/>
                <a:ext cx="2880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AutoShape 11"/>
            <p:cNvSpPr/>
            <p:nvPr/>
          </p:nvSpPr>
          <p:spPr>
            <a:xfrm>
              <a:off x="6251400" y="364752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2"/>
          <p:cNvGrpSpPr/>
          <p:nvPr/>
        </p:nvGrpSpPr>
        <p:grpSpPr>
          <a:xfrm>
            <a:off x="6254640" y="4070520"/>
            <a:ext cx="847440" cy="250560"/>
            <a:chOff x="6254640" y="4070520"/>
            <a:chExt cx="847440" cy="250560"/>
          </a:xfrm>
        </p:grpSpPr>
        <p:sp>
          <p:nvSpPr>
            <p:cNvPr id="361" name="AutoShape 13"/>
            <p:cNvSpPr/>
            <p:nvPr/>
          </p:nvSpPr>
          <p:spPr>
            <a:xfrm>
              <a:off x="6549120" y="4070520"/>
              <a:ext cx="248760" cy="248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14"/>
            <p:cNvSpPr/>
            <p:nvPr/>
          </p:nvSpPr>
          <p:spPr>
            <a:xfrm>
              <a:off x="6853680" y="4073040"/>
              <a:ext cx="248400" cy="248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15"/>
            <p:cNvSpPr/>
            <p:nvPr/>
          </p:nvSpPr>
          <p:spPr>
            <a:xfrm>
              <a:off x="6254640" y="4070520"/>
              <a:ext cx="248760" cy="248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6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365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8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" descr="18"/>
          <p:cNvPicPr/>
          <p:nvPr/>
        </p:nvPicPr>
        <p:blipFill>
          <a:blip r:embed="rId1"/>
          <a:srcRect l="10892" t="3030" r="12206" b="28426"/>
          <a:stretch/>
        </p:blipFill>
        <p:spPr>
          <a:xfrm>
            <a:off x="1116000" y="1731960"/>
            <a:ext cx="3672000" cy="26272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4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十八怪：借力高跷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高跟鞋、尖头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5"/>
          <p:cNvGrpSpPr/>
          <p:nvPr/>
        </p:nvGrpSpPr>
        <p:grpSpPr>
          <a:xfrm>
            <a:off x="6168960" y="3238560"/>
            <a:ext cx="838440" cy="252000"/>
            <a:chOff x="6168960" y="3238560"/>
            <a:chExt cx="838440" cy="252000"/>
          </a:xfrm>
        </p:grpSpPr>
        <p:sp>
          <p:nvSpPr>
            <p:cNvPr id="371" name="AutoShape 6"/>
            <p:cNvSpPr/>
            <p:nvPr/>
          </p:nvSpPr>
          <p:spPr>
            <a:xfrm>
              <a:off x="6758280" y="323856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7"/>
            <p:cNvSpPr/>
            <p:nvPr/>
          </p:nvSpPr>
          <p:spPr>
            <a:xfrm>
              <a:off x="6463080" y="323856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8"/>
            <p:cNvSpPr/>
            <p:nvPr/>
          </p:nvSpPr>
          <p:spPr>
            <a:xfrm>
              <a:off x="6168960" y="3241440"/>
              <a:ext cx="24912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9"/>
          <p:cNvGrpSpPr/>
          <p:nvPr/>
        </p:nvGrpSpPr>
        <p:grpSpPr>
          <a:xfrm>
            <a:off x="6164280" y="3648240"/>
            <a:ext cx="1461960" cy="255600"/>
            <a:chOff x="6164280" y="3648240"/>
            <a:chExt cx="1461960" cy="255600"/>
          </a:xfrm>
        </p:grpSpPr>
        <p:sp>
          <p:nvSpPr>
            <p:cNvPr id="375" name="AutoShape 10"/>
            <p:cNvSpPr/>
            <p:nvPr/>
          </p:nvSpPr>
          <p:spPr>
            <a:xfrm>
              <a:off x="6458760" y="3648240"/>
              <a:ext cx="24912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1"/>
            <p:cNvSpPr/>
            <p:nvPr/>
          </p:nvSpPr>
          <p:spPr>
            <a:xfrm>
              <a:off x="6764040" y="3650760"/>
              <a:ext cx="24876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12"/>
            <p:cNvSpPr/>
            <p:nvPr/>
          </p:nvSpPr>
          <p:spPr>
            <a:xfrm>
              <a:off x="6164280" y="3648240"/>
              <a:ext cx="24912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13"/>
            <p:cNvSpPr/>
            <p:nvPr/>
          </p:nvSpPr>
          <p:spPr>
            <a:xfrm>
              <a:off x="7072200" y="3651120"/>
              <a:ext cx="24912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4"/>
            <p:cNvSpPr/>
            <p:nvPr/>
          </p:nvSpPr>
          <p:spPr>
            <a:xfrm>
              <a:off x="7377120" y="3654000"/>
              <a:ext cx="24912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5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381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7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、2"/>
          <p:cNvPicPr/>
          <p:nvPr/>
        </p:nvPicPr>
        <p:blipFill>
          <a:blip r:embed="rId1"/>
          <a:srcRect l="10599" t="0" r="12578" b="59664"/>
          <a:stretch/>
        </p:blipFill>
        <p:spPr>
          <a:xfrm>
            <a:off x="1189080" y="1628640"/>
            <a:ext cx="3440160" cy="2654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5436000" y="2195640"/>
            <a:ext cx="168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一怪：香气袭人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超浓劣质香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6164280" y="3187800"/>
            <a:ext cx="553680" cy="250560"/>
            <a:chOff x="6164280" y="3187800"/>
            <a:chExt cx="553680" cy="250560"/>
          </a:xfrm>
        </p:grpSpPr>
        <p:sp>
          <p:nvSpPr>
            <p:cNvPr id="83" name="AutoShape 5"/>
            <p:cNvSpPr/>
            <p:nvPr/>
          </p:nvSpPr>
          <p:spPr>
            <a:xfrm>
              <a:off x="6164280" y="3187800"/>
              <a:ext cx="249120" cy="248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6"/>
            <p:cNvSpPr/>
            <p:nvPr/>
          </p:nvSpPr>
          <p:spPr>
            <a:xfrm>
              <a:off x="6469200" y="3190320"/>
              <a:ext cx="248760" cy="248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7"/>
          <p:cNvGrpSpPr/>
          <p:nvPr/>
        </p:nvGrpSpPr>
        <p:grpSpPr>
          <a:xfrm>
            <a:off x="6156360" y="3589200"/>
            <a:ext cx="1015560" cy="343080"/>
            <a:chOff x="6156360" y="3589200"/>
            <a:chExt cx="1015560" cy="343080"/>
          </a:xfrm>
        </p:grpSpPr>
        <p:sp>
          <p:nvSpPr>
            <p:cNvPr id="86" name="AutoShape 8"/>
            <p:cNvSpPr/>
            <p:nvPr/>
          </p:nvSpPr>
          <p:spPr>
            <a:xfrm>
              <a:off x="6156360" y="359172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9"/>
            <p:cNvSpPr/>
            <p:nvPr/>
          </p:nvSpPr>
          <p:spPr>
            <a:xfrm>
              <a:off x="6460920" y="359424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10"/>
            <p:cNvGrpSpPr/>
            <p:nvPr/>
          </p:nvGrpSpPr>
          <p:grpSpPr>
            <a:xfrm>
              <a:off x="6761160" y="3589200"/>
              <a:ext cx="410760" cy="343080"/>
              <a:chOff x="6761160" y="3589200"/>
              <a:chExt cx="410760" cy="343080"/>
            </a:xfrm>
          </p:grpSpPr>
          <p:sp>
            <p:nvSpPr>
              <p:cNvPr id="89" name="AutoShape 11"/>
              <p:cNvSpPr/>
              <p:nvPr/>
            </p:nvSpPr>
            <p:spPr>
              <a:xfrm>
                <a:off x="6761160" y="3589200"/>
                <a:ext cx="248760" cy="2487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2"/>
              <p:cNvSpPr/>
              <p:nvPr/>
            </p:nvSpPr>
            <p:spPr>
              <a:xfrm>
                <a:off x="6883560" y="3589200"/>
                <a:ext cx="288360" cy="34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Oval 13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4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93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3009960" y="1498680"/>
            <a:ext cx="3000960" cy="1407960"/>
            <a:chOff x="3009960" y="1498680"/>
            <a:chExt cx="3000960" cy="1407960"/>
          </a:xfrm>
        </p:grpSpPr>
        <p:sp>
          <p:nvSpPr>
            <p:cNvPr id="384" name="自由曲线 379"/>
            <p:cNvSpPr/>
            <p:nvPr/>
          </p:nvSpPr>
          <p:spPr>
            <a:xfrm>
              <a:off x="3009960" y="1498680"/>
              <a:ext cx="3000960" cy="14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62" y="4886"/>
                  </a:moveTo>
                  <a:cubicBezTo>
                    <a:pt x="1608" y="4691"/>
                    <a:pt x="1713" y="3961"/>
                    <a:pt x="1768" y="3572"/>
                  </a:cubicBezTo>
                  <a:cubicBezTo>
                    <a:pt x="1823" y="3183"/>
                    <a:pt x="1850" y="2891"/>
                    <a:pt x="1905" y="2550"/>
                  </a:cubicBezTo>
                  <a:cubicBezTo>
                    <a:pt x="1960" y="2209"/>
                    <a:pt x="1996" y="1771"/>
                    <a:pt x="2111" y="1528"/>
                  </a:cubicBezTo>
                  <a:cubicBezTo>
                    <a:pt x="2225" y="1284"/>
                    <a:pt x="2430" y="1187"/>
                    <a:pt x="2590" y="1090"/>
                  </a:cubicBezTo>
                  <a:cubicBezTo>
                    <a:pt x="2750" y="992"/>
                    <a:pt x="2910" y="992"/>
                    <a:pt x="3070" y="944"/>
                  </a:cubicBezTo>
                  <a:cubicBezTo>
                    <a:pt x="3230" y="895"/>
                    <a:pt x="3390" y="846"/>
                    <a:pt x="3550" y="798"/>
                  </a:cubicBezTo>
                  <a:cubicBezTo>
                    <a:pt x="3710" y="749"/>
                    <a:pt x="3870" y="671"/>
                    <a:pt x="4030" y="652"/>
                  </a:cubicBezTo>
                  <a:cubicBezTo>
                    <a:pt x="4190" y="632"/>
                    <a:pt x="4350" y="554"/>
                    <a:pt x="4510" y="652"/>
                  </a:cubicBezTo>
                  <a:cubicBezTo>
                    <a:pt x="4670" y="749"/>
                    <a:pt x="4829" y="1022"/>
                    <a:pt x="4989" y="1236"/>
                  </a:cubicBezTo>
                  <a:cubicBezTo>
                    <a:pt x="5149" y="1450"/>
                    <a:pt x="5346" y="1674"/>
                    <a:pt x="5469" y="1966"/>
                  </a:cubicBezTo>
                  <a:cubicBezTo>
                    <a:pt x="5593" y="2258"/>
                    <a:pt x="5620" y="2988"/>
                    <a:pt x="5743" y="2988"/>
                  </a:cubicBezTo>
                  <a:cubicBezTo>
                    <a:pt x="5867" y="2988"/>
                    <a:pt x="6063" y="2229"/>
                    <a:pt x="6223" y="1966"/>
                  </a:cubicBezTo>
                  <a:cubicBezTo>
                    <a:pt x="6383" y="1703"/>
                    <a:pt x="6543" y="1576"/>
                    <a:pt x="6703" y="1382"/>
                  </a:cubicBezTo>
                  <a:cubicBezTo>
                    <a:pt x="6863" y="1187"/>
                    <a:pt x="7023" y="944"/>
                    <a:pt x="7183" y="798"/>
                  </a:cubicBezTo>
                  <a:cubicBezTo>
                    <a:pt x="7343" y="652"/>
                    <a:pt x="7503" y="554"/>
                    <a:pt x="7663" y="506"/>
                  </a:cubicBezTo>
                  <a:cubicBezTo>
                    <a:pt x="7822" y="457"/>
                    <a:pt x="7982" y="525"/>
                    <a:pt x="8142" y="506"/>
                  </a:cubicBezTo>
                  <a:cubicBezTo>
                    <a:pt x="8302" y="486"/>
                    <a:pt x="8462" y="262"/>
                    <a:pt x="8622" y="360"/>
                  </a:cubicBezTo>
                  <a:cubicBezTo>
                    <a:pt x="8782" y="457"/>
                    <a:pt x="8933" y="924"/>
                    <a:pt x="9102" y="1090"/>
                  </a:cubicBezTo>
                  <a:cubicBezTo>
                    <a:pt x="9271" y="1255"/>
                    <a:pt x="9445" y="1382"/>
                    <a:pt x="9650" y="1382"/>
                  </a:cubicBezTo>
                  <a:cubicBezTo>
                    <a:pt x="9856" y="1382"/>
                    <a:pt x="10144" y="1187"/>
                    <a:pt x="10336" y="1090"/>
                  </a:cubicBezTo>
                  <a:cubicBezTo>
                    <a:pt x="10528" y="992"/>
                    <a:pt x="10646" y="866"/>
                    <a:pt x="10815" y="798"/>
                  </a:cubicBezTo>
                  <a:cubicBezTo>
                    <a:pt x="10985" y="730"/>
                    <a:pt x="11195" y="632"/>
                    <a:pt x="11364" y="652"/>
                  </a:cubicBezTo>
                  <a:cubicBezTo>
                    <a:pt x="11533" y="671"/>
                    <a:pt x="11675" y="876"/>
                    <a:pt x="11844" y="944"/>
                  </a:cubicBezTo>
                  <a:cubicBezTo>
                    <a:pt x="12013" y="1012"/>
                    <a:pt x="12200" y="1109"/>
                    <a:pt x="12392" y="1090"/>
                  </a:cubicBezTo>
                  <a:cubicBezTo>
                    <a:pt x="12584" y="1070"/>
                    <a:pt x="12826" y="895"/>
                    <a:pt x="13009" y="798"/>
                  </a:cubicBezTo>
                  <a:cubicBezTo>
                    <a:pt x="13192" y="700"/>
                    <a:pt x="13320" y="554"/>
                    <a:pt x="13489" y="506"/>
                  </a:cubicBezTo>
                  <a:cubicBezTo>
                    <a:pt x="13658" y="457"/>
                    <a:pt x="13854" y="506"/>
                    <a:pt x="14037" y="506"/>
                  </a:cubicBezTo>
                  <a:cubicBezTo>
                    <a:pt x="14220" y="506"/>
                    <a:pt x="14416" y="574"/>
                    <a:pt x="14585" y="506"/>
                  </a:cubicBezTo>
                  <a:cubicBezTo>
                    <a:pt x="14754" y="438"/>
                    <a:pt x="14905" y="136"/>
                    <a:pt x="15065" y="68"/>
                  </a:cubicBezTo>
                  <a:cubicBezTo>
                    <a:pt x="15225" y="0"/>
                    <a:pt x="15376" y="68"/>
                    <a:pt x="15545" y="68"/>
                  </a:cubicBezTo>
                  <a:cubicBezTo>
                    <a:pt x="15714" y="68"/>
                    <a:pt x="15924" y="68"/>
                    <a:pt x="16093" y="68"/>
                  </a:cubicBezTo>
                  <a:cubicBezTo>
                    <a:pt x="16262" y="68"/>
                    <a:pt x="16413" y="0"/>
                    <a:pt x="16573" y="68"/>
                  </a:cubicBezTo>
                  <a:cubicBezTo>
                    <a:pt x="16733" y="136"/>
                    <a:pt x="16952" y="262"/>
                    <a:pt x="17053" y="506"/>
                  </a:cubicBezTo>
                  <a:cubicBezTo>
                    <a:pt x="17153" y="749"/>
                    <a:pt x="17144" y="1187"/>
                    <a:pt x="17190" y="1528"/>
                  </a:cubicBezTo>
                  <a:cubicBezTo>
                    <a:pt x="17236" y="1868"/>
                    <a:pt x="17295" y="2190"/>
                    <a:pt x="17327" y="2550"/>
                  </a:cubicBezTo>
                  <a:cubicBezTo>
                    <a:pt x="17359" y="2910"/>
                    <a:pt x="17464" y="3406"/>
                    <a:pt x="17396" y="3718"/>
                  </a:cubicBezTo>
                  <a:cubicBezTo>
                    <a:pt x="17327" y="4029"/>
                    <a:pt x="17007" y="4156"/>
                    <a:pt x="16916" y="4448"/>
                  </a:cubicBezTo>
                  <a:cubicBezTo>
                    <a:pt x="16824" y="4740"/>
                    <a:pt x="16879" y="5129"/>
                    <a:pt x="16847" y="5470"/>
                  </a:cubicBezTo>
                  <a:cubicBezTo>
                    <a:pt x="16815" y="5811"/>
                    <a:pt x="16779" y="6151"/>
                    <a:pt x="16710" y="6492"/>
                  </a:cubicBezTo>
                  <a:cubicBezTo>
                    <a:pt x="16642" y="6833"/>
                    <a:pt x="16573" y="7222"/>
                    <a:pt x="16436" y="7514"/>
                  </a:cubicBezTo>
                  <a:cubicBezTo>
                    <a:pt x="16299" y="7806"/>
                    <a:pt x="16011" y="7933"/>
                    <a:pt x="15888" y="8244"/>
                  </a:cubicBezTo>
                  <a:cubicBezTo>
                    <a:pt x="15764" y="8556"/>
                    <a:pt x="15714" y="9052"/>
                    <a:pt x="15682" y="9412"/>
                  </a:cubicBezTo>
                  <a:cubicBezTo>
                    <a:pt x="15650" y="9773"/>
                    <a:pt x="15591" y="10172"/>
                    <a:pt x="15682" y="10434"/>
                  </a:cubicBezTo>
                  <a:cubicBezTo>
                    <a:pt x="15773" y="10697"/>
                    <a:pt x="16048" y="10921"/>
                    <a:pt x="16230" y="11019"/>
                  </a:cubicBezTo>
                  <a:cubicBezTo>
                    <a:pt x="16413" y="11116"/>
                    <a:pt x="16610" y="11019"/>
                    <a:pt x="16779" y="11019"/>
                  </a:cubicBezTo>
                  <a:cubicBezTo>
                    <a:pt x="16948" y="11019"/>
                    <a:pt x="17099" y="11019"/>
                    <a:pt x="17258" y="11019"/>
                  </a:cubicBezTo>
                  <a:cubicBezTo>
                    <a:pt x="17418" y="11019"/>
                    <a:pt x="17578" y="11019"/>
                    <a:pt x="17738" y="11019"/>
                  </a:cubicBezTo>
                  <a:cubicBezTo>
                    <a:pt x="17898" y="11019"/>
                    <a:pt x="18058" y="11019"/>
                    <a:pt x="18218" y="11019"/>
                  </a:cubicBezTo>
                  <a:cubicBezTo>
                    <a:pt x="18378" y="11019"/>
                    <a:pt x="18529" y="11019"/>
                    <a:pt x="18698" y="11019"/>
                  </a:cubicBezTo>
                  <a:cubicBezTo>
                    <a:pt x="18867" y="11019"/>
                    <a:pt x="19063" y="10999"/>
                    <a:pt x="19246" y="11019"/>
                  </a:cubicBezTo>
                  <a:cubicBezTo>
                    <a:pt x="19429" y="11038"/>
                    <a:pt x="19625" y="11048"/>
                    <a:pt x="19795" y="11165"/>
                  </a:cubicBezTo>
                  <a:cubicBezTo>
                    <a:pt x="19964" y="11281"/>
                    <a:pt x="20105" y="11583"/>
                    <a:pt x="20274" y="11749"/>
                  </a:cubicBezTo>
                  <a:cubicBezTo>
                    <a:pt x="20443" y="11914"/>
                    <a:pt x="20654" y="12021"/>
                    <a:pt x="20823" y="12187"/>
                  </a:cubicBezTo>
                  <a:cubicBezTo>
                    <a:pt x="20992" y="12352"/>
                    <a:pt x="21211" y="12508"/>
                    <a:pt x="21302" y="12771"/>
                  </a:cubicBezTo>
                  <a:cubicBezTo>
                    <a:pt x="21394" y="13033"/>
                    <a:pt x="21403" y="13452"/>
                    <a:pt x="21371" y="13793"/>
                  </a:cubicBezTo>
                  <a:cubicBezTo>
                    <a:pt x="21339" y="14133"/>
                    <a:pt x="21088" y="14474"/>
                    <a:pt x="21097" y="14815"/>
                  </a:cubicBezTo>
                  <a:cubicBezTo>
                    <a:pt x="21106" y="15156"/>
                    <a:pt x="21362" y="15477"/>
                    <a:pt x="21440" y="15837"/>
                  </a:cubicBezTo>
                  <a:cubicBezTo>
                    <a:pt x="21517" y="16197"/>
                    <a:pt x="21600" y="16616"/>
                    <a:pt x="21577" y="17005"/>
                  </a:cubicBezTo>
                  <a:cubicBezTo>
                    <a:pt x="21554" y="17394"/>
                    <a:pt x="21371" y="17784"/>
                    <a:pt x="21302" y="18173"/>
                  </a:cubicBezTo>
                  <a:cubicBezTo>
                    <a:pt x="21234" y="18562"/>
                    <a:pt x="21280" y="19049"/>
                    <a:pt x="21165" y="19341"/>
                  </a:cubicBezTo>
                  <a:cubicBezTo>
                    <a:pt x="21051" y="19633"/>
                    <a:pt x="20832" y="19828"/>
                    <a:pt x="20617" y="19925"/>
                  </a:cubicBezTo>
                  <a:cubicBezTo>
                    <a:pt x="20402" y="20023"/>
                    <a:pt x="20114" y="19925"/>
                    <a:pt x="19863" y="19925"/>
                  </a:cubicBezTo>
                  <a:cubicBezTo>
                    <a:pt x="19612" y="19925"/>
                    <a:pt x="19324" y="19925"/>
                    <a:pt x="19109" y="19925"/>
                  </a:cubicBezTo>
                  <a:cubicBezTo>
                    <a:pt x="18894" y="19925"/>
                    <a:pt x="18730" y="19925"/>
                    <a:pt x="18561" y="19925"/>
                  </a:cubicBezTo>
                  <a:cubicBezTo>
                    <a:pt x="18392" y="19925"/>
                    <a:pt x="18241" y="19857"/>
                    <a:pt x="18081" y="19925"/>
                  </a:cubicBezTo>
                  <a:cubicBezTo>
                    <a:pt x="17921" y="19993"/>
                    <a:pt x="17761" y="20198"/>
                    <a:pt x="17601" y="20363"/>
                  </a:cubicBezTo>
                  <a:cubicBezTo>
                    <a:pt x="17441" y="20529"/>
                    <a:pt x="17281" y="20782"/>
                    <a:pt x="17121" y="20947"/>
                  </a:cubicBezTo>
                  <a:cubicBezTo>
                    <a:pt x="16961" y="21113"/>
                    <a:pt x="16811" y="21317"/>
                    <a:pt x="16642" y="21385"/>
                  </a:cubicBezTo>
                  <a:cubicBezTo>
                    <a:pt x="16473" y="21453"/>
                    <a:pt x="16276" y="21385"/>
                    <a:pt x="16093" y="21385"/>
                  </a:cubicBezTo>
                  <a:cubicBezTo>
                    <a:pt x="15910" y="21385"/>
                    <a:pt x="15714" y="21405"/>
                    <a:pt x="15545" y="21385"/>
                  </a:cubicBezTo>
                  <a:cubicBezTo>
                    <a:pt x="15376" y="21366"/>
                    <a:pt x="15225" y="21307"/>
                    <a:pt x="15065" y="21239"/>
                  </a:cubicBezTo>
                  <a:cubicBezTo>
                    <a:pt x="14905" y="21171"/>
                    <a:pt x="14745" y="20996"/>
                    <a:pt x="14585" y="20947"/>
                  </a:cubicBezTo>
                  <a:cubicBezTo>
                    <a:pt x="14425" y="20899"/>
                    <a:pt x="14275" y="20928"/>
                    <a:pt x="14106" y="20947"/>
                  </a:cubicBezTo>
                  <a:cubicBezTo>
                    <a:pt x="13936" y="20967"/>
                    <a:pt x="13740" y="20996"/>
                    <a:pt x="13557" y="21093"/>
                  </a:cubicBezTo>
                  <a:cubicBezTo>
                    <a:pt x="13374" y="21191"/>
                    <a:pt x="13178" y="21463"/>
                    <a:pt x="13009" y="21531"/>
                  </a:cubicBezTo>
                  <a:cubicBezTo>
                    <a:pt x="12840" y="21600"/>
                    <a:pt x="12712" y="21531"/>
                    <a:pt x="12529" y="21531"/>
                  </a:cubicBezTo>
                  <a:cubicBezTo>
                    <a:pt x="12346" y="21531"/>
                    <a:pt x="12095" y="21531"/>
                    <a:pt x="11912" y="21531"/>
                  </a:cubicBezTo>
                  <a:cubicBezTo>
                    <a:pt x="11729" y="21531"/>
                    <a:pt x="12013" y="21531"/>
                    <a:pt x="11432" y="21531"/>
                  </a:cubicBezTo>
                  <a:cubicBezTo>
                    <a:pt x="10852" y="21531"/>
                    <a:pt x="8997" y="21531"/>
                    <a:pt x="8417" y="21531"/>
                  </a:cubicBezTo>
                  <a:cubicBezTo>
                    <a:pt x="7836" y="21531"/>
                    <a:pt x="8106" y="21531"/>
                    <a:pt x="7937" y="21531"/>
                  </a:cubicBezTo>
                  <a:cubicBezTo>
                    <a:pt x="7768" y="21531"/>
                    <a:pt x="7571" y="21531"/>
                    <a:pt x="7388" y="21531"/>
                  </a:cubicBezTo>
                  <a:cubicBezTo>
                    <a:pt x="7206" y="21531"/>
                    <a:pt x="7023" y="21531"/>
                    <a:pt x="6840" y="21531"/>
                  </a:cubicBezTo>
                  <a:cubicBezTo>
                    <a:pt x="6657" y="21531"/>
                    <a:pt x="6474" y="21551"/>
                    <a:pt x="6292" y="21531"/>
                  </a:cubicBezTo>
                  <a:cubicBezTo>
                    <a:pt x="6109" y="21512"/>
                    <a:pt x="5949" y="21434"/>
                    <a:pt x="5743" y="21385"/>
                  </a:cubicBezTo>
                  <a:cubicBezTo>
                    <a:pt x="5538" y="21337"/>
                    <a:pt x="5250" y="21405"/>
                    <a:pt x="5058" y="21239"/>
                  </a:cubicBezTo>
                  <a:cubicBezTo>
                    <a:pt x="4866" y="21074"/>
                    <a:pt x="4761" y="20529"/>
                    <a:pt x="4578" y="20363"/>
                  </a:cubicBezTo>
                  <a:cubicBezTo>
                    <a:pt x="4395" y="20198"/>
                    <a:pt x="4144" y="20237"/>
                    <a:pt x="3961" y="20217"/>
                  </a:cubicBezTo>
                  <a:cubicBezTo>
                    <a:pt x="3778" y="20198"/>
                    <a:pt x="3651" y="20198"/>
                    <a:pt x="3481" y="20217"/>
                  </a:cubicBezTo>
                  <a:cubicBezTo>
                    <a:pt x="3312" y="20237"/>
                    <a:pt x="3116" y="20315"/>
                    <a:pt x="2933" y="20363"/>
                  </a:cubicBezTo>
                  <a:cubicBezTo>
                    <a:pt x="2750" y="20412"/>
                    <a:pt x="2554" y="20577"/>
                    <a:pt x="2385" y="20509"/>
                  </a:cubicBezTo>
                  <a:cubicBezTo>
                    <a:pt x="2216" y="20441"/>
                    <a:pt x="2074" y="20091"/>
                    <a:pt x="1905" y="19925"/>
                  </a:cubicBezTo>
                  <a:cubicBezTo>
                    <a:pt x="1736" y="19760"/>
                    <a:pt x="1526" y="19633"/>
                    <a:pt x="1357" y="19487"/>
                  </a:cubicBezTo>
                  <a:cubicBezTo>
                    <a:pt x="1188" y="19341"/>
                    <a:pt x="1023" y="19293"/>
                    <a:pt x="877" y="19049"/>
                  </a:cubicBezTo>
                  <a:cubicBezTo>
                    <a:pt x="731" y="18806"/>
                    <a:pt x="580" y="18368"/>
                    <a:pt x="466" y="18027"/>
                  </a:cubicBezTo>
                  <a:cubicBezTo>
                    <a:pt x="351" y="17686"/>
                    <a:pt x="260" y="17346"/>
                    <a:pt x="191" y="17005"/>
                  </a:cubicBezTo>
                  <a:cubicBezTo>
                    <a:pt x="123" y="16664"/>
                    <a:pt x="0" y="16246"/>
                    <a:pt x="54" y="15983"/>
                  </a:cubicBezTo>
                  <a:cubicBezTo>
                    <a:pt x="109" y="15720"/>
                    <a:pt x="374" y="15564"/>
                    <a:pt x="534" y="15399"/>
                  </a:cubicBezTo>
                  <a:cubicBezTo>
                    <a:pt x="694" y="15233"/>
                    <a:pt x="923" y="15204"/>
                    <a:pt x="1014" y="14961"/>
                  </a:cubicBezTo>
                  <a:cubicBezTo>
                    <a:pt x="1105" y="14717"/>
                    <a:pt x="1092" y="14328"/>
                    <a:pt x="1082" y="13939"/>
                  </a:cubicBezTo>
                  <a:cubicBezTo>
                    <a:pt x="1073" y="13549"/>
                    <a:pt x="968" y="13014"/>
                    <a:pt x="945" y="12625"/>
                  </a:cubicBezTo>
                  <a:cubicBezTo>
                    <a:pt x="923" y="12235"/>
                    <a:pt x="1023" y="11865"/>
                    <a:pt x="945" y="11603"/>
                  </a:cubicBezTo>
                  <a:cubicBezTo>
                    <a:pt x="868" y="11340"/>
                    <a:pt x="566" y="11281"/>
                    <a:pt x="466" y="11019"/>
                  </a:cubicBezTo>
                  <a:cubicBezTo>
                    <a:pt x="365" y="10756"/>
                    <a:pt x="351" y="10337"/>
                    <a:pt x="329" y="9996"/>
                  </a:cubicBezTo>
                  <a:cubicBezTo>
                    <a:pt x="306" y="9656"/>
                    <a:pt x="283" y="9315"/>
                    <a:pt x="329" y="8974"/>
                  </a:cubicBezTo>
                  <a:cubicBezTo>
                    <a:pt x="374" y="8634"/>
                    <a:pt x="488" y="8312"/>
                    <a:pt x="603" y="7952"/>
                  </a:cubicBezTo>
                  <a:cubicBezTo>
                    <a:pt x="717" y="7592"/>
                    <a:pt x="913" y="7144"/>
                    <a:pt x="1014" y="6784"/>
                  </a:cubicBezTo>
                  <a:cubicBezTo>
                    <a:pt x="1114" y="6424"/>
                    <a:pt x="1142" y="6103"/>
                    <a:pt x="1220" y="5762"/>
                  </a:cubicBezTo>
                  <a:cubicBezTo>
                    <a:pt x="1297" y="5421"/>
                    <a:pt x="1439" y="4886"/>
                    <a:pt x="1494" y="4740"/>
                  </a:cubicBezTo>
                  <a:cubicBezTo>
                    <a:pt x="1549" y="4594"/>
                    <a:pt x="1517" y="5081"/>
                    <a:pt x="1562" y="4886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4"/>
            <p:cNvSpPr/>
            <p:nvPr/>
          </p:nvSpPr>
          <p:spPr>
            <a:xfrm>
              <a:off x="3775680" y="1587240"/>
              <a:ext cx="1826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康少女文字W5(P)"/>
                </a:rPr>
                <a:t>你，中枪了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康少女文字W5(P)"/>
                </a:rPr>
                <a:t>中枪了吗你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康少女文字W5(P)"/>
                </a:rPr>
                <a:t>你到底中没中枪？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5"/>
          <p:cNvGrpSpPr/>
          <p:nvPr/>
        </p:nvGrpSpPr>
        <p:grpSpPr>
          <a:xfrm>
            <a:off x="2994120" y="3200400"/>
            <a:ext cx="3092400" cy="1000080"/>
            <a:chOff x="2994120" y="3200400"/>
            <a:chExt cx="3092400" cy="1000080"/>
          </a:xfrm>
        </p:grpSpPr>
        <p:sp>
          <p:nvSpPr>
            <p:cNvPr id="387" name="自由曲线 382"/>
            <p:cNvSpPr/>
            <p:nvPr/>
          </p:nvSpPr>
          <p:spPr>
            <a:xfrm>
              <a:off x="2994120" y="3200400"/>
              <a:ext cx="3092400" cy="1000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54" y="10026"/>
                  </a:moveTo>
                  <a:cubicBezTo>
                    <a:pt x="563" y="9615"/>
                    <a:pt x="408" y="8889"/>
                    <a:pt x="354" y="8382"/>
                  </a:cubicBezTo>
                  <a:cubicBezTo>
                    <a:pt x="301" y="7875"/>
                    <a:pt x="252" y="7423"/>
                    <a:pt x="221" y="6944"/>
                  </a:cubicBezTo>
                  <a:cubicBezTo>
                    <a:pt x="190" y="6464"/>
                    <a:pt x="186" y="5985"/>
                    <a:pt x="155" y="5506"/>
                  </a:cubicBezTo>
                  <a:cubicBezTo>
                    <a:pt x="124" y="5026"/>
                    <a:pt x="31" y="4547"/>
                    <a:pt x="22" y="4067"/>
                  </a:cubicBezTo>
                  <a:cubicBezTo>
                    <a:pt x="13" y="3588"/>
                    <a:pt x="0" y="2972"/>
                    <a:pt x="88" y="2629"/>
                  </a:cubicBezTo>
                  <a:cubicBezTo>
                    <a:pt x="177" y="2287"/>
                    <a:pt x="399" y="2246"/>
                    <a:pt x="554" y="2013"/>
                  </a:cubicBezTo>
                  <a:cubicBezTo>
                    <a:pt x="709" y="1780"/>
                    <a:pt x="864" y="1424"/>
                    <a:pt x="1020" y="1191"/>
                  </a:cubicBezTo>
                  <a:cubicBezTo>
                    <a:pt x="1175" y="958"/>
                    <a:pt x="1330" y="712"/>
                    <a:pt x="1485" y="575"/>
                  </a:cubicBezTo>
                  <a:cubicBezTo>
                    <a:pt x="1641" y="438"/>
                    <a:pt x="1796" y="438"/>
                    <a:pt x="1951" y="369"/>
                  </a:cubicBezTo>
                  <a:cubicBezTo>
                    <a:pt x="2106" y="301"/>
                    <a:pt x="2262" y="191"/>
                    <a:pt x="2417" y="164"/>
                  </a:cubicBezTo>
                  <a:cubicBezTo>
                    <a:pt x="2572" y="136"/>
                    <a:pt x="2718" y="0"/>
                    <a:pt x="2882" y="164"/>
                  </a:cubicBezTo>
                  <a:cubicBezTo>
                    <a:pt x="3047" y="328"/>
                    <a:pt x="3251" y="849"/>
                    <a:pt x="3415" y="1191"/>
                  </a:cubicBezTo>
                  <a:cubicBezTo>
                    <a:pt x="3579" y="1534"/>
                    <a:pt x="3770" y="1780"/>
                    <a:pt x="3880" y="2218"/>
                  </a:cubicBezTo>
                  <a:cubicBezTo>
                    <a:pt x="3991" y="2657"/>
                    <a:pt x="3969" y="3629"/>
                    <a:pt x="4080" y="3862"/>
                  </a:cubicBezTo>
                  <a:cubicBezTo>
                    <a:pt x="4191" y="4095"/>
                    <a:pt x="4390" y="3821"/>
                    <a:pt x="4546" y="3657"/>
                  </a:cubicBezTo>
                  <a:cubicBezTo>
                    <a:pt x="4701" y="3492"/>
                    <a:pt x="4856" y="2999"/>
                    <a:pt x="5011" y="2835"/>
                  </a:cubicBezTo>
                  <a:cubicBezTo>
                    <a:pt x="5167" y="2670"/>
                    <a:pt x="5313" y="2657"/>
                    <a:pt x="5477" y="2629"/>
                  </a:cubicBezTo>
                  <a:cubicBezTo>
                    <a:pt x="5641" y="2602"/>
                    <a:pt x="5845" y="2602"/>
                    <a:pt x="6009" y="2629"/>
                  </a:cubicBezTo>
                  <a:cubicBezTo>
                    <a:pt x="6173" y="2657"/>
                    <a:pt x="6320" y="2670"/>
                    <a:pt x="6475" y="2835"/>
                  </a:cubicBezTo>
                  <a:cubicBezTo>
                    <a:pt x="6630" y="2999"/>
                    <a:pt x="6786" y="3588"/>
                    <a:pt x="6941" y="3657"/>
                  </a:cubicBezTo>
                  <a:cubicBezTo>
                    <a:pt x="7096" y="3725"/>
                    <a:pt x="7242" y="3342"/>
                    <a:pt x="7406" y="3246"/>
                  </a:cubicBezTo>
                  <a:cubicBezTo>
                    <a:pt x="7571" y="3150"/>
                    <a:pt x="7775" y="3109"/>
                    <a:pt x="7939" y="3040"/>
                  </a:cubicBezTo>
                  <a:cubicBezTo>
                    <a:pt x="8103" y="2972"/>
                    <a:pt x="8249" y="2862"/>
                    <a:pt x="8404" y="2835"/>
                  </a:cubicBezTo>
                  <a:cubicBezTo>
                    <a:pt x="8560" y="2807"/>
                    <a:pt x="8715" y="2766"/>
                    <a:pt x="8870" y="2835"/>
                  </a:cubicBezTo>
                  <a:cubicBezTo>
                    <a:pt x="9025" y="2903"/>
                    <a:pt x="9181" y="3246"/>
                    <a:pt x="9336" y="3246"/>
                  </a:cubicBezTo>
                  <a:cubicBezTo>
                    <a:pt x="9491" y="3246"/>
                    <a:pt x="9637" y="2999"/>
                    <a:pt x="9802" y="2835"/>
                  </a:cubicBezTo>
                  <a:cubicBezTo>
                    <a:pt x="9966" y="2670"/>
                    <a:pt x="10170" y="2355"/>
                    <a:pt x="10334" y="2218"/>
                  </a:cubicBezTo>
                  <a:cubicBezTo>
                    <a:pt x="10498" y="2081"/>
                    <a:pt x="10613" y="2040"/>
                    <a:pt x="10800" y="2013"/>
                  </a:cubicBezTo>
                  <a:cubicBezTo>
                    <a:pt x="10986" y="1986"/>
                    <a:pt x="11234" y="2013"/>
                    <a:pt x="11465" y="2013"/>
                  </a:cubicBezTo>
                  <a:cubicBezTo>
                    <a:pt x="11695" y="2013"/>
                    <a:pt x="11966" y="2013"/>
                    <a:pt x="12197" y="2013"/>
                  </a:cubicBezTo>
                  <a:cubicBezTo>
                    <a:pt x="12427" y="2013"/>
                    <a:pt x="12676" y="1986"/>
                    <a:pt x="12862" y="2013"/>
                  </a:cubicBezTo>
                  <a:cubicBezTo>
                    <a:pt x="13048" y="2040"/>
                    <a:pt x="13172" y="2287"/>
                    <a:pt x="13328" y="2218"/>
                  </a:cubicBezTo>
                  <a:cubicBezTo>
                    <a:pt x="13483" y="2150"/>
                    <a:pt x="13629" y="1698"/>
                    <a:pt x="13793" y="1602"/>
                  </a:cubicBezTo>
                  <a:cubicBezTo>
                    <a:pt x="13957" y="1506"/>
                    <a:pt x="14161" y="1602"/>
                    <a:pt x="14326" y="1602"/>
                  </a:cubicBezTo>
                  <a:cubicBezTo>
                    <a:pt x="14490" y="1602"/>
                    <a:pt x="14627" y="1506"/>
                    <a:pt x="14791" y="1602"/>
                  </a:cubicBezTo>
                  <a:cubicBezTo>
                    <a:pt x="14955" y="1698"/>
                    <a:pt x="15146" y="1986"/>
                    <a:pt x="15324" y="2218"/>
                  </a:cubicBezTo>
                  <a:cubicBezTo>
                    <a:pt x="15501" y="2451"/>
                    <a:pt x="15692" y="2876"/>
                    <a:pt x="15856" y="3040"/>
                  </a:cubicBezTo>
                  <a:cubicBezTo>
                    <a:pt x="16020" y="3205"/>
                    <a:pt x="16157" y="3246"/>
                    <a:pt x="16321" y="3246"/>
                  </a:cubicBezTo>
                  <a:cubicBezTo>
                    <a:pt x="16486" y="3246"/>
                    <a:pt x="16676" y="3068"/>
                    <a:pt x="16854" y="3040"/>
                  </a:cubicBezTo>
                  <a:cubicBezTo>
                    <a:pt x="17031" y="3013"/>
                    <a:pt x="17222" y="3040"/>
                    <a:pt x="17386" y="3040"/>
                  </a:cubicBezTo>
                  <a:cubicBezTo>
                    <a:pt x="17550" y="3040"/>
                    <a:pt x="17696" y="2972"/>
                    <a:pt x="17852" y="3040"/>
                  </a:cubicBezTo>
                  <a:cubicBezTo>
                    <a:pt x="18007" y="3109"/>
                    <a:pt x="18162" y="3424"/>
                    <a:pt x="18317" y="3451"/>
                  </a:cubicBezTo>
                  <a:cubicBezTo>
                    <a:pt x="18473" y="3479"/>
                    <a:pt x="18628" y="3383"/>
                    <a:pt x="18783" y="3246"/>
                  </a:cubicBezTo>
                  <a:cubicBezTo>
                    <a:pt x="18938" y="3109"/>
                    <a:pt x="19085" y="2725"/>
                    <a:pt x="19249" y="2629"/>
                  </a:cubicBezTo>
                  <a:cubicBezTo>
                    <a:pt x="19413" y="2533"/>
                    <a:pt x="19604" y="2602"/>
                    <a:pt x="19781" y="2629"/>
                  </a:cubicBezTo>
                  <a:cubicBezTo>
                    <a:pt x="19958" y="2657"/>
                    <a:pt x="20136" y="2602"/>
                    <a:pt x="20313" y="2835"/>
                  </a:cubicBezTo>
                  <a:cubicBezTo>
                    <a:pt x="20491" y="3068"/>
                    <a:pt x="20712" y="3629"/>
                    <a:pt x="20845" y="4067"/>
                  </a:cubicBezTo>
                  <a:cubicBezTo>
                    <a:pt x="20979" y="4506"/>
                    <a:pt x="21014" y="4999"/>
                    <a:pt x="21112" y="5506"/>
                  </a:cubicBezTo>
                  <a:cubicBezTo>
                    <a:pt x="21209" y="6012"/>
                    <a:pt x="21369" y="6642"/>
                    <a:pt x="21444" y="7149"/>
                  </a:cubicBezTo>
                  <a:cubicBezTo>
                    <a:pt x="21520" y="7656"/>
                    <a:pt x="21568" y="8108"/>
                    <a:pt x="21577" y="8587"/>
                  </a:cubicBezTo>
                  <a:cubicBezTo>
                    <a:pt x="21586" y="9067"/>
                    <a:pt x="21600" y="9546"/>
                    <a:pt x="21511" y="10026"/>
                  </a:cubicBezTo>
                  <a:cubicBezTo>
                    <a:pt x="21422" y="10505"/>
                    <a:pt x="21187" y="10984"/>
                    <a:pt x="21045" y="11464"/>
                  </a:cubicBezTo>
                  <a:cubicBezTo>
                    <a:pt x="20903" y="11943"/>
                    <a:pt x="20810" y="12560"/>
                    <a:pt x="20646" y="12902"/>
                  </a:cubicBezTo>
                  <a:cubicBezTo>
                    <a:pt x="20482" y="13244"/>
                    <a:pt x="20233" y="13422"/>
                    <a:pt x="20047" y="13518"/>
                  </a:cubicBezTo>
                  <a:cubicBezTo>
                    <a:pt x="19861" y="13614"/>
                    <a:pt x="19679" y="13491"/>
                    <a:pt x="19515" y="13518"/>
                  </a:cubicBezTo>
                  <a:cubicBezTo>
                    <a:pt x="19351" y="13546"/>
                    <a:pt x="19204" y="13696"/>
                    <a:pt x="19049" y="13724"/>
                  </a:cubicBezTo>
                  <a:cubicBezTo>
                    <a:pt x="18894" y="13751"/>
                    <a:pt x="18748" y="13820"/>
                    <a:pt x="18583" y="13724"/>
                  </a:cubicBezTo>
                  <a:cubicBezTo>
                    <a:pt x="18419" y="13628"/>
                    <a:pt x="18229" y="13203"/>
                    <a:pt x="18051" y="13107"/>
                  </a:cubicBezTo>
                  <a:cubicBezTo>
                    <a:pt x="17874" y="13012"/>
                    <a:pt x="17696" y="13012"/>
                    <a:pt x="17519" y="13107"/>
                  </a:cubicBezTo>
                  <a:cubicBezTo>
                    <a:pt x="17342" y="13203"/>
                    <a:pt x="17164" y="13559"/>
                    <a:pt x="16987" y="13724"/>
                  </a:cubicBezTo>
                  <a:cubicBezTo>
                    <a:pt x="16809" y="13888"/>
                    <a:pt x="16619" y="13998"/>
                    <a:pt x="16455" y="14135"/>
                  </a:cubicBezTo>
                  <a:cubicBezTo>
                    <a:pt x="16290" y="14272"/>
                    <a:pt x="16144" y="14409"/>
                    <a:pt x="15989" y="14546"/>
                  </a:cubicBezTo>
                  <a:cubicBezTo>
                    <a:pt x="15834" y="14683"/>
                    <a:pt x="15687" y="14861"/>
                    <a:pt x="15523" y="14957"/>
                  </a:cubicBezTo>
                  <a:cubicBezTo>
                    <a:pt x="15359" y="15052"/>
                    <a:pt x="15155" y="15162"/>
                    <a:pt x="14991" y="15162"/>
                  </a:cubicBezTo>
                  <a:cubicBezTo>
                    <a:pt x="14827" y="15162"/>
                    <a:pt x="14680" y="15052"/>
                    <a:pt x="14525" y="14957"/>
                  </a:cubicBezTo>
                  <a:cubicBezTo>
                    <a:pt x="14370" y="14861"/>
                    <a:pt x="14215" y="14641"/>
                    <a:pt x="14059" y="14546"/>
                  </a:cubicBezTo>
                  <a:cubicBezTo>
                    <a:pt x="13904" y="14450"/>
                    <a:pt x="13758" y="14340"/>
                    <a:pt x="13594" y="14340"/>
                  </a:cubicBezTo>
                  <a:cubicBezTo>
                    <a:pt x="13430" y="14340"/>
                    <a:pt x="13203" y="14244"/>
                    <a:pt x="13062" y="14546"/>
                  </a:cubicBezTo>
                  <a:cubicBezTo>
                    <a:pt x="12920" y="14847"/>
                    <a:pt x="12782" y="15682"/>
                    <a:pt x="12729" y="16189"/>
                  </a:cubicBezTo>
                  <a:cubicBezTo>
                    <a:pt x="12676" y="16696"/>
                    <a:pt x="12738" y="17148"/>
                    <a:pt x="12729" y="17627"/>
                  </a:cubicBezTo>
                  <a:cubicBezTo>
                    <a:pt x="12720" y="18107"/>
                    <a:pt x="12707" y="18586"/>
                    <a:pt x="12662" y="19066"/>
                  </a:cubicBezTo>
                  <a:cubicBezTo>
                    <a:pt x="12618" y="19545"/>
                    <a:pt x="12574" y="20161"/>
                    <a:pt x="12463" y="20504"/>
                  </a:cubicBezTo>
                  <a:cubicBezTo>
                    <a:pt x="12352" y="20846"/>
                    <a:pt x="12152" y="20956"/>
                    <a:pt x="11997" y="21120"/>
                  </a:cubicBezTo>
                  <a:cubicBezTo>
                    <a:pt x="11842" y="21284"/>
                    <a:pt x="11695" y="21463"/>
                    <a:pt x="11531" y="21531"/>
                  </a:cubicBezTo>
                  <a:cubicBezTo>
                    <a:pt x="11367" y="21600"/>
                    <a:pt x="11177" y="21531"/>
                    <a:pt x="10999" y="21531"/>
                  </a:cubicBezTo>
                  <a:cubicBezTo>
                    <a:pt x="10822" y="21531"/>
                    <a:pt x="10653" y="21531"/>
                    <a:pt x="10467" y="21531"/>
                  </a:cubicBezTo>
                  <a:cubicBezTo>
                    <a:pt x="10281" y="21531"/>
                    <a:pt x="10045" y="21531"/>
                    <a:pt x="9868" y="21531"/>
                  </a:cubicBezTo>
                  <a:cubicBezTo>
                    <a:pt x="9691" y="21531"/>
                    <a:pt x="9558" y="21531"/>
                    <a:pt x="9402" y="21531"/>
                  </a:cubicBezTo>
                  <a:cubicBezTo>
                    <a:pt x="9247" y="21531"/>
                    <a:pt x="9092" y="21531"/>
                    <a:pt x="8937" y="21531"/>
                  </a:cubicBezTo>
                  <a:cubicBezTo>
                    <a:pt x="8781" y="21531"/>
                    <a:pt x="8626" y="21531"/>
                    <a:pt x="8471" y="21531"/>
                  </a:cubicBezTo>
                  <a:cubicBezTo>
                    <a:pt x="8316" y="21531"/>
                    <a:pt x="8169" y="21531"/>
                    <a:pt x="8005" y="21531"/>
                  </a:cubicBezTo>
                  <a:cubicBezTo>
                    <a:pt x="7841" y="21531"/>
                    <a:pt x="7673" y="21531"/>
                    <a:pt x="7473" y="21531"/>
                  </a:cubicBezTo>
                  <a:cubicBezTo>
                    <a:pt x="7273" y="21531"/>
                    <a:pt x="7029" y="21531"/>
                    <a:pt x="6808" y="21531"/>
                  </a:cubicBezTo>
                  <a:cubicBezTo>
                    <a:pt x="6586" y="21531"/>
                    <a:pt x="6329" y="21531"/>
                    <a:pt x="6142" y="21531"/>
                  </a:cubicBezTo>
                  <a:cubicBezTo>
                    <a:pt x="5956" y="21531"/>
                    <a:pt x="5841" y="21531"/>
                    <a:pt x="5677" y="21531"/>
                  </a:cubicBezTo>
                  <a:cubicBezTo>
                    <a:pt x="5513" y="21531"/>
                    <a:pt x="5309" y="21531"/>
                    <a:pt x="5144" y="21531"/>
                  </a:cubicBezTo>
                  <a:cubicBezTo>
                    <a:pt x="4980" y="21531"/>
                    <a:pt x="4834" y="21531"/>
                    <a:pt x="4679" y="21531"/>
                  </a:cubicBezTo>
                  <a:cubicBezTo>
                    <a:pt x="4524" y="21531"/>
                    <a:pt x="4377" y="21531"/>
                    <a:pt x="4213" y="21531"/>
                  </a:cubicBezTo>
                  <a:cubicBezTo>
                    <a:pt x="4049" y="21531"/>
                    <a:pt x="3845" y="21531"/>
                    <a:pt x="3681" y="21531"/>
                  </a:cubicBezTo>
                  <a:cubicBezTo>
                    <a:pt x="3517" y="21531"/>
                    <a:pt x="3370" y="21531"/>
                    <a:pt x="3215" y="21531"/>
                  </a:cubicBezTo>
                  <a:cubicBezTo>
                    <a:pt x="3060" y="21531"/>
                    <a:pt x="2905" y="21531"/>
                    <a:pt x="2749" y="21531"/>
                  </a:cubicBezTo>
                  <a:cubicBezTo>
                    <a:pt x="2594" y="21531"/>
                    <a:pt x="2439" y="21531"/>
                    <a:pt x="2284" y="21531"/>
                  </a:cubicBezTo>
                  <a:cubicBezTo>
                    <a:pt x="2128" y="21531"/>
                    <a:pt x="1982" y="21531"/>
                    <a:pt x="1818" y="21531"/>
                  </a:cubicBezTo>
                  <a:cubicBezTo>
                    <a:pt x="1654" y="21531"/>
                    <a:pt x="1450" y="21600"/>
                    <a:pt x="1286" y="21531"/>
                  </a:cubicBezTo>
                  <a:cubicBezTo>
                    <a:pt x="1122" y="21463"/>
                    <a:pt x="975" y="21394"/>
                    <a:pt x="820" y="21120"/>
                  </a:cubicBezTo>
                  <a:cubicBezTo>
                    <a:pt x="665" y="20846"/>
                    <a:pt x="443" y="20394"/>
                    <a:pt x="354" y="19887"/>
                  </a:cubicBezTo>
                  <a:cubicBezTo>
                    <a:pt x="266" y="19381"/>
                    <a:pt x="288" y="18586"/>
                    <a:pt x="288" y="18038"/>
                  </a:cubicBezTo>
                  <a:cubicBezTo>
                    <a:pt x="288" y="17490"/>
                    <a:pt x="332" y="17080"/>
                    <a:pt x="354" y="16600"/>
                  </a:cubicBezTo>
                  <a:cubicBezTo>
                    <a:pt x="377" y="16121"/>
                    <a:pt x="412" y="15641"/>
                    <a:pt x="421" y="15162"/>
                  </a:cubicBezTo>
                  <a:cubicBezTo>
                    <a:pt x="430" y="14683"/>
                    <a:pt x="430" y="14203"/>
                    <a:pt x="421" y="13724"/>
                  </a:cubicBezTo>
                  <a:cubicBezTo>
                    <a:pt x="412" y="13244"/>
                    <a:pt x="377" y="12765"/>
                    <a:pt x="354" y="12286"/>
                  </a:cubicBezTo>
                  <a:cubicBezTo>
                    <a:pt x="332" y="11806"/>
                    <a:pt x="257" y="11217"/>
                    <a:pt x="288" y="10847"/>
                  </a:cubicBezTo>
                  <a:cubicBezTo>
                    <a:pt x="319" y="10478"/>
                    <a:pt x="545" y="10437"/>
                    <a:pt x="554" y="100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7"/>
            <p:cNvSpPr/>
            <p:nvPr/>
          </p:nvSpPr>
          <p:spPr>
            <a:xfrm>
              <a:off x="3623760" y="3322080"/>
              <a:ext cx="182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康少女文字W5(P)"/>
                </a:rPr>
                <a:t>喂！躺着的那个，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康少女文字W5(P)"/>
                </a:rPr>
                <a:t>把你漏了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2"/>
          <p:cNvGrpSpPr/>
          <p:nvPr/>
        </p:nvGrpSpPr>
        <p:grpSpPr>
          <a:xfrm>
            <a:off x="2390760" y="2184480"/>
            <a:ext cx="4097520" cy="1176120"/>
            <a:chOff x="2390760" y="2184480"/>
            <a:chExt cx="4097520" cy="1176120"/>
          </a:xfrm>
        </p:grpSpPr>
        <p:sp>
          <p:nvSpPr>
            <p:cNvPr id="390" name="自由曲线 390"/>
            <p:cNvSpPr/>
            <p:nvPr/>
          </p:nvSpPr>
          <p:spPr>
            <a:xfrm>
              <a:off x="2390760" y="2184480"/>
              <a:ext cx="4097520" cy="117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85" y="6920"/>
                  </a:moveTo>
                  <a:cubicBezTo>
                    <a:pt x="1168" y="6780"/>
                    <a:pt x="1245" y="6104"/>
                    <a:pt x="1285" y="5697"/>
                  </a:cubicBezTo>
                  <a:cubicBezTo>
                    <a:pt x="1325" y="5289"/>
                    <a:pt x="1396" y="4881"/>
                    <a:pt x="1436" y="4473"/>
                  </a:cubicBezTo>
                  <a:cubicBezTo>
                    <a:pt x="1476" y="4066"/>
                    <a:pt x="1452" y="3600"/>
                    <a:pt x="1536" y="3250"/>
                  </a:cubicBezTo>
                  <a:cubicBezTo>
                    <a:pt x="1620" y="3017"/>
                    <a:pt x="1814" y="3099"/>
                    <a:pt x="1938" y="3075"/>
                  </a:cubicBezTo>
                  <a:cubicBezTo>
                    <a:pt x="2062" y="3052"/>
                    <a:pt x="2172" y="3075"/>
                    <a:pt x="2289" y="3075"/>
                  </a:cubicBezTo>
                  <a:cubicBezTo>
                    <a:pt x="2407" y="3075"/>
                    <a:pt x="2457" y="3075"/>
                    <a:pt x="2641" y="3075"/>
                  </a:cubicBezTo>
                  <a:cubicBezTo>
                    <a:pt x="2825" y="3075"/>
                    <a:pt x="3210" y="3075"/>
                    <a:pt x="3394" y="3075"/>
                  </a:cubicBezTo>
                  <a:cubicBezTo>
                    <a:pt x="3578" y="3075"/>
                    <a:pt x="3629" y="3052"/>
                    <a:pt x="3746" y="3075"/>
                  </a:cubicBezTo>
                  <a:cubicBezTo>
                    <a:pt x="3863" y="3099"/>
                    <a:pt x="4014" y="3600"/>
                    <a:pt x="4097" y="3250"/>
                  </a:cubicBezTo>
                  <a:cubicBezTo>
                    <a:pt x="4181" y="3052"/>
                    <a:pt x="4198" y="2400"/>
                    <a:pt x="4248" y="1852"/>
                  </a:cubicBezTo>
                  <a:cubicBezTo>
                    <a:pt x="4298" y="1421"/>
                    <a:pt x="4315" y="920"/>
                    <a:pt x="4399" y="629"/>
                  </a:cubicBezTo>
                  <a:cubicBezTo>
                    <a:pt x="4482" y="337"/>
                    <a:pt x="4609" y="186"/>
                    <a:pt x="4750" y="104"/>
                  </a:cubicBezTo>
                  <a:cubicBezTo>
                    <a:pt x="4891" y="23"/>
                    <a:pt x="5078" y="104"/>
                    <a:pt x="5252" y="104"/>
                  </a:cubicBezTo>
                  <a:cubicBezTo>
                    <a:pt x="5426" y="104"/>
                    <a:pt x="5620" y="46"/>
                    <a:pt x="5805" y="104"/>
                  </a:cubicBezTo>
                  <a:cubicBezTo>
                    <a:pt x="5989" y="163"/>
                    <a:pt x="6206" y="337"/>
                    <a:pt x="6357" y="454"/>
                  </a:cubicBezTo>
                  <a:cubicBezTo>
                    <a:pt x="6508" y="570"/>
                    <a:pt x="6575" y="687"/>
                    <a:pt x="6708" y="803"/>
                  </a:cubicBezTo>
                  <a:cubicBezTo>
                    <a:pt x="6842" y="920"/>
                    <a:pt x="6986" y="1200"/>
                    <a:pt x="7160" y="1200"/>
                  </a:cubicBezTo>
                  <a:cubicBezTo>
                    <a:pt x="7335" y="1211"/>
                    <a:pt x="7596" y="1200"/>
                    <a:pt x="7763" y="1200"/>
                  </a:cubicBezTo>
                  <a:cubicBezTo>
                    <a:pt x="7930" y="1200"/>
                    <a:pt x="7991" y="1234"/>
                    <a:pt x="8165" y="1200"/>
                  </a:cubicBezTo>
                  <a:cubicBezTo>
                    <a:pt x="8339" y="1200"/>
                    <a:pt x="8644" y="745"/>
                    <a:pt x="8818" y="629"/>
                  </a:cubicBezTo>
                  <a:cubicBezTo>
                    <a:pt x="8992" y="512"/>
                    <a:pt x="9069" y="512"/>
                    <a:pt x="9219" y="454"/>
                  </a:cubicBezTo>
                  <a:cubicBezTo>
                    <a:pt x="9370" y="396"/>
                    <a:pt x="9571" y="361"/>
                    <a:pt x="9722" y="279"/>
                  </a:cubicBezTo>
                  <a:cubicBezTo>
                    <a:pt x="9872" y="198"/>
                    <a:pt x="9983" y="0"/>
                    <a:pt x="10123" y="0"/>
                  </a:cubicBezTo>
                  <a:cubicBezTo>
                    <a:pt x="10264" y="0"/>
                    <a:pt x="10441" y="0"/>
                    <a:pt x="10575" y="0"/>
                  </a:cubicBezTo>
                  <a:cubicBezTo>
                    <a:pt x="10709" y="11"/>
                    <a:pt x="10800" y="337"/>
                    <a:pt x="10927" y="454"/>
                  </a:cubicBezTo>
                  <a:cubicBezTo>
                    <a:pt x="11067" y="570"/>
                    <a:pt x="11221" y="605"/>
                    <a:pt x="11429" y="629"/>
                  </a:cubicBezTo>
                  <a:cubicBezTo>
                    <a:pt x="11636" y="652"/>
                    <a:pt x="11965" y="629"/>
                    <a:pt x="12182" y="629"/>
                  </a:cubicBezTo>
                  <a:cubicBezTo>
                    <a:pt x="12400" y="629"/>
                    <a:pt x="12550" y="629"/>
                    <a:pt x="12735" y="629"/>
                  </a:cubicBezTo>
                  <a:cubicBezTo>
                    <a:pt x="12919" y="629"/>
                    <a:pt x="13103" y="547"/>
                    <a:pt x="13287" y="629"/>
                  </a:cubicBezTo>
                  <a:cubicBezTo>
                    <a:pt x="13471" y="710"/>
                    <a:pt x="13672" y="1036"/>
                    <a:pt x="13839" y="1200"/>
                  </a:cubicBezTo>
                  <a:cubicBezTo>
                    <a:pt x="14007" y="1269"/>
                    <a:pt x="14157" y="1269"/>
                    <a:pt x="14291" y="1328"/>
                  </a:cubicBezTo>
                  <a:cubicBezTo>
                    <a:pt x="14425" y="1386"/>
                    <a:pt x="14526" y="1363"/>
                    <a:pt x="14643" y="1502"/>
                  </a:cubicBezTo>
                  <a:cubicBezTo>
                    <a:pt x="14760" y="1642"/>
                    <a:pt x="14844" y="2085"/>
                    <a:pt x="14994" y="2201"/>
                  </a:cubicBezTo>
                  <a:cubicBezTo>
                    <a:pt x="15145" y="2400"/>
                    <a:pt x="15356" y="2201"/>
                    <a:pt x="15547" y="2201"/>
                  </a:cubicBezTo>
                  <a:cubicBezTo>
                    <a:pt x="15738" y="2201"/>
                    <a:pt x="15982" y="2201"/>
                    <a:pt x="16149" y="2201"/>
                  </a:cubicBezTo>
                  <a:cubicBezTo>
                    <a:pt x="16317" y="2201"/>
                    <a:pt x="16367" y="2201"/>
                    <a:pt x="16551" y="2201"/>
                  </a:cubicBezTo>
                  <a:cubicBezTo>
                    <a:pt x="16735" y="2201"/>
                    <a:pt x="17080" y="2201"/>
                    <a:pt x="17254" y="2201"/>
                  </a:cubicBezTo>
                  <a:cubicBezTo>
                    <a:pt x="17428" y="2201"/>
                    <a:pt x="17472" y="2178"/>
                    <a:pt x="17606" y="2201"/>
                  </a:cubicBezTo>
                  <a:cubicBezTo>
                    <a:pt x="17739" y="2225"/>
                    <a:pt x="17883" y="2236"/>
                    <a:pt x="18058" y="2400"/>
                  </a:cubicBezTo>
                  <a:cubicBezTo>
                    <a:pt x="18232" y="2516"/>
                    <a:pt x="18453" y="2959"/>
                    <a:pt x="18660" y="3075"/>
                  </a:cubicBezTo>
                  <a:cubicBezTo>
                    <a:pt x="18868" y="3192"/>
                    <a:pt x="19072" y="3052"/>
                    <a:pt x="19313" y="3075"/>
                  </a:cubicBezTo>
                  <a:cubicBezTo>
                    <a:pt x="19554" y="3099"/>
                    <a:pt x="19882" y="3052"/>
                    <a:pt x="20116" y="3250"/>
                  </a:cubicBezTo>
                  <a:cubicBezTo>
                    <a:pt x="20351" y="3600"/>
                    <a:pt x="20552" y="4042"/>
                    <a:pt x="20719" y="4299"/>
                  </a:cubicBezTo>
                  <a:cubicBezTo>
                    <a:pt x="20886" y="4555"/>
                    <a:pt x="21020" y="4532"/>
                    <a:pt x="21121" y="4823"/>
                  </a:cubicBezTo>
                  <a:cubicBezTo>
                    <a:pt x="21221" y="5114"/>
                    <a:pt x="21281" y="5638"/>
                    <a:pt x="21322" y="6046"/>
                  </a:cubicBezTo>
                  <a:cubicBezTo>
                    <a:pt x="21362" y="6454"/>
                    <a:pt x="21348" y="6862"/>
                    <a:pt x="21372" y="7269"/>
                  </a:cubicBezTo>
                  <a:cubicBezTo>
                    <a:pt x="21395" y="7677"/>
                    <a:pt x="21456" y="8062"/>
                    <a:pt x="21472" y="8493"/>
                  </a:cubicBezTo>
                  <a:cubicBezTo>
                    <a:pt x="21489" y="8924"/>
                    <a:pt x="21600" y="9425"/>
                    <a:pt x="21472" y="9891"/>
                  </a:cubicBezTo>
                  <a:cubicBezTo>
                    <a:pt x="21389" y="10357"/>
                    <a:pt x="21121" y="10939"/>
                    <a:pt x="20970" y="11289"/>
                  </a:cubicBezTo>
                  <a:cubicBezTo>
                    <a:pt x="20819" y="11638"/>
                    <a:pt x="20676" y="11673"/>
                    <a:pt x="20568" y="12000"/>
                  </a:cubicBezTo>
                  <a:cubicBezTo>
                    <a:pt x="20461" y="12302"/>
                    <a:pt x="20351" y="12803"/>
                    <a:pt x="20317" y="13211"/>
                  </a:cubicBezTo>
                  <a:cubicBezTo>
                    <a:pt x="20284" y="13619"/>
                    <a:pt x="20368" y="13945"/>
                    <a:pt x="20368" y="14434"/>
                  </a:cubicBezTo>
                  <a:cubicBezTo>
                    <a:pt x="20368" y="14924"/>
                    <a:pt x="20368" y="15693"/>
                    <a:pt x="20317" y="16182"/>
                  </a:cubicBezTo>
                  <a:cubicBezTo>
                    <a:pt x="20267" y="16800"/>
                    <a:pt x="20157" y="16998"/>
                    <a:pt x="20066" y="17405"/>
                  </a:cubicBezTo>
                  <a:cubicBezTo>
                    <a:pt x="19976" y="17813"/>
                    <a:pt x="19872" y="18256"/>
                    <a:pt x="19765" y="18629"/>
                  </a:cubicBezTo>
                  <a:cubicBezTo>
                    <a:pt x="19658" y="19001"/>
                    <a:pt x="19531" y="19444"/>
                    <a:pt x="19413" y="19677"/>
                  </a:cubicBezTo>
                  <a:cubicBezTo>
                    <a:pt x="19296" y="19910"/>
                    <a:pt x="19186" y="19968"/>
                    <a:pt x="19062" y="20027"/>
                  </a:cubicBezTo>
                  <a:cubicBezTo>
                    <a:pt x="18938" y="20085"/>
                    <a:pt x="18834" y="19968"/>
                    <a:pt x="18660" y="20027"/>
                  </a:cubicBezTo>
                  <a:cubicBezTo>
                    <a:pt x="18486" y="20085"/>
                    <a:pt x="18258" y="20400"/>
                    <a:pt x="18007" y="20400"/>
                  </a:cubicBezTo>
                  <a:cubicBezTo>
                    <a:pt x="17756" y="20458"/>
                    <a:pt x="17462" y="20528"/>
                    <a:pt x="17154" y="20551"/>
                  </a:cubicBezTo>
                  <a:cubicBezTo>
                    <a:pt x="16846" y="20574"/>
                    <a:pt x="16501" y="20551"/>
                    <a:pt x="16149" y="20551"/>
                  </a:cubicBezTo>
                  <a:cubicBezTo>
                    <a:pt x="15798" y="20551"/>
                    <a:pt x="15369" y="20551"/>
                    <a:pt x="15045" y="20551"/>
                  </a:cubicBezTo>
                  <a:cubicBezTo>
                    <a:pt x="14720" y="20551"/>
                    <a:pt x="14432" y="20551"/>
                    <a:pt x="14191" y="20551"/>
                  </a:cubicBezTo>
                  <a:cubicBezTo>
                    <a:pt x="13950" y="20551"/>
                    <a:pt x="13756" y="20551"/>
                    <a:pt x="13588" y="20551"/>
                  </a:cubicBezTo>
                  <a:cubicBezTo>
                    <a:pt x="13421" y="20551"/>
                    <a:pt x="13310" y="20551"/>
                    <a:pt x="13186" y="20551"/>
                  </a:cubicBezTo>
                  <a:cubicBezTo>
                    <a:pt x="13063" y="20551"/>
                    <a:pt x="12969" y="20551"/>
                    <a:pt x="12835" y="20551"/>
                  </a:cubicBezTo>
                  <a:cubicBezTo>
                    <a:pt x="12701" y="20551"/>
                    <a:pt x="12540" y="20551"/>
                    <a:pt x="12383" y="20551"/>
                  </a:cubicBezTo>
                  <a:cubicBezTo>
                    <a:pt x="12226" y="20551"/>
                    <a:pt x="12048" y="20551"/>
                    <a:pt x="11881" y="20551"/>
                  </a:cubicBezTo>
                  <a:cubicBezTo>
                    <a:pt x="11713" y="20551"/>
                    <a:pt x="11603" y="20551"/>
                    <a:pt x="11379" y="20551"/>
                  </a:cubicBezTo>
                  <a:cubicBezTo>
                    <a:pt x="11154" y="20551"/>
                    <a:pt x="10800" y="20528"/>
                    <a:pt x="10525" y="20551"/>
                  </a:cubicBezTo>
                  <a:cubicBezTo>
                    <a:pt x="10250" y="20574"/>
                    <a:pt x="10063" y="20644"/>
                    <a:pt x="9722" y="20726"/>
                  </a:cubicBezTo>
                  <a:cubicBezTo>
                    <a:pt x="9380" y="20807"/>
                    <a:pt x="8818" y="21017"/>
                    <a:pt x="8466" y="21075"/>
                  </a:cubicBezTo>
                  <a:cubicBezTo>
                    <a:pt x="8115" y="21133"/>
                    <a:pt x="7880" y="21052"/>
                    <a:pt x="7612" y="21075"/>
                  </a:cubicBezTo>
                  <a:cubicBezTo>
                    <a:pt x="7345" y="21099"/>
                    <a:pt x="7067" y="21227"/>
                    <a:pt x="6859" y="21250"/>
                  </a:cubicBezTo>
                  <a:cubicBezTo>
                    <a:pt x="6652" y="21273"/>
                    <a:pt x="6474" y="21600"/>
                    <a:pt x="6357" y="21250"/>
                  </a:cubicBezTo>
                  <a:cubicBezTo>
                    <a:pt x="6240" y="21052"/>
                    <a:pt x="6263" y="20400"/>
                    <a:pt x="6156" y="20027"/>
                  </a:cubicBezTo>
                  <a:cubicBezTo>
                    <a:pt x="6049" y="19735"/>
                    <a:pt x="5507" y="20737"/>
                    <a:pt x="5433" y="20656"/>
                  </a:cubicBezTo>
                  <a:cubicBezTo>
                    <a:pt x="5359" y="20574"/>
                    <a:pt x="5487" y="20201"/>
                    <a:pt x="5346" y="20003"/>
                  </a:cubicBezTo>
                  <a:cubicBezTo>
                    <a:pt x="5205" y="19805"/>
                    <a:pt x="5463" y="20201"/>
                    <a:pt x="5393" y="20341"/>
                  </a:cubicBezTo>
                  <a:cubicBezTo>
                    <a:pt x="5323" y="20481"/>
                    <a:pt x="5410" y="20679"/>
                    <a:pt x="5286" y="20318"/>
                  </a:cubicBezTo>
                  <a:cubicBezTo>
                    <a:pt x="5162" y="20062"/>
                    <a:pt x="4385" y="20563"/>
                    <a:pt x="4268" y="20271"/>
                  </a:cubicBezTo>
                  <a:cubicBezTo>
                    <a:pt x="4151" y="19980"/>
                    <a:pt x="3632" y="18955"/>
                    <a:pt x="3498" y="18815"/>
                  </a:cubicBezTo>
                  <a:cubicBezTo>
                    <a:pt x="3364" y="18675"/>
                    <a:pt x="3582" y="19165"/>
                    <a:pt x="3431" y="19106"/>
                  </a:cubicBezTo>
                  <a:cubicBezTo>
                    <a:pt x="3280" y="19048"/>
                    <a:pt x="2537" y="17662"/>
                    <a:pt x="2397" y="17429"/>
                  </a:cubicBezTo>
                  <a:cubicBezTo>
                    <a:pt x="2256" y="17196"/>
                    <a:pt x="1924" y="17650"/>
                    <a:pt x="1851" y="17277"/>
                  </a:cubicBezTo>
                  <a:cubicBezTo>
                    <a:pt x="1777" y="16904"/>
                    <a:pt x="2099" y="15401"/>
                    <a:pt x="2048" y="14994"/>
                  </a:cubicBezTo>
                  <a:cubicBezTo>
                    <a:pt x="1998" y="14586"/>
                    <a:pt x="1717" y="14633"/>
                    <a:pt x="1610" y="14400"/>
                  </a:cubicBezTo>
                  <a:cubicBezTo>
                    <a:pt x="1503" y="14050"/>
                    <a:pt x="1034" y="12046"/>
                    <a:pt x="910" y="11906"/>
                  </a:cubicBezTo>
                  <a:cubicBezTo>
                    <a:pt x="786" y="11766"/>
                    <a:pt x="2373" y="12419"/>
                    <a:pt x="2239" y="12337"/>
                  </a:cubicBezTo>
                  <a:cubicBezTo>
                    <a:pt x="2105" y="12256"/>
                    <a:pt x="1928" y="12221"/>
                    <a:pt x="1787" y="12163"/>
                  </a:cubicBezTo>
                  <a:cubicBezTo>
                    <a:pt x="1647" y="12104"/>
                    <a:pt x="1526" y="12069"/>
                    <a:pt x="1385" y="12000"/>
                  </a:cubicBezTo>
                  <a:cubicBezTo>
                    <a:pt x="1245" y="12000"/>
                    <a:pt x="1074" y="11778"/>
                    <a:pt x="934" y="11638"/>
                  </a:cubicBezTo>
                  <a:cubicBezTo>
                    <a:pt x="793" y="11499"/>
                    <a:pt x="656" y="11289"/>
                    <a:pt x="532" y="11114"/>
                  </a:cubicBezTo>
                  <a:cubicBezTo>
                    <a:pt x="408" y="10939"/>
                    <a:pt x="271" y="10881"/>
                    <a:pt x="180" y="10590"/>
                  </a:cubicBezTo>
                  <a:cubicBezTo>
                    <a:pt x="90" y="10299"/>
                    <a:pt x="0" y="9681"/>
                    <a:pt x="0" y="9366"/>
                  </a:cubicBezTo>
                  <a:cubicBezTo>
                    <a:pt x="3" y="9052"/>
                    <a:pt x="214" y="8924"/>
                    <a:pt x="331" y="8667"/>
                  </a:cubicBezTo>
                  <a:cubicBezTo>
                    <a:pt x="448" y="8411"/>
                    <a:pt x="565" y="8027"/>
                    <a:pt x="682" y="7794"/>
                  </a:cubicBezTo>
                  <a:cubicBezTo>
                    <a:pt x="800" y="7561"/>
                    <a:pt x="917" y="7467"/>
                    <a:pt x="1034" y="7269"/>
                  </a:cubicBezTo>
                  <a:cubicBezTo>
                    <a:pt x="1151" y="7200"/>
                    <a:pt x="1362" y="6629"/>
                    <a:pt x="1385" y="6570"/>
                  </a:cubicBezTo>
                  <a:cubicBezTo>
                    <a:pt x="1409" y="6512"/>
                    <a:pt x="1201" y="7200"/>
                    <a:pt x="1185" y="6920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"/>
            <p:cNvSpPr/>
            <p:nvPr/>
          </p:nvSpPr>
          <p:spPr>
            <a:xfrm>
              <a:off x="3141720" y="2341080"/>
              <a:ext cx="264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~</a:t>
              </a: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谢谢观赏</a:t>
              </a:r>
              <a:r>
                <a:rPr b="0" lang="zh-CN" sz="4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~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Rectangle 5"/>
          <p:cNvSpPr/>
          <p:nvPr/>
        </p:nvSpPr>
        <p:spPr>
          <a:xfrm flipH="1" flipV="1">
            <a:off x="-720" y="5148360"/>
            <a:ext cx="9180360" cy="971280"/>
          </a:xfrm>
          <a:prstGeom prst="rect">
            <a:avLst/>
          </a:prstGeom>
          <a:solidFill>
            <a:srgbClr val="ff9393"/>
          </a:solidFill>
          <a:ln w="9360">
            <a:solidFill>
              <a:srgbClr val="ff9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460440" y="5286240"/>
            <a:ext cx="29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素材：来源于网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制作：</a:t>
            </a:r>
            <a:r>
              <a:rPr b="0" lang="en-US" sz="18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67760"/>
            <a:ext cx="820728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8000" y="1133640"/>
            <a:ext cx="89280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7286760" y="298440"/>
            <a:ext cx="1388880" cy="311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、2"/>
          <p:cNvPicPr/>
          <p:nvPr/>
        </p:nvPicPr>
        <p:blipFill>
          <a:blip r:embed="rId1"/>
          <a:srcRect l="8959" t="53288" r="9306" b="13832"/>
          <a:stretch/>
        </p:blipFill>
        <p:spPr>
          <a:xfrm>
            <a:off x="1139760" y="1736640"/>
            <a:ext cx="3395880" cy="2006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4932360" y="2195640"/>
            <a:ext cx="34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二怪：摇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Hippo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漏音耳机切克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6156360" y="3195720"/>
            <a:ext cx="1015560" cy="342720"/>
            <a:chOff x="6156360" y="3195720"/>
            <a:chExt cx="1015560" cy="342720"/>
          </a:xfrm>
        </p:grpSpPr>
        <p:sp>
          <p:nvSpPr>
            <p:cNvPr id="98" name="AutoShape 5"/>
            <p:cNvSpPr/>
            <p:nvPr/>
          </p:nvSpPr>
          <p:spPr>
            <a:xfrm>
              <a:off x="6156360" y="319824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6"/>
            <p:cNvSpPr/>
            <p:nvPr/>
          </p:nvSpPr>
          <p:spPr>
            <a:xfrm>
              <a:off x="6460920" y="320076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7"/>
            <p:cNvGrpSpPr/>
            <p:nvPr/>
          </p:nvGrpSpPr>
          <p:grpSpPr>
            <a:xfrm>
              <a:off x="6761160" y="3195720"/>
              <a:ext cx="410760" cy="342720"/>
              <a:chOff x="6761160" y="3195720"/>
              <a:chExt cx="410760" cy="342720"/>
            </a:xfrm>
          </p:grpSpPr>
          <p:sp>
            <p:nvSpPr>
              <p:cNvPr id="101" name="AutoShape 8"/>
              <p:cNvSpPr/>
              <p:nvPr/>
            </p:nvSpPr>
            <p:spPr>
              <a:xfrm>
                <a:off x="6761160" y="319572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9"/>
              <p:cNvSpPr/>
              <p:nvPr/>
            </p:nvSpPr>
            <p:spPr>
              <a:xfrm>
                <a:off x="6883560" y="3195720"/>
                <a:ext cx="28836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Group 10"/>
          <p:cNvGrpSpPr/>
          <p:nvPr/>
        </p:nvGrpSpPr>
        <p:grpSpPr>
          <a:xfrm>
            <a:off x="6164280" y="3575160"/>
            <a:ext cx="553680" cy="252360"/>
            <a:chOff x="6164280" y="3575160"/>
            <a:chExt cx="553680" cy="252360"/>
          </a:xfrm>
        </p:grpSpPr>
        <p:sp>
          <p:nvSpPr>
            <p:cNvPr id="104" name="AutoShape 11"/>
            <p:cNvSpPr/>
            <p:nvPr/>
          </p:nvSpPr>
          <p:spPr>
            <a:xfrm>
              <a:off x="6164280" y="3575160"/>
              <a:ext cx="24912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2"/>
            <p:cNvSpPr/>
            <p:nvPr/>
          </p:nvSpPr>
          <p:spPr>
            <a:xfrm>
              <a:off x="6469200" y="3577680"/>
              <a:ext cx="24876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Oval 13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4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108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3、4"/>
          <p:cNvPicPr/>
          <p:nvPr/>
        </p:nvPicPr>
        <p:blipFill>
          <a:blip r:embed="rId1"/>
          <a:srcRect l="0" t="0" r="10314" b="61417"/>
          <a:stretch/>
        </p:blipFill>
        <p:spPr>
          <a:xfrm>
            <a:off x="1047600" y="1836720"/>
            <a:ext cx="3781440" cy="2394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4932360" y="2195640"/>
            <a:ext cx="37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三怪：游戏达人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PSP.IPAD.I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6140520" y="3195720"/>
            <a:ext cx="708840" cy="342720"/>
            <a:chOff x="6140520" y="3195720"/>
            <a:chExt cx="708840" cy="342720"/>
          </a:xfrm>
        </p:grpSpPr>
        <p:sp>
          <p:nvSpPr>
            <p:cNvPr id="113" name="AutoShape 5"/>
            <p:cNvSpPr/>
            <p:nvPr/>
          </p:nvSpPr>
          <p:spPr>
            <a:xfrm>
              <a:off x="6140520" y="320076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6440040" y="3195720"/>
              <a:ext cx="409320" cy="342720"/>
              <a:chOff x="6440040" y="3195720"/>
              <a:chExt cx="409320" cy="342720"/>
            </a:xfrm>
          </p:grpSpPr>
          <p:sp>
            <p:nvSpPr>
              <p:cNvPr id="115" name="AutoShape 7"/>
              <p:cNvSpPr/>
              <p:nvPr/>
            </p:nvSpPr>
            <p:spPr>
              <a:xfrm>
                <a:off x="6440040" y="3195720"/>
                <a:ext cx="24840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8"/>
              <p:cNvSpPr/>
              <p:nvPr/>
            </p:nvSpPr>
            <p:spPr>
              <a:xfrm>
                <a:off x="6562080" y="3195720"/>
                <a:ext cx="28728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9"/>
          <p:cNvGrpSpPr/>
          <p:nvPr/>
        </p:nvGrpSpPr>
        <p:grpSpPr>
          <a:xfrm>
            <a:off x="6140520" y="3575160"/>
            <a:ext cx="551880" cy="252360"/>
            <a:chOff x="6140520" y="3575160"/>
            <a:chExt cx="551880" cy="252360"/>
          </a:xfrm>
        </p:grpSpPr>
        <p:sp>
          <p:nvSpPr>
            <p:cNvPr id="118" name="AutoShape 10"/>
            <p:cNvSpPr/>
            <p:nvPr/>
          </p:nvSpPr>
          <p:spPr>
            <a:xfrm>
              <a:off x="6140520" y="3575160"/>
              <a:ext cx="24840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1"/>
            <p:cNvSpPr/>
            <p:nvPr/>
          </p:nvSpPr>
          <p:spPr>
            <a:xfrm>
              <a:off x="6444360" y="3577680"/>
              <a:ext cx="24804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Oval 1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3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122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4"/>
          <p:cNvPicPr/>
          <p:nvPr/>
        </p:nvPicPr>
        <p:blipFill>
          <a:blip r:embed="rId1"/>
          <a:srcRect l="8945" t="3048" r="8928" b="26359"/>
          <a:stretch/>
        </p:blipFill>
        <p:spPr>
          <a:xfrm>
            <a:off x="1111320" y="1927080"/>
            <a:ext cx="3760560" cy="2286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4932360" y="2195640"/>
            <a:ext cx="37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四怪：当众调情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催吐言辞、过密举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5"/>
          <p:cNvGrpSpPr/>
          <p:nvPr/>
        </p:nvGrpSpPr>
        <p:grpSpPr>
          <a:xfrm>
            <a:off x="6140520" y="3209760"/>
            <a:ext cx="1447560" cy="254160"/>
            <a:chOff x="6140520" y="3209760"/>
            <a:chExt cx="1447560" cy="254160"/>
          </a:xfrm>
        </p:grpSpPr>
        <p:sp>
          <p:nvSpPr>
            <p:cNvPr id="128" name="AutoShape 6"/>
            <p:cNvSpPr/>
            <p:nvPr/>
          </p:nvSpPr>
          <p:spPr>
            <a:xfrm>
              <a:off x="6140520" y="321228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6445080" y="3214800"/>
              <a:ext cx="24840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8"/>
            <p:cNvSpPr/>
            <p:nvPr/>
          </p:nvSpPr>
          <p:spPr>
            <a:xfrm>
              <a:off x="6734520" y="3212280"/>
              <a:ext cx="24840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9"/>
            <p:cNvSpPr/>
            <p:nvPr/>
          </p:nvSpPr>
          <p:spPr>
            <a:xfrm>
              <a:off x="7039080" y="321480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0"/>
            <p:cNvSpPr/>
            <p:nvPr/>
          </p:nvSpPr>
          <p:spPr>
            <a:xfrm>
              <a:off x="7339320" y="320976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1"/>
          <p:cNvGrpSpPr/>
          <p:nvPr/>
        </p:nvGrpSpPr>
        <p:grpSpPr>
          <a:xfrm>
            <a:off x="6134040" y="3578400"/>
            <a:ext cx="553680" cy="252360"/>
            <a:chOff x="6134040" y="3578400"/>
            <a:chExt cx="553680" cy="252360"/>
          </a:xfrm>
        </p:grpSpPr>
        <p:sp>
          <p:nvSpPr>
            <p:cNvPr id="134" name="AutoShape 12"/>
            <p:cNvSpPr/>
            <p:nvPr/>
          </p:nvSpPr>
          <p:spPr>
            <a:xfrm>
              <a:off x="6134040" y="3578400"/>
              <a:ext cx="24912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"/>
            <p:cNvSpPr/>
            <p:nvPr/>
          </p:nvSpPr>
          <p:spPr>
            <a:xfrm>
              <a:off x="6438960" y="3580920"/>
              <a:ext cx="24876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4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137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6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5"/>
          <p:cNvPicPr/>
          <p:nvPr/>
        </p:nvPicPr>
        <p:blipFill>
          <a:blip r:embed="rId1"/>
          <a:srcRect l="0" t="0" r="0" b="30382"/>
          <a:stretch/>
        </p:blipFill>
        <p:spPr>
          <a:xfrm>
            <a:off x="973080" y="1844640"/>
            <a:ext cx="4179960" cy="2440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五怪：大胃贪吃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方便面、薯片、瓜子等零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6140520" y="3213000"/>
            <a:ext cx="1147680" cy="250920"/>
            <a:chOff x="6140520" y="3213000"/>
            <a:chExt cx="1147680" cy="250920"/>
          </a:xfrm>
        </p:grpSpPr>
        <p:sp>
          <p:nvSpPr>
            <p:cNvPr id="143" name="AutoShape 6"/>
            <p:cNvSpPr/>
            <p:nvPr/>
          </p:nvSpPr>
          <p:spPr>
            <a:xfrm>
              <a:off x="6140520" y="321300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6445080" y="321552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8"/>
            <p:cNvSpPr/>
            <p:nvPr/>
          </p:nvSpPr>
          <p:spPr>
            <a:xfrm>
              <a:off x="6734520" y="321300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9"/>
            <p:cNvSpPr/>
            <p:nvPr/>
          </p:nvSpPr>
          <p:spPr>
            <a:xfrm>
              <a:off x="7039440" y="321552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0"/>
          <p:cNvGrpSpPr/>
          <p:nvPr/>
        </p:nvGrpSpPr>
        <p:grpSpPr>
          <a:xfrm>
            <a:off x="6134040" y="3611520"/>
            <a:ext cx="853920" cy="255600"/>
            <a:chOff x="6134040" y="3611520"/>
            <a:chExt cx="853920" cy="255600"/>
          </a:xfrm>
        </p:grpSpPr>
        <p:sp>
          <p:nvSpPr>
            <p:cNvPr id="148" name="AutoShape 11"/>
            <p:cNvSpPr/>
            <p:nvPr/>
          </p:nvSpPr>
          <p:spPr>
            <a:xfrm>
              <a:off x="6134040" y="3611520"/>
              <a:ext cx="24876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12"/>
            <p:cNvSpPr/>
            <p:nvPr/>
          </p:nvSpPr>
          <p:spPr>
            <a:xfrm>
              <a:off x="6438960" y="3614040"/>
              <a:ext cx="24876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13"/>
            <p:cNvSpPr/>
            <p:nvPr/>
          </p:nvSpPr>
          <p:spPr>
            <a:xfrm>
              <a:off x="6739200" y="3617280"/>
              <a:ext cx="24876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4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152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6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5、6"/>
          <p:cNvPicPr/>
          <p:nvPr/>
        </p:nvPicPr>
        <p:blipFill>
          <a:blip r:embed="rId1"/>
          <a:srcRect l="9708" t="48522" r="18452" b="14070"/>
          <a:stretch/>
        </p:blipFill>
        <p:spPr>
          <a:xfrm>
            <a:off x="1187280" y="1911240"/>
            <a:ext cx="3384720" cy="26686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六怪：平铺报纸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日报、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晚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5"/>
          <p:cNvGrpSpPr/>
          <p:nvPr/>
        </p:nvGrpSpPr>
        <p:grpSpPr>
          <a:xfrm>
            <a:off x="6140520" y="3213000"/>
            <a:ext cx="842400" cy="250920"/>
            <a:chOff x="6140520" y="3213000"/>
            <a:chExt cx="842400" cy="250920"/>
          </a:xfrm>
        </p:grpSpPr>
        <p:sp>
          <p:nvSpPr>
            <p:cNvPr id="158" name="AutoShape 6"/>
            <p:cNvSpPr/>
            <p:nvPr/>
          </p:nvSpPr>
          <p:spPr>
            <a:xfrm>
              <a:off x="6140520" y="3213000"/>
              <a:ext cx="24876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7"/>
            <p:cNvSpPr/>
            <p:nvPr/>
          </p:nvSpPr>
          <p:spPr>
            <a:xfrm>
              <a:off x="6445080" y="3215520"/>
              <a:ext cx="24840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6734520" y="3213000"/>
              <a:ext cx="248400" cy="2484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6134040" y="3611520"/>
            <a:ext cx="553680" cy="252360"/>
            <a:chOff x="6134040" y="3611520"/>
            <a:chExt cx="553680" cy="252360"/>
          </a:xfrm>
        </p:grpSpPr>
        <p:sp>
          <p:nvSpPr>
            <p:cNvPr id="162" name="AutoShape 10"/>
            <p:cNvSpPr/>
            <p:nvPr/>
          </p:nvSpPr>
          <p:spPr>
            <a:xfrm>
              <a:off x="6134040" y="3611520"/>
              <a:ext cx="24912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6438960" y="3614040"/>
              <a:ext cx="248760" cy="24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165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7、8"/>
          <p:cNvPicPr/>
          <p:nvPr/>
        </p:nvPicPr>
        <p:blipFill>
          <a:blip r:embed="rId1"/>
          <a:srcRect l="7863" t="0" r="17566" b="65121"/>
          <a:stretch/>
        </p:blipFill>
        <p:spPr>
          <a:xfrm>
            <a:off x="1262160" y="1674720"/>
            <a:ext cx="3392280" cy="2610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七怪：静电发生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产生静电的毛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6172200" y="3228840"/>
            <a:ext cx="711000" cy="343080"/>
            <a:chOff x="6172200" y="3228840"/>
            <a:chExt cx="711000" cy="343080"/>
          </a:xfrm>
        </p:grpSpPr>
        <p:sp>
          <p:nvSpPr>
            <p:cNvPr id="171" name="AutoShape 6"/>
            <p:cNvSpPr/>
            <p:nvPr/>
          </p:nvSpPr>
          <p:spPr>
            <a:xfrm>
              <a:off x="6172200" y="3233880"/>
              <a:ext cx="248760" cy="2491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7"/>
            <p:cNvGrpSpPr/>
            <p:nvPr/>
          </p:nvGrpSpPr>
          <p:grpSpPr>
            <a:xfrm>
              <a:off x="6472440" y="3228840"/>
              <a:ext cx="410760" cy="343080"/>
              <a:chOff x="6472440" y="3228840"/>
              <a:chExt cx="410760" cy="343080"/>
            </a:xfrm>
          </p:grpSpPr>
          <p:sp>
            <p:nvSpPr>
              <p:cNvPr id="173" name="AutoShape 8"/>
              <p:cNvSpPr/>
              <p:nvPr/>
            </p:nvSpPr>
            <p:spPr>
              <a:xfrm>
                <a:off x="6472440" y="3228840"/>
                <a:ext cx="248760" cy="2487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"/>
              <p:cNvSpPr/>
              <p:nvPr/>
            </p:nvSpPr>
            <p:spPr>
              <a:xfrm>
                <a:off x="6594840" y="3228840"/>
                <a:ext cx="288360" cy="34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Group 10"/>
          <p:cNvGrpSpPr/>
          <p:nvPr/>
        </p:nvGrpSpPr>
        <p:grpSpPr>
          <a:xfrm>
            <a:off x="6175440" y="3614760"/>
            <a:ext cx="1310760" cy="342720"/>
            <a:chOff x="6175440" y="3614760"/>
            <a:chExt cx="1310760" cy="342720"/>
          </a:xfrm>
        </p:grpSpPr>
        <p:sp>
          <p:nvSpPr>
            <p:cNvPr id="176" name="AutoShape 11"/>
            <p:cNvSpPr/>
            <p:nvPr/>
          </p:nvSpPr>
          <p:spPr>
            <a:xfrm>
              <a:off x="6469920" y="361728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6775200" y="361980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"/>
            <p:cNvGrpSpPr/>
            <p:nvPr/>
          </p:nvGrpSpPr>
          <p:grpSpPr>
            <a:xfrm>
              <a:off x="7075440" y="3614760"/>
              <a:ext cx="410760" cy="342720"/>
              <a:chOff x="7075440" y="3614760"/>
              <a:chExt cx="410760" cy="342720"/>
            </a:xfrm>
          </p:grpSpPr>
          <p:sp>
            <p:nvSpPr>
              <p:cNvPr id="179" name="AutoShape 14"/>
              <p:cNvSpPr/>
              <p:nvPr/>
            </p:nvSpPr>
            <p:spPr>
              <a:xfrm>
                <a:off x="7075440" y="361476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5"/>
              <p:cNvSpPr/>
              <p:nvPr/>
            </p:nvSpPr>
            <p:spPr>
              <a:xfrm>
                <a:off x="7197840" y="3614760"/>
                <a:ext cx="28836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AutoShape 16"/>
            <p:cNvSpPr/>
            <p:nvPr/>
          </p:nvSpPr>
          <p:spPr>
            <a:xfrm>
              <a:off x="6175440" y="361728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183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9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 rot="20460000">
            <a:off x="296640" y="285480"/>
            <a:ext cx="1150920" cy="1152360"/>
          </a:xfrm>
          <a:prstGeom prst="ellipse">
            <a:avLst/>
          </a:prstGeom>
          <a:solidFill>
            <a:srgbClr val="ffcc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剪纸简体"/>
                <a:ea typeface="方正剪纸简体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7、8"/>
          <p:cNvPicPr/>
          <p:nvPr/>
        </p:nvPicPr>
        <p:blipFill>
          <a:blip r:embed="rId1"/>
          <a:srcRect l="0" t="46951" r="0" b="15134"/>
          <a:stretch/>
        </p:blipFill>
        <p:spPr>
          <a:xfrm>
            <a:off x="1041480" y="1943280"/>
            <a:ext cx="3833640" cy="23907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4932360" y="224460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第八怪：体操选手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致命武器：</a:t>
            </a:r>
            <a:r>
              <a:rPr b="0" lang="zh-CN" sz="18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随时隆起的胧二头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厚脸皮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康少女文字W5(P)"/>
              </a:rPr>
              <a:t>凶残指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5"/>
          <p:cNvGrpSpPr/>
          <p:nvPr/>
        </p:nvGrpSpPr>
        <p:grpSpPr>
          <a:xfrm>
            <a:off x="6121440" y="3225960"/>
            <a:ext cx="1603440" cy="342720"/>
            <a:chOff x="6121440" y="3225960"/>
            <a:chExt cx="1603440" cy="342720"/>
          </a:xfrm>
        </p:grpSpPr>
        <p:sp>
          <p:nvSpPr>
            <p:cNvPr id="189" name="AutoShape 6"/>
            <p:cNvSpPr/>
            <p:nvPr/>
          </p:nvSpPr>
          <p:spPr>
            <a:xfrm>
              <a:off x="6709680" y="322848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7"/>
            <p:cNvSpPr/>
            <p:nvPr/>
          </p:nvSpPr>
          <p:spPr>
            <a:xfrm>
              <a:off x="7014240" y="323100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8"/>
            <p:cNvGrpSpPr/>
            <p:nvPr/>
          </p:nvGrpSpPr>
          <p:grpSpPr>
            <a:xfrm>
              <a:off x="7314480" y="3225960"/>
              <a:ext cx="410400" cy="342720"/>
              <a:chOff x="7314480" y="3225960"/>
              <a:chExt cx="410400" cy="342720"/>
            </a:xfrm>
          </p:grpSpPr>
          <p:sp>
            <p:nvSpPr>
              <p:cNvPr id="192" name="AutoShape 9"/>
              <p:cNvSpPr/>
              <p:nvPr/>
            </p:nvSpPr>
            <p:spPr>
              <a:xfrm>
                <a:off x="7314480" y="322596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0"/>
              <p:cNvSpPr/>
              <p:nvPr/>
            </p:nvSpPr>
            <p:spPr>
              <a:xfrm>
                <a:off x="7436880" y="3225960"/>
                <a:ext cx="28800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1"/>
            <p:cNvSpPr/>
            <p:nvPr/>
          </p:nvSpPr>
          <p:spPr>
            <a:xfrm>
              <a:off x="6415200" y="3228480"/>
              <a:ext cx="24840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2"/>
            <p:cNvSpPr/>
            <p:nvPr/>
          </p:nvSpPr>
          <p:spPr>
            <a:xfrm>
              <a:off x="6121440" y="323172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3"/>
          <p:cNvGrpSpPr/>
          <p:nvPr/>
        </p:nvGrpSpPr>
        <p:grpSpPr>
          <a:xfrm>
            <a:off x="6114960" y="3622680"/>
            <a:ext cx="1015560" cy="342720"/>
            <a:chOff x="6114960" y="3622680"/>
            <a:chExt cx="1015560" cy="342720"/>
          </a:xfrm>
        </p:grpSpPr>
        <p:sp>
          <p:nvSpPr>
            <p:cNvPr id="197" name="AutoShape 14"/>
            <p:cNvSpPr/>
            <p:nvPr/>
          </p:nvSpPr>
          <p:spPr>
            <a:xfrm>
              <a:off x="6114960" y="362520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5"/>
            <p:cNvSpPr/>
            <p:nvPr/>
          </p:nvSpPr>
          <p:spPr>
            <a:xfrm>
              <a:off x="6419520" y="3627720"/>
              <a:ext cx="248760" cy="248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7"/>
                  </a:moveTo>
                  <a:lnTo>
                    <a:pt x="3827" y="3827"/>
                  </a:lnTo>
                  <a:lnTo>
                    <a:pt x="5000" y="0"/>
                  </a:lnTo>
                  <a:lnTo>
                    <a:pt x="6173" y="3827"/>
                  </a:lnTo>
                  <a:lnTo>
                    <a:pt x="10000" y="3827"/>
                  </a:lnTo>
                  <a:lnTo>
                    <a:pt x="6913" y="6173"/>
                  </a:lnTo>
                  <a:lnTo>
                    <a:pt x="8087" y="10000"/>
                  </a:lnTo>
                  <a:lnTo>
                    <a:pt x="5000" y="7628"/>
                  </a:lnTo>
                  <a:lnTo>
                    <a:pt x="1913" y="10000"/>
                  </a:lnTo>
                  <a:lnTo>
                    <a:pt x="3087" y="6173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16"/>
            <p:cNvGrpSpPr/>
            <p:nvPr/>
          </p:nvGrpSpPr>
          <p:grpSpPr>
            <a:xfrm>
              <a:off x="6719760" y="3622680"/>
              <a:ext cx="410760" cy="342720"/>
              <a:chOff x="6719760" y="3622680"/>
              <a:chExt cx="410760" cy="342720"/>
            </a:xfrm>
          </p:grpSpPr>
          <p:sp>
            <p:nvSpPr>
              <p:cNvPr id="200" name="AutoShape 17"/>
              <p:cNvSpPr/>
              <p:nvPr/>
            </p:nvSpPr>
            <p:spPr>
              <a:xfrm>
                <a:off x="6719760" y="3622680"/>
                <a:ext cx="248760" cy="24840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7"/>
                    </a:moveTo>
                    <a:lnTo>
                      <a:pt x="3827" y="3827"/>
                    </a:lnTo>
                    <a:lnTo>
                      <a:pt x="5000" y="0"/>
                    </a:lnTo>
                    <a:lnTo>
                      <a:pt x="6173" y="3827"/>
                    </a:lnTo>
                    <a:lnTo>
                      <a:pt x="10000" y="3827"/>
                    </a:lnTo>
                    <a:lnTo>
                      <a:pt x="6913" y="6173"/>
                    </a:lnTo>
                    <a:lnTo>
                      <a:pt x="8087" y="10000"/>
                    </a:lnTo>
                    <a:lnTo>
                      <a:pt x="5000" y="7628"/>
                    </a:lnTo>
                    <a:lnTo>
                      <a:pt x="1913" y="10000"/>
                    </a:lnTo>
                    <a:lnTo>
                      <a:pt x="3087" y="6173"/>
                    </a:lnTo>
                    <a:lnTo>
                      <a:pt x="0" y="3827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8"/>
              <p:cNvSpPr/>
              <p:nvPr/>
            </p:nvSpPr>
            <p:spPr>
              <a:xfrm>
                <a:off x="6842160" y="3622680"/>
                <a:ext cx="288360" cy="342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19"/>
          <p:cNvGrpSpPr/>
          <p:nvPr/>
        </p:nvGrpSpPr>
        <p:grpSpPr>
          <a:xfrm>
            <a:off x="7740720" y="5535720"/>
            <a:ext cx="1222200" cy="520560"/>
            <a:chOff x="7740720" y="5535720"/>
            <a:chExt cx="1222200" cy="520560"/>
          </a:xfrm>
        </p:grpSpPr>
        <p:sp>
          <p:nvSpPr>
            <p:cNvPr id="203" name="自由曲线 397"/>
            <p:cNvSpPr/>
            <p:nvPr/>
          </p:nvSpPr>
          <p:spPr>
            <a:xfrm>
              <a:off x="7740720" y="5579280"/>
              <a:ext cx="1222200" cy="41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2" y="12726"/>
                  </a:moveTo>
                  <a:cubicBezTo>
                    <a:pt x="117" y="12609"/>
                    <a:pt x="83" y="12271"/>
                    <a:pt x="79" y="12025"/>
                  </a:cubicBezTo>
                  <a:cubicBezTo>
                    <a:pt x="74" y="11780"/>
                    <a:pt x="79" y="11483"/>
                    <a:pt x="79" y="11237"/>
                  </a:cubicBezTo>
                  <a:cubicBezTo>
                    <a:pt x="79" y="10992"/>
                    <a:pt x="79" y="10800"/>
                    <a:pt x="79" y="10537"/>
                  </a:cubicBezTo>
                  <a:cubicBezTo>
                    <a:pt x="79" y="10274"/>
                    <a:pt x="79" y="9965"/>
                    <a:pt x="79" y="9661"/>
                  </a:cubicBezTo>
                  <a:cubicBezTo>
                    <a:pt x="79" y="9358"/>
                    <a:pt x="67" y="8972"/>
                    <a:pt x="79" y="8698"/>
                  </a:cubicBezTo>
                  <a:cubicBezTo>
                    <a:pt x="90" y="8424"/>
                    <a:pt x="112" y="8243"/>
                    <a:pt x="146" y="7997"/>
                  </a:cubicBezTo>
                  <a:cubicBezTo>
                    <a:pt x="180" y="7752"/>
                    <a:pt x="221" y="7472"/>
                    <a:pt x="282" y="7209"/>
                  </a:cubicBezTo>
                  <a:cubicBezTo>
                    <a:pt x="343" y="6947"/>
                    <a:pt x="435" y="6608"/>
                    <a:pt x="519" y="6421"/>
                  </a:cubicBezTo>
                  <a:cubicBezTo>
                    <a:pt x="602" y="6234"/>
                    <a:pt x="695" y="6141"/>
                    <a:pt x="790" y="6071"/>
                  </a:cubicBezTo>
                  <a:cubicBezTo>
                    <a:pt x="885" y="6001"/>
                    <a:pt x="1004" y="5995"/>
                    <a:pt x="1095" y="5983"/>
                  </a:cubicBezTo>
                  <a:cubicBezTo>
                    <a:pt x="1185" y="5972"/>
                    <a:pt x="1203" y="5983"/>
                    <a:pt x="1332" y="5983"/>
                  </a:cubicBezTo>
                  <a:cubicBezTo>
                    <a:pt x="1460" y="5983"/>
                    <a:pt x="1745" y="5983"/>
                    <a:pt x="1873" y="5983"/>
                  </a:cubicBezTo>
                  <a:cubicBezTo>
                    <a:pt x="2002" y="5983"/>
                    <a:pt x="2009" y="5983"/>
                    <a:pt x="2111" y="5983"/>
                  </a:cubicBezTo>
                  <a:cubicBezTo>
                    <a:pt x="2212" y="5983"/>
                    <a:pt x="2359" y="5983"/>
                    <a:pt x="2483" y="5983"/>
                  </a:cubicBezTo>
                  <a:cubicBezTo>
                    <a:pt x="2607" y="5983"/>
                    <a:pt x="2749" y="5983"/>
                    <a:pt x="2856" y="5983"/>
                  </a:cubicBezTo>
                  <a:cubicBezTo>
                    <a:pt x="2962" y="5983"/>
                    <a:pt x="3043" y="5983"/>
                    <a:pt x="3126" y="5983"/>
                  </a:cubicBezTo>
                  <a:cubicBezTo>
                    <a:pt x="3210" y="5983"/>
                    <a:pt x="3280" y="5983"/>
                    <a:pt x="3364" y="5983"/>
                  </a:cubicBezTo>
                  <a:cubicBezTo>
                    <a:pt x="3447" y="5983"/>
                    <a:pt x="3585" y="6100"/>
                    <a:pt x="3634" y="5983"/>
                  </a:cubicBezTo>
                  <a:cubicBezTo>
                    <a:pt x="3684" y="5867"/>
                    <a:pt x="3641" y="5516"/>
                    <a:pt x="3668" y="5283"/>
                  </a:cubicBezTo>
                  <a:cubicBezTo>
                    <a:pt x="3695" y="5049"/>
                    <a:pt x="3743" y="4757"/>
                    <a:pt x="3804" y="4582"/>
                  </a:cubicBezTo>
                  <a:cubicBezTo>
                    <a:pt x="3865" y="4407"/>
                    <a:pt x="3951" y="4302"/>
                    <a:pt x="4041" y="4232"/>
                  </a:cubicBezTo>
                  <a:cubicBezTo>
                    <a:pt x="4131" y="4162"/>
                    <a:pt x="4251" y="4174"/>
                    <a:pt x="4346" y="4144"/>
                  </a:cubicBezTo>
                  <a:cubicBezTo>
                    <a:pt x="4441" y="4115"/>
                    <a:pt x="4515" y="4115"/>
                    <a:pt x="4617" y="4057"/>
                  </a:cubicBezTo>
                  <a:cubicBezTo>
                    <a:pt x="4718" y="3998"/>
                    <a:pt x="4849" y="3852"/>
                    <a:pt x="4955" y="3794"/>
                  </a:cubicBezTo>
                  <a:cubicBezTo>
                    <a:pt x="5061" y="3736"/>
                    <a:pt x="5147" y="3718"/>
                    <a:pt x="5260" y="3707"/>
                  </a:cubicBezTo>
                  <a:cubicBezTo>
                    <a:pt x="5373" y="3695"/>
                    <a:pt x="5520" y="3707"/>
                    <a:pt x="5633" y="3707"/>
                  </a:cubicBezTo>
                  <a:cubicBezTo>
                    <a:pt x="5746" y="3707"/>
                    <a:pt x="5831" y="3707"/>
                    <a:pt x="5937" y="3707"/>
                  </a:cubicBezTo>
                  <a:cubicBezTo>
                    <a:pt x="6044" y="3707"/>
                    <a:pt x="6141" y="3695"/>
                    <a:pt x="6276" y="3707"/>
                  </a:cubicBezTo>
                  <a:cubicBezTo>
                    <a:pt x="6412" y="3718"/>
                    <a:pt x="6626" y="3724"/>
                    <a:pt x="6750" y="3794"/>
                  </a:cubicBezTo>
                  <a:cubicBezTo>
                    <a:pt x="6874" y="3864"/>
                    <a:pt x="6949" y="3987"/>
                    <a:pt x="7021" y="4144"/>
                  </a:cubicBezTo>
                  <a:cubicBezTo>
                    <a:pt x="7093" y="4302"/>
                    <a:pt x="7175" y="4769"/>
                    <a:pt x="7190" y="4757"/>
                  </a:cubicBezTo>
                  <a:cubicBezTo>
                    <a:pt x="7206" y="4746"/>
                    <a:pt x="7111" y="4273"/>
                    <a:pt x="7123" y="4057"/>
                  </a:cubicBezTo>
                  <a:cubicBezTo>
                    <a:pt x="7134" y="3841"/>
                    <a:pt x="7190" y="3631"/>
                    <a:pt x="7258" y="3444"/>
                  </a:cubicBezTo>
                  <a:cubicBezTo>
                    <a:pt x="7326" y="3257"/>
                    <a:pt x="7439" y="3064"/>
                    <a:pt x="7529" y="2918"/>
                  </a:cubicBezTo>
                  <a:cubicBezTo>
                    <a:pt x="7619" y="2772"/>
                    <a:pt x="7710" y="2667"/>
                    <a:pt x="7800" y="2568"/>
                  </a:cubicBezTo>
                  <a:cubicBezTo>
                    <a:pt x="7890" y="2469"/>
                    <a:pt x="7976" y="2364"/>
                    <a:pt x="8071" y="2305"/>
                  </a:cubicBezTo>
                  <a:cubicBezTo>
                    <a:pt x="8166" y="2247"/>
                    <a:pt x="8274" y="2247"/>
                    <a:pt x="8376" y="2218"/>
                  </a:cubicBezTo>
                  <a:cubicBezTo>
                    <a:pt x="8477" y="2189"/>
                    <a:pt x="8568" y="2142"/>
                    <a:pt x="8681" y="2130"/>
                  </a:cubicBezTo>
                  <a:cubicBezTo>
                    <a:pt x="8793" y="2119"/>
                    <a:pt x="8929" y="2160"/>
                    <a:pt x="9053" y="2130"/>
                  </a:cubicBezTo>
                  <a:cubicBezTo>
                    <a:pt x="9177" y="2101"/>
                    <a:pt x="9320" y="1984"/>
                    <a:pt x="9426" y="1955"/>
                  </a:cubicBezTo>
                  <a:cubicBezTo>
                    <a:pt x="9532" y="1926"/>
                    <a:pt x="9613" y="1955"/>
                    <a:pt x="9697" y="1955"/>
                  </a:cubicBezTo>
                  <a:cubicBezTo>
                    <a:pt x="9780" y="1955"/>
                    <a:pt x="9843" y="1955"/>
                    <a:pt x="9934" y="1955"/>
                  </a:cubicBezTo>
                  <a:cubicBezTo>
                    <a:pt x="10024" y="1955"/>
                    <a:pt x="10137" y="1926"/>
                    <a:pt x="10238" y="1955"/>
                  </a:cubicBezTo>
                  <a:cubicBezTo>
                    <a:pt x="10340" y="1984"/>
                    <a:pt x="10430" y="2119"/>
                    <a:pt x="10543" y="2130"/>
                  </a:cubicBezTo>
                  <a:cubicBezTo>
                    <a:pt x="10656" y="2142"/>
                    <a:pt x="10787" y="2160"/>
                    <a:pt x="10916" y="2043"/>
                  </a:cubicBezTo>
                  <a:cubicBezTo>
                    <a:pt x="11044" y="1926"/>
                    <a:pt x="11198" y="1547"/>
                    <a:pt x="11322" y="1430"/>
                  </a:cubicBezTo>
                  <a:cubicBezTo>
                    <a:pt x="11446" y="1313"/>
                    <a:pt x="11543" y="1383"/>
                    <a:pt x="11661" y="1342"/>
                  </a:cubicBezTo>
                  <a:cubicBezTo>
                    <a:pt x="11778" y="1301"/>
                    <a:pt x="11905" y="1196"/>
                    <a:pt x="12033" y="1167"/>
                  </a:cubicBezTo>
                  <a:cubicBezTo>
                    <a:pt x="12162" y="1138"/>
                    <a:pt x="12311" y="1167"/>
                    <a:pt x="12440" y="1167"/>
                  </a:cubicBezTo>
                  <a:cubicBezTo>
                    <a:pt x="12568" y="1167"/>
                    <a:pt x="12699" y="1167"/>
                    <a:pt x="12812" y="1167"/>
                  </a:cubicBezTo>
                  <a:cubicBezTo>
                    <a:pt x="12925" y="1167"/>
                    <a:pt x="13015" y="1138"/>
                    <a:pt x="13117" y="1167"/>
                  </a:cubicBezTo>
                  <a:cubicBezTo>
                    <a:pt x="13219" y="1196"/>
                    <a:pt x="13304" y="1225"/>
                    <a:pt x="13422" y="1342"/>
                  </a:cubicBezTo>
                  <a:cubicBezTo>
                    <a:pt x="13539" y="1459"/>
                    <a:pt x="13733" y="1681"/>
                    <a:pt x="13828" y="1868"/>
                  </a:cubicBezTo>
                  <a:cubicBezTo>
                    <a:pt x="13923" y="2054"/>
                    <a:pt x="13971" y="2247"/>
                    <a:pt x="13998" y="2481"/>
                  </a:cubicBezTo>
                  <a:cubicBezTo>
                    <a:pt x="14025" y="2714"/>
                    <a:pt x="13948" y="3257"/>
                    <a:pt x="13998" y="3269"/>
                  </a:cubicBezTo>
                  <a:cubicBezTo>
                    <a:pt x="14047" y="3280"/>
                    <a:pt x="14208" y="2726"/>
                    <a:pt x="14302" y="2568"/>
                  </a:cubicBezTo>
                  <a:cubicBezTo>
                    <a:pt x="14397" y="2411"/>
                    <a:pt x="14460" y="2451"/>
                    <a:pt x="14573" y="2305"/>
                  </a:cubicBezTo>
                  <a:cubicBezTo>
                    <a:pt x="14686" y="2160"/>
                    <a:pt x="14874" y="1821"/>
                    <a:pt x="14980" y="1692"/>
                  </a:cubicBezTo>
                  <a:cubicBezTo>
                    <a:pt x="15086" y="1564"/>
                    <a:pt x="15088" y="1605"/>
                    <a:pt x="15217" y="1517"/>
                  </a:cubicBezTo>
                  <a:cubicBezTo>
                    <a:pt x="15346" y="1430"/>
                    <a:pt x="15607" y="1237"/>
                    <a:pt x="15759" y="1167"/>
                  </a:cubicBezTo>
                  <a:cubicBezTo>
                    <a:pt x="15910" y="1097"/>
                    <a:pt x="16025" y="1109"/>
                    <a:pt x="16131" y="1080"/>
                  </a:cubicBezTo>
                  <a:cubicBezTo>
                    <a:pt x="16237" y="1050"/>
                    <a:pt x="16319" y="992"/>
                    <a:pt x="16402" y="992"/>
                  </a:cubicBezTo>
                  <a:cubicBezTo>
                    <a:pt x="16486" y="992"/>
                    <a:pt x="16544" y="1091"/>
                    <a:pt x="16639" y="1080"/>
                  </a:cubicBezTo>
                  <a:cubicBezTo>
                    <a:pt x="16734" y="1068"/>
                    <a:pt x="16865" y="974"/>
                    <a:pt x="16978" y="904"/>
                  </a:cubicBezTo>
                  <a:cubicBezTo>
                    <a:pt x="17091" y="834"/>
                    <a:pt x="17170" y="741"/>
                    <a:pt x="17317" y="642"/>
                  </a:cubicBezTo>
                  <a:cubicBezTo>
                    <a:pt x="17463" y="542"/>
                    <a:pt x="17723" y="361"/>
                    <a:pt x="17858" y="291"/>
                  </a:cubicBezTo>
                  <a:cubicBezTo>
                    <a:pt x="17994" y="221"/>
                    <a:pt x="18034" y="233"/>
                    <a:pt x="18129" y="204"/>
                  </a:cubicBezTo>
                  <a:cubicBezTo>
                    <a:pt x="18224" y="175"/>
                    <a:pt x="18321" y="145"/>
                    <a:pt x="18434" y="116"/>
                  </a:cubicBezTo>
                  <a:cubicBezTo>
                    <a:pt x="18547" y="87"/>
                    <a:pt x="18694" y="40"/>
                    <a:pt x="18807" y="29"/>
                  </a:cubicBezTo>
                  <a:cubicBezTo>
                    <a:pt x="18920" y="17"/>
                    <a:pt x="18994" y="29"/>
                    <a:pt x="19111" y="29"/>
                  </a:cubicBezTo>
                  <a:cubicBezTo>
                    <a:pt x="19229" y="29"/>
                    <a:pt x="19389" y="29"/>
                    <a:pt x="19518" y="29"/>
                  </a:cubicBezTo>
                  <a:cubicBezTo>
                    <a:pt x="19647" y="29"/>
                    <a:pt x="19766" y="29"/>
                    <a:pt x="19890" y="29"/>
                  </a:cubicBezTo>
                  <a:cubicBezTo>
                    <a:pt x="20015" y="29"/>
                    <a:pt x="20139" y="29"/>
                    <a:pt x="20263" y="29"/>
                  </a:cubicBezTo>
                  <a:cubicBezTo>
                    <a:pt x="20387" y="29"/>
                    <a:pt x="20507" y="29"/>
                    <a:pt x="20635" y="29"/>
                  </a:cubicBezTo>
                  <a:cubicBezTo>
                    <a:pt x="20764" y="29"/>
                    <a:pt x="20936" y="0"/>
                    <a:pt x="21042" y="29"/>
                  </a:cubicBezTo>
                  <a:cubicBezTo>
                    <a:pt x="21148" y="58"/>
                    <a:pt x="21218" y="75"/>
                    <a:pt x="21279" y="204"/>
                  </a:cubicBezTo>
                  <a:cubicBezTo>
                    <a:pt x="21340" y="332"/>
                    <a:pt x="21380" y="554"/>
                    <a:pt x="21414" y="817"/>
                  </a:cubicBezTo>
                  <a:cubicBezTo>
                    <a:pt x="21448" y="1080"/>
                    <a:pt x="21471" y="1506"/>
                    <a:pt x="21482" y="1780"/>
                  </a:cubicBezTo>
                  <a:cubicBezTo>
                    <a:pt x="21493" y="2054"/>
                    <a:pt x="21482" y="2235"/>
                    <a:pt x="21482" y="2481"/>
                  </a:cubicBezTo>
                  <a:cubicBezTo>
                    <a:pt x="21482" y="2726"/>
                    <a:pt x="21493" y="3024"/>
                    <a:pt x="21482" y="3269"/>
                  </a:cubicBezTo>
                  <a:cubicBezTo>
                    <a:pt x="21471" y="3514"/>
                    <a:pt x="21437" y="3724"/>
                    <a:pt x="21414" y="3969"/>
                  </a:cubicBezTo>
                  <a:cubicBezTo>
                    <a:pt x="21392" y="4214"/>
                    <a:pt x="21347" y="4495"/>
                    <a:pt x="21347" y="4757"/>
                  </a:cubicBezTo>
                  <a:cubicBezTo>
                    <a:pt x="21347" y="5020"/>
                    <a:pt x="21380" y="5283"/>
                    <a:pt x="21414" y="5545"/>
                  </a:cubicBezTo>
                  <a:cubicBezTo>
                    <a:pt x="21448" y="5808"/>
                    <a:pt x="21523" y="6088"/>
                    <a:pt x="21550" y="6334"/>
                  </a:cubicBezTo>
                  <a:cubicBezTo>
                    <a:pt x="21577" y="6579"/>
                    <a:pt x="21579" y="6801"/>
                    <a:pt x="21584" y="7034"/>
                  </a:cubicBezTo>
                  <a:cubicBezTo>
                    <a:pt x="21588" y="7268"/>
                    <a:pt x="21600" y="7472"/>
                    <a:pt x="21584" y="7735"/>
                  </a:cubicBezTo>
                  <a:cubicBezTo>
                    <a:pt x="21568" y="7997"/>
                    <a:pt x="21527" y="8365"/>
                    <a:pt x="21482" y="8610"/>
                  </a:cubicBezTo>
                  <a:cubicBezTo>
                    <a:pt x="21437" y="8856"/>
                    <a:pt x="21374" y="8978"/>
                    <a:pt x="21313" y="9223"/>
                  </a:cubicBezTo>
                  <a:cubicBezTo>
                    <a:pt x="21252" y="9468"/>
                    <a:pt x="21166" y="9836"/>
                    <a:pt x="21110" y="10099"/>
                  </a:cubicBezTo>
                  <a:cubicBezTo>
                    <a:pt x="21053" y="10362"/>
                    <a:pt x="21012" y="10584"/>
                    <a:pt x="20974" y="10800"/>
                  </a:cubicBezTo>
                  <a:cubicBezTo>
                    <a:pt x="20936" y="11016"/>
                    <a:pt x="20888" y="11196"/>
                    <a:pt x="20873" y="11412"/>
                  </a:cubicBezTo>
                  <a:cubicBezTo>
                    <a:pt x="20857" y="11628"/>
                    <a:pt x="20868" y="11897"/>
                    <a:pt x="20873" y="12113"/>
                  </a:cubicBezTo>
                  <a:cubicBezTo>
                    <a:pt x="20877" y="12329"/>
                    <a:pt x="20895" y="12510"/>
                    <a:pt x="20906" y="12726"/>
                  </a:cubicBezTo>
                  <a:cubicBezTo>
                    <a:pt x="20918" y="12942"/>
                    <a:pt x="20936" y="13164"/>
                    <a:pt x="20940" y="13427"/>
                  </a:cubicBezTo>
                  <a:cubicBezTo>
                    <a:pt x="20945" y="13689"/>
                    <a:pt x="20963" y="14028"/>
                    <a:pt x="20940" y="14302"/>
                  </a:cubicBezTo>
                  <a:cubicBezTo>
                    <a:pt x="20918" y="14577"/>
                    <a:pt x="20866" y="14816"/>
                    <a:pt x="20805" y="15090"/>
                  </a:cubicBezTo>
                  <a:cubicBezTo>
                    <a:pt x="20744" y="15365"/>
                    <a:pt x="20635" y="15703"/>
                    <a:pt x="20568" y="15966"/>
                  </a:cubicBezTo>
                  <a:cubicBezTo>
                    <a:pt x="20500" y="16229"/>
                    <a:pt x="20444" y="16451"/>
                    <a:pt x="20398" y="16667"/>
                  </a:cubicBezTo>
                  <a:cubicBezTo>
                    <a:pt x="20353" y="16883"/>
                    <a:pt x="20313" y="17075"/>
                    <a:pt x="20297" y="17280"/>
                  </a:cubicBezTo>
                  <a:cubicBezTo>
                    <a:pt x="20281" y="17484"/>
                    <a:pt x="20285" y="17676"/>
                    <a:pt x="20297" y="17892"/>
                  </a:cubicBezTo>
                  <a:cubicBezTo>
                    <a:pt x="20308" y="18108"/>
                    <a:pt x="20331" y="18360"/>
                    <a:pt x="20365" y="18593"/>
                  </a:cubicBezTo>
                  <a:cubicBezTo>
                    <a:pt x="20398" y="18827"/>
                    <a:pt x="20504" y="19078"/>
                    <a:pt x="20500" y="19294"/>
                  </a:cubicBezTo>
                  <a:cubicBezTo>
                    <a:pt x="20495" y="19510"/>
                    <a:pt x="20421" y="19807"/>
                    <a:pt x="20331" y="19907"/>
                  </a:cubicBezTo>
                  <a:cubicBezTo>
                    <a:pt x="20240" y="20006"/>
                    <a:pt x="20087" y="19907"/>
                    <a:pt x="19958" y="19907"/>
                  </a:cubicBezTo>
                  <a:cubicBezTo>
                    <a:pt x="19829" y="19907"/>
                    <a:pt x="19687" y="19907"/>
                    <a:pt x="19552" y="19907"/>
                  </a:cubicBezTo>
                  <a:cubicBezTo>
                    <a:pt x="19416" y="19907"/>
                    <a:pt x="19274" y="19848"/>
                    <a:pt x="19145" y="19907"/>
                  </a:cubicBezTo>
                  <a:cubicBezTo>
                    <a:pt x="19017" y="19965"/>
                    <a:pt x="18942" y="20198"/>
                    <a:pt x="18773" y="20257"/>
                  </a:cubicBezTo>
                  <a:cubicBezTo>
                    <a:pt x="18603" y="20315"/>
                    <a:pt x="18337" y="20216"/>
                    <a:pt x="18129" y="20257"/>
                  </a:cubicBezTo>
                  <a:cubicBezTo>
                    <a:pt x="17922" y="20298"/>
                    <a:pt x="17734" y="20479"/>
                    <a:pt x="17520" y="20520"/>
                  </a:cubicBezTo>
                  <a:cubicBezTo>
                    <a:pt x="17305" y="20560"/>
                    <a:pt x="17057" y="20508"/>
                    <a:pt x="16842" y="20520"/>
                  </a:cubicBezTo>
                  <a:cubicBezTo>
                    <a:pt x="16628" y="20531"/>
                    <a:pt x="16413" y="20595"/>
                    <a:pt x="16233" y="20607"/>
                  </a:cubicBezTo>
                  <a:cubicBezTo>
                    <a:pt x="16052" y="20619"/>
                    <a:pt x="15933" y="20607"/>
                    <a:pt x="15759" y="20607"/>
                  </a:cubicBezTo>
                  <a:cubicBezTo>
                    <a:pt x="15585" y="20607"/>
                    <a:pt x="15357" y="20607"/>
                    <a:pt x="15183" y="20607"/>
                  </a:cubicBezTo>
                  <a:cubicBezTo>
                    <a:pt x="15009" y="20607"/>
                    <a:pt x="14860" y="20607"/>
                    <a:pt x="14709" y="20607"/>
                  </a:cubicBezTo>
                  <a:cubicBezTo>
                    <a:pt x="14558" y="20607"/>
                    <a:pt x="14404" y="20607"/>
                    <a:pt x="14269" y="20607"/>
                  </a:cubicBezTo>
                  <a:cubicBezTo>
                    <a:pt x="14133" y="20607"/>
                    <a:pt x="13998" y="20607"/>
                    <a:pt x="13896" y="20607"/>
                  </a:cubicBezTo>
                  <a:cubicBezTo>
                    <a:pt x="13794" y="20607"/>
                    <a:pt x="13738" y="20607"/>
                    <a:pt x="13659" y="20607"/>
                  </a:cubicBezTo>
                  <a:cubicBezTo>
                    <a:pt x="13580" y="20607"/>
                    <a:pt x="13523" y="20490"/>
                    <a:pt x="13422" y="20607"/>
                  </a:cubicBezTo>
                  <a:cubicBezTo>
                    <a:pt x="13320" y="20724"/>
                    <a:pt x="13196" y="21179"/>
                    <a:pt x="13049" y="21308"/>
                  </a:cubicBezTo>
                  <a:cubicBezTo>
                    <a:pt x="12903" y="21436"/>
                    <a:pt x="12738" y="21384"/>
                    <a:pt x="12541" y="21395"/>
                  </a:cubicBezTo>
                  <a:cubicBezTo>
                    <a:pt x="12345" y="21407"/>
                    <a:pt x="12135" y="21395"/>
                    <a:pt x="11864" y="21395"/>
                  </a:cubicBezTo>
                  <a:cubicBezTo>
                    <a:pt x="11593" y="21395"/>
                    <a:pt x="11300" y="21366"/>
                    <a:pt x="10916" y="21395"/>
                  </a:cubicBezTo>
                  <a:cubicBezTo>
                    <a:pt x="10532" y="21424"/>
                    <a:pt x="9956" y="21541"/>
                    <a:pt x="9561" y="21570"/>
                  </a:cubicBezTo>
                  <a:cubicBezTo>
                    <a:pt x="9166" y="21600"/>
                    <a:pt x="8798" y="21570"/>
                    <a:pt x="8545" y="21570"/>
                  </a:cubicBezTo>
                  <a:cubicBezTo>
                    <a:pt x="8292" y="21570"/>
                    <a:pt x="8218" y="21570"/>
                    <a:pt x="8037" y="21570"/>
                  </a:cubicBezTo>
                  <a:cubicBezTo>
                    <a:pt x="7857" y="21570"/>
                    <a:pt x="7631" y="21570"/>
                    <a:pt x="7461" y="21570"/>
                  </a:cubicBezTo>
                  <a:cubicBezTo>
                    <a:pt x="7292" y="21570"/>
                    <a:pt x="7134" y="21570"/>
                    <a:pt x="7021" y="21570"/>
                  </a:cubicBezTo>
                  <a:cubicBezTo>
                    <a:pt x="6908" y="21570"/>
                    <a:pt x="6863" y="21600"/>
                    <a:pt x="6784" y="21570"/>
                  </a:cubicBezTo>
                  <a:cubicBezTo>
                    <a:pt x="6705" y="21541"/>
                    <a:pt x="6637" y="21465"/>
                    <a:pt x="6547" y="21395"/>
                  </a:cubicBezTo>
                  <a:cubicBezTo>
                    <a:pt x="6457" y="21325"/>
                    <a:pt x="6355" y="21173"/>
                    <a:pt x="6242" y="21132"/>
                  </a:cubicBezTo>
                  <a:cubicBezTo>
                    <a:pt x="6129" y="21092"/>
                    <a:pt x="6016" y="21132"/>
                    <a:pt x="5870" y="21132"/>
                  </a:cubicBezTo>
                  <a:cubicBezTo>
                    <a:pt x="5723" y="21132"/>
                    <a:pt x="5536" y="21132"/>
                    <a:pt x="5362" y="21132"/>
                  </a:cubicBezTo>
                  <a:cubicBezTo>
                    <a:pt x="5188" y="21132"/>
                    <a:pt x="5023" y="21132"/>
                    <a:pt x="4820" y="21132"/>
                  </a:cubicBezTo>
                  <a:cubicBezTo>
                    <a:pt x="4617" y="21132"/>
                    <a:pt x="4395" y="21132"/>
                    <a:pt x="4142" y="21132"/>
                  </a:cubicBezTo>
                  <a:cubicBezTo>
                    <a:pt x="3890" y="21132"/>
                    <a:pt x="3555" y="21162"/>
                    <a:pt x="3296" y="21132"/>
                  </a:cubicBezTo>
                  <a:cubicBezTo>
                    <a:pt x="3036" y="21103"/>
                    <a:pt x="2810" y="21045"/>
                    <a:pt x="2585" y="20957"/>
                  </a:cubicBezTo>
                  <a:cubicBezTo>
                    <a:pt x="2359" y="20870"/>
                    <a:pt x="2126" y="20677"/>
                    <a:pt x="1941" y="20607"/>
                  </a:cubicBezTo>
                  <a:cubicBezTo>
                    <a:pt x="1756" y="20537"/>
                    <a:pt x="1591" y="20560"/>
                    <a:pt x="1467" y="20520"/>
                  </a:cubicBezTo>
                  <a:cubicBezTo>
                    <a:pt x="1343" y="20479"/>
                    <a:pt x="1291" y="20444"/>
                    <a:pt x="1196" y="20344"/>
                  </a:cubicBezTo>
                  <a:cubicBezTo>
                    <a:pt x="1101" y="20245"/>
                    <a:pt x="975" y="20093"/>
                    <a:pt x="891" y="19907"/>
                  </a:cubicBezTo>
                  <a:cubicBezTo>
                    <a:pt x="808" y="19720"/>
                    <a:pt x="722" y="19422"/>
                    <a:pt x="688" y="19206"/>
                  </a:cubicBezTo>
                  <a:cubicBezTo>
                    <a:pt x="654" y="18990"/>
                    <a:pt x="688" y="18809"/>
                    <a:pt x="688" y="18593"/>
                  </a:cubicBezTo>
                  <a:cubicBezTo>
                    <a:pt x="688" y="18377"/>
                    <a:pt x="693" y="18126"/>
                    <a:pt x="688" y="17892"/>
                  </a:cubicBezTo>
                  <a:cubicBezTo>
                    <a:pt x="684" y="17659"/>
                    <a:pt x="677" y="17425"/>
                    <a:pt x="654" y="17192"/>
                  </a:cubicBezTo>
                  <a:cubicBezTo>
                    <a:pt x="632" y="16958"/>
                    <a:pt x="587" y="16725"/>
                    <a:pt x="553" y="16491"/>
                  </a:cubicBezTo>
                  <a:cubicBezTo>
                    <a:pt x="519" y="16258"/>
                    <a:pt x="496" y="16007"/>
                    <a:pt x="451" y="15791"/>
                  </a:cubicBezTo>
                  <a:cubicBezTo>
                    <a:pt x="406" y="15575"/>
                    <a:pt x="349" y="15365"/>
                    <a:pt x="282" y="15178"/>
                  </a:cubicBezTo>
                  <a:cubicBezTo>
                    <a:pt x="214" y="14991"/>
                    <a:pt x="90" y="14857"/>
                    <a:pt x="45" y="14652"/>
                  </a:cubicBezTo>
                  <a:cubicBezTo>
                    <a:pt x="0" y="14448"/>
                    <a:pt x="15" y="14168"/>
                    <a:pt x="11" y="13952"/>
                  </a:cubicBezTo>
                  <a:cubicBezTo>
                    <a:pt x="6" y="13736"/>
                    <a:pt x="6" y="13543"/>
                    <a:pt x="11" y="13339"/>
                  </a:cubicBezTo>
                  <a:cubicBezTo>
                    <a:pt x="15" y="13135"/>
                    <a:pt x="29" y="12825"/>
                    <a:pt x="45" y="12726"/>
                  </a:cubicBezTo>
                  <a:cubicBezTo>
                    <a:pt x="60" y="12627"/>
                    <a:pt x="108" y="12843"/>
                    <a:pt x="112" y="12726"/>
                  </a:cubicBezTo>
                  <a:close/>
                </a:path>
              </a:pathLst>
            </a:custGeom>
            <a:solidFill>
              <a:srgbClr val="ff9393"/>
            </a:solidFill>
            <a:ln w="9360">
              <a:solidFill>
                <a:srgbClr val="ff939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1"/>
            <p:cNvSpPr/>
            <p:nvPr/>
          </p:nvSpPr>
          <p:spPr>
            <a:xfrm>
              <a:off x="7878960" y="553572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地铁</a:t>
              </a:r>
              <a:r>
                <a:rPr b="1" lang="zh-CN" sz="14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十八</a:t>
              </a: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华康少女文字W5(P)"/>
                </a:rPr>
                <a:t>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2:15:4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4:07Z</dcterms:modified>
  <cp:revision>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