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89B2-ACC1-4D64-915B-8218F6B4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C2A0-8E65-45CD-B687-7187D9C5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FAB4-490C-4838-A577-B4FD8AF8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824F-FB76-4454-A77C-663BE0693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D27F-6CEE-4551-BBB2-DEECFE69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D7FA-D1CE-4440-9937-ECB2D4EB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7AD0-0486-44C0-910A-F35D5B65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BC96-4970-4149-AE91-ABBF5A1D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B9D2-5B41-42F7-B787-5C636491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DD5A-11D1-4C7A-BE5C-D5E52AFE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2E3F-ACB3-4B4C-90FF-2C9054B5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612F-5A25-48C7-A0FC-9982B7AB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C5B7-2CD0-49F2-8ED9-3A98E50A0C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757520" y="2379600"/>
            <a:ext cx="5553000" cy="2254320"/>
            <a:chOff x="1757520" y="2379600"/>
            <a:chExt cx="5553000" cy="2254320"/>
          </a:xfrm>
        </p:grpSpPr>
        <p:grpSp>
          <p:nvGrpSpPr>
            <p:cNvPr id="42" name=""/>
            <p:cNvGrpSpPr/>
            <p:nvPr/>
          </p:nvGrpSpPr>
          <p:grpSpPr>
            <a:xfrm>
              <a:off x="1757520" y="2379600"/>
              <a:ext cx="5553000" cy="2254320"/>
              <a:chOff x="1757520" y="2379600"/>
              <a:chExt cx="5553000" cy="2254320"/>
            </a:xfrm>
          </p:grpSpPr>
          <p:pic>
            <p:nvPicPr>
              <p:cNvPr id="43" name="椭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757520" y="2379600"/>
                <a:ext cx="5553000" cy="225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" name=""/>
              <p:cNvSpPr/>
              <p:nvPr/>
            </p:nvSpPr>
            <p:spPr>
              <a:xfrm>
                <a:off x="2585880" y="2725200"/>
                <a:ext cx="390492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2387880" y="2806200"/>
              <a:ext cx="4298040" cy="1400760"/>
              <a:chOff x="2387880" y="2806200"/>
              <a:chExt cx="4298040" cy="1400760"/>
            </a:xfrm>
          </p:grpSpPr>
          <p:pic>
            <p:nvPicPr>
              <p:cNvPr id="46" name="椭圆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387880" y="2806200"/>
                <a:ext cx="4298040" cy="140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3030120" y="3027240"/>
                <a:ext cx="3016440" cy="96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8" name="Picture 8" descr=""/>
          <p:cNvPicPr/>
          <p:nvPr/>
        </p:nvPicPr>
        <p:blipFill>
          <a:blip r:embed="rId4"/>
          <a:stretch/>
        </p:blipFill>
        <p:spPr>
          <a:xfrm>
            <a:off x="3657600" y="979560"/>
            <a:ext cx="1689120" cy="2800440"/>
          </a:xfrm>
          <a:prstGeom prst="rect">
            <a:avLst/>
          </a:prstGeom>
          <a:ln w="0">
            <a:noFill/>
          </a:ln>
        </p:spPr>
      </p:pic>
      <p:pic>
        <p:nvPicPr>
          <p:cNvPr id="49" name="图片 4" descr="audium.png"/>
          <p:cNvPicPr/>
          <p:nvPr/>
        </p:nvPicPr>
        <p:blipFill>
          <a:blip r:embed="rId5"/>
          <a:stretch/>
        </p:blipFill>
        <p:spPr>
          <a:xfrm>
            <a:off x="3805200" y="3137040"/>
            <a:ext cx="1625760" cy="162540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3657600" y="979560"/>
            <a:ext cx="1689120" cy="3043080"/>
            <a:chOff x="3657600" y="979560"/>
            <a:chExt cx="1689120" cy="3043080"/>
          </a:xfrm>
        </p:grpSpPr>
        <p:pic>
          <p:nvPicPr>
            <p:cNvPr id="51" name="Picture 7" descr=""/>
            <p:cNvPicPr/>
            <p:nvPr/>
          </p:nvPicPr>
          <p:blipFill>
            <a:blip r:embed="rId6"/>
            <a:srcRect l="0" t="0" r="0" b="27351"/>
            <a:stretch/>
          </p:blipFill>
          <p:spPr>
            <a:xfrm>
              <a:off x="3657600" y="979560"/>
              <a:ext cx="1689120" cy="203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矩形 21"/>
            <p:cNvSpPr/>
            <p:nvPr/>
          </p:nvSpPr>
          <p:spPr>
            <a:xfrm>
              <a:off x="3691800" y="2905920"/>
              <a:ext cx="1620360" cy="11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360360" y="6381720"/>
            <a:ext cx="4606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5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10760" y="6145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动物动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034 -0.0088 C -0.1427 -0.0088 -0.25815 -0.05371 -0.25781 -0.10973 C -0.25815 -0.16528 -0.14218 -0.21135 -0.00069 -0.21088 C 0.14132 -0.21135 0.25643 -0.16528 0.25625 -0.10973 C 0.25643 -0.05371 0.14132 -0.0088 -0.00034 -0.0088 Z">
                                      <p:cBhvr>
                                        <p:cTn id="6" dur="4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1568-A34E-4628-A92F-03AFE9F543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9:36:4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39:25Z</dcterms:modified>
  <cp:revision>27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