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169-716B-4CDD-990F-E1359EC6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9DCF-4A44-4D12-8127-442A41CF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855-DB5C-476B-AD23-46047E6E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887-8D81-428C-8A2C-2F973A4F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8EB-0A08-4B4B-82EA-BC651EFE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46E-1AE2-4552-8145-E4B8699D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017-1D64-4C95-AA40-778B9AE9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99F-655C-4C8B-956F-630AB0F3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FDF-B8F7-4A33-97DB-042B9703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A3F-6604-4343-932B-D225A813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65F-2E6C-4B45-9D2F-DFDC8248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6E9-F3E8-477B-B6DB-4407E164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CA59-C8D2-418E-B96D-FC6C548F7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7397640" y="6491160"/>
            <a:ext cx="174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2700360" y="692280"/>
            <a:ext cx="2273400" cy="81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79640" y="2133720"/>
            <a:ext cx="35272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397640" y="6491160"/>
            <a:ext cx="174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2700360" y="692280"/>
            <a:ext cx="2273400" cy="812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2340000" y="5084640"/>
            <a:ext cx="1803240" cy="1143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2124000" y="1916280"/>
            <a:ext cx="3529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农历五月初五为端午节，又称端阳节、午日节、五月节、艾节、端五、重午、午日、夏节，端是“开端”、“初”的意思。初五可以称为端五。农历以地支纪月，正月建寅，二月为卯，顺次至五月为午，因此称五月为午月，“五”与“午”通，“五”又为阳数，此外一些地方又将端午节称之为五月节、艾节、夏节。从史籍上看，“端午”二字最早见于晋人周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风土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“仲夏端午，烹鹜角黍”。端午节是我国汉族人民的传统节日，端午这一天必不可少的活动逐渐演变为吃粽子，赛龙舟，挂菖蒲、艾叶，薰苍术、白芷，喝雄黄酒。据说，吃粽子和赛龙舟，是为了纪念屈原，所以解放后曾把端午节定名为“诗人节”，以纪念屈原。至于挂菖蒲、艾叶，薰苍术、白芷，喝雄黄酒，则据说是为了镇邪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时至今日，端午节仍是中国人民中一个十分盛行的隆重节日。端午节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起为国家法定节假日。国家非常重视非物质文化遗产的保护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，该民俗经国务院批准列入第一批国家级非物质文化遗产名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211640" y="5084640"/>
            <a:ext cx="180324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30320" y="6359400"/>
            <a:ext cx="460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EAF-912B-4197-BDF2-7351F06FD8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979640" y="2133720"/>
            <a:ext cx="35272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397640" y="6491160"/>
            <a:ext cx="174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2"/>
          <a:stretch/>
        </p:blipFill>
        <p:spPr>
          <a:xfrm>
            <a:off x="2484360" y="1341360"/>
            <a:ext cx="31496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09:21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19:05Z</dcterms:modified>
  <cp:revision>1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