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D0CC-86D7-48FF-8653-133D42364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389016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AD4D-FE9A-4EBB-8014-DEC338664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22656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53FF-33E1-454D-B8CB-F20DF7F00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39344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7949160" y="139032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439344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7949160" y="3890160"/>
            <a:ext cx="33858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0F24-874D-4FA5-AEC0-1453FDEB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E467-459C-4AD5-BEC5-899C325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71CD-E06D-4856-9ED0-C6A2A3B9E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0BE3-D6A6-4E6F-B7C0-A7F6ACF0B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BD69-97EB-458F-A8C9-B43B2A98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838080" y="162000"/>
            <a:ext cx="10515600" cy="395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02B-14FD-458F-8CFC-8A7644F8B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16C9-5BDA-4872-AFEA-2250386CA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26560" y="389016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9766-591F-48B0-8DA2-8F0FD1D1C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390320"/>
            <a:ext cx="513144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3890160"/>
            <a:ext cx="10515600" cy="22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E7D6-E077-4214-AEF8-0E48C8C6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4" descr=""/>
          <p:cNvPicPr/>
          <p:nvPr/>
        </p:nvPicPr>
        <p:blipFill>
          <a:blip r:embed="rId2"/>
          <a:srcRect l="0" t="72074" r="59786" b="0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16"/>
          <p:cNvSpPr/>
          <p:nvPr/>
        </p:nvSpPr>
        <p:spPr>
          <a:xfrm>
            <a:off x="333360" y="536400"/>
            <a:ext cx="11525400" cy="6004080"/>
          </a:xfrm>
          <a:prstGeom prst="rect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traight Connector 18"/>
          <p:cNvSpPr/>
          <p:nvPr/>
        </p:nvSpPr>
        <p:spPr>
          <a:xfrm>
            <a:off x="333360" y="536400"/>
            <a:ext cx="1440" cy="600408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traight Connector 21"/>
          <p:cNvSpPr/>
          <p:nvPr/>
        </p:nvSpPr>
        <p:spPr>
          <a:xfrm flipH="1">
            <a:off x="11855520" y="557280"/>
            <a:ext cx="1440" cy="598176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5" descr=""/>
          <p:cNvPicPr/>
          <p:nvPr/>
        </p:nvPicPr>
        <p:blipFill>
          <a:blip r:embed="rId3"/>
          <a:stretch/>
        </p:blipFill>
        <p:spPr>
          <a:xfrm>
            <a:off x="7299360" y="-731880"/>
            <a:ext cx="4892760" cy="316080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26"/>
          <p:cNvSpPr/>
          <p:nvPr/>
        </p:nvSpPr>
        <p:spPr>
          <a:xfrm>
            <a:off x="333360" y="6540480"/>
            <a:ext cx="11523600" cy="144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27"/>
          <p:cNvSpPr/>
          <p:nvPr/>
        </p:nvSpPr>
        <p:spPr>
          <a:xfrm>
            <a:off x="272880" y="473040"/>
            <a:ext cx="12096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Oval 28"/>
          <p:cNvSpPr/>
          <p:nvPr/>
        </p:nvSpPr>
        <p:spPr>
          <a:xfrm>
            <a:off x="11796840" y="6480000"/>
            <a:ext cx="122040" cy="1256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29"/>
          <p:cNvSpPr/>
          <p:nvPr/>
        </p:nvSpPr>
        <p:spPr>
          <a:xfrm>
            <a:off x="271440" y="6477120"/>
            <a:ext cx="1224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838080" y="1390320"/>
            <a:ext cx="1051560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-4572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indent="-9144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 indent="-914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 indent="-9144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B03A4-001F-457E-A9F0-33341A661862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4CF63-36F0-4081-A3A7-4DCA61F76D13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"/>
          <p:cNvPicPr/>
          <p:nvPr/>
        </p:nvPicPr>
        <p:blipFill>
          <a:blip r:embed="rId1"/>
          <a:stretch/>
        </p:blipFill>
        <p:spPr>
          <a:xfrm>
            <a:off x="3240" y="-119160"/>
            <a:ext cx="12201480" cy="6873840"/>
          </a:xfrm>
          <a:prstGeom prst="rect">
            <a:avLst/>
          </a:prstGeom>
          <a:ln w="0">
            <a:noFill/>
          </a:ln>
        </p:spPr>
      </p:pic>
      <p:sp>
        <p:nvSpPr>
          <p:cNvPr id="51" name="Freeform 10"/>
          <p:cNvSpPr/>
          <p:nvPr/>
        </p:nvSpPr>
        <p:spPr>
          <a:xfrm>
            <a:off x="8435880" y="0"/>
            <a:ext cx="3756240" cy="6858000"/>
          </a:xfrm>
          <a:prstGeom prst="pie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traight Connector 12"/>
          <p:cNvSpPr/>
          <p:nvPr/>
        </p:nvSpPr>
        <p:spPr>
          <a:xfrm>
            <a:off x="8435880" y="0"/>
            <a:ext cx="0" cy="146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4"/>
          <p:cNvSpPr/>
          <p:nvPr/>
        </p:nvSpPr>
        <p:spPr>
          <a:xfrm flipV="1">
            <a:off x="8435880" y="6200640"/>
            <a:ext cx="0" cy="65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7"/>
          <p:cNvSpPr/>
          <p:nvPr/>
        </p:nvSpPr>
        <p:spPr>
          <a:xfrm>
            <a:off x="8435880" y="2793960"/>
            <a:ext cx="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8"/>
          <p:cNvSpPr/>
          <p:nvPr/>
        </p:nvSpPr>
        <p:spPr>
          <a:xfrm>
            <a:off x="8375760" y="4662360"/>
            <a:ext cx="1206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9"/>
          <p:cNvSpPr/>
          <p:nvPr/>
        </p:nvSpPr>
        <p:spPr>
          <a:xfrm>
            <a:off x="8375760" y="6121440"/>
            <a:ext cx="120600" cy="1252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4895640"/>
            <a:ext cx="9144000" cy="109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efefe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0" y="6469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08080" y="6840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钓鱼岛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162000"/>
            <a:ext cx="105156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Content Placeholder 3" descr=""/>
          <p:cNvPicPr/>
          <p:nvPr/>
        </p:nvPicPr>
        <p:blipFill>
          <a:blip r:embed="rId1"/>
          <a:stretch/>
        </p:blipFill>
        <p:spPr>
          <a:xfrm>
            <a:off x="961920" y="785880"/>
            <a:ext cx="4664160" cy="5286240"/>
          </a:xfrm>
          <a:prstGeom prst="rect">
            <a:avLst/>
          </a:prstGeom>
          <a:ln w="0">
            <a:noFill/>
          </a:ln>
        </p:spPr>
      </p:pic>
      <p:sp>
        <p:nvSpPr>
          <p:cNvPr id="62" name="TextBox 4"/>
          <p:cNvSpPr/>
          <p:nvPr/>
        </p:nvSpPr>
        <p:spPr>
          <a:xfrm>
            <a:off x="5907240" y="2359080"/>
            <a:ext cx="524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东海浪虽大，中国可打鱼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中宋"/>
                <a:ea typeface="华文中宋"/>
              </a:rPr>
              <a:t>钓鱼岛是中国的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9454c3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571C-D50D-4F3D-A4D0-7D77685FF39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"/>
          <p:cNvPicPr/>
          <p:nvPr/>
        </p:nvPicPr>
        <p:blipFill>
          <a:blip r:embed="rId1"/>
          <a:stretch/>
        </p:blipFill>
        <p:spPr>
          <a:xfrm>
            <a:off x="-9360" y="0"/>
            <a:ext cx="12201480" cy="6873840"/>
          </a:xfrm>
          <a:prstGeom prst="rect">
            <a:avLst/>
          </a:prstGeom>
          <a:ln w="0">
            <a:noFill/>
          </a:ln>
        </p:spPr>
      </p:pic>
      <p:sp>
        <p:nvSpPr>
          <p:cNvPr id="67" name="Freeform 10"/>
          <p:cNvSpPr/>
          <p:nvPr/>
        </p:nvSpPr>
        <p:spPr>
          <a:xfrm>
            <a:off x="8435880" y="0"/>
            <a:ext cx="3756240" cy="6858000"/>
          </a:xfrm>
          <a:prstGeom prst="pie">
            <a:avLst/>
          </a:prstGeom>
          <a:solidFill>
            <a:srgbClr val="021127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Straight Connector 12"/>
          <p:cNvSpPr/>
          <p:nvPr/>
        </p:nvSpPr>
        <p:spPr>
          <a:xfrm>
            <a:off x="8435880" y="0"/>
            <a:ext cx="0" cy="1467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traight Connector 14"/>
          <p:cNvSpPr/>
          <p:nvPr/>
        </p:nvSpPr>
        <p:spPr>
          <a:xfrm flipV="1">
            <a:off x="8435880" y="6200640"/>
            <a:ext cx="0" cy="657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17"/>
          <p:cNvSpPr/>
          <p:nvPr/>
        </p:nvSpPr>
        <p:spPr>
          <a:xfrm>
            <a:off x="8435880" y="2793960"/>
            <a:ext cx="0" cy="1930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8"/>
          <p:cNvSpPr/>
          <p:nvPr/>
        </p:nvSpPr>
        <p:spPr>
          <a:xfrm>
            <a:off x="8375760" y="4662360"/>
            <a:ext cx="120600" cy="12384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9"/>
          <p:cNvSpPr/>
          <p:nvPr/>
        </p:nvSpPr>
        <p:spPr>
          <a:xfrm>
            <a:off x="8375760" y="6121440"/>
            <a:ext cx="120600" cy="125280"/>
          </a:xfrm>
          <a:prstGeom prst="ellipse">
            <a:avLst/>
          </a:prstGeom>
          <a:solidFill>
            <a:srgbClr val="bfbfb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0" y="4221000"/>
            <a:ext cx="12192120" cy="263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3"/>
          <p:cNvSpPr/>
          <p:nvPr/>
        </p:nvSpPr>
        <p:spPr>
          <a:xfrm>
            <a:off x="0" y="2127240"/>
            <a:ext cx="12192120" cy="47307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0"/>
            <a:ext cx="12192120" cy="422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0" y="4221000"/>
            <a:ext cx="12192120" cy="290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WordArt 10"/>
          <p:cNvSpPr/>
          <p:nvPr/>
        </p:nvSpPr>
        <p:spPr>
          <a:xfrm>
            <a:off x="623880" y="2475000"/>
            <a:ext cx="4703760" cy="477720"/>
          </a:xfrm>
          <a:custGeom>
            <a:avLst/>
            <a:gdLst>
              <a:gd name="textAreaLeft" fmla="*/ 0 w 4703760"/>
              <a:gd name="textAreaRight" fmla="*/ 4704120 w 4703760"/>
              <a:gd name="textAreaTop" fmla="*/ 0 h 477720"/>
              <a:gd name="textAreaBottom" fmla="*/ 478080 h 477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</a:path>
              <a:path w="21600" h="21600">
                <a:moveTo>
                  <a:pt x="0" y="216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67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"/>
          <p:cNvSpPr/>
          <p:nvPr/>
        </p:nvSpPr>
        <p:spPr>
          <a:xfrm>
            <a:off x="1353960" y="13352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宋体"/>
              </a:rPr>
              <a:t>感谢你的关注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87920" y="6302520"/>
            <a:ext cx="552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素材 </a:t>
            </a:r>
            <a:r>
              <a:rPr b="0" lang="zh-CN" sz="1800" spc="-1" strike="noStrike" u="sng">
                <a:solidFill>
                  <a:srgbClr val="9454c3"/>
                </a:solidFill>
                <a:uFillTx/>
                <a:latin typeface="Arial"/>
                <a:hlinkClick r:id="rId2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05:51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33:34Z</dcterms:modified>
  <cp:revision>5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