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C9B-2394-4032-B03B-6D883C32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6F6-62DE-4242-8E86-BF50D783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72B-2E4C-4B04-BB0B-95F7FC44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E39-42F5-4595-A6F1-9F9C9B72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273-FE52-4266-858E-F22BB0FC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2A3-971D-4D73-AEDB-8A2830F8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303-E2F0-4B05-ABC6-EF1199BD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FB1-D164-4F94-B9F7-A64970B1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D98-0D6B-4B0C-A4BD-C45B7B2D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5B7-FC85-4F1D-B457-354BB018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055-67DA-4623-BC9F-D25E97B9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EF1-7C09-4E48-83BD-A2F87D5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9969-AA77-48F4-83D2-9E8AD14BBD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7FC0-0921-4C5A-9460-F06B5AC624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2" descr="C:\Documents and Settings\Administrator\桌面\2013\中国风 2013 新年 年会\图底.jpg"/>
          <p:cNvPicPr/>
          <p:nvPr/>
        </p:nvPicPr>
        <p:blipFill>
          <a:blip r:embed="rId1"/>
          <a:stretch/>
        </p:blipFill>
        <p:spPr>
          <a:xfrm>
            <a:off x="648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2"/>
          <p:cNvSpPr/>
          <p:nvPr/>
        </p:nvSpPr>
        <p:spPr>
          <a:xfrm>
            <a:off x="2872440" y="206064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淡雅古典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974806"/>
                </a:solidFill>
                <a:latin typeface="华文隶书"/>
                <a:ea typeface="华文隶书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720" y="6308640"/>
            <a:ext cx="561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背景素材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519-8A3E-47F2-9433-1FBC8A378F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9:0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29:47Z</dcterms:modified>
  <cp:revision>2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