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25C-34EB-48F4-93D9-78CE78BB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CD2-4AD5-4EB2-B18F-CC31D549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04A-362E-4EA7-BF8E-FE9712BB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8FC-552A-43EB-9FAA-643A3DCE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BBBF-19CD-4136-89B0-454ED1F5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1E0-364B-4922-855B-F68EE077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4EC7-0256-4B4F-BA92-EAD1D556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E204-8743-4581-9F80-7FC75D64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9706-619E-4880-B721-3EEB1DA2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D5CA-0A1B-482B-B07F-3C52364D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08B2-0706-4527-8AAB-0D6DD0E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6B2-3E41-4E32-827F-23042D47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3FE6-DCA6-4FC7-81B7-BDE3BD01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5F54-CE22-430A-BDC9-1E71237F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C58A-03A2-43CE-B28C-DC7D5EC2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E7F-669B-40CF-8D2B-643CAFC4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1BA2-0F4D-4CD0-ACC6-B391E83D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C45-3A6C-4892-A996-58FA74E3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986-5835-4941-81A6-1B72386C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50C-4718-4709-9111-AC1DC451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84D-452D-4584-99F1-810D8E24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10A-1F6A-43AC-8370-C4CBB27A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0B7-03A7-4DDB-975F-C94A6473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9D7-75C0-44C6-9236-5E655AE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D16-AB14-4A32-9358-B6BDF3CE46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BD6-A0CA-40F9-8C2C-C5BC795AC6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12640" y="117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电子信息行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87" name="Group 34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88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333333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4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4" name="Group 34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5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4d4d4d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1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1" name="Group 34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2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5f5f5f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48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08" name="Group 34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09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969696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55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5" name="Group 34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6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ff7c80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4d4d4d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969696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40" descr=""/>
          <p:cNvPicPr/>
          <p:nvPr/>
        </p:nvPicPr>
        <p:blipFill>
          <a:blip r:embed="rId2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6" name="Picture 241" descr=""/>
          <p:cNvPicPr/>
          <p:nvPr/>
        </p:nvPicPr>
        <p:blipFill>
          <a:blip r:embed="rId3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7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333333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333333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333333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333333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10526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5981760" y="121428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459480" y="192888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CA9-7A4F-4CF7-90BF-840F17C4CD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7:56:1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03:39Z</dcterms:modified>
  <cp:revision>3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