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media/image11.wmf" ContentType="image/x-wmf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4DE1-8792-451B-A250-4FA008A7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8075-44EF-418B-A429-3FF7838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8447-5A85-483A-A2BB-B1000E39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162A-5F91-4021-89AA-7EA986A6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9F6DA-FC1A-4B2F-9988-B75E3B423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C3384-BFEA-4E5D-9E12-C5BA1081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7BC94-0F13-400F-8419-ECC638D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A52C0-DF35-4626-9C14-0F3590F5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DB92F-6D6C-4EFF-A2D2-C542352F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24F7D-0BCA-40B3-BC79-B37090C5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7CD3F-CA49-4B08-838C-965F93CC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D889-DF25-46A4-B02D-4F6D038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F3F2-D893-4B34-AB92-B114042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1B2AE-8964-431A-B65D-4C30674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D6C71-4DAC-4ABA-B4F7-84FAE63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6CEA6-08FE-4DB2-8D9E-F0DD23E3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17CDB-CB97-449D-A876-74241780D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171C-4DC9-497E-9FB8-7D9F9C75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7721-0029-4822-A298-D67A5A0E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3326-AF0A-49CE-A830-9D9C4B4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D1AB-450C-482B-AB83-46F59E3E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828D-31A3-4DDB-9612-8803BAB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F63E-DC26-4375-8D85-7162383E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E314-D993-42EB-95C1-35CEEE4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d9c2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-11160" y="343080"/>
            <a:ext cx="603108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PMingLiU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358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9ca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9c21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9FDF-5D4F-49DE-A621-6D8FBECD1601}" type="slidenum"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4240" y="-6480"/>
            <a:ext cx="0" cy="11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5712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58920" y="-20520"/>
            <a:ext cx="0" cy="1154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48A-7017-42BA-9C5B-47DAEB2AD1ED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d9c2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PMingLiU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884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9c215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e32f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117440" cy="1096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148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59" name="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5f2dd"/>
                </a:gs>
                <a:gs pos="100000">
                  <a:srgbClr val="89ca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62" name="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4d8"/>
                </a:gs>
                <a:gs pos="100000">
                  <a:srgbClr val="0488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65" name="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5f1cc"/>
                </a:gs>
                <a:gs pos="100000">
                  <a:srgbClr val="d9c2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d9c21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ff96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89ca64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c215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89ca64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4884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d9c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16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ca64">
                    <a:alpha val="90196"/>
                  </a:srgbClr>
                </a:gs>
                <a:gs pos="50000">
                  <a:srgbClr val="d6ecc9"/>
                </a:gs>
                <a:gs pos="100000">
                  <a:srgbClr val="89ca64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20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4884e">
                    <a:alpha val="90196"/>
                  </a:srgbClr>
                </a:gs>
                <a:gs pos="50000">
                  <a:srgbClr val="a9d6c2"/>
                </a:gs>
                <a:gs pos="100000">
                  <a:srgbClr val="04884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24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4507"/>
                </a:gs>
                <a:gs pos="50000">
                  <a:srgbClr val="d9c215"/>
                </a:gs>
                <a:gs pos="100000">
                  <a:srgbClr val="4d4507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c215">
                    <a:alpha val="90196"/>
                  </a:srgbClr>
                </a:gs>
                <a:gs pos="50000">
                  <a:srgbClr val="f1e9af"/>
                </a:gs>
                <a:gs pos="100000">
                  <a:srgbClr val="d9c21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9c21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4884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324880" y="1933560"/>
            <a:ext cx="4217760" cy="4161960"/>
            <a:chOff x="2324880" y="1933560"/>
            <a:chExt cx="4217760" cy="4161960"/>
          </a:xfrm>
        </p:grpSpPr>
        <p:sp>
          <p:nvSpPr>
            <p:cNvPr id="532" name=""/>
            <p:cNvSpPr/>
            <p:nvPr/>
          </p:nvSpPr>
          <p:spPr>
            <a:xfrm rot="10800000">
              <a:off x="3814560" y="504324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31840" y="193356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86200">
              <a:off x="5191920" y="424512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597000">
              <a:off x="5189040" y="2711520"/>
              <a:ext cx="119196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4374200">
              <a:off x="2484720" y="4253760"/>
              <a:ext cx="1192320" cy="105372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7985000">
              <a:off x="2488680" y="270720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56480" y="5429160"/>
              <a:ext cx="1184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d9c2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5a8642">
                  <a:alpha val="12156"/>
                </a:srgbClr>
              </a:gs>
              <a:gs pos="50000">
                <a:srgbClr val="89ca64"/>
              </a:gs>
              <a:gs pos="100000">
                <a:srgbClr val="5a864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97a0d"/>
              </a:gs>
              <a:gs pos="100000">
                <a:srgbClr val="d9c21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2260440" y="1744920"/>
            <a:ext cx="153612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2396880" y="16434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94cbb3"/>
              </a:gs>
              <a:gs pos="100000">
                <a:srgbClr val="04884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2334600" y="1743480"/>
            <a:ext cx="137952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ecb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2326680" y="173196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eee59f"/>
              </a:gs>
              <a:gs pos="100000">
                <a:srgbClr val="d9c21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16200000">
            <a:off x="2291040" y="1361880"/>
            <a:ext cx="184464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66733"/>
              </a:gs>
              <a:gs pos="100000">
                <a:srgbClr val="89ca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未知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2301120" y="119772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89ca64"/>
              </a:gs>
              <a:gs pos="100000">
                <a:srgbClr val="77b05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"/>
          <p:cNvCxnSpPr>
            <a:endCxn id="578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endCxn id="571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583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84" name="未知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b9e4e"/>
                </a:gs>
                <a:gs pos="100000">
                  <a:srgbClr val="89ca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87" name="未知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036a3d"/>
                </a:gs>
                <a:gs pos="100000">
                  <a:srgbClr val="0488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90" name="未知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c87500"/>
                </a:gs>
                <a:gs pos="100000">
                  <a:srgbClr val="ff9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93" name="未知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aa9810"/>
                </a:gs>
                <a:gs pos="100000">
                  <a:srgbClr val="d9c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5" name="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7" name="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601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602" name="未知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未知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2029320" y="2155680"/>
              <a:ext cx="344520" cy="359280"/>
              <a:chOff x="2029320" y="2155680"/>
              <a:chExt cx="344520" cy="35928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2037960" y="2155680"/>
                <a:ext cx="335880" cy="273960"/>
                <a:chOff x="2037960" y="2155680"/>
                <a:chExt cx="335880" cy="273960"/>
              </a:xfrm>
            </p:grpSpPr>
            <p:sp>
              <p:nvSpPr>
                <p:cNvPr id="610" name=""/>
                <p:cNvSpPr/>
                <p:nvPr/>
              </p:nvSpPr>
              <p:spPr>
                <a:xfrm flipH="1" rot="15040200">
                  <a:off x="2190240" y="21229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rot="13928400">
                  <a:off x="213228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2029320" y="2177640"/>
                <a:ext cx="271800" cy="337320"/>
                <a:chOff x="2029320" y="2177640"/>
                <a:chExt cx="271800" cy="337320"/>
              </a:xfrm>
            </p:grpSpPr>
            <p:sp>
              <p:nvSpPr>
                <p:cNvPr id="615" name=""/>
                <p:cNvSpPr/>
                <p:nvPr/>
              </p:nvSpPr>
              <p:spPr>
                <a:xfrm flipH="1" rot="13687200">
                  <a:off x="2126160" y="21711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rot="12871200">
                  <a:off x="209556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 rot="12576000">
                  <a:off x="208512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9" name=""/>
            <p:cNvGrpSpPr/>
            <p:nvPr/>
          </p:nvGrpSpPr>
          <p:grpSpPr>
            <a:xfrm>
              <a:off x="1849320" y="2691360"/>
              <a:ext cx="429480" cy="517320"/>
              <a:chOff x="1849320" y="2691360"/>
              <a:chExt cx="429480" cy="51732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1849320" y="2691360"/>
                <a:ext cx="429480" cy="405000"/>
                <a:chOff x="1849320" y="2691360"/>
                <a:chExt cx="429480" cy="405000"/>
              </a:xfrm>
            </p:grpSpPr>
            <p:sp>
              <p:nvSpPr>
                <p:cNvPr id="621" name=""/>
                <p:cNvSpPr/>
                <p:nvPr/>
              </p:nvSpPr>
              <p:spPr>
                <a:xfrm flipH="1" rot="14424600">
                  <a:off x="204588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13608600">
                  <a:off x="199332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13313400">
                  <a:off x="196956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850400" y="2719080"/>
                <a:ext cx="308880" cy="489600"/>
                <a:chOff x="1850400" y="2719080"/>
                <a:chExt cx="308880" cy="489600"/>
              </a:xfrm>
            </p:grpSpPr>
            <p:sp>
              <p:nvSpPr>
                <p:cNvPr id="626" name=""/>
                <p:cNvSpPr/>
                <p:nvPr/>
              </p:nvSpPr>
              <p:spPr>
                <a:xfrm flipH="1" rot="13071600">
                  <a:off x="195876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 rot="12256200">
                  <a:off x="192168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 rot="11960400">
                  <a:off x="190908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0" name="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32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33" name="未知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未知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c215"/>
                </a:gs>
                <a:gs pos="100000">
                  <a:srgbClr val="38320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9c215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96c0b"/>
                </a:gs>
                <a:gs pos="50000">
                  <a:srgbClr val="d9c215"/>
                </a:gs>
                <a:gs pos="100000">
                  <a:srgbClr val="796c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9c215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641" name="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646" name="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0" name=""/>
            <p:cNvGrpSpPr/>
            <p:nvPr/>
          </p:nvGrpSpPr>
          <p:grpSpPr>
            <a:xfrm>
              <a:off x="1315800" y="2691360"/>
              <a:ext cx="429480" cy="517320"/>
              <a:chOff x="1315800" y="2691360"/>
              <a:chExt cx="429480" cy="51732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1315800" y="2691360"/>
                <a:ext cx="429480" cy="405000"/>
                <a:chOff x="1315800" y="2691360"/>
                <a:chExt cx="429480" cy="405000"/>
              </a:xfrm>
            </p:grpSpPr>
            <p:sp>
              <p:nvSpPr>
                <p:cNvPr id="652" name=""/>
                <p:cNvSpPr/>
                <p:nvPr/>
              </p:nvSpPr>
              <p:spPr>
                <a:xfrm flipH="1" rot="14424600">
                  <a:off x="151236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rot="13608600">
                  <a:off x="145980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rot="13313400">
                  <a:off x="143604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316880" y="2719080"/>
                <a:ext cx="308880" cy="489600"/>
                <a:chOff x="1316880" y="2719080"/>
                <a:chExt cx="308880" cy="489600"/>
              </a:xfrm>
            </p:grpSpPr>
            <p:sp>
              <p:nvSpPr>
                <p:cNvPr id="657" name=""/>
                <p:cNvSpPr/>
                <p:nvPr/>
              </p:nvSpPr>
              <p:spPr>
                <a:xfrm flipH="1" rot="13071600">
                  <a:off x="142524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rot="12256200">
                  <a:off x="138816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 rot="11960400">
                  <a:off x="137556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1" name="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4884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4884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2492a"/>
              </a:gs>
              <a:gs pos="50000">
                <a:srgbClr val="04884e"/>
              </a:gs>
              <a:gs pos="100000">
                <a:srgbClr val="0249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04884e">
                  <a:alpha val="0"/>
                </a:srgbClr>
              </a:gs>
              <a:gs pos="100000">
                <a:srgbClr val="02563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96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96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895000"/>
              </a:gs>
              <a:gs pos="50000">
                <a:srgbClr val="ff9600"/>
              </a:gs>
              <a:gs pos="100000">
                <a:srgbClr val="895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ff9600">
                  <a:alpha val="0"/>
                </a:srgbClr>
              </a:gs>
              <a:gs pos="100000">
                <a:srgbClr val="a1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676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9ca6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f5d2e"/>
              </a:gs>
              <a:gs pos="100000">
                <a:srgbClr val="89ca6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96c35"/>
              </a:gs>
              <a:gs pos="50000">
                <a:srgbClr val="89ca64"/>
              </a:gs>
              <a:gs pos="100000">
                <a:srgbClr val="496c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9ca64">
                  <a:alpha val="0"/>
                </a:srgbClr>
              </a:gs>
              <a:gs pos="100000">
                <a:srgbClr val="567f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686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691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03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07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89ca64"/>
                </a:gs>
                <a:gs pos="100000">
                  <a:srgbClr val="3f5d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9c215"/>
                </a:gs>
                <a:gs pos="100000">
                  <a:srgbClr val="645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4884e"/>
                </a:gs>
                <a:gs pos="100000">
                  <a:srgbClr val="48a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89ca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9ca64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9ca64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725" name="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14823"/>
                </a:gs>
                <a:gs pos="50000">
                  <a:srgbClr val="89ca64"/>
                </a:gs>
                <a:gs pos="100000">
                  <a:srgbClr val="3148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436431"/>
                </a:gs>
                <a:gs pos="100000">
                  <a:srgbClr val="89ca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728" name="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e5300"/>
                </a:gs>
                <a:gs pos="50000">
                  <a:srgbClr val="ff9600"/>
                </a:gs>
                <a:gs pos="100000">
                  <a:srgbClr val="8e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8e5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731" name="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4c7037"/>
                </a:gs>
                <a:gs pos="50000">
                  <a:srgbClr val="89ca64"/>
                </a:gs>
                <a:gs pos="100000">
                  <a:srgbClr val="4c70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9ca64"/>
                </a:gs>
                <a:gs pos="100000">
                  <a:srgbClr val="4c70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734" name="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a76200"/>
                </a:gs>
                <a:gs pos="50000">
                  <a:srgbClr val="ff9600"/>
                </a:gs>
                <a:gs pos="100000">
                  <a:srgbClr val="a7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c27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c215"/>
                </a:gs>
                <a:gs pos="50000">
                  <a:srgbClr val="f5f1cc"/>
                </a:gs>
                <a:gs pos="100000">
                  <a:srgbClr val="d9c21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c21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9ca64"/>
                </a:gs>
                <a:gs pos="50000">
                  <a:srgbClr val="e5f2dd"/>
                </a:gs>
                <a:gs pos="100000">
                  <a:srgbClr val="89ca6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9ca6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4884e"/>
                </a:gs>
                <a:gs pos="50000">
                  <a:srgbClr val="c9e4d8"/>
                </a:gs>
                <a:gs pos="100000">
                  <a:srgbClr val="04884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0488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fee7c8"/>
                </a:gs>
                <a:gs pos="100000">
                  <a:srgbClr val="ff9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ff9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181120" y="23623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[ Add your company slogan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181480" y="2743200"/>
            <a:ext cx="3733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9ca64"/>
                    </a:gs>
                    <a:gs pos="100000">
                      <a:srgbClr val="d9c215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9ca64"/>
                  </a:gs>
                  <a:gs pos="100000">
                    <a:srgbClr val="d9c215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B7EF-D05D-497D-9AA2-3A1E03F705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19358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89ca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PMingLiU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952880"/>
            <a:ext cx="6324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CD_School life_PHOTODISC(MULTIBITS), School Days_EYEWIRE(NFI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89ca64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89ca64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ae3d"/>
              </a:gs>
              <a:gs pos="50000">
                <a:srgbClr val="ff9600"/>
              </a:gs>
              <a:gs pos="100000">
                <a:srgbClr val="feae3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d04d"/>
              </a:gs>
              <a:gs pos="50000">
                <a:srgbClr val="d9c215"/>
              </a:gs>
              <a:gs pos="100000">
                <a:srgbClr val="e1d04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9ca6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9c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9c215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9c2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3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9ca6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9c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2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3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ff96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d9c215"/>
          </a:solidFill>
          <a:ln w="9360">
            <a:solidFill>
              <a:srgbClr val="d9c21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d9c215">
              <a:alpha val="50000"/>
            </a:srgbClr>
          </a:solidFill>
          <a:ln w="9360">
            <a:solidFill>
              <a:srgbClr val="d9c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ff9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8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18694800">
              <a:off x="3393000" y="3163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884e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c215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3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4" name=""/>
              <p:cNvSpPr/>
              <p:nvPr/>
            </p:nvSpPr>
            <p:spPr>
              <a:xfrm flipV="1" rot="8983800">
                <a:off x="545616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8167800">
                <a:off x="5336640" y="131760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243320" y="1317600"/>
              <a:ext cx="1742760" cy="1050120"/>
              <a:chOff x="4243320" y="1317600"/>
              <a:chExt cx="1742760" cy="1050120"/>
            </a:xfrm>
          </p:grpSpPr>
          <p:sp>
            <p:nvSpPr>
              <p:cNvPr id="229" name=""/>
              <p:cNvSpPr/>
              <p:nvPr/>
            </p:nvSpPr>
            <p:spPr>
              <a:xfrm flipV="1" rot="7630800">
                <a:off x="521748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6814800">
                <a:off x="5036400" y="10544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d6ecc9"/>
              </a:gs>
              <a:gs pos="100000">
                <a:srgbClr val="89ca64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54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55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68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86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304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30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56" name="未知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61" name="未知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66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67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73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79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85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86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92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98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19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 rot="5400000">
              <a:off x="3033000" y="23184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 flipV="1" rot="16200000">
              <a:off x="303660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27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37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45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46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23:3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46:22Z</dcterms:modified>
  <cp:revision>2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