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B35-A9C8-4BA5-8DA2-EADB9AEE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93D-7A80-43F6-BB96-6E056BD8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BC0-40AB-450F-918B-FA4D89DB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0B3-2110-43C6-9BE2-A395D407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7ACC-5E69-44EA-B02E-5B973C3C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4AC2-4998-428F-ACDA-A025F55A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EC0C-D984-4469-8891-4BF68912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8B67-ECF7-4B13-8107-D966F917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BAD2-81EA-4CD3-ADD6-53370646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86E3-728E-45CF-8220-464D17C5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E627-D7FB-419D-B0F3-FC5A7CB1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5B9-BC2E-49A1-ADC8-AE40B28B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3EEF-1F38-4693-8C89-CBE4C49E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1729-15CF-464F-8507-EFEC34EA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960D-9B57-4E20-8B50-301408AC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9D94-7280-4A0A-8AE0-51806E7E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09FC-6B80-4EB9-B898-BA070E6A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6A9D-60BF-4C73-B523-9349678C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1668-0DF6-4BC2-B905-CB17B0D4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D030C-5040-4157-A1E0-39A1F789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2B56D-9B50-4A86-BA3B-AF8140E5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607F-F20D-44F5-B4CA-8B7E5238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347-C30E-448E-A11B-152C508D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848D1-5BAB-477B-BCA1-5BCDF3DE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0425-C562-4867-9890-9C853112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8AF8-3869-49FD-B843-00AA77E9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F0DF-EDFA-4CF6-888C-13D1A2C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2859-72DC-4FFA-A2C0-DD0F5A04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98AF-21B6-40C5-BA36-49DCE588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5B9C-04D2-4A9B-9A2A-C1164AAE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1EC-9F12-4A81-B26D-AAC9E120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AD2-9C99-4724-B3EC-E8829F64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B7A-1823-4E0D-856F-8BBB9834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697-CFB7-4174-9524-86F5DF8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41A-92A8-4334-8B10-F0D08FFA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A36-BFD1-4DBA-A338-982897E2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08C1-CE70-40B8-8C4F-19CEE6BD2E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D123-7219-4D71-8C6B-FD7DF49EC0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6" descr=""/>
          <p:cNvPicPr/>
          <p:nvPr/>
        </p:nvPicPr>
        <p:blipFill>
          <a:blip r:embed="rId3"/>
          <a:stretch/>
        </p:blipFill>
        <p:spPr>
          <a:xfrm>
            <a:off x="3924360" y="120600"/>
            <a:ext cx="1224000" cy="13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D925-10DC-4C66-88E7-F1CEE930F77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1118-C76D-4665-830D-10D1485663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6" descr=""/>
          <p:cNvPicPr/>
          <p:nvPr/>
        </p:nvPicPr>
        <p:blipFill>
          <a:blip r:embed="rId3"/>
          <a:stretch/>
        </p:blipFill>
        <p:spPr>
          <a:xfrm>
            <a:off x="7950240" y="49320"/>
            <a:ext cx="798480" cy="64764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8"/>
          <p:cNvSpPr/>
          <p:nvPr/>
        </p:nvSpPr>
        <p:spPr>
          <a:xfrm>
            <a:off x="466560" y="696960"/>
            <a:ext cx="8209080" cy="1440"/>
          </a:xfrm>
          <a:prstGeom prst="line">
            <a:avLst/>
          </a:prstGeom>
          <a:ln w="9360">
            <a:solidFill>
              <a:srgbClr val="7f7f7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147760" y="766800"/>
            <a:ext cx="4800600" cy="577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E0EA-8DCC-41D2-B093-0F8B7C62F61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C99F-F1BF-4956-9C80-D1A20C2EC7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7" descr=""/>
          <p:cNvPicPr/>
          <p:nvPr/>
        </p:nvPicPr>
        <p:blipFill>
          <a:blip r:embed="rId4"/>
          <a:stretch/>
        </p:blipFill>
        <p:spPr>
          <a:xfrm>
            <a:off x="4067280" y="264960"/>
            <a:ext cx="1009440" cy="1150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419640" y="472680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二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一三年七月三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2880" y="2048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360" y="4210200"/>
            <a:ext cx="40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法律的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16000" y="443700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F0BC-655C-4448-AE00-0216597497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419640" y="472680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二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一三年七月三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3" descr=""/>
          <p:cNvPicPr/>
          <p:nvPr/>
        </p:nvPicPr>
        <p:blipFill>
          <a:blip r:embed="rId2"/>
          <a:stretch/>
        </p:blipFill>
        <p:spPr>
          <a:xfrm>
            <a:off x="2803680" y="2085840"/>
            <a:ext cx="3784320" cy="134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15:3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7T10:47:45Z</dcterms:modified>
  <cp:revision>9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