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178C4-E85A-4D15-AED9-383FBFF1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A2F1-470F-4AF5-A11F-BE1568B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360AA-0D9E-45F7-AAA9-29052065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D584-6EDF-49AF-8F25-184CE23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F5789-C3FC-48F6-85F7-87CA1C4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4CD91-C76E-463C-AC84-512BF35A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98A06-7EE0-473B-94A5-9B1AE093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8359-CBAB-4E3F-A2CE-9D7CC3B3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2FB4A-0B53-482A-84D4-D44833B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542DF-D629-448C-955D-2C2FDEFF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0052-BAC6-4874-8475-9B20CDC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FF43-F898-40F7-A3EF-DB786EC9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1782-FB20-4190-B858-B164E401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45E25-BDE6-4B82-A530-9604F1ED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7B76-0F85-4D0C-B0F1-B3642C9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D742-727F-43BE-9AA4-C57720E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CE85C-498D-4F75-8AF6-3DA12F24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71B39-5317-4038-A254-1CEABFE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C6D5-DE1D-4C08-96CF-7030FB63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8A05-163B-4EBB-8EFE-2FFEF617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349AB-8667-4383-A70D-FC3614E8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604B9-ACF7-4769-A710-E4572644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71FBF-B8FD-4B20-BD52-67D817D4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0786-D580-4A63-B77B-72332931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3336D-0815-4196-8D98-46B557BB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3E40-22AB-4ACB-AC49-B01A7959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5E700-7B89-4B53-95AD-EF4B185F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1B3F1-51E1-4EF4-9DD9-AE83BE6C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0EF1F-47B5-41A6-8532-DFDCE39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E906-6C69-41ED-B7FB-7224AD7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BD0-5DB0-416C-BF29-145A73EA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9485-B33D-4532-8F43-ABE32323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3B856-A49F-4773-9555-5095E84E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857EA-616F-4769-801E-6D9308CD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27442-322B-460A-AA4F-ED0784F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062A-FFD4-4BF9-A596-8AF20B3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546CB-BEF2-4D25-AB01-DCB19DE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6FD86-C4B4-4E97-8E39-4E17DA3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731C-1AC5-4650-8013-799673B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820D-17E5-4735-9203-4AC3814F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8C95-F030-449A-902D-B00D530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B3D-B5F7-4D12-92E4-96B22E7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F85F-6D30-4057-8561-21C9E500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DF01-542A-491C-ADE6-65FC7A7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8FE6-46FC-4585-87EA-AFEB3C4E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A173B-3825-4741-ACB6-2C2246C3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21E25-1F64-4BD1-A0FD-E3F6C863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863CD-4E0B-4737-A493-3A5B62BC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BBD6D-E25A-4B1E-8FD0-6B03B3E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C59F0-8DBD-43CE-919B-F725D94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D6CE-6907-4FEF-968F-42DBC592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291FF-F086-459D-ADF5-255F5E9A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769-CE3B-49AC-9D5A-75F71320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B01FE-1443-47BF-9136-B818278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2E14C-63EC-465C-ADC0-9EC7124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C1304-F232-44D4-B679-A87B057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B3097-5792-4AE9-BADB-860BFA57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A05AB-6F36-44F1-83CC-578F821C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BB3CB-FB1F-446A-96F7-CB10B94A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BF954-6D87-4A4A-AE3D-DB947E74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F8F-C435-4EAE-B555-DCA2ED27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C5B-D3E1-4FCB-AC82-74D3BC06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490-32E1-4C6B-87CB-1FAD571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476-D80F-468C-9534-C10CBC3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4EE-0439-4FE0-8105-94A306B1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6AF-2256-45C5-A8C6-6F38DA4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592-7D7B-42E4-AEB0-2DBCCD8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277-A1F7-48F7-ADF4-5FAF6EFA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09D-F73F-4466-849C-2B31E530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D15-2C28-4B81-B6E2-CA0EBA2E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C43-4642-4380-A349-CE32C5D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0BD-EE88-4016-9517-AEBE91DE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D82-0632-4CE7-8B42-81235EB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B3C6-4205-4FE5-863B-3B2926B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68A-10B9-460F-8952-F723733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CA77-90AB-4962-B144-5D2713F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AD7-A1F0-4D9A-9D41-4BDD4161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F59C-84B3-4C88-AA02-5FFAB86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EA3F-A2A4-4045-A070-A56F723A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F19-65CF-4F43-9FB6-B7C7152E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E78-5FDA-48D8-9C3B-B97CA296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0F56-494F-4A18-902D-0DE220E9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5716-4923-4AAE-81FF-762C1D70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2564-B1E3-44F6-9FDF-310AB16F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361D-EFAD-4E59-B163-6A2BDDDE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BE8B-E9D6-4AC6-A83A-CBB73791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42E3-9166-450F-866F-4C6BCF8A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831A-514F-4369-96BC-7C0B583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D47A-97EF-438C-8B1C-6960EBB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01C1-B51C-4B05-B1CD-6C66742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A7E6-6C4C-4C3B-BB7C-1A3714B6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9FBC-4D11-4491-87C4-B7C4D348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F878-21AE-4B2F-B7C9-47C49B18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1F0B-0383-46FB-AA59-1A65367B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4C8E-6D96-4CD4-8F23-D95DF4F2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3509-72AD-4F0F-96A6-A5F3D30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BD9C-B944-4375-A14F-2C2BB21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BE63-E27B-4D2E-A9FE-7F1CE8B3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DBD3-3764-44EE-ABFE-A10E469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CBB2-9723-48E4-88F4-717DCA4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37B6-BB57-4A1C-AA2E-D02E556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5D89-22E8-43EB-A829-A1ECCB7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0B41-81C5-4E03-88E3-9314E5E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9688-20B5-48B8-86B9-1B49D4B9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100A-3BB9-42E1-9A91-C5D16217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2FD1-F6E1-49D1-AF34-E116EB1D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47762-7B06-4BA6-9E4F-99EEB1D4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790A-C55E-489A-8678-3A9EF37F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C483-50F3-4B20-9E20-62C5556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5C21-0337-49CB-A6C6-D7C9E6D1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FD14-D337-4A03-9B8E-7C17030D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BEE0-EB37-415A-98A3-1577865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AB40-358B-4BB1-978E-94126240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1F1AF-9927-4F0C-A8A4-5B72326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D931-1034-45E4-B49E-CF5C1BB2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FC20-87E6-4F02-B731-CB300F8E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336D-9241-4F9B-8F29-7B7E7D97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D6FB-B6EC-4957-8184-344259AE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0450-CDE2-457F-894B-F7DFD97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EBA7-9F38-4646-A7E3-1137931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D4138-44D1-40DE-804D-BB40295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A1EE-D99F-4EB4-AD0D-EA0A2EF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7202-3819-4271-876A-B50A9CF6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FA63-9BE9-4B71-801A-AE14CE1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E724-5E57-4BAA-A1F5-45378FB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438D-59F5-4EC9-BF09-F94F67E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D377-F872-4DE2-B67A-4B0C29C9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0123-49FD-476E-B96E-546135C1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28A9-0542-4BF0-A84C-734E5E78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4A97-97FB-4D40-B81E-5808A2D8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C6F9-7CB8-4B73-8875-CFA3C33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980B-90EB-41A9-A828-DD9A5D2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E98B-D987-4B80-A787-5050FF81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FA8B-10F2-4E63-832E-F64F691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101A-1FF6-4E35-9639-C50BE28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7FF10-EC45-45C3-8123-3CC19AAF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0C32-3457-47D7-B36F-15B5930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E5921-AFF4-4CC3-A034-F1FD84E6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A4BF-90FC-4132-905D-B4333D41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A173E-0F5E-42AE-99FC-989F765C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B5E5C-F125-4068-8FF1-1CE63A4F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E56D0-800D-4C7C-8988-525A77AD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7C20-CCC8-4EA3-AD89-C739450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2311-A9CC-4989-B667-CE332E0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E516-DF38-48C8-AADC-5B98778D65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4687-5226-4AB4-A217-EC331AC02D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64D-CC02-4261-BC0D-F06309853F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C701-CC02-403E-B6E4-E6ADB9ED7F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08AA-6794-4A13-9C14-072E7F9A2F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B22-206B-44BF-B5FA-4C08155DEA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3673-E52B-40B0-ABAD-52696709B9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41B4-178F-4562-90CA-B52ED57427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533-9E95-486B-932B-C85E82499C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683-5273-413C-8C38-F7116D44D0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B997-AA9A-4B75-8901-0D13273E95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CCE6-69A8-48B0-890F-7DE98C3017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0920" y="785520"/>
            <a:ext cx="6572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7c80"/>
                </a:solidFill>
                <a:latin typeface="Calibri"/>
              </a:rPr>
              <a:t>PowerPoint Template</a:t>
            </a:r>
            <a:endParaRPr b="0" lang="en-US" sz="50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673920" y="1619280"/>
            <a:ext cx="4748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7c80"/>
                </a:solidFill>
                <a:latin typeface="Calibri"/>
              </a:rPr>
              <a:t>Click to edit Master subtitle sty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"/>
          <p:cNvSpPr/>
          <p:nvPr/>
        </p:nvSpPr>
        <p:spPr>
          <a:xfrm>
            <a:off x="16812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2401560" y="2460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浪漫婚礼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占位符 9" descr="wedding014.jpg"/>
          <p:cNvPicPr/>
          <p:nvPr/>
        </p:nvPicPr>
        <p:blipFill>
          <a:blip r:embed="rId1"/>
          <a:stretch/>
        </p:blipFill>
        <p:spPr>
          <a:xfrm>
            <a:off x="646200" y="1835280"/>
            <a:ext cx="4290840" cy="40478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3"/>
          <p:cNvSpPr/>
          <p:nvPr/>
        </p:nvSpPr>
        <p:spPr>
          <a:xfrm>
            <a:off x="5286240" y="23572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5778360" y="16430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占位符 4" descr="wedding005.jpg"/>
          <p:cNvPicPr/>
          <p:nvPr/>
        </p:nvPicPr>
        <p:blipFill>
          <a:blip r:embed="rId1"/>
          <a:stretch/>
        </p:blipFill>
        <p:spPr>
          <a:xfrm>
            <a:off x="554040" y="1773360"/>
            <a:ext cx="2616120" cy="16398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占位符 5" descr="wedding007.jpg"/>
          <p:cNvPicPr/>
          <p:nvPr/>
        </p:nvPicPr>
        <p:blipFill>
          <a:blip r:embed="rId2"/>
          <a:stretch/>
        </p:blipFill>
        <p:spPr>
          <a:xfrm>
            <a:off x="3267000" y="1773360"/>
            <a:ext cx="2616120" cy="1639800"/>
          </a:xfrm>
          <a:prstGeom prst="rect">
            <a:avLst/>
          </a:prstGeom>
          <a:ln w="0">
            <a:noFill/>
          </a:ln>
        </p:spPr>
      </p:pic>
      <p:pic>
        <p:nvPicPr>
          <p:cNvPr id="537" name="图片占位符 6" descr="wedding010.jpg"/>
          <p:cNvPicPr/>
          <p:nvPr/>
        </p:nvPicPr>
        <p:blipFill>
          <a:blip r:embed="rId3"/>
          <a:stretch/>
        </p:blipFill>
        <p:spPr>
          <a:xfrm>
            <a:off x="6053040" y="1773360"/>
            <a:ext cx="2614680" cy="16398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7"/>
          <p:cNvSpPr/>
          <p:nvPr/>
        </p:nvSpPr>
        <p:spPr>
          <a:xfrm>
            <a:off x="2857680" y="435780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占位符 7" descr="wedding008.jpg"/>
          <p:cNvPicPr/>
          <p:nvPr/>
        </p:nvPicPr>
        <p:blipFill>
          <a:blip r:embed="rId1"/>
          <a:stretch/>
        </p:blipFill>
        <p:spPr>
          <a:xfrm>
            <a:off x="463680" y="3902040"/>
            <a:ext cx="2243160" cy="22496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占位符 5" descr="wedding008.jpg"/>
          <p:cNvPicPr/>
          <p:nvPr/>
        </p:nvPicPr>
        <p:blipFill>
          <a:blip r:embed="rId2"/>
          <a:stretch/>
        </p:blipFill>
        <p:spPr>
          <a:xfrm>
            <a:off x="487440" y="1560600"/>
            <a:ext cx="2243160" cy="22431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占位符 6" descr="wedding032.jpg"/>
          <p:cNvPicPr/>
          <p:nvPr/>
        </p:nvPicPr>
        <p:blipFill>
          <a:blip r:embed="rId3"/>
          <a:stretch/>
        </p:blipFill>
        <p:spPr>
          <a:xfrm>
            <a:off x="2914560" y="1560600"/>
            <a:ext cx="2247840" cy="22431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占位符 8" descr="wedding010.jpg"/>
          <p:cNvPicPr/>
          <p:nvPr/>
        </p:nvPicPr>
        <p:blipFill>
          <a:blip r:embed="rId4"/>
          <a:stretch/>
        </p:blipFill>
        <p:spPr>
          <a:xfrm>
            <a:off x="2914560" y="3919680"/>
            <a:ext cx="2247840" cy="22431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9"/>
          <p:cNvSpPr/>
          <p:nvPr/>
        </p:nvSpPr>
        <p:spPr>
          <a:xfrm>
            <a:off x="5429160" y="2500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happiness begi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your wonderful wedding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’ll share everything togeth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t all, your love will st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ratulations to yo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you begin your happy lif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all good things be y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new husband and new w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1"/>
          <p:cNvSpPr/>
          <p:nvPr/>
        </p:nvSpPr>
        <p:spPr>
          <a:xfrm>
            <a:off x="5862240" y="18446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9"/>
          <p:cNvSpPr/>
          <p:nvPr/>
        </p:nvSpPr>
        <p:spPr>
          <a:xfrm>
            <a:off x="1428840" y="24289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7c8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8481960" y="5578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5b8b7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5b8b7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1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4:41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