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142-094F-4C86-94AA-D852C6EA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0E8-EF7E-446D-B9D6-527604A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F71-2198-4C44-9864-D4C06B7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08D-C9EE-42CF-82EB-2B7D6484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586-16CD-4D1F-B0E0-4F5494B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F3B1-20A8-456E-82FA-49D98540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FF3D-DB25-4889-827C-2691AC00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04B-816A-43D0-8414-1A19B569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662-FBB4-4530-A450-81D92D3D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A23-F609-4A07-9BDC-33D79A08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A11-9BD2-48BF-AB10-B5F54D12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BF2-7889-40E6-83B5-FE70B8A6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D754-C624-4A65-A408-6D929F02D37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FDD0-BC7D-4E55-B746-579BC5CAA0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042920" y="2320920"/>
            <a:ext cx="7272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5680" y="44280"/>
            <a:ext cx="53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粉色小碎花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综艺简体"/>
                <a:ea typeface="方正综艺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174-E922-4A66-8C5A-8D1A294F26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3924360" y="645336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6237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1:56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