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130640"/>
            <a:ext cx="80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612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13064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96120" y="413064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87800" y="198108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19120" y="198108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13064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87800" y="413064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19120" y="413064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4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96120" y="1981080"/>
            <a:ext cx="394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6120" y="1981080"/>
            <a:ext cx="394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13064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4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96120" y="413064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130640"/>
            <a:ext cx="80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Black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0" y="18284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"/>
          <p:cNvSpPr/>
          <p:nvPr/>
        </p:nvSpPr>
        <p:spPr>
          <a:xfrm>
            <a:off x="0" y="6453360"/>
            <a:ext cx="426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素材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http://www.eeppt.com/sucai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331000" y="333360"/>
            <a:ext cx="411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房子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  <a:ea typeface="宋体"/>
              </a:rPr>
              <a:t>Transitional Page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Black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 Black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 Black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 Black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06:09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6:44:50Z</dcterms:modified>
  <cp:revision>2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