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773-4501-4CC8-AF9C-D648DD4C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787-D4D6-4C31-BEE6-3873406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C49-18F5-4DC7-A984-7B709B6B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392-439B-4172-85D5-9D74A182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5C1-FC3A-401E-8F83-F83CD1D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0F7-446A-4E99-93F2-7E830590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DE4-2FCD-49A6-A509-206E850F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A10-E5AA-4B87-AEB7-6BFDBAD4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651-D0E8-431C-889A-FA4F979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E07-1A5C-46AA-97DC-7463315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577-B650-4616-A187-EA43CA2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385-27A7-4DBC-95D3-FD279DA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DCB-37FA-4FB2-BFF0-262A897E1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d6c54f9ef8822a258ee900a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一封家书.mp3" descr="一封家书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25f6d9dab0ac536711df9b91"/>
          <p:cNvPicPr/>
          <p:nvPr/>
        </p:nvPicPr>
        <p:blipFill>
          <a:blip r:embed="rId1"/>
          <a:stretch/>
        </p:blipFill>
        <p:spPr>
          <a:xfrm>
            <a:off x="684360" y="-23760"/>
            <a:ext cx="8153280" cy="6970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小时候"/>
          <p:cNvPicPr/>
          <p:nvPr/>
        </p:nvPicPr>
        <p:blipFill>
          <a:blip r:embed="rId1"/>
          <a:stretch/>
        </p:blipFill>
        <p:spPr>
          <a:xfrm>
            <a:off x="-33480" y="-457200"/>
            <a:ext cx="9212400" cy="748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A14-B9E3-4CB1-BF8D-FD09F8BD3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童年"/>
          <p:cNvPicPr/>
          <p:nvPr/>
        </p:nvPicPr>
        <p:blipFill>
          <a:blip r:embed="rId1"/>
          <a:stretch/>
        </p:blipFill>
        <p:spPr>
          <a:xfrm>
            <a:off x="3240" y="1440"/>
            <a:ext cx="9489960" cy="702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长大"/>
          <p:cNvPicPr/>
          <p:nvPr/>
        </p:nvPicPr>
        <p:blipFill>
          <a:blip r:embed="rId1"/>
          <a:stretch/>
        </p:blipFill>
        <p:spPr>
          <a:xfrm>
            <a:off x="-31680" y="-93600"/>
            <a:ext cx="9356760" cy="803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老人"/>
          <p:cNvPicPr/>
          <p:nvPr/>
        </p:nvPicPr>
        <p:blipFill>
          <a:blip r:embed="rId1"/>
          <a:stretch/>
        </p:blipFill>
        <p:spPr>
          <a:xfrm>
            <a:off x="539640" y="-96840"/>
            <a:ext cx="8282160" cy="7199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xh6711a91eb3"/>
          <p:cNvPicPr/>
          <p:nvPr/>
        </p:nvPicPr>
        <p:blipFill>
          <a:blip r:embed="rId1"/>
          <a:stretch/>
        </p:blipFill>
        <p:spPr>
          <a:xfrm>
            <a:off x="539640" y="1773360"/>
            <a:ext cx="8077320" cy="509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6658200" cy="2208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恩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他们赐予我们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赐予我们欢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予我们幸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828720" y="-23760"/>
            <a:ext cx="79214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祝福天下父母亲，感恩节快乐！</a:t>
            </a:r>
            <a:endParaRPr b="0" lang="en-US" sz="1800" spc="-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6:49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05:17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