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F4871-1AB1-445F-A144-99A28D244644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2" name="Rectangle 4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C9516-D243-4BE3-8F58-B7950A84CEDA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-1757520" y="0"/>
            <a:ext cx="8166240" cy="612612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插入一张 展示您所在国家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地区的名胜的图片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-1757520" y="0"/>
            <a:ext cx="8166240" cy="612612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插入您所在国家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地区的地图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-1757520" y="0"/>
            <a:ext cx="8166240" cy="612612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插入一张 展示您所在国家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地区的某种地理特征的图片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-1757520" y="0"/>
            <a:ext cx="8166240" cy="612612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插入一张展示您所在国家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地区的季节的图片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-1757520" y="0"/>
            <a:ext cx="8166240" cy="612612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插入一张 展示您所在国家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地区的动植物的图片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-2106720" y="0"/>
            <a:ext cx="4673880" cy="350532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457200" y="151452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将您所在国家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地区的重要历史事件添加到时间表中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-1757520" y="0"/>
            <a:ext cx="8166240" cy="612612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插入一张 展示风俗传统的图片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-1757520" y="0"/>
            <a:ext cx="8166240" cy="612612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插入一张 您所在国家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地区的领导人的图片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-1757520" y="0"/>
            <a:ext cx="8166240" cy="612612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插入一张 展示您所在国家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地区某方面经济情况的图片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F80B-72DF-4325-AE0C-71F30078D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822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23640"/>
            <a:ext cx="822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F8D7-12AF-4CFE-8B5F-181A258A5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5D79C7-27CA-4D9A-904F-E4598A9C3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12985A-EF9D-4C5A-BCE1-DFA16CFF0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26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1D3366-B259-4DE4-9007-7C848B5A6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877885-EA55-47EA-9F60-20C29CDD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39F397-85BD-4DAD-99E3-7DC67FDA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23640"/>
            <a:ext cx="822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B69610-9592-4CFA-9AE2-05146E93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822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923640"/>
            <a:ext cx="822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536735-482D-4017-9BFC-382FBDCDC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DB8063-B000-4788-8126-5F168EE71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51452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51452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92364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92364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92364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58ADD2-84A9-47B8-8B8F-43F5ED3FD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F28942-F2FE-4B74-8621-2C343E4CB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1A25-E890-418B-BFD1-4BC236F4E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1452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1B72C4-B972-4FEB-8D39-978297F25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E6920D-035E-47B0-BDB1-5BE6FA89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9F74FF-6D18-4E32-99AD-0BDF75B5A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9A1F34-67D9-4C64-9DDF-E4DD2D0F2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26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89A862-75C3-46AE-9264-5F4AE24A9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61F650-1C3B-472D-8988-64E5FCCB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A229BF-681B-4B58-81CC-01FC737B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23640"/>
            <a:ext cx="822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AF67B3-A5E8-4B2E-9DBB-C4FF1E80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822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23640"/>
            <a:ext cx="822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893BDF-E010-4FF1-8930-F3635EB09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F22285-EF2E-45EE-BE58-0201A1A9E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1452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1452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2364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2364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2364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1EB2-4ED5-46E3-A8AE-713831676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1452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1452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2364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2364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2364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E2742D-0D2E-4F4B-89CF-F4BF0F01B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0B6335-7176-48D1-9451-FAB842571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51452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96CC91-509B-45F7-8718-51CE3358D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63B6B7-5491-4770-BF5C-7E62A348A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5C8076-AED7-4501-8237-7EF834198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762212-D5C1-462C-B236-656819C93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226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7369DF-DEA2-4576-BB92-81105A919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909BEC-A8A1-4F25-BB52-77C604BB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B8F1AC-D137-4927-9B94-20778817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23640"/>
            <a:ext cx="822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6CE60B-1C3E-4E8A-8303-73532888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C55E7-20CA-4F0F-B88E-4B4BD8D1A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822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923640"/>
            <a:ext cx="822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D5A5AA-6DBF-4161-846C-E3995AC20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699715-B9F9-4D6F-B0AE-8FE9A661E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51452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51452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92364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92364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92364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5535A8-2E31-4EBA-8F7E-6C98F0A80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42B685-89AE-498F-9B5D-72123559F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51452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C5429F-8635-4D5F-B663-35883CA08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04645E-FD29-42C6-8C42-C07CAFB46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E0AB4B-F2FB-4E73-A464-0D65046A5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33CB69-7AD0-42E1-9DAA-743A2A975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57200" y="226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31EA81-FB91-4DDE-AD8B-2A8D60E37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CBCD08-45CB-415C-A56D-882CD9DC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1452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99FDD-C4F9-4D56-9A14-DF8E5E083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E898EF-F43F-4205-AB61-28B5A695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23640"/>
            <a:ext cx="822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D2652B-13D6-485D-A234-CE059EAA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822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3923640"/>
            <a:ext cx="822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F09F04-F5A5-448F-8544-71D9913C6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41E85D-B856-4E85-8C9C-76D93CDA0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51452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51452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392364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392364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392364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412713-C814-40D6-836D-9216E023A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4DAE5A-979E-42BC-8C92-47C67B400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51452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0014DA-F9C4-4D88-BCB6-2326D6399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50241F-0E23-4A97-9200-5A6A90696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44F95C-1409-45C4-A61C-C233F123A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DD0EF7-A50F-4F72-81F7-DDB498374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F5A37-164D-4DFA-B4AC-7CC142FB2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457200" y="226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776382-C1F1-40B3-823C-289200EE6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04A54B-065A-4036-9633-A05B0B09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174DCE-67E6-46F5-A274-4CAE1813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23640"/>
            <a:ext cx="822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8921F2-5BD0-48CA-A0FC-EE910B20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822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3923640"/>
            <a:ext cx="822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59F600-64D4-4E17-8445-0D081D31A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9B45BA-963B-4E7C-914E-27828EAD5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51452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51452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392364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392364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392364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EDB693-0BC3-414C-A2EA-0BB319106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28FBD-B71F-43DC-85BD-3A98F5733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2CA6B-3CC2-44A8-87C1-AEFC8903D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26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957DE-05F1-4B38-8ED4-665D21AD4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BAE99-D0AE-42B3-BB87-0518E8EB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1452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0232-9320-4D56-951E-EFD2483BF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6AC2D-629C-4148-BA79-090B2F50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23640"/>
            <a:ext cx="822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AE1CB-0130-46B3-A4BD-9D77E541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822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23640"/>
            <a:ext cx="822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63A7C-BF0D-47F8-BC42-3C524E148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BCCD4-61FE-42D4-B21A-DC47EEE1B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1452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1452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2364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2364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2364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2FDEE-D9DB-41CB-AE54-BCE394D26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486A0-3D37-476F-8AC0-DE8F339D4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51452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0B2FC-7C70-4C01-9199-E6D7FAE83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3A6F3-8BBC-4061-B381-E4DD439A3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DF023-17D4-4212-A514-17BB362A8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D2F77-20BC-4168-BF58-F6CA49C3D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7AD2-AE95-4808-BE4C-C618BD171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26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ADA18-D646-469A-8715-16FDA80F7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05A18-0910-4F4C-957A-17472EE0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A1458-61B4-4F34-8F8D-05AF388B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23640"/>
            <a:ext cx="822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6F0DF-DE42-4856-903E-D1765683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822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23640"/>
            <a:ext cx="822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448F7-19EE-4FFD-AB7B-3332A634E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E55C1-D601-4B31-BEA1-C5D652AD9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51452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51452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2364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2364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2364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562F2-643E-43A1-90EF-F41FE8675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DC2D9-54C6-4E66-8D1E-D23DCE103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51452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DEBDF-07EF-48BD-BAE1-A3E5AEE63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38E8D-0E9C-41AB-BE4D-FEBFB5C13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87A6-5E99-4C4B-AF66-63AFAD330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97786-F18A-4CA0-8531-4AABB599F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F7194-3E5C-40D9-882C-393FCEB69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26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A4A6E-38C6-4CD1-8CBE-BDE383FE6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84FF8-C2D3-447D-BDF2-7CD89D0F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1EB25-C0A6-4BDB-9CBF-04457418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23640"/>
            <a:ext cx="822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13118-2744-4BF3-BB67-7E30639C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822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23640"/>
            <a:ext cx="822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6D267-52AB-431D-8F30-221C87022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EAB45-6F62-4681-8946-B5E620057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51452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51452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2364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2364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2364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0F1AA-B53A-4BB1-AC56-1D6BE34CD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C8AD4-A6A8-4392-8402-FA0610F34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A508-A7F1-4BAA-8BF5-8EC74DB40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51452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F4811-B18F-4382-8B52-E7FF026DD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FBAA2-CECA-40E2-8102-0F9F72ED8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52438-5569-4B0E-B79A-4743AEF1E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6CFD8-E8CD-4090-826A-27165C22E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26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C62CF-2E66-45F5-B7FD-FC10CF522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B1838-15FC-4859-BCF7-A5167F98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24187-628A-4CC3-B248-6CDB91BB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23640"/>
            <a:ext cx="822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85521-DE47-4ADB-A23C-44199A23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822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23640"/>
            <a:ext cx="822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25B78-C0F1-419D-B157-E36184DEA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20DF7-D12B-461B-B736-8F7C8296D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26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9C0D-8FDE-4317-B3B1-F5677003B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51452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51452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2364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2364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2364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60B25-2B84-46C1-A258-7054EA09A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97A16-4AE0-495A-906F-495D1ADF9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51452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D6F59-5042-4A99-9B3C-129AA27DF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D74DA-E4A2-4829-A7D4-F383ABA26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26DC43-2CF6-4529-BA05-416B03FD8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27AC8-B092-4D6E-9A66-FF60AE74C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26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57B0A-A687-479D-B96A-AAFA08E20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DA957-80A6-4987-847E-AFDE14AC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D5558-5769-4FA5-82C3-696CC257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23640"/>
            <a:ext cx="822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CE841-337F-480D-AFC4-2903599E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9632-2911-4AFD-9E2B-68343479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822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23640"/>
            <a:ext cx="822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4E0F14-5142-4F17-B4EF-8182E2997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DAFB2-D384-47A2-8AB7-6806224DC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51452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51452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2364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2364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2364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3133D-95AB-4148-93F1-D40677C3F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E47145-1390-46EE-AA70-1D8583057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51452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006D62-22BD-449D-ABF0-AC720EF56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BA915C-9CCE-4A21-8DEB-2E375CB4A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D71B9-AAD1-4EAA-B970-5B9FEE365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938A75-ACB3-4153-9CEA-7262393EF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26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6A1489-E8EC-4A39-8AD8-884EB7DA3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823390-118B-45A1-9BC2-3B69590F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9B85-8B13-41DA-8B4C-0C259607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235E29-9D40-43E0-9F14-324D6661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23640"/>
            <a:ext cx="822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810D5F-DF5E-4B1D-9F9F-6626502B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822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23640"/>
            <a:ext cx="822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B08BFB-E5D6-4F2B-BB48-11171C3D8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60F4B2-BEBF-442A-A63E-5C7129232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51452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51452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2364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2364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2364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75ED9-7E9C-4173-B225-D47C0AF7B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0B91DD-AA68-4F20-845F-3057982B0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51452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F8E2E9-DD30-4209-9C75-FD3C37882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221F95-E912-45C4-9B7E-BE0300DCA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AAA7DF-EF8B-4032-B207-061065216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DCF887-9846-4C9A-9BC8-EBB2D11E4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23640"/>
            <a:ext cx="822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B677-7E90-47E0-9462-821D2A79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26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1E9B52-1BBA-4CEC-B746-0EA631A99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80C12F-052D-4E83-BF2F-8B0FB7E2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7D9C8A-19A4-44F4-8C3B-5C54E76B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23640"/>
            <a:ext cx="822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75B13C-4F93-4215-BCA0-E62DC690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822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23640"/>
            <a:ext cx="822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96605F-9D47-4A50-B6F2-1E6E8005F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EE9DD9-4FB4-43B7-B8FA-3115C6762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51452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51452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2364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2364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2364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620741-787F-4A9F-8187-4690556CB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424221-0599-4CE3-A0FE-2E7F601C0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51452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5E78C2-7365-4D88-91F6-865A40A3C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0B4AD5-5549-41DB-9B5A-CD9ABC5AE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15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52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Rectangle 12" descr=""/>
            <p:cNvPicPr/>
            <p:nvPr/>
          </p:nvPicPr>
          <p:blipFill>
            <a:blip r:embed="rId2"/>
            <a:stretch/>
          </p:blipFill>
          <p:spPr>
            <a:xfrm>
              <a:off x="0" y="228600"/>
              <a:ext cx="9144000" cy="640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13"/>
            <p:cNvSpPr/>
            <p:nvPr/>
          </p:nvSpPr>
          <p:spPr>
            <a:xfrm>
              <a:off x="0" y="228600"/>
              <a:ext cx="9144000" cy="6400800"/>
            </a:xfrm>
            <a:prstGeom prst="rect">
              <a:avLst/>
            </a:prstGeom>
            <a:solidFill>
              <a:srgbClr val="809580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14"/>
            <p:cNvSpPr/>
            <p:nvPr/>
          </p:nvSpPr>
          <p:spPr>
            <a:xfrm>
              <a:off x="0" y="1371600"/>
              <a:ext cx="9144000" cy="5058000"/>
            </a:xfrm>
            <a:prstGeom prst="rect">
              <a:avLst/>
            </a:prstGeom>
            <a:gradFill rotWithShape="0">
              <a:gsLst>
                <a:gs pos="0">
                  <a:srgbClr val="a8cdd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51452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2404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52404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  <a:p>
            <a:pPr lvl="1" marL="743040" indent="-285840">
              <a:spcBef>
                <a:spcPts val="700"/>
              </a:spcBef>
              <a:buClr>
                <a:srgbClr val="52404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52404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  <a:p>
            <a:pPr lvl="2" marL="1143000" indent="-228600">
              <a:spcBef>
                <a:spcPts val="700"/>
              </a:spcBef>
              <a:buClr>
                <a:srgbClr val="52404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52404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  <a:p>
            <a:pPr lvl="3" marL="1600200" indent="-228600">
              <a:spcBef>
                <a:spcPts val="700"/>
              </a:spcBef>
              <a:buClr>
                <a:srgbClr val="52404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52404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  <a:p>
            <a:pPr lvl="4" marL="2057400" indent="-228600">
              <a:spcBef>
                <a:spcPts val="700"/>
              </a:spcBef>
              <a:buClr>
                <a:srgbClr val="52404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52404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52404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52404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6840" y="6392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10149-AF1B-4DC4-9A53-042D2711629C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928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2720" y="6392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74E53-0CDB-4BE9-BDC2-DA278E1C3344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7F88B-F8D1-48A0-983C-4B024AFD7AE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ED7BE-2D55-4011-8703-3CB6961116A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68D4C-AB52-4BB1-B5B2-4C3E6612201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0C66D-C402-49E2-942B-F5CA605EC76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B0443-7CCA-4F34-85A3-9D59B4ADF94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CB29D-EDE7-43BC-AE72-73369936B35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1E849-2FE4-48A7-A44F-B847380EC66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99DC1-7EBB-4AAD-B1F2-138A0134DBD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516CA-C3DE-4071-8E88-897B935989E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4FBCE-DC12-4D09-9F5C-876A2912BE7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518AC-D085-4BC5-B075-2046F2F6B93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CA71C-B358-4E3F-99CC-AEDEDBDE867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47F6F-26BC-44D7-8A53-880D95E1DF6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DCBAE-BE76-4A6E-8021-2578CB19899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45F70-7FE4-42C1-A032-D88147C98FD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460AC-2042-4606-A99C-20684EB8449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E1A1D-78D1-473A-82B0-51BD9616F78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6B612-F957-4833-8F9E-46E263E130F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C80DE-69F3-4124-935C-248CE25DA08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75653-2053-4A4A-8B7B-0D1E43F7736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D4007-99D2-411B-A7D0-3FEA98B11D0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ED79B-D83D-476C-ABB8-1A1E5F1295F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1C430-6A67-4B43-BD7D-70B260EF7F3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6FC50-EF8C-47AC-A60F-944622E3CA2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2"/>
          <p:cNvGrpSpPr/>
          <p:nvPr/>
        </p:nvGrpSpPr>
        <p:grpSpPr>
          <a:xfrm>
            <a:off x="0" y="0"/>
            <a:ext cx="9163080" cy="6858000"/>
            <a:chOff x="0" y="0"/>
            <a:chExt cx="9163080" cy="6858000"/>
          </a:xfrm>
        </p:grpSpPr>
        <p:pic>
          <p:nvPicPr>
            <p:cNvPr id="547" name="Rectangle 6" descr=""/>
            <p:cNvPicPr/>
            <p:nvPr/>
          </p:nvPicPr>
          <p:blipFill>
            <a:blip r:embed="rId1"/>
            <a:stretch/>
          </p:blipFill>
          <p:spPr>
            <a:xfrm>
              <a:off x="1080" y="457200"/>
              <a:ext cx="9144360" cy="640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8" name="Rectangle 7"/>
            <p:cNvSpPr/>
            <p:nvPr/>
          </p:nvSpPr>
          <p:spPr>
            <a:xfrm>
              <a:off x="1080" y="0"/>
              <a:ext cx="9144360" cy="6858000"/>
            </a:xfrm>
            <a:prstGeom prst="rect">
              <a:avLst/>
            </a:prstGeom>
            <a:solidFill>
              <a:srgbClr val="9ab39a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11"/>
            <p:cNvSpPr/>
            <p:nvPr/>
          </p:nvSpPr>
          <p:spPr>
            <a:xfrm>
              <a:off x="0" y="0"/>
              <a:ext cx="9144360" cy="2286000"/>
            </a:xfrm>
            <a:prstGeom prst="rect">
              <a:avLst/>
            </a:prstGeom>
            <a:gradFill rotWithShape="0">
              <a:gsLst>
                <a:gs pos="0">
                  <a:srgbClr val="a8cdd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Rectangle 9"/>
            <p:cNvSpPr/>
            <p:nvPr/>
          </p:nvSpPr>
          <p:spPr>
            <a:xfrm>
              <a:off x="1080" y="1981080"/>
              <a:ext cx="9144360" cy="609480"/>
            </a:xfrm>
            <a:prstGeom prst="rect">
              <a:avLst/>
            </a:prstGeom>
            <a:solidFill>
              <a:srgbClr val="676a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Rectangle 10"/>
            <p:cNvSpPr/>
            <p:nvPr/>
          </p:nvSpPr>
          <p:spPr>
            <a:xfrm>
              <a:off x="5040" y="2590920"/>
              <a:ext cx="9144360" cy="457200"/>
            </a:xfrm>
            <a:prstGeom prst="rect">
              <a:avLst/>
            </a:prstGeom>
            <a:solidFill>
              <a:srgbClr val="52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12"/>
            <p:cNvSpPr/>
            <p:nvPr/>
          </p:nvSpPr>
          <p:spPr>
            <a:xfrm>
              <a:off x="18720" y="0"/>
              <a:ext cx="9144360" cy="1981080"/>
            </a:xfrm>
            <a:prstGeom prst="rect">
              <a:avLst/>
            </a:prstGeom>
            <a:gradFill rotWithShape="0">
              <a:gsLst>
                <a:gs pos="0">
                  <a:srgbClr val="a8cdd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195264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ambria"/>
              </a:rPr>
              <a:t>您所在国家</a:t>
            </a:r>
            <a:r>
              <a:rPr b="0" lang="zh-CN" sz="3600" spc="-1" strike="noStrike">
                <a:solidFill>
                  <a:srgbClr val="ffffff"/>
                </a:solidFill>
                <a:latin typeface="Cambria"/>
              </a:rPr>
              <a:t>/</a:t>
            </a:r>
            <a:r>
              <a:rPr b="0" lang="zh-CN" sz="3600" spc="-1" strike="noStrike">
                <a:solidFill>
                  <a:srgbClr val="ffffff"/>
                </a:solidFill>
                <a:latin typeface="Cambria"/>
              </a:rPr>
              <a:t>地区的名称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685800" y="2666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ambria"/>
              </a:rPr>
              <a:t>您的姓名 </a:t>
            </a:r>
            <a:r>
              <a:rPr b="0" lang="zh-CN" sz="1600" spc="-1" strike="noStrike">
                <a:solidFill>
                  <a:srgbClr val="ffffff"/>
                </a:solidFill>
                <a:latin typeface="Cambria"/>
              </a:rPr>
              <a:t>| </a:t>
            </a:r>
            <a:r>
              <a:rPr b="0" lang="zh-CN" sz="1600" spc="-1" strike="noStrike">
                <a:solidFill>
                  <a:srgbClr val="ffffff"/>
                </a:solidFill>
                <a:latin typeface="Cambria"/>
              </a:rPr>
              <a:t>您的教师 </a:t>
            </a:r>
            <a:r>
              <a:rPr b="0" lang="zh-CN" sz="1600" spc="-1" strike="noStrike">
                <a:solidFill>
                  <a:srgbClr val="ffffff"/>
                </a:solidFill>
                <a:latin typeface="Cambria"/>
              </a:rPr>
              <a:t>| </a:t>
            </a:r>
            <a:r>
              <a:rPr b="0" lang="zh-CN" sz="1600" spc="-1" strike="noStrike">
                <a:solidFill>
                  <a:srgbClr val="ffffff"/>
                </a:solidFill>
                <a:latin typeface="Cambria"/>
              </a:rPr>
              <a:t>您的年级</a:t>
            </a:r>
            <a:endParaRPr b="0" lang="en-US" sz="16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55" name="矩形 1"/>
          <p:cNvSpPr/>
          <p:nvPr/>
        </p:nvSpPr>
        <p:spPr>
          <a:xfrm>
            <a:off x="2476080" y="3228840"/>
            <a:ext cx="476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国家或地区报告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矩形 11"/>
          <p:cNvSpPr/>
          <p:nvPr/>
        </p:nvSpPr>
        <p:spPr>
          <a:xfrm>
            <a:off x="280800" y="643572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活动策划方案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yingxiao/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免费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工业制造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会议报告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交通安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教育培训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卡通动漫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体育运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灯片编号占位符 5"/>
          <p:cNvSpPr/>
          <p:nvPr/>
        </p:nvSpPr>
        <p:spPr>
          <a:xfrm>
            <a:off x="6553080" y="639288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19BBE-0A9D-4B23-9286-A684020B47B7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ambria"/>
              </a:rPr>
              <a:t>您所在国家</a:t>
            </a:r>
            <a:r>
              <a:rPr b="0" lang="zh-CN" sz="3600" spc="-1" strike="noStrike">
                <a:solidFill>
                  <a:srgbClr val="ffffff"/>
                </a:solidFill>
                <a:latin typeface="Cambria"/>
              </a:rPr>
              <a:t>/</a:t>
            </a:r>
            <a:r>
              <a:rPr b="0" lang="zh-CN" sz="3600" spc="-1" strike="noStrike">
                <a:solidFill>
                  <a:srgbClr val="ffffff"/>
                </a:solidFill>
                <a:latin typeface="Cambria"/>
              </a:rPr>
              <a:t>地区的旅游业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2404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524040"/>
                </a:solidFill>
                <a:latin typeface="Cambria"/>
              </a:rPr>
              <a:t>介绍您所在国家</a:t>
            </a:r>
            <a:r>
              <a:rPr b="0" lang="zh-CN" sz="2800" spc="-1" strike="noStrike">
                <a:solidFill>
                  <a:srgbClr val="524040"/>
                </a:solidFill>
                <a:latin typeface="Cambria"/>
              </a:rPr>
              <a:t>/</a:t>
            </a:r>
            <a:r>
              <a:rPr b="0" lang="zh-CN" sz="2800" spc="-1" strike="noStrike">
                <a:solidFill>
                  <a:srgbClr val="524040"/>
                </a:solidFill>
                <a:latin typeface="Cambria"/>
              </a:rPr>
              <a:t>地区中可能吸引其他国家的游客的旅游景点。</a:t>
            </a: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24040"/>
              </a:buClr>
              <a:buFont typeface="Arial"/>
              <a:buChar char="•"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灯片编号占位符 5"/>
          <p:cNvSpPr/>
          <p:nvPr/>
        </p:nvSpPr>
        <p:spPr>
          <a:xfrm>
            <a:off x="6553080" y="639288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9368B-C53D-481C-A1B1-A40590428632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ambria"/>
              </a:rPr>
              <a:t>您所在国家</a:t>
            </a:r>
            <a:r>
              <a:rPr b="0" lang="zh-CN" sz="3600" spc="-1" strike="noStrike">
                <a:solidFill>
                  <a:srgbClr val="ffffff"/>
                </a:solidFill>
                <a:latin typeface="Cambria"/>
              </a:rPr>
              <a:t>/</a:t>
            </a:r>
            <a:r>
              <a:rPr b="0" lang="zh-CN" sz="3600" spc="-1" strike="noStrike">
                <a:solidFill>
                  <a:srgbClr val="ffffff"/>
                </a:solidFill>
                <a:latin typeface="Cambria"/>
              </a:rPr>
              <a:t>地区的位置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2404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524040"/>
                </a:solidFill>
                <a:latin typeface="Cambria"/>
              </a:rPr>
              <a:t>介绍您所在国家</a:t>
            </a:r>
            <a:r>
              <a:rPr b="0" lang="zh-CN" sz="2800" spc="-1" strike="noStrike">
                <a:solidFill>
                  <a:srgbClr val="524040"/>
                </a:solidFill>
                <a:latin typeface="Cambria"/>
              </a:rPr>
              <a:t>/</a:t>
            </a:r>
            <a:r>
              <a:rPr b="0" lang="zh-CN" sz="2800" spc="-1" strike="noStrike">
                <a:solidFill>
                  <a:srgbClr val="524040"/>
                </a:solidFill>
                <a:latin typeface="Cambria"/>
              </a:rPr>
              <a:t>地区位于哪个洲以及有哪些邻国。</a:t>
            </a: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24040"/>
              </a:buClr>
              <a:buFont typeface="Arial"/>
              <a:buChar char="•"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灯片编号占位符 5"/>
          <p:cNvSpPr/>
          <p:nvPr/>
        </p:nvSpPr>
        <p:spPr>
          <a:xfrm>
            <a:off x="6553080" y="639288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846C6-7744-437A-9DE6-04D9963BD9E9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ambria"/>
              </a:rPr>
              <a:t>您所在国家</a:t>
            </a:r>
            <a:r>
              <a:rPr b="0" lang="zh-CN" sz="3600" spc="-1" strike="noStrike">
                <a:solidFill>
                  <a:srgbClr val="ffffff"/>
                </a:solidFill>
                <a:latin typeface="Cambria"/>
              </a:rPr>
              <a:t>/</a:t>
            </a:r>
            <a:r>
              <a:rPr b="0" lang="zh-CN" sz="3600" spc="-1" strike="noStrike">
                <a:solidFill>
                  <a:srgbClr val="ffffff"/>
                </a:solidFill>
                <a:latin typeface="Cambria"/>
              </a:rPr>
              <a:t>地区的地理特征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2404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524040"/>
                </a:solidFill>
                <a:latin typeface="Cambria"/>
              </a:rPr>
              <a:t>指出位于您所在国家</a:t>
            </a:r>
            <a:r>
              <a:rPr b="0" lang="zh-CN" sz="2800" spc="-1" strike="noStrike">
                <a:solidFill>
                  <a:srgbClr val="524040"/>
                </a:solidFill>
                <a:latin typeface="Cambria"/>
              </a:rPr>
              <a:t>/</a:t>
            </a:r>
            <a:r>
              <a:rPr b="0" lang="zh-CN" sz="2800" spc="-1" strike="noStrike">
                <a:solidFill>
                  <a:srgbClr val="524040"/>
                </a:solidFill>
                <a:latin typeface="Cambria"/>
              </a:rPr>
              <a:t>地区或相邻地区的任何重要河流、湖泊、海洋、山脉和其他地理特征。</a:t>
            </a: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24040"/>
              </a:buClr>
              <a:buFont typeface="Arial"/>
              <a:buChar char="•"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灯片编号占位符 5"/>
          <p:cNvSpPr/>
          <p:nvPr/>
        </p:nvSpPr>
        <p:spPr>
          <a:xfrm>
            <a:off x="6553080" y="639288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DE9FC-8DD7-4025-A633-F0F4171CE84F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ambria"/>
              </a:rPr>
              <a:t>您所在国家</a:t>
            </a:r>
            <a:r>
              <a:rPr b="0" lang="zh-CN" sz="3600" spc="-1" strike="noStrike">
                <a:solidFill>
                  <a:srgbClr val="ffffff"/>
                </a:solidFill>
                <a:latin typeface="Cambria"/>
              </a:rPr>
              <a:t>/</a:t>
            </a:r>
            <a:r>
              <a:rPr b="0" lang="zh-CN" sz="3600" spc="-1" strike="noStrike">
                <a:solidFill>
                  <a:srgbClr val="ffffff"/>
                </a:solidFill>
                <a:latin typeface="Cambria"/>
              </a:rPr>
              <a:t>地区的气候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2404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524040"/>
                </a:solidFill>
                <a:latin typeface="Cambria"/>
              </a:rPr>
              <a:t>介绍您所在国家</a:t>
            </a:r>
            <a:r>
              <a:rPr b="0" lang="zh-CN" sz="2800" spc="-1" strike="noStrike">
                <a:solidFill>
                  <a:srgbClr val="524040"/>
                </a:solidFill>
                <a:latin typeface="Cambria"/>
              </a:rPr>
              <a:t>/</a:t>
            </a:r>
            <a:r>
              <a:rPr b="0" lang="zh-CN" sz="2800" spc="-1" strike="noStrike">
                <a:solidFill>
                  <a:srgbClr val="524040"/>
                </a:solidFill>
                <a:latin typeface="Cambria"/>
              </a:rPr>
              <a:t>地区全年的典型天气模式。</a:t>
            </a: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24040"/>
              </a:buClr>
              <a:buFont typeface="Arial"/>
              <a:buChar char="•"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灯片编号占位符 5"/>
          <p:cNvSpPr/>
          <p:nvPr/>
        </p:nvSpPr>
        <p:spPr>
          <a:xfrm>
            <a:off x="6553080" y="639288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920A5-B959-4D24-A501-95D6EEFC18B4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ambria"/>
              </a:rPr>
              <a:t>您所在国家</a:t>
            </a:r>
            <a:r>
              <a:rPr b="0" lang="zh-CN" sz="3600" spc="-1" strike="noStrike">
                <a:solidFill>
                  <a:srgbClr val="ffffff"/>
                </a:solidFill>
                <a:latin typeface="Cambria"/>
              </a:rPr>
              <a:t>/</a:t>
            </a:r>
            <a:r>
              <a:rPr b="0" lang="zh-CN" sz="3600" spc="-1" strike="noStrike">
                <a:solidFill>
                  <a:srgbClr val="ffffff"/>
                </a:solidFill>
                <a:latin typeface="Cambria"/>
              </a:rPr>
              <a:t>地区的环境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2404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524040"/>
                </a:solidFill>
                <a:latin typeface="Cambria"/>
              </a:rPr>
              <a:t>描述您所在国家</a:t>
            </a:r>
            <a:r>
              <a:rPr b="0" lang="zh-CN" sz="2800" spc="-1" strike="noStrike">
                <a:solidFill>
                  <a:srgbClr val="524040"/>
                </a:solidFill>
                <a:latin typeface="Cambria"/>
              </a:rPr>
              <a:t>/</a:t>
            </a:r>
            <a:r>
              <a:rPr b="0" lang="zh-CN" sz="2800" spc="-1" strike="noStrike">
                <a:solidFill>
                  <a:srgbClr val="524040"/>
                </a:solidFill>
                <a:latin typeface="Cambria"/>
              </a:rPr>
              <a:t>地区所特有的一些动植物。</a:t>
            </a: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24040"/>
              </a:buClr>
              <a:buFont typeface="Arial"/>
              <a:buChar char="•"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灯片编号占位符 5"/>
          <p:cNvSpPr/>
          <p:nvPr/>
        </p:nvSpPr>
        <p:spPr>
          <a:xfrm>
            <a:off x="6553080" y="639288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2E0B3-98BC-4427-910E-6D1954499166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ambria"/>
              </a:rPr>
              <a:t>您所在国家</a:t>
            </a:r>
            <a:r>
              <a:rPr b="0" lang="zh-CN" sz="3600" spc="-1" strike="noStrike">
                <a:solidFill>
                  <a:srgbClr val="ffffff"/>
                </a:solidFill>
                <a:latin typeface="Cambria"/>
              </a:rPr>
              <a:t>/</a:t>
            </a:r>
            <a:r>
              <a:rPr b="0" lang="zh-CN" sz="3600" spc="-1" strike="noStrike">
                <a:solidFill>
                  <a:srgbClr val="ffffff"/>
                </a:solidFill>
                <a:latin typeface="Cambria"/>
              </a:rPr>
              <a:t>地区的历史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457200" y="1768320"/>
          <a:ext cx="8305920" cy="1798920"/>
        </p:xfrm>
        <a:graphic>
          <a:graphicData uri="http://schemas.openxmlformats.org/drawingml/2006/table">
            <a:tbl>
              <a:tblPr/>
              <a:tblGrid>
                <a:gridCol w="1384200"/>
                <a:gridCol w="1384560"/>
                <a:gridCol w="1384200"/>
                <a:gridCol w="1384200"/>
                <a:gridCol w="1384200"/>
                <a:gridCol w="1384560"/>
              </a:tblGrid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事件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1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的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名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ab39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事件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2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的名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ab39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事件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3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的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名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ab39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Name of Event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ab39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Name of Event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ab39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事件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6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的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名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ab39a"/>
                    </a:solidFill>
                  </a:tcPr>
                </a:tc>
              </a:tr>
              <a:tr h="57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第</a:t>
                      </a:r>
                      <a:r>
                        <a:rPr b="0" lang="zh-CN" sz="1600" spc="-1" strike="noStrike" baseline="30000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一个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日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第</a:t>
                      </a:r>
                      <a:r>
                        <a:rPr b="0" lang="zh-CN" sz="1600" spc="-1" strike="noStrike" baseline="30000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二个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日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第</a:t>
                      </a:r>
                      <a:r>
                        <a:rPr b="0" lang="zh-CN" sz="1600" spc="-1" strike="noStrike" baseline="30000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三个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日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第</a:t>
                      </a:r>
                      <a:r>
                        <a:rPr b="0" lang="zh-CN" sz="1600" spc="-1" strike="noStrike" baseline="30000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四个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日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第</a:t>
                      </a:r>
                      <a:r>
                        <a:rPr b="0" lang="zh-CN" sz="1600" spc="-1" strike="noStrike" baseline="30000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五个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日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第</a:t>
                      </a:r>
                      <a:r>
                        <a:rPr b="0" lang="zh-CN" sz="1600" spc="-1" strike="noStrike" baseline="30000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六个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日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事件的说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事件的说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事件的说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事件的说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事件的说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事件的说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灯片编号占位符 5"/>
          <p:cNvSpPr/>
          <p:nvPr/>
        </p:nvSpPr>
        <p:spPr>
          <a:xfrm>
            <a:off x="6553080" y="639288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6DECB-8E49-4D7A-A3B6-430529F97AF7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ambria"/>
              </a:rPr>
              <a:t>风俗传统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2404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524040"/>
                </a:solidFill>
                <a:latin typeface="Cambria"/>
              </a:rPr>
              <a:t>介绍您所在国家</a:t>
            </a:r>
            <a:r>
              <a:rPr b="0" lang="zh-CN" sz="2800" spc="-1" strike="noStrike">
                <a:solidFill>
                  <a:srgbClr val="524040"/>
                </a:solidFill>
                <a:latin typeface="Cambria"/>
              </a:rPr>
              <a:t>/</a:t>
            </a:r>
            <a:r>
              <a:rPr b="0" lang="zh-CN" sz="2800" spc="-1" strike="noStrike">
                <a:solidFill>
                  <a:srgbClr val="524040"/>
                </a:solidFill>
                <a:latin typeface="Cambria"/>
              </a:rPr>
              <a:t>地区庆祝的重要风俗传统。包含有关庆祝者和庆祝时间的信息。</a:t>
            </a: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24040"/>
              </a:buClr>
              <a:buFont typeface="Arial"/>
              <a:buChar char="•"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灯片编号占位符 5"/>
          <p:cNvSpPr/>
          <p:nvPr/>
        </p:nvSpPr>
        <p:spPr>
          <a:xfrm>
            <a:off x="6553080" y="639288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BC126-21A0-446F-AC68-9C5029B64645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ambria"/>
              </a:rPr>
              <a:t>您所在国家</a:t>
            </a:r>
            <a:r>
              <a:rPr b="0" lang="zh-CN" sz="3600" spc="-1" strike="noStrike">
                <a:solidFill>
                  <a:srgbClr val="ffffff"/>
                </a:solidFill>
                <a:latin typeface="Cambria"/>
              </a:rPr>
              <a:t>/</a:t>
            </a:r>
            <a:r>
              <a:rPr b="0" lang="zh-CN" sz="3600" spc="-1" strike="noStrike">
                <a:solidFill>
                  <a:srgbClr val="ffffff"/>
                </a:solidFill>
                <a:latin typeface="Cambria"/>
              </a:rPr>
              <a:t>地区的政府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2404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524040"/>
                </a:solidFill>
                <a:latin typeface="Cambria"/>
              </a:rPr>
              <a:t>介绍您所在国家如何制定和更改法律。介绍国家领导人的选举方法。</a:t>
            </a: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24040"/>
              </a:buClr>
              <a:buFont typeface="Arial"/>
              <a:buChar char="•"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灯片编号占位符 5"/>
          <p:cNvSpPr/>
          <p:nvPr/>
        </p:nvSpPr>
        <p:spPr>
          <a:xfrm>
            <a:off x="6553080" y="639288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96ECD-AB49-4390-9742-7100FF58AB76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ambria"/>
              </a:rPr>
              <a:t>您所在国家</a:t>
            </a:r>
            <a:r>
              <a:rPr b="0" lang="zh-CN" sz="3600" spc="-1" strike="noStrike">
                <a:solidFill>
                  <a:srgbClr val="ffffff"/>
                </a:solidFill>
                <a:latin typeface="Cambria"/>
              </a:rPr>
              <a:t>/</a:t>
            </a:r>
            <a:r>
              <a:rPr b="0" lang="zh-CN" sz="3600" spc="-1" strike="noStrike">
                <a:solidFill>
                  <a:srgbClr val="ffffff"/>
                </a:solidFill>
                <a:latin typeface="Cambria"/>
              </a:rPr>
              <a:t>地区的经济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2404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524040"/>
                </a:solidFill>
                <a:latin typeface="Cambria"/>
              </a:rPr>
              <a:t>介绍您所在国家</a:t>
            </a:r>
            <a:r>
              <a:rPr b="0" lang="zh-CN" sz="2800" spc="-1" strike="noStrike">
                <a:solidFill>
                  <a:srgbClr val="524040"/>
                </a:solidFill>
                <a:latin typeface="Cambria"/>
              </a:rPr>
              <a:t>/</a:t>
            </a:r>
            <a:r>
              <a:rPr b="0" lang="zh-CN" sz="2800" spc="-1" strike="noStrike">
                <a:solidFill>
                  <a:srgbClr val="524040"/>
                </a:solidFill>
                <a:latin typeface="Cambria"/>
              </a:rPr>
              <a:t>地区生产或提供的货物和服务。用户通常如何为自己及其家人提供所需品？</a:t>
            </a: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24040"/>
              </a:buClr>
              <a:buFont typeface="Arial"/>
              <a:buChar char="•"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7T06:31:34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2:09:14Z</dcterms:modified>
  <cp:revision>0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  <property fmtid="{D5CDD505-2E9C-101B-9397-08002B2CF9AE}" pid="3" name="_TemplateID">
    <vt:lpwstr>TC101659609990</vt:lpwstr>
  </property>
</Properties>
</file>