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56C-6E5C-4FAC-AAD6-372578E66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2D76-3E59-4DA4-829E-BAF9DB1D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6B89-1035-47F1-B09D-D84E6ADF2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8DA9-E21B-4928-9AAA-013911868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76C-4B1F-4526-BF24-78A21CF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0BF-9197-41AA-B269-4F33ED7D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5028-7825-4DA4-807C-504FAF74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8C4D-39B5-4CEC-9292-56AB59B5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274-69A6-42FA-BF46-5053DAAC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FDDA-0ADD-455B-9E45-7CADD0F8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80CA-49F5-4A98-8F9E-A3A56060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7B0-9999-4ACC-8893-4A7BED7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45863-7BE8-4E24-8893-B4AFE738B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94920"/>
            <a:ext cx="9070920" cy="6058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际象棋商业博弈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280" y="7093080"/>
            <a:ext cx="5080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504720" y="566640"/>
            <a:ext cx="75945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2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42A-DF4A-438E-BAA2-ECB603C912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3152880" y="2320920"/>
            <a:ext cx="6429240" cy="898560"/>
          </a:xfrm>
          <a:prstGeom prst="roundRect">
            <a:avLst>
              <a:gd name="adj" fmla="val 11741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3152880" y="3648240"/>
            <a:ext cx="6432480" cy="879480"/>
          </a:xfrm>
          <a:prstGeom prst="roundRect">
            <a:avLst>
              <a:gd name="adj" fmla="val 11741"/>
            </a:avLst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152880" y="4995720"/>
            <a:ext cx="6432480" cy="90360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2055960" y="2314440"/>
            <a:ext cx="917280" cy="868320"/>
          </a:xfrm>
          <a:prstGeom prst="roundRect">
            <a:avLst>
              <a:gd name="adj" fmla="val 16667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2055960" y="3660840"/>
            <a:ext cx="917280" cy="882720"/>
          </a:xfrm>
          <a:prstGeom prst="roundRect">
            <a:avLst>
              <a:gd name="adj" fmla="val 16667"/>
            </a:avLst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055960" y="5011560"/>
            <a:ext cx="917280" cy="906480"/>
          </a:xfrm>
          <a:prstGeom prst="roundRect">
            <a:avLst>
              <a:gd name="adj" fmla="val 16667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54000" bIns="5400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2147760" y="2257560"/>
            <a:ext cx="7364520" cy="784080"/>
          </a:xfrm>
          <a:prstGeom prst="roundRect">
            <a:avLst>
              <a:gd name="adj" fmla="val 11741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2166840" y="4292640"/>
            <a:ext cx="7326360" cy="71424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224080" y="318780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24080" y="5168880"/>
            <a:ext cx="72579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insert your own tex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Oval 1"/>
          <p:cNvSpPr/>
          <p:nvPr/>
        </p:nvSpPr>
        <p:spPr>
          <a:xfrm>
            <a:off x="5262480" y="3735360"/>
            <a:ext cx="1435320" cy="1434960"/>
          </a:xfrm>
          <a:prstGeom prst="ellipse">
            <a:avLst/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"/>
          <p:cNvSpPr/>
          <p:nvPr/>
        </p:nvSpPr>
        <p:spPr>
          <a:xfrm>
            <a:off x="5473800" y="2355840"/>
            <a:ext cx="1038240" cy="103824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3"/>
          <p:cNvSpPr/>
          <p:nvPr/>
        </p:nvSpPr>
        <p:spPr>
          <a:xfrm>
            <a:off x="7042320" y="4916520"/>
            <a:ext cx="1037880" cy="103824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8440" y="4916520"/>
            <a:ext cx="1038240" cy="103824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5"/>
          <p:cNvCxnSpPr>
            <a:stCxn id="58" idx="0"/>
            <a:endCxn id="56" idx="3"/>
          </p:cNvCxnSpPr>
          <p:nvPr/>
        </p:nvCxnSpPr>
        <p:spPr>
          <a:xfrm flipV="1">
            <a:off x="4327200" y="3242880"/>
            <a:ext cx="1297800" cy="167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"/>
          <p:cNvCxnSpPr>
            <a:stCxn id="56" idx="5"/>
            <a:endCxn id="57" idx="0"/>
          </p:cNvCxnSpPr>
          <p:nvPr/>
        </p:nvCxnSpPr>
        <p:spPr>
          <a:xfrm>
            <a:off x="6359040" y="3243240"/>
            <a:ext cx="1202400" cy="167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AutoShape 7"/>
          <p:cNvCxnSpPr/>
          <p:nvPr/>
        </p:nvCxnSpPr>
        <p:spPr>
          <a:xfrm flipH="1">
            <a:off x="4833720" y="5540400"/>
            <a:ext cx="2219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AutoShape 8"/>
          <p:cNvSpPr/>
          <p:nvPr/>
        </p:nvSpPr>
        <p:spPr>
          <a:xfrm>
            <a:off x="3452760" y="2462040"/>
            <a:ext cx="1744560" cy="65916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468600" y="2424240"/>
            <a:ext cx="2359080" cy="142920"/>
          </a:xfrm>
          <a:custGeom>
            <a:avLst/>
            <a:gdLst/>
            <a:ahLst/>
            <a:rect l="l" t="t" r="r" b="b"/>
            <a:pathLst>
              <a:path w="6555" h="397">
                <a:moveTo>
                  <a:pt x="6554" y="396"/>
                </a:moveTo>
                <a:lnTo>
                  <a:pt x="605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0"/>
          <p:cNvSpPr/>
          <p:nvPr/>
        </p:nvSpPr>
        <p:spPr>
          <a:xfrm>
            <a:off x="8191440" y="4184640"/>
            <a:ext cx="1744560" cy="65880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1697040" y="4898880"/>
            <a:ext cx="1744560" cy="65880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>
            <a:off x="1685880" y="5600880"/>
            <a:ext cx="2378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7693200" y="4896000"/>
            <a:ext cx="2279520" cy="217440"/>
          </a:xfrm>
          <a:custGeom>
            <a:avLst/>
            <a:gdLst/>
            <a:ahLst/>
            <a:rect l="l" t="t" r="r" b="b"/>
            <a:pathLst>
              <a:path w="6331" h="605">
                <a:moveTo>
                  <a:pt x="0" y="604"/>
                </a:moveTo>
                <a:lnTo>
                  <a:pt x="604" y="0"/>
                </a:lnTo>
                <a:lnTo>
                  <a:pt x="633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Oval 1"/>
          <p:cNvSpPr/>
          <p:nvPr/>
        </p:nvSpPr>
        <p:spPr>
          <a:xfrm>
            <a:off x="1971720" y="3321000"/>
            <a:ext cx="1685880" cy="1685880"/>
          </a:xfrm>
          <a:prstGeom prst="ellipse">
            <a:avLst/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"/>
          <p:cNvSpPr/>
          <p:nvPr/>
        </p:nvSpPr>
        <p:spPr>
          <a:xfrm>
            <a:off x="4619520" y="3570120"/>
            <a:ext cx="1168560" cy="1168560"/>
          </a:xfrm>
          <a:prstGeom prst="ellips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"/>
          <p:cNvSpPr/>
          <p:nvPr/>
        </p:nvSpPr>
        <p:spPr>
          <a:xfrm>
            <a:off x="4367160" y="5146560"/>
            <a:ext cx="1168560" cy="1168560"/>
          </a:xfrm>
          <a:prstGeom prst="ellips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"/>
          <p:cNvSpPr/>
          <p:nvPr/>
        </p:nvSpPr>
        <p:spPr>
          <a:xfrm>
            <a:off x="4367160" y="2036880"/>
            <a:ext cx="1168560" cy="1168200"/>
          </a:xfrm>
          <a:prstGeom prst="ellips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5972040" y="2021040"/>
            <a:ext cx="3535560" cy="1117440"/>
          </a:xfrm>
          <a:prstGeom prst="roundRect">
            <a:avLst>
              <a:gd name="adj" fmla="val 8153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6"/>
          <p:cNvCxnSpPr>
            <a:stCxn id="69" idx="7"/>
            <a:endCxn id="72" idx="2"/>
          </p:cNvCxnSpPr>
          <p:nvPr/>
        </p:nvCxnSpPr>
        <p:spPr>
          <a:xfrm flipV="1">
            <a:off x="3409920" y="2619000"/>
            <a:ext cx="959760" cy="94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7"/>
          <p:cNvCxnSpPr>
            <a:stCxn id="69" idx="5"/>
            <a:endCxn id="71" idx="2"/>
          </p:cNvCxnSpPr>
          <p:nvPr/>
        </p:nvCxnSpPr>
        <p:spPr>
          <a:xfrm>
            <a:off x="3409920" y="4759200"/>
            <a:ext cx="959760" cy="97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8"/>
          <p:cNvCxnSpPr>
            <a:stCxn id="69" idx="6"/>
            <a:endCxn id="70" idx="2"/>
          </p:cNvCxnSpPr>
          <p:nvPr/>
        </p:nvCxnSpPr>
        <p:spPr>
          <a:xfrm flipV="1">
            <a:off x="3656160" y="4152600"/>
            <a:ext cx="9640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AutoShape 9"/>
          <p:cNvSpPr/>
          <p:nvPr/>
        </p:nvSpPr>
        <p:spPr>
          <a:xfrm>
            <a:off x="5972040" y="3584520"/>
            <a:ext cx="3535560" cy="1117800"/>
          </a:xfrm>
          <a:prstGeom prst="roundRect">
            <a:avLst>
              <a:gd name="adj" fmla="val 8153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5972040" y="5116680"/>
            <a:ext cx="3535560" cy="1117440"/>
          </a:xfrm>
          <a:prstGeom prst="roundRect">
            <a:avLst>
              <a:gd name="adj" fmla="val 8153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-18000" bIns="-18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1"/>
          <p:cNvSpPr/>
          <p:nvPr/>
        </p:nvSpPr>
        <p:spPr>
          <a:xfrm>
            <a:off x="3249720" y="208440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2025720" y="276876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202572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4473720" y="276876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3249720" y="3487680"/>
            <a:ext cx="1517400" cy="1324080"/>
          </a:xfrm>
          <a:prstGeom prst="hexagon">
            <a:avLst>
              <a:gd name="adj" fmla="val 28650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6"/>
          <p:cNvSpPr/>
          <p:nvPr/>
        </p:nvSpPr>
        <p:spPr>
          <a:xfrm>
            <a:off x="3249720" y="4892760"/>
            <a:ext cx="1517400" cy="1323720"/>
          </a:xfrm>
          <a:prstGeom prst="hexagon">
            <a:avLst>
              <a:gd name="adj" fmla="val 28658"/>
              <a:gd name="vf" fmla="val 115470"/>
            </a:avLst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471920" y="4172040"/>
            <a:ext cx="1517760" cy="1323720"/>
          </a:xfrm>
          <a:prstGeom prst="hexagon">
            <a:avLst>
              <a:gd name="adj" fmla="val 28665"/>
              <a:gd name="vf" fmla="val 115470"/>
            </a:avLst>
          </a:prstGeom>
          <a:noFill/>
          <a:ln w="9360">
            <a:solidFill>
              <a:srgbClr val="b2c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7037280" y="3701880"/>
            <a:ext cx="2600280" cy="2216160"/>
          </a:xfrm>
          <a:prstGeom prst="hexagon">
            <a:avLst>
              <a:gd name="adj" fmla="val 29333"/>
              <a:gd name="vf" fmla="val 115470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9"/>
          <p:cNvCxnSpPr>
            <a:stCxn id="86" idx="3"/>
            <a:endCxn id="87" idx="2"/>
          </p:cNvCxnSpPr>
          <p:nvPr/>
        </p:nvCxnSpPr>
        <p:spPr>
          <a:xfrm flipV="1">
            <a:off x="5219640" y="4809240"/>
            <a:ext cx="182016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Text Box 10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1"/>
          <p:cNvSpPr/>
          <p:nvPr/>
        </p:nvSpPr>
        <p:spPr>
          <a:xfrm>
            <a:off x="4543560" y="3908520"/>
            <a:ext cx="2381040" cy="2382840"/>
          </a:xfrm>
          <a:prstGeom prst="ellipse">
            <a:avLst/>
          </a:prstGeom>
          <a:solidFill>
            <a:srgbClr val="b2c2f5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8037360" y="4189320"/>
            <a:ext cx="1963800" cy="90504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620720" y="2320920"/>
            <a:ext cx="1963800" cy="90324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1600200" y="4589640"/>
            <a:ext cx="1963800" cy="904680"/>
          </a:xfrm>
          <a:prstGeom prst="roundRect">
            <a:avLst>
              <a:gd name="adj" fmla="val 11741"/>
            </a:avLst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3673440" y="2446200"/>
            <a:ext cx="2381400" cy="2382840"/>
          </a:xfrm>
          <a:prstGeom prst="ellipse">
            <a:avLst/>
          </a:prstGeom>
          <a:solidFill>
            <a:srgbClr val="9ca8c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H="1">
            <a:off x="1592280" y="4537080"/>
            <a:ext cx="3605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7"/>
          <p:cNvSpPr/>
          <p:nvPr/>
        </p:nvSpPr>
        <p:spPr>
          <a:xfrm>
            <a:off x="5545080" y="2444760"/>
            <a:ext cx="2382840" cy="2382840"/>
          </a:xfrm>
          <a:prstGeom prst="ellipse">
            <a:avLst/>
          </a:prstGeom>
          <a:solidFill>
            <a:srgbClr val="7985a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" tIns="68040" bIns="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8"/>
          <p:cNvSpPr/>
          <p:nvPr/>
        </p:nvSpPr>
        <p:spPr>
          <a:xfrm>
            <a:off x="6419880" y="4416480"/>
            <a:ext cx="3589200" cy="727200"/>
          </a:xfrm>
          <a:custGeom>
            <a:avLst/>
            <a:gdLst/>
            <a:ahLst/>
            <a:rect l="l" t="t" r="r" b="b"/>
            <a:pathLst>
              <a:path w="9970" h="2020">
                <a:moveTo>
                  <a:pt x="0" y="0"/>
                </a:moveTo>
                <a:lnTo>
                  <a:pt x="2677" y="2019"/>
                </a:lnTo>
                <a:lnTo>
                  <a:pt x="9969" y="2019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9"/>
          <p:cNvSpPr/>
          <p:nvPr/>
        </p:nvSpPr>
        <p:spPr>
          <a:xfrm>
            <a:off x="1625760" y="2266920"/>
            <a:ext cx="4141800" cy="1157400"/>
          </a:xfrm>
          <a:custGeom>
            <a:avLst/>
            <a:gdLst/>
            <a:ahLst/>
            <a:rect l="l" t="t" r="r" b="b"/>
            <a:pathLst>
              <a:path w="11503" h="3213">
                <a:moveTo>
                  <a:pt x="11502" y="3212"/>
                </a:moveTo>
                <a:lnTo>
                  <a:pt x="9031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"/>
          <p:cNvSpPr/>
          <p:nvPr/>
        </p:nvSpPr>
        <p:spPr>
          <a:xfrm>
            <a:off x="5062680" y="2112840"/>
            <a:ext cx="4682880" cy="1111320"/>
          </a:xfrm>
          <a:prstGeom prst="pie">
            <a:avLst/>
          </a:pr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 flipV="1">
            <a:off x="1859040" y="5299200"/>
            <a:ext cx="4682880" cy="1110960"/>
          </a:xfrm>
          <a:custGeom>
            <a:avLst/>
            <a:gdLst>
              <a:gd name="textAreaLeft" fmla="*/ 707760 w 4682880"/>
              <a:gd name="textAreaRight" fmla="*/ 3975120 w 4682880"/>
              <a:gd name="textAreaTop" fmla="*/ 167760 h 1110960"/>
              <a:gd name="textAreaBottom" fmla="*/ 943200 h 11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930" y="21600"/>
                </a:lnTo>
                <a:lnTo>
                  <a:pt x="186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2c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5727600" y="3308400"/>
            <a:ext cx="3370320" cy="1079280"/>
          </a:xfrm>
          <a:prstGeom prst="pie">
            <a:avLst/>
          </a:pr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 flipV="1">
            <a:off x="2523960" y="4134600"/>
            <a:ext cx="3370320" cy="1079640"/>
          </a:xfrm>
          <a:custGeom>
            <a:avLst/>
            <a:gdLst>
              <a:gd name="textAreaLeft" fmla="*/ 576720 w 3370320"/>
              <a:gd name="textAreaRight" fmla="*/ 2793600 w 3370320"/>
              <a:gd name="textAreaTop" fmla="*/ 184680 h 1079640"/>
              <a:gd name="textAreaBottom" fmla="*/ 8949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1" y="21600"/>
                </a:lnTo>
                <a:lnTo>
                  <a:pt x="1780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ca8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486240" y="454824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6"/>
          <p:cNvSpPr/>
          <p:nvPr/>
        </p:nvSpPr>
        <p:spPr>
          <a:xfrm flipV="1">
            <a:off x="6356520" y="448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3152880" y="2147760"/>
            <a:ext cx="2128680" cy="1928880"/>
          </a:xfrm>
          <a:prstGeom prst="triangle">
            <a:avLst>
              <a:gd name="adj" fmla="val 50023"/>
            </a:avLst>
          </a:prstGeom>
          <a:solidFill>
            <a:srgbClr val="7985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487680" y="5664240"/>
            <a:ext cx="147312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6727680" y="4979880"/>
            <a:ext cx="147348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514680" y="3422520"/>
            <a:ext cx="13683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Object 1" descr=""/>
          <p:cNvPicPr/>
          <p:nvPr/>
        </p:nvPicPr>
        <p:blipFill>
          <a:blip r:embed="rId2"/>
          <a:stretch/>
        </p:blipFill>
        <p:spPr>
          <a:xfrm>
            <a:off x="1512720" y="2171880"/>
            <a:ext cx="8072640" cy="4660560"/>
          </a:xfrm>
          <a:prstGeom prst="rect">
            <a:avLst/>
          </a:prstGeom>
          <a:ln w="0">
            <a:noFill/>
          </a:ln>
        </p:spPr>
      </p:pic>
      <p:cxnSp>
        <p:nvCxnSpPr>
          <p:cNvPr id="112" name="AutoShape 2"/>
          <p:cNvCxnSpPr>
            <a:endCxn id="113" idx="1"/>
          </p:cNvCxnSpPr>
          <p:nvPr/>
        </p:nvCxnSpPr>
        <p:spPr>
          <a:xfrm flipV="1">
            <a:off x="5845320" y="2088720"/>
            <a:ext cx="11520" cy="2139120"/>
          </a:xfrm>
          <a:prstGeom prst="straightConnector1">
            <a:avLst/>
          </a:prstGeom>
          <a:ln w="43200">
            <a:solidFill>
              <a:srgbClr val="7985a9"/>
            </a:solidFill>
            <a:miter/>
            <a:tailEnd len="med" type="triangle" w="med"/>
          </a:ln>
        </p:spPr>
      </p:cxnSp>
      <p:sp>
        <p:nvSpPr>
          <p:cNvPr id="113" name="Text Box 3"/>
          <p:cNvSpPr/>
          <p:nvPr/>
        </p:nvSpPr>
        <p:spPr>
          <a:xfrm>
            <a:off x="6572880" y="1913040"/>
            <a:ext cx="169416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807f7e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 rot="16140000">
            <a:off x="9153000" y="4429080"/>
            <a:ext cx="115920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1800" spc="-1" strike="noStrike">
                <a:solidFill>
                  <a:srgbClr val="848382"/>
                </a:solidFill>
                <a:latin typeface="Arial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AutoShape 5"/>
          <p:cNvCxnSpPr>
            <a:stCxn id="114" idx="0"/>
            <a:endCxn id="114" idx="0"/>
          </p:cNvCxnSpPr>
          <p:nvPr/>
        </p:nvCxnSpPr>
        <p:spPr>
          <a:xfrm>
            <a:off x="9550440" y="4611240"/>
            <a:ext cx="2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AutoShape 6"/>
          <p:cNvCxnSpPr>
            <a:endCxn id="114" idx="0"/>
          </p:cNvCxnSpPr>
          <p:nvPr/>
        </p:nvCxnSpPr>
        <p:spPr>
          <a:xfrm flipH="1">
            <a:off x="9550080" y="4501800"/>
            <a:ext cx="33840" cy="111960"/>
          </a:xfrm>
          <a:prstGeom prst="straightConnector1">
            <a:avLst/>
          </a:prstGeom>
          <a:ln w="0">
            <a:noFill/>
          </a:ln>
        </p:spPr>
      </p:cxnSp>
      <p:sp>
        <p:nvSpPr>
          <p:cNvPr id="117" name="Text Box 7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647ed0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6:01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License">
    <vt:lpwstr>&lt;a href="http://templates.services.openoffice.org/bsd-license"&gt;BSD&lt;/a&gt;</vt:lpwstr>
  </property>
</Properties>
</file>