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904-F991-4F89-8176-039E652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665-4550-4DE6-8525-60CCEA3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A79-ECE0-462E-B93B-764F5CD1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6F4-B529-4020-ADA7-E7936EF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7B6-E68E-447B-B4F3-11A822FD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30CF-986C-4406-8776-3A245F1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9FC-CC63-4BA2-8B20-EFA2E9E7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337-A0AF-456A-B37A-EBE45099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DC8-3287-491E-998F-7C7C42D6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5857-501C-4DC9-B0EC-0B669E61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E5FF-2B9A-4F86-A6B0-1F3AD88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CF0-A0BB-420F-B117-0310FF2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7869-3688-4D06-8F46-1A55DFC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99E-8761-404D-ACC8-54793BB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C4E-2BC5-4C61-8635-C817931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D24F-E3B0-4BB0-98E2-70A0BAB2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73F-D12D-4FC6-A85C-496B5A90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96C2-FD73-4177-8FC3-9808E191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3F4D-4880-4554-B108-BF06C38D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CB87-24DC-4368-95CA-EC7E3FF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5EC4-A44F-445B-B035-B31100A1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49FC-0C50-4DC7-9632-2D69388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098-BC76-4518-A47B-0082CC6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9A63-54E9-4716-B41A-FA01ACD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0F57-99B5-4002-BEA8-B51F2CF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EEB5-8DC1-410A-9B8F-4A0991F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F989-82B8-48AF-9C0E-0AB6AB8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1DCB-C66A-48E5-BACC-7BFBC61B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71B2-560E-4212-BBBF-3FCE4ABD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A1D9-80AD-4E27-895B-B9686B41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CF65-3889-48A8-ACC8-4E02700D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689D-2B5E-44FB-ACE4-E1EBCDD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7540-C329-40E7-9F92-8605839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B05-368C-4423-99B4-9CCD2A9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564C-D07F-45A2-9502-56002D4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EC3E-B84F-4A2B-BCC2-F2C9D91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77BD-1707-4145-8546-6243C97A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BD6F-47A4-4151-8CCD-4C77AEE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4036-B9DA-4123-AF96-87ACE59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5289-82C0-4E72-9C8B-FDFA0A8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F047-F81B-4645-B42B-C11D451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FDBA-0476-4D7C-946F-FCFCC60C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3106-6BE1-4055-9389-12625194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4C8-8C39-4240-BDE2-C297928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65F-5BE4-4F08-87D8-16AEF84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77C-B43C-432D-9079-850536F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07A-729C-40E5-82A7-65F5E4CA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D87-5989-4F66-93C6-CD20B8A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216-6764-4F0F-B280-5B0B4684DB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3" descr="D:\design-related\png\png-1904.png"/>
          <p:cNvPicPr/>
          <p:nvPr/>
        </p:nvPicPr>
        <p:blipFill>
          <a:blip r:embed="rId4"/>
          <a:stretch/>
        </p:blipFill>
        <p:spPr>
          <a:xfrm>
            <a:off x="-101520" y="-92160"/>
            <a:ext cx="121752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9FA-4E31-4C7D-90F1-BE4C79100B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1.jp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design-related\png\png-1904.png"/>
          <p:cNvPicPr/>
          <p:nvPr/>
        </p:nvPicPr>
        <p:blipFill>
          <a:blip r:embed="rId3"/>
          <a:stretch/>
        </p:blipFill>
        <p:spPr>
          <a:xfrm>
            <a:off x="7956720" y="3213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A247-5B5A-4A3E-A71D-CC6EABDD36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" descr="1.jpg"/>
          <p:cNvPicPr/>
          <p:nvPr/>
        </p:nvPicPr>
        <p:blipFill>
          <a:blip r:embed="rId2"/>
          <a:srcRect l="0" t="0" r="0" b="50003"/>
          <a:stretch/>
        </p:blipFill>
        <p:spPr>
          <a:xfrm>
            <a:off x="0" y="1197000"/>
            <a:ext cx="9144000" cy="342900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129" name="Picture 3" descr="D:\design-related\png\png-1904.png"/>
          <p:cNvPicPr/>
          <p:nvPr/>
        </p:nvPicPr>
        <p:blipFill>
          <a:blip r:embed="rId3"/>
          <a:stretch/>
        </p:blipFill>
        <p:spPr>
          <a:xfrm>
            <a:off x="7956720" y="24796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E:\homework\02小米私家PPT\LOGO-black.png"/>
          <p:cNvPicPr/>
          <p:nvPr/>
        </p:nvPicPr>
        <p:blipFill>
          <a:blip r:embed="rId4"/>
          <a:stretch/>
        </p:blipFill>
        <p:spPr>
          <a:xfrm>
            <a:off x="4857840" y="501012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9C7-C9F3-45EB-B9C2-08250BACA1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/beijing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BankGothic Lt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1231560" y="170172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光影木纹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1800" y="3068280"/>
            <a:ext cx="716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PART I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DB06-10A4-4555-BFA6-6C434BFED2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Other information needed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Add your title1 here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Add your title2 here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3086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1800" y="2334960"/>
            <a:ext cx="716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S FOR YOUR LISTENING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1:39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4:34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