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C64-0818-40DE-9594-C155A713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54E-9E21-48DD-8D57-F8E1CCB9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53022-A644-443F-9A86-917CA918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97D1E-3666-46BE-918B-7127E90F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DCA0B-7AF4-4299-B61A-B8A530A2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C04FB-454B-4F66-B520-DD9193D6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8B538-4A19-4A5D-ADDB-FD552165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8C3E8-A3CE-4A3C-AB3B-A4CCB035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D9397-B39A-4E92-89F7-69FD6AB3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9F746-638C-4952-9162-DDE6050D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DB24A-CFA4-450B-A62E-48321E87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A1CB5-8EE9-486F-B278-5CEB63F8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6A4-99C4-47C8-A42E-FCBDF9B4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FE7C6-903C-4BBE-B7A9-04DDAE92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BFADF-2A3F-4B1C-BABC-4546F1E5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3E2ED-0E46-4905-B09E-F1882FE4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6ADAF-F20E-49CA-A594-BE52E629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600EA-0728-4EDE-BE55-8DF32EAA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D97DF-7F1D-4E39-8246-8D599AA7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7B9F1-FD4B-43A7-9269-E3763AA3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644CD-DFED-45AA-B640-88EC8280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CBB6C-D37C-43F5-9886-46905435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CD891-C98C-4731-AD75-3105F4B6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47F-AFD8-469C-BAD7-723AB28E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B0686-D08D-4658-98AD-2AF8213C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CCD5D-8675-49BB-B639-6AD063EA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CA033-F620-4145-8676-C2D7EC70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121F5-4054-4B00-8172-595075A0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36A98-9251-47D1-A3C4-B6B4F30D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29881-17BD-400F-9747-24ABB9B3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F7D9C-8E83-41DD-AF70-37D8C059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5447D-16B2-4207-99C3-CB7419C2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2B5BB-E57C-467A-89E8-E3E80A0D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F5B67-3D4C-416A-BEC2-6FAC1585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424D-4044-486A-BA26-28E8135C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700E4-3AE9-4111-BD53-6F8EBF9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2B8B8-AEA7-423D-87C2-1C6BB950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C9274-C51D-469C-BD4B-5D3F0015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3DE55-C75E-46EC-AAA0-0BC761E9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CDC6A-99C9-4531-B159-F428CA6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C99FB-3D3D-4CE2-917B-395FC319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A1211-5879-442D-A91E-501EEF1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FB68A-A3A5-4EE0-A17B-84972752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29F1A-9534-4B70-A824-42B977DA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794F0-DEFF-495C-8C0B-F97BE602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D4AB-112E-44C6-9C1E-149FEA18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D9F57-6B1C-4807-B70B-38517A87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AE09C-F98D-4691-895C-67447D3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F4EA0-58E0-4048-8BA4-4577EF37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7FE69-D10F-4431-97B7-611C0BB3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36A57-EB21-407C-A0B2-7CFCFEEC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FA159-55EE-4169-BE12-B9ED10A2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E8808-32F1-4747-B11C-5095C4CB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467BA-E8DE-410A-BFD1-E8E93137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50688-EF77-4599-9ED9-02AE3212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72ACF-CFC0-4D49-849F-08660290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4B8A-7E6D-4FBC-A223-48664213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0B17D-F818-4DB7-91F7-A93FDAB0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D6F93-2D3E-46F1-8005-3CF3AA63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FE853-1715-40AA-8020-6B8EE015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5F900-2266-4CEA-99F2-C78B484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0779B-7F64-469F-BF54-72147786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0E0A2-3784-4B64-8A0B-D2359F92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6BCE9-6A72-4A7B-87C7-5C9AAE54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5084-BBA1-497A-AC7B-6286D63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4F71-9D38-4503-96C2-B0777150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2486-6313-4ACC-8A07-A05C9B75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C364-7D2F-4FC1-B7BB-3229A9A9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CD6-7AC9-43E3-9C9C-290B4F92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09BC-AA65-441F-B435-78DC7581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11B5-B391-4333-8B40-A88695F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9594-5B7E-4E41-91BE-D2DD8105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1CE4-5003-4BE2-9C0A-8191EFE0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8D3B-E0F0-42D5-8440-A1B1993D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1D4B-15F7-4250-9EAE-FA23149E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02E3-809A-4895-B874-0116996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7A0CB-5D94-4618-8E05-2336DD28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C4B9-1D25-4C13-BD7F-796F7D22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DED1-D285-462F-8DC3-A9BFE2F2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B86-E767-4DC3-A40D-EEE93DC6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DED4-3AAB-45D2-AC5E-50B8CA7C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B00A-67AE-478B-B1EF-00AD3B2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F5AB-3516-437D-A4EB-AA748063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E37F-9B3C-42E4-8FD7-C946404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C7F8-25D7-4B9D-B737-DE32B4A7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98E3-E48B-4033-8449-6F905286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3B2A-B7E6-4BA4-AB42-97162AF4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30FA-9333-4317-A57D-291327C7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80B1-0089-4701-9DFD-0C5FAF0F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CA7A0-CE98-45F0-85BE-4A66A600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B3F-386D-4B19-88EF-CB6B5782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CC8D-D42D-4D7E-B4FB-601C242D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F0BC7-0134-49B9-93DD-2193D755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42CB9-961C-40F3-A667-2771D1C9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0033-F42F-4055-95DC-649841C0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3B05-8DA4-4501-A210-BCE76C2D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3B179-1402-4701-9D70-F9359417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4674-7FF1-44EE-95E6-235B90DC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8F8C-4DC3-4B1F-A234-F8D2DD62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F78A-FC94-45CA-8236-BA9A5183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601A-DF8D-4447-BB6E-F69023D5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968-DA0D-44E2-ADC2-762E5732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EF07D-EA70-4AA7-B01A-AAF13EE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1CD4-E530-4F3F-A72E-C89D604B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29086-4FDC-41E2-BB3B-69682DBD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2D630-5DB1-4ACE-9EEB-06D2E2BD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B80D-91EC-47C3-963C-1B79738D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F6A00-25F8-4BD1-85B0-8A400854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749F-807A-4B7C-B8C2-56A5AD0D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CE387-1269-407B-9AF4-D89C323E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F83BC-3856-456F-9E7E-8485BD05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B12CF-24AE-4323-B229-E48E0907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E37-A750-4377-8D52-18D7A380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76552-3C13-40E0-A369-BB6B2C43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C81B7-5F45-4789-A3A1-F083CBE7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85A2-A3B7-4BC4-B0E9-746FAB72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B5C6B-6A7D-4341-961D-32873B01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7818D-DF3A-4CC9-BC57-FC477F9D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80529-F28A-4BF2-A631-0ECA6E12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C73E-5FF9-4629-9010-D831190C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00FE-B616-40A7-A214-38B6684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EEF2-4656-4C14-B948-2FA31B3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7A506-9DCA-41AE-A0C0-650B18E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361-2C64-49B1-854E-EB2D16F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4E547-3E18-4FAF-9956-DE3128AA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D34E8-751B-4922-B414-CE44D983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4BB7C-71BB-4007-AF92-DA607E68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E49A2-21FC-430E-B0D3-F93C784B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B8146-A6CE-4C8E-BCFD-7801C2CF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691AD-9539-4554-943F-9F991D15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C302F-1AA7-495D-BA8E-D018E440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CE483-B409-4D7B-8A1F-D64F236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B961D-7962-4A0C-994F-CC4C97EA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C427D-77D1-4F81-B59F-5039A59A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9E0-5166-4531-83C1-F37C9129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96BF1-EB1B-4285-BC9B-62449DD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4A94A-EF06-42E0-9C43-88BCD15D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578A1-34C7-4FF5-B11E-23E59B7D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A4851-3141-4012-B3EE-B2EC6D0A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91D5-95C9-4BF2-A3E9-A15D19E2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08E5-307E-4986-AACA-64E02047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62609-1432-4F17-A0F7-68AE47D8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4BD32-8F98-4302-9225-2162A4CA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AC878-127E-49DF-BAE3-3E59A8FD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F1AE2-3601-4553-8B21-1FFBA8A0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E5C-52E1-45A1-926E-D5E9D46C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7D28C-3A29-4111-8A1B-C74875A3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D1F19-D8FD-452F-9108-8AE8D534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2167F-AC67-4A41-AD93-775E2466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8C574-5C24-4627-9A26-B22A943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5D5B9-D493-43FD-9ABA-B68B6646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DCB9C-9192-4AD1-8619-77E2B53D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B4A59-D1DD-4F4E-A9BF-8A4A3D24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F6C36-4D62-488B-B21D-96C99E63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6BDAF-09FF-4629-B2A4-F83882CC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02686-B895-4CB3-B21F-C89F4637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EE98-9FB8-406A-9183-66ECBD953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8DCA-13EE-46E5-A4D6-67B4FF521D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2B1-29F7-4047-AA5C-A2D551D3D0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024B-F8E2-4D97-99F2-1B9A68883D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E808-CF60-4D3F-92AA-6B8DB078B4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B7AE-B1DB-4CAB-9938-71820A5103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262-6DF9-4AB3-A4A4-9D299547EE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E5B9-A4C6-4A03-96BA-1C78B800CC2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8783-1C03-45EE-9E04-4AB27D4229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A1F-74BA-4EDC-8440-4C4C01046C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0EA2-5791-408A-ADA1-1FFC0C8B69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CFEF-D92E-4171-B3F8-93A1C26BC1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3185-0245-4502-9307-11F4982CF4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396720" y="2276640"/>
            <a:ext cx="65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99"/>
                </a:solidFill>
                <a:latin typeface="Arial"/>
                <a:ea typeface="微软雅黑"/>
              </a:rPr>
              <a:t>通货膨胀、通货紧缺</a:t>
            </a:r>
            <a:r>
              <a:rPr b="1" lang="zh-CN" sz="5400" spc="-1" strike="noStrike">
                <a:solidFill>
                  <a:srgbClr val="ff9999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99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9999"/>
                </a:solidFill>
                <a:latin typeface="微软雅黑"/>
                <a:ea typeface="微软雅黑"/>
              </a:rPr>
              <a:t>&amp;</a:t>
            </a:r>
            <a:r>
              <a:rPr b="1" lang="zh-CN" sz="5400" spc="-1" strike="noStrike">
                <a:solidFill>
                  <a:srgbClr val="ff9999"/>
                </a:solidFill>
                <a:latin typeface="微软雅黑"/>
                <a:ea typeface="微软雅黑"/>
              </a:rPr>
              <a:t>就业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"/>
          <p:cNvSpPr/>
          <p:nvPr/>
        </p:nvSpPr>
        <p:spPr>
          <a:xfrm>
            <a:off x="2584800" y="1268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货币与就业问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539640" y="1701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通货膨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96720" y="314172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通货膨胀（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Inflation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）指在纸币流通条件下，因货币供给大于货币实际需求，也即现实购买力大于产出供给，导致货币贬值，而引起的一段时间内物价持续而普遍地上涨现象。其实质是社会总需求大于社会总供给 （供远小于求）。纸币、含金量低的铸币、信用货币，过度发行都会导致通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539640" y="1701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通货紧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468360" y="29973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通货紧缩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(deflation) 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：当市场上流通货币减少，人民的货币所得减少，购买力下降，影响物价之下跌，造成通货紧缩。长期的货币紧缩会抑制投资与生产，导致失业率升高及经济衰退。对于其概念的理解，仍然存在争议。但经济学者普遍认为，当消费者价格指数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(cpi)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连跌三个月，即表示已出现通货紧缩。通货紧缩就是产能过剩或需求不足导致物价、工资、利率、粮食、能源等各类价格持续下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539640" y="1701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膨胀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or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紧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468360" y="29973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通货膨胀直接使纸币贬值，如果居民的收入没有变化，生活水平就会下降，造成社会经济生活秩序混乱，不利于经济的发展。不过在一定时期内，适度的通货膨胀又可以刺激消费，扩大内需，推动经济发展。                                   通货紧缩导致物价下降，在一定程度上对居民生活有好处，但从长远看会严重影响投资者的信心和居民的消费心理，导致恶性的价格竞争，对经济的长远发展和人民的长远利益不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828720" y="1341360"/>
            <a:ext cx="7632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凯恩斯主义支持者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胀与失业之间存在短期替代关系，即高通胀就会伴随低失业，反之低失业则对应高通胀。（因为凯主义倾向于短期分析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向下倾斜的曲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衣以弗里德曼为代表的货币主义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有当预期的通胀率不等于实际通胀率时（短期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下倾斜）两者才存在替代关系。当预期通胀率等于实际通胀率时（长期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垂直）两者不存在替代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以卢卡斯为代表的理性预期学派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预期总是理性的，即预期会等于实际，不管短期还是长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是垂直的，即通胀与失业之间不存在替代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324000" y="2276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菲利普斯曲线来说，当通货膨胀率高时，失业率低；通货膨胀率低时，失业率高。政府在一定时期内，据此指导宏观经济政策，以紧缩或扩张的财政与货币政策，可以将通货膨胀率和失业率控制在社会可接受的水平之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过去的一年里我国的物件呈上升趋势，到目前为止仍未得到缓解，为何菲利普斯曲线在我们这里会失灵呢？而就业问题一直难以得到解决。解决好就业问题，关系到亿万群众的切实利益，希望有关部门能够采取相应的措施，加速劳动力市场的培育和建设，大力促进经济发展与就业的“双赢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WordArt 3"/>
          <p:cNvSpPr txBox="1"/>
          <p:nvPr/>
        </p:nvSpPr>
        <p:spPr>
          <a:xfrm>
            <a:off x="5219640" y="909720"/>
            <a:ext cx="203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就业影响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324000" y="206064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目前存在的通货紧缩不单是物价和货币现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效需求不足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价低迷不振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消费者预期看淡均与国企改革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构调整、下岗失业、社会保障 改革滞后等体制性和社会性因素相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时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货紧缩的漫延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解决下岗职工的再就业造成相当的难度和障碍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而下岗再就业受阻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失业现象一旦显化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会加深通货紧缩的程度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带来诸多社会不稳定的问题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值得警惕的。为此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今年宏观经济政策的选择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把治理通货紧缩和拉动再就业结合起来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刺激消费需求增长为主动力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寻求一套就业优化的政策体系为支撑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既保证扩大内需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走出通缩的阴影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实现就业的可持续增长和社会的稳定繁荣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不失为宏观经济政策一种现实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WordArt 3"/>
          <p:cNvSpPr txBox="1"/>
          <p:nvPr/>
        </p:nvSpPr>
        <p:spPr>
          <a:xfrm>
            <a:off x="5219640" y="909720"/>
            <a:ext cx="203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就业影响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2413080" y="2709720"/>
            <a:ext cx="694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99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4:30:2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13:41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