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10A-6DCF-48F6-8570-E1599963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9FB-1C4D-440F-AE59-AE787F6D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B75-789C-4D17-9401-1C2D9318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AA0-2A5E-4316-9920-30DD34D1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580-4FA9-4526-9B4E-3F419FCA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988-32CA-4F3E-B373-E40FA0F0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53D-5AA8-4E60-9202-7AAC2AA9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D3C-BB3F-48F6-BAA4-6C8653F5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0E9-C6FB-4F97-9B76-33D0A440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D51-AC19-41FA-A779-1BC4355A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FA7-1309-4FD6-A0C8-E0CEC6FC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F0C-235F-4C38-8BEE-755FB4E0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B75D-F5BA-486F-BE90-21F84D2E81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44B5-193D-406B-8720-DE47AD3E30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1"/>
          <p:cNvSpPr/>
          <p:nvPr/>
        </p:nvSpPr>
        <p:spPr>
          <a:xfrm>
            <a:off x="1687680" y="1432080"/>
            <a:ext cx="37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4"/>
          <p:cNvSpPr/>
          <p:nvPr/>
        </p:nvSpPr>
        <p:spPr>
          <a:xfrm>
            <a:off x="1673280" y="2525760"/>
            <a:ext cx="5146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9"/>
          <p:cNvSpPr/>
          <p:nvPr/>
        </p:nvSpPr>
        <p:spPr>
          <a:xfrm>
            <a:off x="1778040" y="8841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80" y="637056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8600" y="29052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火柴人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2B2-A2DC-4E00-8343-F72E0EC633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KSO_Shape"/>
          <p:cNvSpPr/>
          <p:nvPr/>
        </p:nvSpPr>
        <p:spPr>
          <a:xfrm>
            <a:off x="449280" y="2766960"/>
            <a:ext cx="152712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KSO_Shape"/>
          <p:cNvSpPr/>
          <p:nvPr/>
        </p:nvSpPr>
        <p:spPr>
          <a:xfrm flipH="1">
            <a:off x="4382280" y="517680"/>
            <a:ext cx="854280" cy="190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KSO_Shape"/>
          <p:cNvSpPr/>
          <p:nvPr/>
        </p:nvSpPr>
        <p:spPr>
          <a:xfrm flipH="1">
            <a:off x="2733840" y="511200"/>
            <a:ext cx="79992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KSO_Shape"/>
          <p:cNvSpPr/>
          <p:nvPr/>
        </p:nvSpPr>
        <p:spPr>
          <a:xfrm flipH="1">
            <a:off x="10659240" y="4775040"/>
            <a:ext cx="71460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KSO_Shape"/>
          <p:cNvSpPr/>
          <p:nvPr/>
        </p:nvSpPr>
        <p:spPr>
          <a:xfrm flipH="1">
            <a:off x="8757360" y="4807080"/>
            <a:ext cx="901800" cy="190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KSO_Shape"/>
          <p:cNvSpPr/>
          <p:nvPr/>
        </p:nvSpPr>
        <p:spPr>
          <a:xfrm flipH="1">
            <a:off x="2475000" y="4829040"/>
            <a:ext cx="89856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KSO_Shape"/>
          <p:cNvSpPr/>
          <p:nvPr/>
        </p:nvSpPr>
        <p:spPr>
          <a:xfrm flipH="1">
            <a:off x="741240" y="4829040"/>
            <a:ext cx="94320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KSO_Shape"/>
          <p:cNvSpPr/>
          <p:nvPr/>
        </p:nvSpPr>
        <p:spPr>
          <a:xfrm flipH="1">
            <a:off x="10695960" y="326880"/>
            <a:ext cx="857160" cy="2108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9"/>
          <p:cNvSpPr/>
          <p:nvPr/>
        </p:nvSpPr>
        <p:spPr>
          <a:xfrm>
            <a:off x="4110120" y="4884840"/>
            <a:ext cx="1025280" cy="18493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10"/>
          <p:cNvGrpSpPr/>
          <p:nvPr/>
        </p:nvGrpSpPr>
        <p:grpSpPr>
          <a:xfrm>
            <a:off x="5770440" y="4761000"/>
            <a:ext cx="944640" cy="2028240"/>
            <a:chOff x="5770440" y="4761000"/>
            <a:chExt cx="944640" cy="2028240"/>
          </a:xfrm>
        </p:grpSpPr>
        <p:sp>
          <p:nvSpPr>
            <p:cNvPr id="56" name="Freeform 23"/>
            <p:cNvSpPr/>
            <p:nvPr/>
          </p:nvSpPr>
          <p:spPr>
            <a:xfrm flipV="1">
              <a:off x="5961960" y="4761000"/>
              <a:ext cx="429120" cy="308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2"/>
            <p:cNvSpPr/>
            <p:nvPr/>
          </p:nvSpPr>
          <p:spPr>
            <a:xfrm flipV="1">
              <a:off x="5770440" y="5064840"/>
              <a:ext cx="944640" cy="1724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13"/>
          <p:cNvGrpSpPr/>
          <p:nvPr/>
        </p:nvGrpSpPr>
        <p:grpSpPr>
          <a:xfrm>
            <a:off x="5610240" y="276120"/>
            <a:ext cx="1326960" cy="2139840"/>
            <a:chOff x="5610240" y="276120"/>
            <a:chExt cx="1326960" cy="2139840"/>
          </a:xfrm>
        </p:grpSpPr>
        <p:sp>
          <p:nvSpPr>
            <p:cNvPr id="59" name="Freeform 34"/>
            <p:cNvSpPr/>
            <p:nvPr/>
          </p:nvSpPr>
          <p:spPr>
            <a:xfrm flipV="1">
              <a:off x="6570360" y="276120"/>
              <a:ext cx="181080" cy="209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 flipV="1">
              <a:off x="6056280" y="441720"/>
              <a:ext cx="423360" cy="397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 flipV="1">
              <a:off x="5610240" y="746280"/>
              <a:ext cx="1326960" cy="1669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17"/>
            <p:cNvSpPr/>
            <p:nvPr/>
          </p:nvSpPr>
          <p:spPr>
            <a:xfrm>
              <a:off x="6535080" y="510120"/>
              <a:ext cx="52200" cy="5220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8"/>
          <p:cNvGrpSpPr/>
          <p:nvPr/>
        </p:nvGrpSpPr>
        <p:grpSpPr>
          <a:xfrm>
            <a:off x="8848800" y="245880"/>
            <a:ext cx="1338120" cy="2170080"/>
            <a:chOff x="8848800" y="245880"/>
            <a:chExt cx="1338120" cy="2170080"/>
          </a:xfrm>
        </p:grpSpPr>
        <p:sp>
          <p:nvSpPr>
            <p:cNvPr id="64" name="Freeform 66"/>
            <p:cNvSpPr/>
            <p:nvPr/>
          </p:nvSpPr>
          <p:spPr>
            <a:xfrm flipV="1">
              <a:off x="9082080" y="245160"/>
              <a:ext cx="425160" cy="446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 flipV="1">
              <a:off x="8848800" y="722160"/>
              <a:ext cx="1338120" cy="1693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1"/>
          <p:cNvGrpSpPr/>
          <p:nvPr/>
        </p:nvGrpSpPr>
        <p:grpSpPr>
          <a:xfrm>
            <a:off x="7194600" y="4761000"/>
            <a:ext cx="809640" cy="2033640"/>
            <a:chOff x="7194600" y="4761000"/>
            <a:chExt cx="809640" cy="2033640"/>
          </a:xfrm>
        </p:grpSpPr>
        <p:sp>
          <p:nvSpPr>
            <p:cNvPr id="67" name="椭圆 22"/>
            <p:cNvSpPr/>
            <p:nvPr/>
          </p:nvSpPr>
          <p:spPr>
            <a:xfrm>
              <a:off x="7368840" y="4761000"/>
              <a:ext cx="466200" cy="4658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23"/>
            <p:cNvGrpSpPr/>
            <p:nvPr/>
          </p:nvGrpSpPr>
          <p:grpSpPr>
            <a:xfrm>
              <a:off x="7194600" y="5289840"/>
              <a:ext cx="809640" cy="1504800"/>
              <a:chOff x="7194600" y="5289840"/>
              <a:chExt cx="809640" cy="1504800"/>
            </a:xfrm>
          </p:grpSpPr>
          <p:grpSp>
            <p:nvGrpSpPr>
              <p:cNvPr id="69" name="组合 24"/>
              <p:cNvGrpSpPr/>
              <p:nvPr/>
            </p:nvGrpSpPr>
            <p:grpSpPr>
              <a:xfrm>
                <a:off x="7194600" y="5289840"/>
                <a:ext cx="809640" cy="1504800"/>
                <a:chOff x="7194600" y="5289840"/>
                <a:chExt cx="809640" cy="1504800"/>
              </a:xfrm>
            </p:grpSpPr>
            <p:sp>
              <p:nvSpPr>
                <p:cNvPr id="70" name="Freeform 130"/>
                <p:cNvSpPr/>
                <p:nvPr/>
              </p:nvSpPr>
              <p:spPr>
                <a:xfrm flipV="1">
                  <a:off x="7194600" y="5289840"/>
                  <a:ext cx="809640" cy="15048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任意多边形 27"/>
                <p:cNvSpPr/>
                <p:nvPr/>
              </p:nvSpPr>
              <p:spPr>
                <a:xfrm>
                  <a:off x="7384680" y="5442480"/>
                  <a:ext cx="266400" cy="31788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任意多边形 28"/>
                <p:cNvSpPr/>
                <p:nvPr/>
              </p:nvSpPr>
              <p:spPr>
                <a:xfrm>
                  <a:off x="7251120" y="5652720"/>
                  <a:ext cx="97200" cy="1332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任意多边形 29"/>
                <p:cNvSpPr/>
                <p:nvPr/>
              </p:nvSpPr>
              <p:spPr>
                <a:xfrm>
                  <a:off x="7389720" y="6544800"/>
                  <a:ext cx="76680" cy="15372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圆角矩形 25"/>
              <p:cNvSpPr/>
              <p:nvPr/>
            </p:nvSpPr>
            <p:spPr>
              <a:xfrm>
                <a:off x="7570800" y="5289840"/>
                <a:ext cx="264240" cy="133200"/>
              </a:xfrm>
              <a:prstGeom prst="roundRect">
                <a:avLst>
                  <a:gd name="adj" fmla="val 39741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组合 30"/>
          <p:cNvGrpSpPr/>
          <p:nvPr/>
        </p:nvGrpSpPr>
        <p:grpSpPr>
          <a:xfrm>
            <a:off x="7186680" y="29880"/>
            <a:ext cx="1023840" cy="2386080"/>
            <a:chOff x="7186680" y="29880"/>
            <a:chExt cx="1023840" cy="2386080"/>
          </a:xfrm>
        </p:grpSpPr>
        <p:sp>
          <p:nvSpPr>
            <p:cNvPr id="76" name="Freeform 151"/>
            <p:cNvSpPr/>
            <p:nvPr/>
          </p:nvSpPr>
          <p:spPr>
            <a:xfrm flipV="1">
              <a:off x="8016120" y="29160"/>
              <a:ext cx="194400" cy="221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2"/>
            <p:cNvSpPr/>
            <p:nvPr/>
          </p:nvSpPr>
          <p:spPr>
            <a:xfrm flipV="1">
              <a:off x="7477560" y="237600"/>
              <a:ext cx="445680" cy="420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8"/>
            <p:cNvSpPr/>
            <p:nvPr/>
          </p:nvSpPr>
          <p:spPr>
            <a:xfrm flipV="1">
              <a:off x="7975800" y="265320"/>
              <a:ext cx="87120" cy="65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1"/>
            <p:cNvSpPr/>
            <p:nvPr/>
          </p:nvSpPr>
          <p:spPr>
            <a:xfrm flipV="1">
              <a:off x="7589880" y="2226600"/>
              <a:ext cx="78120" cy="78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35"/>
            <p:cNvGrpSpPr/>
            <p:nvPr/>
          </p:nvGrpSpPr>
          <p:grpSpPr>
            <a:xfrm>
              <a:off x="7186680" y="377280"/>
              <a:ext cx="955800" cy="2038680"/>
              <a:chOff x="7186680" y="377280"/>
              <a:chExt cx="955800" cy="2038680"/>
            </a:xfrm>
          </p:grpSpPr>
          <p:sp>
            <p:nvSpPr>
              <p:cNvPr id="81" name="Freeform 154"/>
              <p:cNvSpPr/>
              <p:nvPr/>
            </p:nvSpPr>
            <p:spPr>
              <a:xfrm flipV="1">
                <a:off x="7699680" y="1872360"/>
                <a:ext cx="228240" cy="543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组合 37"/>
              <p:cNvGrpSpPr/>
              <p:nvPr/>
            </p:nvGrpSpPr>
            <p:grpSpPr>
              <a:xfrm>
                <a:off x="7186680" y="377280"/>
                <a:ext cx="955800" cy="2025000"/>
                <a:chOff x="7186680" y="377280"/>
                <a:chExt cx="955800" cy="2025000"/>
              </a:xfrm>
            </p:grpSpPr>
            <p:sp>
              <p:nvSpPr>
                <p:cNvPr id="83" name="Freeform 153"/>
                <p:cNvSpPr/>
                <p:nvPr/>
              </p:nvSpPr>
              <p:spPr>
                <a:xfrm flipV="1">
                  <a:off x="7186680" y="376560"/>
                  <a:ext cx="955800" cy="20250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圆角矩形 39"/>
                <p:cNvSpPr/>
                <p:nvPr/>
              </p:nvSpPr>
              <p:spPr>
                <a:xfrm>
                  <a:off x="7516080" y="2185920"/>
                  <a:ext cx="148320" cy="11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任意多边形 40"/>
                <p:cNvSpPr/>
                <p:nvPr/>
              </p:nvSpPr>
              <p:spPr>
                <a:xfrm>
                  <a:off x="7992720" y="1324800"/>
                  <a:ext cx="143280" cy="18612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任意多边形 41"/>
                <p:cNvSpPr/>
                <p:nvPr/>
              </p:nvSpPr>
              <p:spPr>
                <a:xfrm>
                  <a:off x="7446240" y="797040"/>
                  <a:ext cx="484200" cy="51192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组合 42"/>
          <p:cNvGrpSpPr/>
          <p:nvPr/>
        </p:nvGrpSpPr>
        <p:grpSpPr>
          <a:xfrm>
            <a:off x="644400" y="112320"/>
            <a:ext cx="1079640" cy="2422800"/>
            <a:chOff x="644400" y="112320"/>
            <a:chExt cx="1079640" cy="2422800"/>
          </a:xfrm>
        </p:grpSpPr>
        <p:sp>
          <p:nvSpPr>
            <p:cNvPr id="88" name="Freeform 41"/>
            <p:cNvSpPr/>
            <p:nvPr/>
          </p:nvSpPr>
          <p:spPr>
            <a:xfrm flipV="1">
              <a:off x="963000" y="111960"/>
              <a:ext cx="108000" cy="125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 flipV="1">
              <a:off x="946800" y="140040"/>
              <a:ext cx="68400" cy="97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45"/>
            <p:cNvSpPr/>
            <p:nvPr/>
          </p:nvSpPr>
          <p:spPr>
            <a:xfrm flipV="1">
              <a:off x="772560" y="183960"/>
              <a:ext cx="930600" cy="2350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 flipV="1">
              <a:off x="1269720" y="196560"/>
              <a:ext cx="145080" cy="133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 flipV="1">
              <a:off x="1464480" y="250560"/>
              <a:ext cx="80640" cy="128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 flipV="1">
              <a:off x="1391760" y="261720"/>
              <a:ext cx="83880" cy="102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 flipV="1">
              <a:off x="1505520" y="271440"/>
              <a:ext cx="73440" cy="120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 flipV="1">
              <a:off x="1537920" y="324720"/>
              <a:ext cx="95040" cy="9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 flipV="1">
              <a:off x="644400" y="338760"/>
              <a:ext cx="63720" cy="158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 flipV="1">
              <a:off x="690120" y="366840"/>
              <a:ext cx="56160" cy="109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 flipV="1">
              <a:off x="1029240" y="388440"/>
              <a:ext cx="432360" cy="429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 flipV="1">
              <a:off x="1623240" y="400680"/>
              <a:ext cx="29520" cy="31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 flipV="1">
              <a:off x="1658880" y="417600"/>
              <a:ext cx="31320" cy="2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 flipV="1">
              <a:off x="1693440" y="427320"/>
              <a:ext cx="30600" cy="29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57"/>
          <p:cNvGrpSpPr/>
          <p:nvPr/>
        </p:nvGrpSpPr>
        <p:grpSpPr>
          <a:xfrm>
            <a:off x="2647800" y="2781360"/>
            <a:ext cx="765360" cy="1890360"/>
            <a:chOff x="2647800" y="2781360"/>
            <a:chExt cx="765360" cy="1890360"/>
          </a:xfrm>
        </p:grpSpPr>
        <p:sp>
          <p:nvSpPr>
            <p:cNvPr id="103" name="Freeform 7"/>
            <p:cNvSpPr/>
            <p:nvPr/>
          </p:nvSpPr>
          <p:spPr>
            <a:xfrm flipV="1">
              <a:off x="2647800" y="3174120"/>
              <a:ext cx="765360" cy="149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59"/>
            <p:cNvSpPr/>
            <p:nvPr/>
          </p:nvSpPr>
          <p:spPr>
            <a:xfrm>
              <a:off x="2876760" y="2781360"/>
              <a:ext cx="344160" cy="34416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60"/>
          <p:cNvGrpSpPr/>
          <p:nvPr/>
        </p:nvGrpSpPr>
        <p:grpSpPr>
          <a:xfrm>
            <a:off x="4498920" y="2689200"/>
            <a:ext cx="622440" cy="1928520"/>
            <a:chOff x="4498920" y="2689200"/>
            <a:chExt cx="622440" cy="1928520"/>
          </a:xfrm>
        </p:grpSpPr>
        <p:sp>
          <p:nvSpPr>
            <p:cNvPr id="106" name="任意多边形 61"/>
            <p:cNvSpPr/>
            <p:nvPr/>
          </p:nvSpPr>
          <p:spPr>
            <a:xfrm flipV="1">
              <a:off x="4498920" y="3088080"/>
              <a:ext cx="367920" cy="416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 flipV="1">
              <a:off x="4591800" y="3130200"/>
              <a:ext cx="529560" cy="1487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63"/>
            <p:cNvSpPr/>
            <p:nvPr/>
          </p:nvSpPr>
          <p:spPr>
            <a:xfrm>
              <a:off x="4589280" y="2689200"/>
              <a:ext cx="441720" cy="429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KSO_Shape"/>
          <p:cNvSpPr/>
          <p:nvPr/>
        </p:nvSpPr>
        <p:spPr>
          <a:xfrm flipH="1">
            <a:off x="7408800" y="2651040"/>
            <a:ext cx="68256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KSO_Shape"/>
          <p:cNvSpPr/>
          <p:nvPr/>
        </p:nvSpPr>
        <p:spPr>
          <a:xfrm>
            <a:off x="8504280" y="2587680"/>
            <a:ext cx="1098360" cy="1955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66"/>
          <p:cNvGrpSpPr/>
          <p:nvPr/>
        </p:nvGrpSpPr>
        <p:grpSpPr>
          <a:xfrm>
            <a:off x="10756800" y="2612880"/>
            <a:ext cx="738360" cy="1792080"/>
            <a:chOff x="10756800" y="2612880"/>
            <a:chExt cx="738360" cy="1792080"/>
          </a:xfrm>
        </p:grpSpPr>
        <p:sp>
          <p:nvSpPr>
            <p:cNvPr id="112" name="Freeform 14"/>
            <p:cNvSpPr/>
            <p:nvPr/>
          </p:nvSpPr>
          <p:spPr>
            <a:xfrm flipV="1">
              <a:off x="10852200" y="2612880"/>
              <a:ext cx="354960" cy="349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 flipV="1">
              <a:off x="10756800" y="2984400"/>
              <a:ext cx="631080" cy="1420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 flipV="1">
              <a:off x="11201040" y="2979000"/>
              <a:ext cx="116640" cy="80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 flipV="1">
              <a:off x="11228400" y="3026520"/>
              <a:ext cx="86040" cy="53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 flipV="1">
              <a:off x="10899360" y="3045960"/>
              <a:ext cx="484200" cy="321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9"/>
            <p:cNvSpPr/>
            <p:nvPr/>
          </p:nvSpPr>
          <p:spPr>
            <a:xfrm flipV="1">
              <a:off x="11437920" y="3117960"/>
              <a:ext cx="57240" cy="15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0"/>
            <p:cNvSpPr/>
            <p:nvPr/>
          </p:nvSpPr>
          <p:spPr>
            <a:xfrm flipV="1">
              <a:off x="11406600" y="3131280"/>
              <a:ext cx="56520" cy="101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80"/>
          <p:cNvGrpSpPr/>
          <p:nvPr/>
        </p:nvGrpSpPr>
        <p:grpSpPr>
          <a:xfrm>
            <a:off x="5810400" y="2720520"/>
            <a:ext cx="833400" cy="1863720"/>
            <a:chOff x="5810400" y="2720520"/>
            <a:chExt cx="833400" cy="1863720"/>
          </a:xfrm>
        </p:grpSpPr>
        <p:sp>
          <p:nvSpPr>
            <p:cNvPr id="120" name="任意多边形 77"/>
            <p:cNvSpPr/>
            <p:nvPr/>
          </p:nvSpPr>
          <p:spPr>
            <a:xfrm flipV="1">
              <a:off x="5810400" y="2720160"/>
              <a:ext cx="833400" cy="1863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78"/>
            <p:cNvSpPr/>
            <p:nvPr/>
          </p:nvSpPr>
          <p:spPr>
            <a:xfrm>
              <a:off x="6006960" y="2885040"/>
              <a:ext cx="353520" cy="353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7"/>
          <p:cNvGrpSpPr/>
          <p:nvPr/>
        </p:nvGrpSpPr>
        <p:grpSpPr>
          <a:xfrm>
            <a:off x="3409920" y="865080"/>
            <a:ext cx="1528560" cy="1467000"/>
            <a:chOff x="3409920" y="865080"/>
            <a:chExt cx="1528560" cy="1467000"/>
          </a:xfrm>
        </p:grpSpPr>
        <p:sp>
          <p:nvSpPr>
            <p:cNvPr id="123" name="Freeform 19"/>
            <p:cNvSpPr/>
            <p:nvPr/>
          </p:nvSpPr>
          <p:spPr>
            <a:xfrm flipV="1">
              <a:off x="3905640" y="865080"/>
              <a:ext cx="311040" cy="306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 flipV="1">
              <a:off x="3409920" y="1089360"/>
              <a:ext cx="1033920" cy="124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 flipV="1">
              <a:off x="4732200" y="1181160"/>
              <a:ext cx="23400" cy="62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 flipV="1">
              <a:off x="4710960" y="1248480"/>
              <a:ext cx="65520" cy="222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 flipV="1">
              <a:off x="4586400" y="1369080"/>
              <a:ext cx="102600" cy="99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4"/>
            <p:cNvSpPr/>
            <p:nvPr/>
          </p:nvSpPr>
          <p:spPr>
            <a:xfrm flipV="1">
              <a:off x="4283280" y="1479600"/>
              <a:ext cx="655200" cy="64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"/>
            <p:cNvSpPr/>
            <p:nvPr/>
          </p:nvSpPr>
          <p:spPr>
            <a:xfrm flipV="1">
              <a:off x="4325040" y="1556280"/>
              <a:ext cx="571320" cy="762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 flipV="1">
              <a:off x="4407480" y="1644120"/>
              <a:ext cx="406080" cy="574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6"/>
          <p:cNvGrpSpPr/>
          <p:nvPr/>
        </p:nvGrpSpPr>
        <p:grpSpPr>
          <a:xfrm>
            <a:off x="5721480" y="728280"/>
            <a:ext cx="1522080" cy="1657440"/>
            <a:chOff x="5721480" y="728280"/>
            <a:chExt cx="1522080" cy="1657440"/>
          </a:xfrm>
        </p:grpSpPr>
        <p:sp>
          <p:nvSpPr>
            <p:cNvPr id="132" name="Freeform 35"/>
            <p:cNvSpPr/>
            <p:nvPr/>
          </p:nvSpPr>
          <p:spPr>
            <a:xfrm flipV="1">
              <a:off x="5721480" y="727560"/>
              <a:ext cx="1060200" cy="1049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6"/>
            <p:cNvSpPr/>
            <p:nvPr/>
          </p:nvSpPr>
          <p:spPr>
            <a:xfrm flipV="1">
              <a:off x="6247440" y="803160"/>
              <a:ext cx="22320" cy="48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7"/>
            <p:cNvSpPr/>
            <p:nvPr/>
          </p:nvSpPr>
          <p:spPr>
            <a:xfrm flipV="1">
              <a:off x="6027480" y="859680"/>
              <a:ext cx="52200" cy="75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8"/>
            <p:cNvSpPr/>
            <p:nvPr/>
          </p:nvSpPr>
          <p:spPr>
            <a:xfrm flipV="1">
              <a:off x="6435000" y="858600"/>
              <a:ext cx="58680" cy="79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9"/>
            <p:cNvSpPr/>
            <p:nvPr/>
          </p:nvSpPr>
          <p:spPr>
            <a:xfrm flipV="1">
              <a:off x="6181200" y="876960"/>
              <a:ext cx="47880" cy="10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0"/>
            <p:cNvSpPr/>
            <p:nvPr/>
          </p:nvSpPr>
          <p:spPr>
            <a:xfrm flipV="1">
              <a:off x="6252480" y="861120"/>
              <a:ext cx="83160" cy="12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1"/>
            <p:cNvSpPr/>
            <p:nvPr/>
          </p:nvSpPr>
          <p:spPr>
            <a:xfrm flipV="1">
              <a:off x="5862240" y="1020960"/>
              <a:ext cx="74520" cy="5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2"/>
            <p:cNvSpPr/>
            <p:nvPr/>
          </p:nvSpPr>
          <p:spPr>
            <a:xfrm flipV="1">
              <a:off x="6577920" y="1018800"/>
              <a:ext cx="79920" cy="5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3"/>
            <p:cNvSpPr/>
            <p:nvPr/>
          </p:nvSpPr>
          <p:spPr>
            <a:xfrm flipV="1">
              <a:off x="6080040" y="1020600"/>
              <a:ext cx="389160" cy="470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4"/>
            <p:cNvSpPr/>
            <p:nvPr/>
          </p:nvSpPr>
          <p:spPr>
            <a:xfrm flipV="1">
              <a:off x="6887520" y="1159560"/>
              <a:ext cx="277200" cy="297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 flipV="1">
              <a:off x="5874840" y="1198080"/>
              <a:ext cx="81000" cy="121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6"/>
            <p:cNvSpPr/>
            <p:nvPr/>
          </p:nvSpPr>
          <p:spPr>
            <a:xfrm flipV="1">
              <a:off x="6562080" y="1202400"/>
              <a:ext cx="76680" cy="117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7"/>
            <p:cNvSpPr/>
            <p:nvPr/>
          </p:nvSpPr>
          <p:spPr>
            <a:xfrm flipV="1">
              <a:off x="5806800" y="1243080"/>
              <a:ext cx="46800" cy="2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8"/>
            <p:cNvSpPr/>
            <p:nvPr/>
          </p:nvSpPr>
          <p:spPr>
            <a:xfrm flipV="1">
              <a:off x="6662160" y="1243080"/>
              <a:ext cx="50040" cy="23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9"/>
            <p:cNvSpPr/>
            <p:nvPr/>
          </p:nvSpPr>
          <p:spPr>
            <a:xfrm flipV="1">
              <a:off x="6242040" y="1350360"/>
              <a:ext cx="894960" cy="1035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0"/>
            <p:cNvSpPr/>
            <p:nvPr/>
          </p:nvSpPr>
          <p:spPr>
            <a:xfrm flipV="1">
              <a:off x="5862960" y="1433880"/>
              <a:ext cx="74520" cy="5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1"/>
            <p:cNvSpPr/>
            <p:nvPr/>
          </p:nvSpPr>
          <p:spPr>
            <a:xfrm flipV="1">
              <a:off x="6772320" y="1445040"/>
              <a:ext cx="471240" cy="272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2"/>
            <p:cNvSpPr/>
            <p:nvPr/>
          </p:nvSpPr>
          <p:spPr>
            <a:xfrm flipV="1">
              <a:off x="6222960" y="1522440"/>
              <a:ext cx="74160" cy="119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3"/>
            <p:cNvSpPr/>
            <p:nvPr/>
          </p:nvSpPr>
          <p:spPr>
            <a:xfrm flipV="1">
              <a:off x="6022440" y="1578600"/>
              <a:ext cx="58320" cy="73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4"/>
            <p:cNvSpPr/>
            <p:nvPr/>
          </p:nvSpPr>
          <p:spPr>
            <a:xfrm flipV="1">
              <a:off x="6247440" y="1658520"/>
              <a:ext cx="25560" cy="55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5"/>
            <p:cNvSpPr/>
            <p:nvPr/>
          </p:nvSpPr>
          <p:spPr>
            <a:xfrm flipV="1">
              <a:off x="6856560" y="1655640"/>
              <a:ext cx="61920" cy="132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7"/>
          <p:cNvGrpSpPr/>
          <p:nvPr/>
        </p:nvGrpSpPr>
        <p:grpSpPr>
          <a:xfrm>
            <a:off x="1479600" y="847440"/>
            <a:ext cx="1155600" cy="1522800"/>
            <a:chOff x="1479600" y="847440"/>
            <a:chExt cx="1155600" cy="1522800"/>
          </a:xfrm>
        </p:grpSpPr>
        <p:sp>
          <p:nvSpPr>
            <p:cNvPr id="154" name="Freeform 27"/>
            <p:cNvSpPr/>
            <p:nvPr/>
          </p:nvSpPr>
          <p:spPr>
            <a:xfrm flipV="1">
              <a:off x="1945080" y="847080"/>
              <a:ext cx="250560" cy="251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8"/>
            <p:cNvSpPr/>
            <p:nvPr/>
          </p:nvSpPr>
          <p:spPr>
            <a:xfrm flipV="1">
              <a:off x="1479600" y="1015920"/>
              <a:ext cx="798480" cy="929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9"/>
            <p:cNvSpPr/>
            <p:nvPr/>
          </p:nvSpPr>
          <p:spPr>
            <a:xfrm flipV="1">
              <a:off x="1883520" y="1104480"/>
              <a:ext cx="419040" cy="203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 flipV="1">
              <a:off x="2326320" y="1517760"/>
              <a:ext cx="308880" cy="305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2"/>
            <p:cNvSpPr/>
            <p:nvPr/>
          </p:nvSpPr>
          <p:spPr>
            <a:xfrm flipV="1">
              <a:off x="2439360" y="1629720"/>
              <a:ext cx="84960" cy="76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3"/>
            <p:cNvSpPr/>
            <p:nvPr/>
          </p:nvSpPr>
          <p:spPr>
            <a:xfrm flipV="1">
              <a:off x="1943280" y="1834560"/>
              <a:ext cx="536040" cy="535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4"/>
            <p:cNvSpPr/>
            <p:nvPr/>
          </p:nvSpPr>
          <p:spPr>
            <a:xfrm flipV="1">
              <a:off x="1494000" y="1965600"/>
              <a:ext cx="402840" cy="403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5"/>
            <p:cNvSpPr/>
            <p:nvPr/>
          </p:nvSpPr>
          <p:spPr>
            <a:xfrm flipV="1">
              <a:off x="2154240" y="2045160"/>
              <a:ext cx="112320" cy="116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6"/>
            <p:cNvSpPr/>
            <p:nvPr/>
          </p:nvSpPr>
          <p:spPr>
            <a:xfrm flipV="1">
              <a:off x="1652400" y="2124000"/>
              <a:ext cx="81360" cy="90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23"/>
          <p:cNvGrpSpPr/>
          <p:nvPr/>
        </p:nvGrpSpPr>
        <p:grpSpPr>
          <a:xfrm>
            <a:off x="4973760" y="3997080"/>
            <a:ext cx="877680" cy="2695320"/>
            <a:chOff x="4973760" y="3997080"/>
            <a:chExt cx="877680" cy="2695320"/>
          </a:xfrm>
        </p:grpSpPr>
        <p:sp>
          <p:nvSpPr>
            <p:cNvPr id="164" name="Freeform 90"/>
            <p:cNvSpPr/>
            <p:nvPr/>
          </p:nvSpPr>
          <p:spPr>
            <a:xfrm flipV="1">
              <a:off x="4978080" y="3996720"/>
              <a:ext cx="736920" cy="63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25"/>
            <p:cNvSpPr/>
            <p:nvPr/>
          </p:nvSpPr>
          <p:spPr>
            <a:xfrm flipV="1">
              <a:off x="4973760" y="4480560"/>
              <a:ext cx="877680" cy="2211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26"/>
            <p:cNvSpPr/>
            <p:nvPr/>
          </p:nvSpPr>
          <p:spPr>
            <a:xfrm>
              <a:off x="5143680" y="4972680"/>
              <a:ext cx="362520" cy="362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127"/>
            <p:cNvSpPr/>
            <p:nvPr/>
          </p:nvSpPr>
          <p:spPr>
            <a:xfrm>
              <a:off x="5117760" y="4421880"/>
              <a:ext cx="74880" cy="71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KSO_Shape"/>
          <p:cNvSpPr/>
          <p:nvPr/>
        </p:nvSpPr>
        <p:spPr>
          <a:xfrm>
            <a:off x="835200" y="4651200"/>
            <a:ext cx="132048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6464160" y="4711320"/>
            <a:ext cx="1085760" cy="1909800"/>
            <a:chOff x="6464160" y="4711320"/>
            <a:chExt cx="1085760" cy="1909800"/>
          </a:xfrm>
        </p:grpSpPr>
        <p:sp>
          <p:nvSpPr>
            <p:cNvPr id="170" name="Freeform 9"/>
            <p:cNvSpPr/>
            <p:nvPr/>
          </p:nvSpPr>
          <p:spPr>
            <a:xfrm flipV="1">
              <a:off x="6637320" y="4710960"/>
              <a:ext cx="371520" cy="382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 flipV="1">
              <a:off x="7061040" y="4896000"/>
              <a:ext cx="432000" cy="420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 flipV="1">
              <a:off x="6464160" y="5108400"/>
              <a:ext cx="561960" cy="501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 flipV="1">
              <a:off x="6653160" y="5353920"/>
              <a:ext cx="779400" cy="126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 flipV="1">
              <a:off x="7262640" y="6312600"/>
              <a:ext cx="287280" cy="30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KSO_Shape"/>
          <p:cNvSpPr/>
          <p:nvPr/>
        </p:nvSpPr>
        <p:spPr>
          <a:xfrm>
            <a:off x="8356680" y="4392720"/>
            <a:ext cx="1330200" cy="190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KSO_Shape"/>
          <p:cNvSpPr/>
          <p:nvPr/>
        </p:nvSpPr>
        <p:spPr>
          <a:xfrm>
            <a:off x="7589880" y="2616120"/>
            <a:ext cx="1905120" cy="15400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KSO_Shape"/>
          <p:cNvSpPr/>
          <p:nvPr/>
        </p:nvSpPr>
        <p:spPr>
          <a:xfrm>
            <a:off x="10404360" y="4413240"/>
            <a:ext cx="150192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KSO_Shape"/>
          <p:cNvSpPr/>
          <p:nvPr/>
        </p:nvSpPr>
        <p:spPr>
          <a:xfrm>
            <a:off x="8085240" y="479520"/>
            <a:ext cx="1353960" cy="18320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39"/>
          <p:cNvGrpSpPr/>
          <p:nvPr/>
        </p:nvGrpSpPr>
        <p:grpSpPr>
          <a:xfrm>
            <a:off x="10387080" y="571320"/>
            <a:ext cx="1368360" cy="1725840"/>
            <a:chOff x="10387080" y="571320"/>
            <a:chExt cx="1368360" cy="1725840"/>
          </a:xfrm>
        </p:grpSpPr>
        <p:sp>
          <p:nvSpPr>
            <p:cNvPr id="180" name="Freeform 41"/>
            <p:cNvSpPr/>
            <p:nvPr/>
          </p:nvSpPr>
          <p:spPr>
            <a:xfrm flipV="1">
              <a:off x="10683720" y="570960"/>
              <a:ext cx="417600" cy="414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flipV="1">
              <a:off x="10387080" y="1002960"/>
              <a:ext cx="1368360" cy="1293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KSO_Shape"/>
          <p:cNvSpPr/>
          <p:nvPr/>
        </p:nvSpPr>
        <p:spPr>
          <a:xfrm>
            <a:off x="914400" y="2895480"/>
            <a:ext cx="1547640" cy="12924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0032840" y="2592000"/>
            <a:ext cx="1506240" cy="1739880"/>
            <a:chOff x="10032840" y="2592000"/>
            <a:chExt cx="1506240" cy="1739880"/>
          </a:xfrm>
        </p:grpSpPr>
        <p:sp>
          <p:nvSpPr>
            <p:cNvPr id="184" name="Freeform 5"/>
            <p:cNvSpPr/>
            <p:nvPr/>
          </p:nvSpPr>
          <p:spPr>
            <a:xfrm flipV="1">
              <a:off x="10032840" y="2591640"/>
              <a:ext cx="1080" cy="1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 flipV="1">
              <a:off x="11142360" y="2607840"/>
              <a:ext cx="396720" cy="41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"/>
            <p:cNvSpPr/>
            <p:nvPr/>
          </p:nvSpPr>
          <p:spPr>
            <a:xfrm flipV="1">
              <a:off x="10855080" y="2806200"/>
              <a:ext cx="338040" cy="38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"/>
            <p:cNvSpPr/>
            <p:nvPr/>
          </p:nvSpPr>
          <p:spPr>
            <a:xfrm flipV="1">
              <a:off x="10590840" y="2969640"/>
              <a:ext cx="344880" cy="388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"/>
            <p:cNvSpPr/>
            <p:nvPr/>
          </p:nvSpPr>
          <p:spPr>
            <a:xfrm flipV="1">
              <a:off x="10925280" y="2987640"/>
              <a:ext cx="356400" cy="479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"/>
            <p:cNvSpPr/>
            <p:nvPr/>
          </p:nvSpPr>
          <p:spPr>
            <a:xfrm flipV="1">
              <a:off x="11226600" y="3035520"/>
              <a:ext cx="54720" cy="56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"/>
            <p:cNvSpPr/>
            <p:nvPr/>
          </p:nvSpPr>
          <p:spPr>
            <a:xfrm flipV="1">
              <a:off x="10154160" y="3122640"/>
              <a:ext cx="442800" cy="438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 flipV="1">
              <a:off x="11178360" y="3128760"/>
              <a:ext cx="306360" cy="367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 flipV="1">
              <a:off x="10487160" y="3275640"/>
              <a:ext cx="744480" cy="1056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9"/>
          <p:cNvGrpSpPr/>
          <p:nvPr/>
        </p:nvGrpSpPr>
        <p:grpSpPr>
          <a:xfrm>
            <a:off x="2570040" y="5278320"/>
            <a:ext cx="1263600" cy="1290240"/>
            <a:chOff x="2570040" y="5278320"/>
            <a:chExt cx="1263600" cy="1290240"/>
          </a:xfrm>
        </p:grpSpPr>
        <p:sp>
          <p:nvSpPr>
            <p:cNvPr id="194" name="Freeform 60"/>
            <p:cNvSpPr/>
            <p:nvPr/>
          </p:nvSpPr>
          <p:spPr>
            <a:xfrm flipV="1">
              <a:off x="2719440" y="5278320"/>
              <a:ext cx="739440" cy="682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V="1">
              <a:off x="2570040" y="5811120"/>
              <a:ext cx="1087560" cy="757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 flipV="1">
              <a:off x="3219480" y="5937840"/>
              <a:ext cx="614160" cy="443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2"/>
          <p:cNvGrpSpPr/>
          <p:nvPr/>
        </p:nvGrpSpPr>
        <p:grpSpPr>
          <a:xfrm>
            <a:off x="3054240" y="2687760"/>
            <a:ext cx="1277640" cy="1545840"/>
            <a:chOff x="3054240" y="2687760"/>
            <a:chExt cx="1277640" cy="1545840"/>
          </a:xfrm>
        </p:grpSpPr>
        <p:sp>
          <p:nvSpPr>
            <p:cNvPr id="198" name="Freeform 73"/>
            <p:cNvSpPr/>
            <p:nvPr/>
          </p:nvSpPr>
          <p:spPr>
            <a:xfrm flipV="1">
              <a:off x="3792960" y="2687760"/>
              <a:ext cx="207720" cy="221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4"/>
            <p:cNvSpPr/>
            <p:nvPr/>
          </p:nvSpPr>
          <p:spPr>
            <a:xfrm flipV="1">
              <a:off x="3664800" y="2881800"/>
              <a:ext cx="190080" cy="195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5"/>
            <p:cNvSpPr/>
            <p:nvPr/>
          </p:nvSpPr>
          <p:spPr>
            <a:xfrm flipV="1">
              <a:off x="3528360" y="3012840"/>
              <a:ext cx="154440" cy="190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6"/>
            <p:cNvSpPr/>
            <p:nvPr/>
          </p:nvSpPr>
          <p:spPr>
            <a:xfrm flipV="1">
              <a:off x="3250440" y="3120480"/>
              <a:ext cx="327600" cy="303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7"/>
            <p:cNvSpPr/>
            <p:nvPr/>
          </p:nvSpPr>
          <p:spPr>
            <a:xfrm flipV="1">
              <a:off x="3054240" y="3242880"/>
              <a:ext cx="1086120" cy="990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8"/>
            <p:cNvSpPr/>
            <p:nvPr/>
          </p:nvSpPr>
          <p:spPr>
            <a:xfrm flipV="1">
              <a:off x="3224880" y="3291120"/>
              <a:ext cx="555120" cy="218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9"/>
            <p:cNvSpPr/>
            <p:nvPr/>
          </p:nvSpPr>
          <p:spPr>
            <a:xfrm flipV="1">
              <a:off x="3858840" y="3828600"/>
              <a:ext cx="473040" cy="354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82"/>
          <p:cNvGrpSpPr/>
          <p:nvPr/>
        </p:nvGrpSpPr>
        <p:grpSpPr>
          <a:xfrm>
            <a:off x="5958000" y="2461680"/>
            <a:ext cx="1084320" cy="1690560"/>
            <a:chOff x="5958000" y="2461680"/>
            <a:chExt cx="1084320" cy="1690560"/>
          </a:xfrm>
        </p:grpSpPr>
        <p:sp>
          <p:nvSpPr>
            <p:cNvPr id="206" name="Freeform 83"/>
            <p:cNvSpPr/>
            <p:nvPr/>
          </p:nvSpPr>
          <p:spPr>
            <a:xfrm flipV="1">
              <a:off x="6478560" y="2461320"/>
              <a:ext cx="563760" cy="530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 flipV="1">
              <a:off x="6137280" y="2701800"/>
              <a:ext cx="355680" cy="34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 flipV="1">
              <a:off x="5958000" y="2797920"/>
              <a:ext cx="658800" cy="1353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88"/>
          <p:cNvGrpSpPr/>
          <p:nvPr/>
        </p:nvGrpSpPr>
        <p:grpSpPr>
          <a:xfrm>
            <a:off x="4726080" y="2630520"/>
            <a:ext cx="619200" cy="1387440"/>
            <a:chOff x="4726080" y="2630520"/>
            <a:chExt cx="619200" cy="1387440"/>
          </a:xfrm>
        </p:grpSpPr>
        <p:sp>
          <p:nvSpPr>
            <p:cNvPr id="210" name="Freeform 89"/>
            <p:cNvSpPr/>
            <p:nvPr/>
          </p:nvSpPr>
          <p:spPr>
            <a:xfrm flipV="1">
              <a:off x="4864320" y="2630520"/>
              <a:ext cx="345960" cy="32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0"/>
            <p:cNvSpPr/>
            <p:nvPr/>
          </p:nvSpPr>
          <p:spPr>
            <a:xfrm flipV="1">
              <a:off x="4726080" y="2971800"/>
              <a:ext cx="619200" cy="1046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8"/>
          <p:cNvGrpSpPr/>
          <p:nvPr/>
        </p:nvGrpSpPr>
        <p:grpSpPr>
          <a:xfrm>
            <a:off x="932040" y="369720"/>
            <a:ext cx="1139760" cy="1699920"/>
            <a:chOff x="932040" y="369720"/>
            <a:chExt cx="1139760" cy="1699920"/>
          </a:xfrm>
        </p:grpSpPr>
        <p:sp>
          <p:nvSpPr>
            <p:cNvPr id="213" name="Freeform 6"/>
            <p:cNvSpPr/>
            <p:nvPr/>
          </p:nvSpPr>
          <p:spPr>
            <a:xfrm flipV="1">
              <a:off x="1298520" y="369720"/>
              <a:ext cx="283680" cy="287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 flipV="1">
              <a:off x="932040" y="686880"/>
              <a:ext cx="1139760" cy="1382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1"/>
          <p:cNvGrpSpPr/>
          <p:nvPr/>
        </p:nvGrpSpPr>
        <p:grpSpPr>
          <a:xfrm>
            <a:off x="654120" y="2685600"/>
            <a:ext cx="1711080" cy="1944360"/>
            <a:chOff x="654120" y="2685600"/>
            <a:chExt cx="1711080" cy="1944360"/>
          </a:xfrm>
        </p:grpSpPr>
        <p:sp>
          <p:nvSpPr>
            <p:cNvPr id="216" name="Freeform 39"/>
            <p:cNvSpPr/>
            <p:nvPr/>
          </p:nvSpPr>
          <p:spPr>
            <a:xfrm flipV="1">
              <a:off x="1771200" y="2685240"/>
              <a:ext cx="408960" cy="416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0"/>
            <p:cNvSpPr/>
            <p:nvPr/>
          </p:nvSpPr>
          <p:spPr>
            <a:xfrm flipV="1">
              <a:off x="654120" y="2959560"/>
              <a:ext cx="1711080" cy="1670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9"/>
          <p:cNvGrpSpPr/>
          <p:nvPr/>
        </p:nvGrpSpPr>
        <p:grpSpPr>
          <a:xfrm>
            <a:off x="10537920" y="207720"/>
            <a:ext cx="984240" cy="2092680"/>
            <a:chOff x="10537920" y="207720"/>
            <a:chExt cx="984240" cy="2092680"/>
          </a:xfrm>
        </p:grpSpPr>
        <p:sp>
          <p:nvSpPr>
            <p:cNvPr id="219" name="Freeform 46"/>
            <p:cNvSpPr/>
            <p:nvPr/>
          </p:nvSpPr>
          <p:spPr>
            <a:xfrm flipV="1">
              <a:off x="10797480" y="207000"/>
              <a:ext cx="415800" cy="419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7"/>
            <p:cNvSpPr/>
            <p:nvPr/>
          </p:nvSpPr>
          <p:spPr>
            <a:xfrm flipV="1">
              <a:off x="10537920" y="697320"/>
              <a:ext cx="932760" cy="160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8"/>
            <p:cNvSpPr/>
            <p:nvPr/>
          </p:nvSpPr>
          <p:spPr>
            <a:xfrm flipV="1">
              <a:off x="11239200" y="700200"/>
              <a:ext cx="282960" cy="655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26"/>
          <p:cNvSpPr/>
          <p:nvPr/>
        </p:nvSpPr>
        <p:spPr>
          <a:xfrm flipV="1">
            <a:off x="5264280" y="4397400"/>
            <a:ext cx="17604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2895480" y="2685960"/>
            <a:ext cx="1064880" cy="1944720"/>
            <a:chOff x="2895480" y="2685960"/>
            <a:chExt cx="1064880" cy="1944720"/>
          </a:xfrm>
        </p:grpSpPr>
        <p:sp>
          <p:nvSpPr>
            <p:cNvPr id="224" name="Freeform 6"/>
            <p:cNvSpPr/>
            <p:nvPr/>
          </p:nvSpPr>
          <p:spPr>
            <a:xfrm flipV="1">
              <a:off x="2895480" y="2685960"/>
              <a:ext cx="459000" cy="455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 flipV="1">
              <a:off x="3241800" y="3034440"/>
              <a:ext cx="718560" cy="1596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 flipV="1">
              <a:off x="3256200" y="3094920"/>
              <a:ext cx="420480" cy="69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28"/>
          <p:cNvGrpSpPr/>
          <p:nvPr/>
        </p:nvGrpSpPr>
        <p:grpSpPr>
          <a:xfrm>
            <a:off x="2882880" y="271440"/>
            <a:ext cx="1797120" cy="1954080"/>
            <a:chOff x="2882880" y="271440"/>
            <a:chExt cx="1797120" cy="1954080"/>
          </a:xfrm>
        </p:grpSpPr>
        <p:sp>
          <p:nvSpPr>
            <p:cNvPr id="228" name="任意多边形 129"/>
            <p:cNvSpPr/>
            <p:nvPr/>
          </p:nvSpPr>
          <p:spPr>
            <a:xfrm flipV="1">
              <a:off x="2882880" y="644760"/>
              <a:ext cx="1797120" cy="1580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130"/>
            <p:cNvSpPr/>
            <p:nvPr/>
          </p:nvSpPr>
          <p:spPr>
            <a:xfrm>
              <a:off x="3364200" y="271440"/>
              <a:ext cx="495000" cy="49500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31"/>
          <p:cNvGrpSpPr/>
          <p:nvPr/>
        </p:nvGrpSpPr>
        <p:grpSpPr>
          <a:xfrm>
            <a:off x="7694640" y="469800"/>
            <a:ext cx="2573280" cy="1755360"/>
            <a:chOff x="7694640" y="469800"/>
            <a:chExt cx="2573280" cy="1755360"/>
          </a:xfrm>
        </p:grpSpPr>
        <p:sp>
          <p:nvSpPr>
            <p:cNvPr id="231" name="任意多边形 132"/>
            <p:cNvSpPr/>
            <p:nvPr/>
          </p:nvSpPr>
          <p:spPr>
            <a:xfrm flipV="1">
              <a:off x="8791560" y="469800"/>
              <a:ext cx="375840" cy="462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133"/>
            <p:cNvGrpSpPr/>
            <p:nvPr/>
          </p:nvGrpSpPr>
          <p:grpSpPr>
            <a:xfrm>
              <a:off x="7694640" y="507600"/>
              <a:ext cx="2573280" cy="1717560"/>
              <a:chOff x="7694640" y="507600"/>
              <a:chExt cx="2573280" cy="1717560"/>
            </a:xfrm>
          </p:grpSpPr>
          <p:sp>
            <p:nvSpPr>
              <p:cNvPr id="233" name="Freeform 103"/>
              <p:cNvSpPr/>
              <p:nvPr/>
            </p:nvSpPr>
            <p:spPr>
              <a:xfrm flipV="1">
                <a:off x="7694640" y="506880"/>
                <a:ext cx="2573280" cy="1717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组合 135"/>
              <p:cNvGrpSpPr/>
              <p:nvPr/>
            </p:nvGrpSpPr>
            <p:grpSpPr>
              <a:xfrm>
                <a:off x="7694640" y="515520"/>
                <a:ext cx="1516680" cy="627480"/>
                <a:chOff x="7694640" y="515520"/>
                <a:chExt cx="1516680" cy="627480"/>
              </a:xfrm>
            </p:grpSpPr>
            <p:sp>
              <p:nvSpPr>
                <p:cNvPr id="235" name="圆角矩形 136"/>
                <p:cNvSpPr/>
                <p:nvPr/>
              </p:nvSpPr>
              <p:spPr>
                <a:xfrm>
                  <a:off x="7755480" y="515520"/>
                  <a:ext cx="118440" cy="623880"/>
                </a:xfrm>
                <a:custGeom>
                  <a:avLst/>
                  <a:gdLst>
                    <a:gd name="textAreaLeft" fmla="*/ 17280 w 118440"/>
                    <a:gd name="textAreaRight" fmla="*/ 101160 w 118440"/>
                    <a:gd name="textAreaTop" fmla="*/ 17280 h 623880"/>
                    <a:gd name="textAreaBottom" fmla="*/ 606600 h 623880"/>
                  </a:gdLst>
                  <a:ahLst/>
                  <a:rect l="textAreaLeft" t="textAreaTop" r="textAreaRight" b="textAreaBottom"/>
                  <a:pathLst>
                    <a:path w="21600" h="113498">
                      <a:moveTo>
                        <a:pt x="10800" y="0"/>
                      </a:moveTo>
                      <a:arcTo wR="10800" hR="10800" stAng="16200000" swAng="-5400000"/>
                      <a:lnTo>
                        <a:pt x="0" y="102698"/>
                      </a:lnTo>
                      <a:arcTo wR="10800" hR="10800" stAng="10800000" swAng="-5400000"/>
                      <a:lnTo>
                        <a:pt x="10800" y="11349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矩形 137"/>
                <p:cNvSpPr/>
                <p:nvPr/>
              </p:nvSpPr>
              <p:spPr>
                <a:xfrm>
                  <a:off x="7694640" y="786600"/>
                  <a:ext cx="731160" cy="8784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任意多边形 138"/>
                <p:cNvSpPr/>
                <p:nvPr/>
              </p:nvSpPr>
              <p:spPr>
                <a:xfrm>
                  <a:off x="9008280" y="947520"/>
                  <a:ext cx="203040" cy="19548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15"/>
          <p:cNvGrpSpPr/>
          <p:nvPr/>
        </p:nvGrpSpPr>
        <p:grpSpPr>
          <a:xfrm>
            <a:off x="5208480" y="507960"/>
            <a:ext cx="1712880" cy="1765440"/>
            <a:chOff x="5208480" y="507960"/>
            <a:chExt cx="1712880" cy="1765440"/>
          </a:xfrm>
        </p:grpSpPr>
        <p:sp>
          <p:nvSpPr>
            <p:cNvPr id="239" name="Freeform 112"/>
            <p:cNvSpPr/>
            <p:nvPr/>
          </p:nvSpPr>
          <p:spPr>
            <a:xfrm flipV="1">
              <a:off x="5208480" y="507600"/>
              <a:ext cx="1712880" cy="1765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3"/>
            <p:cNvSpPr/>
            <p:nvPr/>
          </p:nvSpPr>
          <p:spPr>
            <a:xfrm flipV="1">
              <a:off x="6509160" y="676080"/>
              <a:ext cx="295200" cy="299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4"/>
            <p:cNvSpPr/>
            <p:nvPr/>
          </p:nvSpPr>
          <p:spPr>
            <a:xfrm flipV="1">
              <a:off x="6563520" y="1795320"/>
              <a:ext cx="357840" cy="257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7"/>
          <p:cNvGrpSpPr/>
          <p:nvPr/>
        </p:nvGrpSpPr>
        <p:grpSpPr>
          <a:xfrm>
            <a:off x="2149560" y="9767880"/>
            <a:ext cx="509400" cy="1488960"/>
            <a:chOff x="2149560" y="9767880"/>
            <a:chExt cx="509400" cy="1488960"/>
          </a:xfrm>
        </p:grpSpPr>
        <p:sp>
          <p:nvSpPr>
            <p:cNvPr id="243" name="Freeform 15"/>
            <p:cNvSpPr/>
            <p:nvPr/>
          </p:nvSpPr>
          <p:spPr>
            <a:xfrm flipV="1">
              <a:off x="2149560" y="9767880"/>
              <a:ext cx="509400" cy="1488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 flipV="1">
              <a:off x="2265480" y="9968040"/>
              <a:ext cx="281160" cy="275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46"/>
          <p:cNvGrpSpPr/>
          <p:nvPr/>
        </p:nvGrpSpPr>
        <p:grpSpPr>
          <a:xfrm>
            <a:off x="-1012680" y="9743760"/>
            <a:ext cx="1274760" cy="1447920"/>
            <a:chOff x="-1012680" y="9743760"/>
            <a:chExt cx="1274760" cy="1447920"/>
          </a:xfrm>
        </p:grpSpPr>
        <p:grpSp>
          <p:nvGrpSpPr>
            <p:cNvPr id="246" name="组合 147"/>
            <p:cNvGrpSpPr/>
            <p:nvPr/>
          </p:nvGrpSpPr>
          <p:grpSpPr>
            <a:xfrm>
              <a:off x="-1012680" y="9743760"/>
              <a:ext cx="1274760" cy="1447920"/>
              <a:chOff x="-1012680" y="9743760"/>
              <a:chExt cx="1274760" cy="1447920"/>
            </a:xfrm>
          </p:grpSpPr>
          <p:sp>
            <p:nvSpPr>
              <p:cNvPr id="247" name="Freeform 6"/>
              <p:cNvSpPr/>
              <p:nvPr/>
            </p:nvSpPr>
            <p:spPr>
              <a:xfrm flipV="1">
                <a:off x="57600" y="9743400"/>
                <a:ext cx="204480" cy="1441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8"/>
              <p:cNvSpPr/>
              <p:nvPr/>
            </p:nvSpPr>
            <p:spPr>
              <a:xfrm flipV="1">
                <a:off x="-1012680" y="10265040"/>
                <a:ext cx="743760" cy="926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"/>
              <p:cNvSpPr/>
              <p:nvPr/>
            </p:nvSpPr>
            <p:spPr>
              <a:xfrm flipV="1">
                <a:off x="-438480" y="10325520"/>
                <a:ext cx="540360" cy="138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Freeform 16"/>
            <p:cNvSpPr/>
            <p:nvPr/>
          </p:nvSpPr>
          <p:spPr>
            <a:xfrm flipV="1">
              <a:off x="-353880" y="9939960"/>
              <a:ext cx="372240" cy="364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2"/>
          <p:cNvGrpSpPr/>
          <p:nvPr/>
        </p:nvGrpSpPr>
        <p:grpSpPr>
          <a:xfrm>
            <a:off x="765000" y="4841640"/>
            <a:ext cx="1679760" cy="1769760"/>
            <a:chOff x="765000" y="4841640"/>
            <a:chExt cx="1679760" cy="1769760"/>
          </a:xfrm>
        </p:grpSpPr>
        <p:sp>
          <p:nvSpPr>
            <p:cNvPr id="252" name="Freeform 30"/>
            <p:cNvSpPr/>
            <p:nvPr/>
          </p:nvSpPr>
          <p:spPr>
            <a:xfrm flipV="1">
              <a:off x="1547280" y="4841280"/>
              <a:ext cx="336240" cy="345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1"/>
            <p:cNvSpPr/>
            <p:nvPr/>
          </p:nvSpPr>
          <p:spPr>
            <a:xfrm flipV="1">
              <a:off x="765000" y="5037480"/>
              <a:ext cx="1679760" cy="1573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9"/>
          <p:cNvGrpSpPr/>
          <p:nvPr/>
        </p:nvGrpSpPr>
        <p:grpSpPr>
          <a:xfrm>
            <a:off x="9648720" y="2967120"/>
            <a:ext cx="1428840" cy="1685160"/>
            <a:chOff x="9648720" y="2967120"/>
            <a:chExt cx="1428840" cy="1685160"/>
          </a:xfrm>
        </p:grpSpPr>
        <p:sp>
          <p:nvSpPr>
            <p:cNvPr id="255" name="Freeform 37"/>
            <p:cNvSpPr/>
            <p:nvPr/>
          </p:nvSpPr>
          <p:spPr>
            <a:xfrm flipV="1">
              <a:off x="10068120" y="2967120"/>
              <a:ext cx="344160" cy="34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8"/>
            <p:cNvSpPr/>
            <p:nvPr/>
          </p:nvSpPr>
          <p:spPr>
            <a:xfrm flipV="1">
              <a:off x="9648720" y="3147480"/>
              <a:ext cx="1428840" cy="1504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49"/>
          <p:cNvGrpSpPr/>
          <p:nvPr/>
        </p:nvGrpSpPr>
        <p:grpSpPr>
          <a:xfrm>
            <a:off x="5218200" y="2927160"/>
            <a:ext cx="1008000" cy="1725480"/>
            <a:chOff x="5218200" y="2927160"/>
            <a:chExt cx="1008000" cy="1725480"/>
          </a:xfrm>
        </p:grpSpPr>
        <p:sp>
          <p:nvSpPr>
            <p:cNvPr id="258" name="Freeform 46"/>
            <p:cNvSpPr/>
            <p:nvPr/>
          </p:nvSpPr>
          <p:spPr>
            <a:xfrm flipV="1">
              <a:off x="5218200" y="2926800"/>
              <a:ext cx="1008000" cy="172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 flipV="1">
              <a:off x="5552640" y="3007800"/>
              <a:ext cx="298800" cy="297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58"/>
          <p:cNvGrpSpPr/>
          <p:nvPr/>
        </p:nvGrpSpPr>
        <p:grpSpPr>
          <a:xfrm>
            <a:off x="6750000" y="2894040"/>
            <a:ext cx="2102040" cy="1165320"/>
            <a:chOff x="6750000" y="2894040"/>
            <a:chExt cx="2102040" cy="1165320"/>
          </a:xfrm>
        </p:grpSpPr>
        <p:sp>
          <p:nvSpPr>
            <p:cNvPr id="261" name="Freeform 56"/>
            <p:cNvSpPr/>
            <p:nvPr/>
          </p:nvSpPr>
          <p:spPr>
            <a:xfrm flipV="1">
              <a:off x="7613640" y="2894040"/>
              <a:ext cx="369360" cy="352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7"/>
            <p:cNvSpPr/>
            <p:nvPr/>
          </p:nvSpPr>
          <p:spPr>
            <a:xfrm flipV="1">
              <a:off x="6750000" y="3020400"/>
              <a:ext cx="2102040" cy="1038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64"/>
          <p:cNvGrpSpPr/>
          <p:nvPr/>
        </p:nvGrpSpPr>
        <p:grpSpPr>
          <a:xfrm>
            <a:off x="-538200" y="7741800"/>
            <a:ext cx="1170000" cy="1587960"/>
            <a:chOff x="-538200" y="7741800"/>
            <a:chExt cx="1170000" cy="1587960"/>
          </a:xfrm>
        </p:grpSpPr>
        <p:sp>
          <p:nvSpPr>
            <p:cNvPr id="264" name="Freeform 10"/>
            <p:cNvSpPr/>
            <p:nvPr/>
          </p:nvSpPr>
          <p:spPr>
            <a:xfrm flipV="1">
              <a:off x="-106200" y="7741440"/>
              <a:ext cx="344160" cy="343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 flipV="1">
              <a:off x="-537840" y="7908480"/>
              <a:ext cx="1170000" cy="1421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KSO_Shape"/>
          <p:cNvSpPr/>
          <p:nvPr/>
        </p:nvSpPr>
        <p:spPr>
          <a:xfrm>
            <a:off x="3292560" y="4778280"/>
            <a:ext cx="103176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68"/>
          <p:cNvGrpSpPr/>
          <p:nvPr/>
        </p:nvGrpSpPr>
        <p:grpSpPr>
          <a:xfrm>
            <a:off x="7562880" y="4883040"/>
            <a:ext cx="1128600" cy="1697040"/>
            <a:chOff x="7562880" y="4883040"/>
            <a:chExt cx="1128600" cy="1697040"/>
          </a:xfrm>
        </p:grpSpPr>
        <p:sp>
          <p:nvSpPr>
            <p:cNvPr id="268" name="Freeform 13"/>
            <p:cNvSpPr/>
            <p:nvPr/>
          </p:nvSpPr>
          <p:spPr>
            <a:xfrm flipV="1">
              <a:off x="7562880" y="4883040"/>
              <a:ext cx="1128600" cy="1697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"/>
            <p:cNvSpPr/>
            <p:nvPr/>
          </p:nvSpPr>
          <p:spPr>
            <a:xfrm flipV="1">
              <a:off x="8485560" y="5047200"/>
              <a:ext cx="118080" cy="118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矩形 171"/>
            <p:cNvSpPr/>
            <p:nvPr/>
          </p:nvSpPr>
          <p:spPr>
            <a:xfrm>
              <a:off x="8475480" y="5032440"/>
              <a:ext cx="128160" cy="133920"/>
            </a:xfrm>
            <a:custGeom>
              <a:avLst/>
              <a:gdLst>
                <a:gd name="textAreaLeft" fmla="*/ 6120 w 128160"/>
                <a:gd name="textAreaRight" fmla="*/ 122040 w 128160"/>
                <a:gd name="textAreaTop" fmla="*/ 6120 h 133920"/>
                <a:gd name="textAreaBottom" fmla="*/ 127800 h 133920"/>
              </a:gdLst>
              <a:ahLst/>
              <a:rect l="textAreaLeft" t="textAreaTop" r="textAreaRight" b="textAreaBottom"/>
              <a:pathLst>
                <a:path w="21600" h="22568">
                  <a:moveTo>
                    <a:pt x="3600" y="0"/>
                  </a:moveTo>
                  <a:arcTo wR="3600" hR="3600" stAng="16200000" swAng="-5400000"/>
                  <a:lnTo>
                    <a:pt x="0" y="18968"/>
                  </a:lnTo>
                  <a:arcTo wR="3600" hR="3600" stAng="10800000" swAng="-5400000"/>
                  <a:lnTo>
                    <a:pt x="18000" y="2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圆角矩形 172"/>
            <p:cNvSpPr/>
            <p:nvPr/>
          </p:nvSpPr>
          <p:spPr>
            <a:xfrm>
              <a:off x="8013960" y="6081120"/>
              <a:ext cx="303120" cy="10548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173"/>
            <p:cNvSpPr/>
            <p:nvPr/>
          </p:nvSpPr>
          <p:spPr>
            <a:xfrm>
              <a:off x="7974000" y="6267600"/>
              <a:ext cx="291960" cy="29196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74"/>
          <p:cNvGrpSpPr/>
          <p:nvPr/>
        </p:nvGrpSpPr>
        <p:grpSpPr>
          <a:xfrm>
            <a:off x="4962600" y="4687560"/>
            <a:ext cx="1660320" cy="2004840"/>
            <a:chOff x="4962600" y="4687560"/>
            <a:chExt cx="1660320" cy="2004840"/>
          </a:xfrm>
        </p:grpSpPr>
        <p:sp>
          <p:nvSpPr>
            <p:cNvPr id="274" name="Freeform 104"/>
            <p:cNvSpPr/>
            <p:nvPr/>
          </p:nvSpPr>
          <p:spPr>
            <a:xfrm flipV="1">
              <a:off x="4962600" y="4687200"/>
              <a:ext cx="1660320" cy="2004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5"/>
            <p:cNvSpPr/>
            <p:nvPr/>
          </p:nvSpPr>
          <p:spPr>
            <a:xfrm flipV="1">
              <a:off x="5471640" y="4992480"/>
              <a:ext cx="358560" cy="351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9516960" y="5044680"/>
            <a:ext cx="1798920" cy="1535040"/>
            <a:chOff x="9516960" y="5044680"/>
            <a:chExt cx="1798920" cy="1535040"/>
          </a:xfrm>
        </p:grpSpPr>
        <p:sp>
          <p:nvSpPr>
            <p:cNvPr id="277" name="Freeform 6"/>
            <p:cNvSpPr/>
            <p:nvPr/>
          </p:nvSpPr>
          <p:spPr>
            <a:xfrm flipV="1">
              <a:off x="10337760" y="5044320"/>
              <a:ext cx="292680" cy="289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 flipV="1">
              <a:off x="9853200" y="5201640"/>
              <a:ext cx="1462680" cy="1378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"/>
            <p:cNvSpPr/>
            <p:nvPr/>
          </p:nvSpPr>
          <p:spPr>
            <a:xfrm flipV="1">
              <a:off x="9559440" y="5437440"/>
              <a:ext cx="276480" cy="153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"/>
            <p:cNvSpPr/>
            <p:nvPr/>
          </p:nvSpPr>
          <p:spPr>
            <a:xfrm flipV="1">
              <a:off x="9516960" y="5596560"/>
              <a:ext cx="264600" cy="257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KSO_Shape"/>
          <p:cNvSpPr/>
          <p:nvPr/>
        </p:nvSpPr>
        <p:spPr>
          <a:xfrm>
            <a:off x="1154160" y="249120"/>
            <a:ext cx="582480" cy="1163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KSO_Shape"/>
          <p:cNvSpPr/>
          <p:nvPr/>
        </p:nvSpPr>
        <p:spPr>
          <a:xfrm>
            <a:off x="5251320" y="547560"/>
            <a:ext cx="1905120" cy="1032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KSO_Shape"/>
          <p:cNvSpPr/>
          <p:nvPr/>
        </p:nvSpPr>
        <p:spPr>
          <a:xfrm>
            <a:off x="2266920" y="314280"/>
            <a:ext cx="628560" cy="12654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KSO_Shape"/>
          <p:cNvSpPr/>
          <p:nvPr/>
        </p:nvSpPr>
        <p:spPr>
          <a:xfrm>
            <a:off x="7778880" y="917640"/>
            <a:ext cx="1079280" cy="6951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5"/>
          <p:cNvGrpSpPr/>
          <p:nvPr/>
        </p:nvGrpSpPr>
        <p:grpSpPr>
          <a:xfrm>
            <a:off x="9655200" y="770040"/>
            <a:ext cx="1062000" cy="949320"/>
            <a:chOff x="9655200" y="770040"/>
            <a:chExt cx="1062000" cy="949320"/>
          </a:xfrm>
        </p:grpSpPr>
        <p:sp>
          <p:nvSpPr>
            <p:cNvPr id="286" name="Freeform 32"/>
            <p:cNvSpPr/>
            <p:nvPr/>
          </p:nvSpPr>
          <p:spPr>
            <a:xfrm flipV="1">
              <a:off x="10402920" y="770040"/>
              <a:ext cx="294120" cy="29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7"/>
            <p:cNvSpPr/>
            <p:nvPr/>
          </p:nvSpPr>
          <p:spPr>
            <a:xfrm flipV="1">
              <a:off x="9655200" y="1074960"/>
              <a:ext cx="1062000" cy="644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5"/>
          <p:cNvGrpSpPr/>
          <p:nvPr/>
        </p:nvGrpSpPr>
        <p:grpSpPr>
          <a:xfrm>
            <a:off x="458640" y="5041800"/>
            <a:ext cx="2416320" cy="1384560"/>
            <a:chOff x="458640" y="5041800"/>
            <a:chExt cx="2416320" cy="1384560"/>
          </a:xfrm>
        </p:grpSpPr>
        <p:sp>
          <p:nvSpPr>
            <p:cNvPr id="289" name="Freeform 22"/>
            <p:cNvSpPr/>
            <p:nvPr/>
          </p:nvSpPr>
          <p:spPr>
            <a:xfrm flipV="1">
              <a:off x="458640" y="5041800"/>
              <a:ext cx="1912320" cy="1384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 flipV="1">
              <a:off x="1929600" y="5314320"/>
              <a:ext cx="618480" cy="1099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"/>
            <p:cNvSpPr/>
            <p:nvPr/>
          </p:nvSpPr>
          <p:spPr>
            <a:xfrm flipV="1">
              <a:off x="2253600" y="5356440"/>
              <a:ext cx="621360" cy="647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67"/>
          <p:cNvGrpSpPr/>
          <p:nvPr/>
        </p:nvGrpSpPr>
        <p:grpSpPr>
          <a:xfrm>
            <a:off x="3760920" y="5241600"/>
            <a:ext cx="2392200" cy="1366920"/>
            <a:chOff x="3760920" y="5241600"/>
            <a:chExt cx="2392200" cy="1366920"/>
          </a:xfrm>
        </p:grpSpPr>
        <p:sp>
          <p:nvSpPr>
            <p:cNvPr id="293" name="Freeform 5"/>
            <p:cNvSpPr/>
            <p:nvPr/>
          </p:nvSpPr>
          <p:spPr>
            <a:xfrm flipV="1">
              <a:off x="3760920" y="5241240"/>
              <a:ext cx="1839600" cy="1366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 flipV="1">
              <a:off x="5614560" y="5798880"/>
              <a:ext cx="538560" cy="526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85"/>
          <p:cNvGrpSpPr/>
          <p:nvPr/>
        </p:nvGrpSpPr>
        <p:grpSpPr>
          <a:xfrm>
            <a:off x="6813720" y="4524120"/>
            <a:ext cx="2286000" cy="2084760"/>
            <a:chOff x="6813720" y="4524120"/>
            <a:chExt cx="2286000" cy="2084760"/>
          </a:xfrm>
        </p:grpSpPr>
        <p:sp>
          <p:nvSpPr>
            <p:cNvPr id="296" name="Freeform 6"/>
            <p:cNvSpPr/>
            <p:nvPr/>
          </p:nvSpPr>
          <p:spPr>
            <a:xfrm flipV="1">
              <a:off x="8349120" y="4523760"/>
              <a:ext cx="547560" cy="526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 flipV="1">
              <a:off x="7742160" y="5027760"/>
              <a:ext cx="1275480" cy="1081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 flipV="1">
              <a:off x="7968240" y="5244480"/>
              <a:ext cx="542880" cy="21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 flipV="1">
              <a:off x="8588880" y="5308920"/>
              <a:ext cx="510840" cy="150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 flipV="1">
              <a:off x="6813720" y="6152760"/>
              <a:ext cx="976320" cy="394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 flipV="1">
              <a:off x="7110000" y="6243480"/>
              <a:ext cx="191520" cy="77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 flipV="1">
              <a:off x="6945840" y="6485760"/>
              <a:ext cx="527040" cy="12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94"/>
          <p:cNvGrpSpPr/>
          <p:nvPr/>
        </p:nvGrpSpPr>
        <p:grpSpPr>
          <a:xfrm>
            <a:off x="717480" y="2571840"/>
            <a:ext cx="2212920" cy="2216160"/>
            <a:chOff x="717480" y="2571840"/>
            <a:chExt cx="2212920" cy="2216160"/>
          </a:xfrm>
        </p:grpSpPr>
        <p:sp>
          <p:nvSpPr>
            <p:cNvPr id="304" name="Freeform 20"/>
            <p:cNvSpPr/>
            <p:nvPr/>
          </p:nvSpPr>
          <p:spPr>
            <a:xfrm flipV="1">
              <a:off x="1513440" y="2571840"/>
              <a:ext cx="567000" cy="61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 flipV="1">
              <a:off x="717480" y="2835000"/>
              <a:ext cx="2212920" cy="1670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 flipV="1">
              <a:off x="1564920" y="3201120"/>
              <a:ext cx="457200" cy="273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 flipV="1">
              <a:off x="1737720" y="4291920"/>
              <a:ext cx="664200" cy="496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 flipV="1">
              <a:off x="1250280" y="4343040"/>
              <a:ext cx="545760" cy="407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04"/>
          <p:cNvGrpSpPr/>
          <p:nvPr/>
        </p:nvGrpSpPr>
        <p:grpSpPr>
          <a:xfrm>
            <a:off x="3598920" y="3746520"/>
            <a:ext cx="1444680" cy="1152000"/>
            <a:chOff x="3598920" y="3746520"/>
            <a:chExt cx="1444680" cy="1152000"/>
          </a:xfrm>
        </p:grpSpPr>
        <p:sp>
          <p:nvSpPr>
            <p:cNvPr id="310" name="Freeform 30"/>
            <p:cNvSpPr/>
            <p:nvPr/>
          </p:nvSpPr>
          <p:spPr>
            <a:xfrm flipV="1">
              <a:off x="3691800" y="3971520"/>
              <a:ext cx="1020240" cy="887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 flipV="1">
              <a:off x="3623400" y="4045320"/>
              <a:ext cx="1234080" cy="852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2"/>
            <p:cNvSpPr/>
            <p:nvPr/>
          </p:nvSpPr>
          <p:spPr>
            <a:xfrm flipV="1">
              <a:off x="3598920" y="4570920"/>
              <a:ext cx="286560" cy="215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椭圆 103"/>
            <p:cNvSpPr/>
            <p:nvPr/>
          </p:nvSpPr>
          <p:spPr>
            <a:xfrm>
              <a:off x="4671720" y="3746520"/>
              <a:ext cx="371880" cy="37188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65"/>
          <p:cNvGrpSpPr/>
          <p:nvPr/>
        </p:nvGrpSpPr>
        <p:grpSpPr>
          <a:xfrm>
            <a:off x="9902880" y="3974760"/>
            <a:ext cx="1253520" cy="2633400"/>
            <a:chOff x="9902880" y="3974760"/>
            <a:chExt cx="1253520" cy="2633400"/>
          </a:xfrm>
        </p:grpSpPr>
        <p:sp>
          <p:nvSpPr>
            <p:cNvPr id="315" name="Freeform 66"/>
            <p:cNvSpPr/>
            <p:nvPr/>
          </p:nvSpPr>
          <p:spPr>
            <a:xfrm flipV="1">
              <a:off x="9902880" y="3974400"/>
              <a:ext cx="325080" cy="299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7"/>
            <p:cNvSpPr/>
            <p:nvPr/>
          </p:nvSpPr>
          <p:spPr>
            <a:xfrm flipV="1">
              <a:off x="9953280" y="4181760"/>
              <a:ext cx="1159920" cy="2426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8"/>
            <p:cNvSpPr/>
            <p:nvPr/>
          </p:nvSpPr>
          <p:spPr>
            <a:xfrm flipV="1">
              <a:off x="10482840" y="4308840"/>
              <a:ext cx="489600" cy="461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9"/>
            <p:cNvSpPr/>
            <p:nvPr/>
          </p:nvSpPr>
          <p:spPr>
            <a:xfrm flipV="1">
              <a:off x="10960920" y="5432400"/>
              <a:ext cx="195480" cy="181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29"/>
          <p:cNvGrpSpPr/>
          <p:nvPr/>
        </p:nvGrpSpPr>
        <p:grpSpPr>
          <a:xfrm>
            <a:off x="7545240" y="2418840"/>
            <a:ext cx="1212840" cy="1513080"/>
            <a:chOff x="7545240" y="2418840"/>
            <a:chExt cx="1212840" cy="1513080"/>
          </a:xfrm>
        </p:grpSpPr>
        <p:sp>
          <p:nvSpPr>
            <p:cNvPr id="320" name="Freeform 36"/>
            <p:cNvSpPr/>
            <p:nvPr/>
          </p:nvSpPr>
          <p:spPr>
            <a:xfrm flipV="1">
              <a:off x="7545240" y="2418480"/>
              <a:ext cx="1209960" cy="1513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7"/>
            <p:cNvSpPr/>
            <p:nvPr/>
          </p:nvSpPr>
          <p:spPr>
            <a:xfrm flipV="1">
              <a:off x="8385120" y="2703240"/>
              <a:ext cx="372960" cy="34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33"/>
          <p:cNvGrpSpPr/>
          <p:nvPr/>
        </p:nvGrpSpPr>
        <p:grpSpPr>
          <a:xfrm>
            <a:off x="9845640" y="2112480"/>
            <a:ext cx="1212480" cy="1530720"/>
            <a:chOff x="9845640" y="2112480"/>
            <a:chExt cx="1212480" cy="1530720"/>
          </a:xfrm>
        </p:grpSpPr>
        <p:sp>
          <p:nvSpPr>
            <p:cNvPr id="323" name="Freeform 35"/>
            <p:cNvSpPr/>
            <p:nvPr/>
          </p:nvSpPr>
          <p:spPr>
            <a:xfrm flipV="1">
              <a:off x="10098000" y="2112120"/>
              <a:ext cx="842040" cy="66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6"/>
            <p:cNvSpPr/>
            <p:nvPr/>
          </p:nvSpPr>
          <p:spPr>
            <a:xfrm flipV="1">
              <a:off x="10355760" y="2722320"/>
              <a:ext cx="120600" cy="136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 flipV="1">
              <a:off x="10241280" y="2842920"/>
              <a:ext cx="95400" cy="90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 flipV="1">
              <a:off x="9845640" y="2864520"/>
              <a:ext cx="464040" cy="770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9"/>
            <p:cNvSpPr/>
            <p:nvPr/>
          </p:nvSpPr>
          <p:spPr>
            <a:xfrm flipV="1">
              <a:off x="10134720" y="2886840"/>
              <a:ext cx="75960" cy="5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0"/>
            <p:cNvSpPr/>
            <p:nvPr/>
          </p:nvSpPr>
          <p:spPr>
            <a:xfrm flipV="1">
              <a:off x="9990000" y="2992320"/>
              <a:ext cx="212760" cy="239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1"/>
            <p:cNvSpPr/>
            <p:nvPr/>
          </p:nvSpPr>
          <p:spPr>
            <a:xfrm flipV="1">
              <a:off x="10309680" y="3062160"/>
              <a:ext cx="748440" cy="581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2"/>
            <p:cNvSpPr/>
            <p:nvPr/>
          </p:nvSpPr>
          <p:spPr>
            <a:xfrm flipV="1">
              <a:off x="10184040" y="3114000"/>
              <a:ext cx="127080" cy="168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3"/>
            <p:cNvSpPr/>
            <p:nvPr/>
          </p:nvSpPr>
          <p:spPr>
            <a:xfrm flipV="1">
              <a:off x="10239840" y="3112920"/>
              <a:ext cx="293400" cy="147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4"/>
            <p:cNvSpPr/>
            <p:nvPr/>
          </p:nvSpPr>
          <p:spPr>
            <a:xfrm flipV="1">
              <a:off x="9983880" y="3210840"/>
              <a:ext cx="228600" cy="83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3"/>
          <p:cNvGrpSpPr/>
          <p:nvPr/>
        </p:nvGrpSpPr>
        <p:grpSpPr>
          <a:xfrm>
            <a:off x="3693960" y="398520"/>
            <a:ext cx="1497960" cy="2374560"/>
            <a:chOff x="3693960" y="398520"/>
            <a:chExt cx="1497960" cy="2374560"/>
          </a:xfrm>
        </p:grpSpPr>
        <p:sp>
          <p:nvSpPr>
            <p:cNvPr id="334" name="Freeform 5"/>
            <p:cNvSpPr/>
            <p:nvPr/>
          </p:nvSpPr>
          <p:spPr>
            <a:xfrm flipV="1">
              <a:off x="3693960" y="398520"/>
              <a:ext cx="2160" cy="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"/>
            <p:cNvSpPr/>
            <p:nvPr/>
          </p:nvSpPr>
          <p:spPr>
            <a:xfrm flipV="1">
              <a:off x="3742560" y="443160"/>
              <a:ext cx="1086480" cy="72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"/>
            <p:cNvSpPr/>
            <p:nvPr/>
          </p:nvSpPr>
          <p:spPr>
            <a:xfrm flipV="1">
              <a:off x="4471560" y="1032480"/>
              <a:ext cx="165600" cy="147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flipV="1">
              <a:off x="4736880" y="1125000"/>
              <a:ext cx="411480" cy="309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9"/>
            <p:cNvSpPr/>
            <p:nvPr/>
          </p:nvSpPr>
          <p:spPr>
            <a:xfrm flipV="1">
              <a:off x="4571280" y="1176480"/>
              <a:ext cx="158040" cy="107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 flipV="1">
              <a:off x="4627440" y="1337400"/>
              <a:ext cx="564480" cy="1435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"/>
          <p:cNvGrpSpPr/>
          <p:nvPr/>
        </p:nvGrpSpPr>
        <p:grpSpPr>
          <a:xfrm>
            <a:off x="3317760" y="1771200"/>
            <a:ext cx="1282680" cy="2040120"/>
            <a:chOff x="3317760" y="1771200"/>
            <a:chExt cx="1282680" cy="2040120"/>
          </a:xfrm>
        </p:grpSpPr>
        <p:sp>
          <p:nvSpPr>
            <p:cNvPr id="341" name="Freeform 5"/>
            <p:cNvSpPr/>
            <p:nvPr/>
          </p:nvSpPr>
          <p:spPr>
            <a:xfrm flipV="1">
              <a:off x="3520800" y="1770840"/>
              <a:ext cx="457200" cy="453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 flipV="1">
              <a:off x="3317760" y="2238120"/>
              <a:ext cx="1282680" cy="1573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24"/>
          <p:cNvGrpSpPr/>
          <p:nvPr/>
        </p:nvGrpSpPr>
        <p:grpSpPr>
          <a:xfrm>
            <a:off x="5540400" y="2567160"/>
            <a:ext cx="1501560" cy="1625040"/>
            <a:chOff x="5540400" y="2567160"/>
            <a:chExt cx="1501560" cy="1625040"/>
          </a:xfrm>
        </p:grpSpPr>
        <p:sp>
          <p:nvSpPr>
            <p:cNvPr id="344" name="Freeform 10"/>
            <p:cNvSpPr/>
            <p:nvPr/>
          </p:nvSpPr>
          <p:spPr>
            <a:xfrm flipV="1">
              <a:off x="5540400" y="2567160"/>
              <a:ext cx="720" cy="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 flipV="1">
              <a:off x="6101280" y="2653920"/>
              <a:ext cx="371520" cy="393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 flipV="1">
              <a:off x="6226560" y="2757600"/>
              <a:ext cx="118800" cy="210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 flipV="1">
              <a:off x="6494040" y="2818080"/>
              <a:ext cx="489600" cy="491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 flipV="1">
              <a:off x="6608520" y="2955240"/>
              <a:ext cx="201960" cy="273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 flipV="1">
              <a:off x="6061680" y="3067560"/>
              <a:ext cx="397080" cy="40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 flipV="1">
              <a:off x="6188760" y="3194640"/>
              <a:ext cx="137880" cy="191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 flipV="1">
              <a:off x="6017040" y="3365280"/>
              <a:ext cx="1024920" cy="578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 flipV="1">
              <a:off x="6710400" y="3333600"/>
              <a:ext cx="232560" cy="253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 flipV="1">
              <a:off x="6041880" y="3670560"/>
              <a:ext cx="452160" cy="74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 flipV="1">
              <a:off x="6796800" y="3787920"/>
              <a:ext cx="4680" cy="12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 flipV="1">
              <a:off x="6778080" y="3801240"/>
              <a:ext cx="18360" cy="2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 flipV="1">
              <a:off x="6311520" y="3821400"/>
              <a:ext cx="466560" cy="370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"/>
            <p:cNvSpPr/>
            <p:nvPr/>
          </p:nvSpPr>
          <p:spPr>
            <a:xfrm flipV="1">
              <a:off x="5928480" y="3860640"/>
              <a:ext cx="285120" cy="268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5"/>
          <p:cNvGrpSpPr/>
          <p:nvPr/>
        </p:nvGrpSpPr>
        <p:grpSpPr>
          <a:xfrm>
            <a:off x="5438880" y="770040"/>
            <a:ext cx="1409760" cy="1649160"/>
            <a:chOff x="5438880" y="770040"/>
            <a:chExt cx="1409760" cy="1649160"/>
          </a:xfrm>
        </p:grpSpPr>
        <p:sp>
          <p:nvSpPr>
            <p:cNvPr id="359" name="Freeform 15"/>
            <p:cNvSpPr/>
            <p:nvPr/>
          </p:nvSpPr>
          <p:spPr>
            <a:xfrm flipV="1">
              <a:off x="6328440" y="770040"/>
              <a:ext cx="348480" cy="347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"/>
            <p:cNvSpPr/>
            <p:nvPr/>
          </p:nvSpPr>
          <p:spPr>
            <a:xfrm flipV="1">
              <a:off x="6121800" y="1114560"/>
              <a:ext cx="595440" cy="262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"/>
            <p:cNvSpPr/>
            <p:nvPr/>
          </p:nvSpPr>
          <p:spPr>
            <a:xfrm flipV="1">
              <a:off x="5936040" y="1095120"/>
              <a:ext cx="912600" cy="1324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"/>
            <p:cNvSpPr/>
            <p:nvPr/>
          </p:nvSpPr>
          <p:spPr>
            <a:xfrm flipV="1">
              <a:off x="5619240" y="1413720"/>
              <a:ext cx="395640" cy="419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9"/>
            <p:cNvSpPr/>
            <p:nvPr/>
          </p:nvSpPr>
          <p:spPr>
            <a:xfrm flipV="1">
              <a:off x="5438880" y="1712520"/>
              <a:ext cx="712800" cy="689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2"/>
          <p:cNvGrpSpPr/>
          <p:nvPr/>
        </p:nvGrpSpPr>
        <p:grpSpPr>
          <a:xfrm>
            <a:off x="2797200" y="1025640"/>
            <a:ext cx="2120760" cy="1415520"/>
            <a:chOff x="2797200" y="1025640"/>
            <a:chExt cx="2120760" cy="1415520"/>
          </a:xfrm>
        </p:grpSpPr>
        <p:sp>
          <p:nvSpPr>
            <p:cNvPr id="365" name="Freeform 27"/>
            <p:cNvSpPr/>
            <p:nvPr/>
          </p:nvSpPr>
          <p:spPr>
            <a:xfrm flipV="1">
              <a:off x="3092400" y="1025640"/>
              <a:ext cx="330120" cy="331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8"/>
            <p:cNvSpPr/>
            <p:nvPr/>
          </p:nvSpPr>
          <p:spPr>
            <a:xfrm flipV="1">
              <a:off x="2797200" y="1233360"/>
              <a:ext cx="1382760" cy="1207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9"/>
            <p:cNvSpPr/>
            <p:nvPr/>
          </p:nvSpPr>
          <p:spPr>
            <a:xfrm flipV="1">
              <a:off x="3995640" y="1383120"/>
              <a:ext cx="451080" cy="270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"/>
            <p:cNvSpPr/>
            <p:nvPr/>
          </p:nvSpPr>
          <p:spPr>
            <a:xfrm flipV="1">
              <a:off x="4524480" y="1564200"/>
              <a:ext cx="393480" cy="501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1"/>
            <p:cNvSpPr/>
            <p:nvPr/>
          </p:nvSpPr>
          <p:spPr>
            <a:xfrm flipV="1">
              <a:off x="4056120" y="1671480"/>
              <a:ext cx="617400" cy="727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7"/>
          <p:cNvGrpSpPr/>
          <p:nvPr/>
        </p:nvGrpSpPr>
        <p:grpSpPr>
          <a:xfrm>
            <a:off x="1025640" y="806400"/>
            <a:ext cx="993600" cy="1796760"/>
            <a:chOff x="1025640" y="806400"/>
            <a:chExt cx="993600" cy="1796760"/>
          </a:xfrm>
        </p:grpSpPr>
        <p:sp>
          <p:nvSpPr>
            <p:cNvPr id="371" name="Freeform 36"/>
            <p:cNvSpPr/>
            <p:nvPr/>
          </p:nvSpPr>
          <p:spPr>
            <a:xfrm flipV="1">
              <a:off x="1666800" y="806400"/>
              <a:ext cx="106920" cy="277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7"/>
            <p:cNvSpPr/>
            <p:nvPr/>
          </p:nvSpPr>
          <p:spPr>
            <a:xfrm flipV="1">
              <a:off x="1297800" y="826560"/>
              <a:ext cx="85680" cy="293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8"/>
            <p:cNvSpPr/>
            <p:nvPr/>
          </p:nvSpPr>
          <p:spPr>
            <a:xfrm flipV="1">
              <a:off x="1675440" y="845640"/>
              <a:ext cx="204480" cy="247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9"/>
            <p:cNvSpPr/>
            <p:nvPr/>
          </p:nvSpPr>
          <p:spPr>
            <a:xfrm flipV="1">
              <a:off x="1155600" y="894240"/>
              <a:ext cx="213120" cy="238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0"/>
            <p:cNvSpPr/>
            <p:nvPr/>
          </p:nvSpPr>
          <p:spPr>
            <a:xfrm flipV="1">
              <a:off x="1689840" y="972720"/>
              <a:ext cx="282600" cy="132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1"/>
            <p:cNvSpPr/>
            <p:nvPr/>
          </p:nvSpPr>
          <p:spPr>
            <a:xfrm flipV="1">
              <a:off x="1097280" y="988200"/>
              <a:ext cx="259920" cy="150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2"/>
            <p:cNvSpPr/>
            <p:nvPr/>
          </p:nvSpPr>
          <p:spPr>
            <a:xfrm flipV="1">
              <a:off x="1025640" y="1113480"/>
              <a:ext cx="993600" cy="1489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84"/>
          <p:cNvGrpSpPr/>
          <p:nvPr/>
        </p:nvGrpSpPr>
        <p:grpSpPr>
          <a:xfrm>
            <a:off x="10531440" y="4594320"/>
            <a:ext cx="1515960" cy="1806120"/>
            <a:chOff x="10531440" y="4594320"/>
            <a:chExt cx="1515960" cy="1806120"/>
          </a:xfrm>
        </p:grpSpPr>
        <p:sp>
          <p:nvSpPr>
            <p:cNvPr id="379" name="Freeform 8"/>
            <p:cNvSpPr/>
            <p:nvPr/>
          </p:nvSpPr>
          <p:spPr>
            <a:xfrm flipV="1">
              <a:off x="10724040" y="4594320"/>
              <a:ext cx="397800" cy="379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 flipV="1">
              <a:off x="11593440" y="4806360"/>
              <a:ext cx="221400" cy="315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 flipV="1">
              <a:off x="11604600" y="4900320"/>
              <a:ext cx="442800" cy="241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 flipV="1">
              <a:off x="10531440" y="4984920"/>
              <a:ext cx="692640" cy="579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 flipV="1">
              <a:off x="11603520" y="5076360"/>
              <a:ext cx="392760" cy="88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 flipV="1">
              <a:off x="10894320" y="5142240"/>
              <a:ext cx="673920" cy="464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 flipV="1">
              <a:off x="11618280" y="5154480"/>
              <a:ext cx="389160" cy="153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7"/>
            <p:cNvSpPr/>
            <p:nvPr/>
          </p:nvSpPr>
          <p:spPr>
            <a:xfrm flipV="1">
              <a:off x="11358360" y="5243040"/>
              <a:ext cx="166680" cy="124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8"/>
            <p:cNvSpPr/>
            <p:nvPr/>
          </p:nvSpPr>
          <p:spPr>
            <a:xfrm flipV="1">
              <a:off x="10705320" y="5524200"/>
              <a:ext cx="597960" cy="875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4"/>
          <p:cNvGrpSpPr/>
          <p:nvPr/>
        </p:nvGrpSpPr>
        <p:grpSpPr>
          <a:xfrm>
            <a:off x="7502400" y="549360"/>
            <a:ext cx="1756080" cy="1908000"/>
            <a:chOff x="7502400" y="549360"/>
            <a:chExt cx="1756080" cy="1908000"/>
          </a:xfrm>
        </p:grpSpPr>
        <p:sp>
          <p:nvSpPr>
            <p:cNvPr id="389" name="Freeform 18"/>
            <p:cNvSpPr/>
            <p:nvPr/>
          </p:nvSpPr>
          <p:spPr>
            <a:xfrm flipV="1">
              <a:off x="8488080" y="549360"/>
              <a:ext cx="445680" cy="678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 flipV="1">
              <a:off x="7812720" y="867960"/>
              <a:ext cx="194760" cy="361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 flipV="1">
              <a:off x="7599600" y="1032840"/>
              <a:ext cx="349560" cy="236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 flipV="1">
              <a:off x="8181360" y="1019880"/>
              <a:ext cx="712080" cy="736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 flipV="1">
              <a:off x="7970760" y="1225440"/>
              <a:ext cx="228240" cy="356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 flipV="1">
              <a:off x="7502400" y="1279800"/>
              <a:ext cx="404280" cy="71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 flipV="1">
              <a:off x="8511840" y="1403640"/>
              <a:ext cx="746640" cy="188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5"/>
            <p:cNvSpPr/>
            <p:nvPr/>
          </p:nvSpPr>
          <p:spPr>
            <a:xfrm flipV="1">
              <a:off x="7798320" y="1458360"/>
              <a:ext cx="545760" cy="365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6"/>
            <p:cNvSpPr/>
            <p:nvPr/>
          </p:nvSpPr>
          <p:spPr>
            <a:xfrm flipV="1">
              <a:off x="7706880" y="1802880"/>
              <a:ext cx="870480" cy="654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115"/>
          <p:cNvGrpSpPr/>
          <p:nvPr/>
        </p:nvGrpSpPr>
        <p:grpSpPr>
          <a:xfrm>
            <a:off x="9528120" y="806040"/>
            <a:ext cx="2571840" cy="1456920"/>
            <a:chOff x="9528120" y="806040"/>
            <a:chExt cx="2571840" cy="1456920"/>
          </a:xfrm>
        </p:grpSpPr>
        <p:grpSp>
          <p:nvGrpSpPr>
            <p:cNvPr id="399" name="Group 95"/>
            <p:cNvGrpSpPr/>
            <p:nvPr/>
          </p:nvGrpSpPr>
          <p:grpSpPr>
            <a:xfrm>
              <a:off x="10836000" y="806040"/>
              <a:ext cx="1263960" cy="1386360"/>
              <a:chOff x="10836000" y="806040"/>
              <a:chExt cx="1263960" cy="1386360"/>
            </a:xfrm>
          </p:grpSpPr>
          <p:sp>
            <p:nvSpPr>
              <p:cNvPr id="400" name="Freeform 90"/>
              <p:cNvSpPr/>
              <p:nvPr/>
            </p:nvSpPr>
            <p:spPr>
              <a:xfrm flipV="1">
                <a:off x="10836000" y="805680"/>
                <a:ext cx="444600" cy="37044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 flipV="1">
                <a:off x="11084040" y="1001880"/>
                <a:ext cx="462600" cy="44244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 flipV="1">
                <a:off x="11406960" y="1484640"/>
                <a:ext cx="693000" cy="58464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 flipV="1">
                <a:off x="11698920" y="2039400"/>
                <a:ext cx="154440" cy="10872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 flipV="1">
                <a:off x="11513880" y="2097360"/>
                <a:ext cx="84240" cy="9468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1"/>
            <p:cNvGrpSpPr/>
            <p:nvPr/>
          </p:nvGrpSpPr>
          <p:grpSpPr>
            <a:xfrm>
              <a:off x="10846440" y="816120"/>
              <a:ext cx="1238040" cy="1240560"/>
              <a:chOff x="10846440" y="816120"/>
              <a:chExt cx="1238040" cy="1240560"/>
            </a:xfrm>
          </p:grpSpPr>
          <p:sp>
            <p:nvSpPr>
              <p:cNvPr id="406" name="Freeform 96"/>
              <p:cNvSpPr/>
              <p:nvPr/>
            </p:nvSpPr>
            <p:spPr>
              <a:xfrm flipV="1">
                <a:off x="10846440" y="815760"/>
                <a:ext cx="423720" cy="34596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 flipV="1">
                <a:off x="11097720" y="1014480"/>
                <a:ext cx="438840" cy="41760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 flipV="1">
                <a:off x="11349000" y="1217520"/>
                <a:ext cx="438840" cy="38844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 flipV="1">
                <a:off x="11417400" y="1498680"/>
                <a:ext cx="440640" cy="40752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 flipV="1">
                <a:off x="11645640" y="1648440"/>
                <a:ext cx="438840" cy="40824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5"/>
            <p:cNvGrpSpPr/>
            <p:nvPr/>
          </p:nvGrpSpPr>
          <p:grpSpPr>
            <a:xfrm>
              <a:off x="10141560" y="997200"/>
              <a:ext cx="1555920" cy="1265760"/>
              <a:chOff x="10141560" y="997200"/>
              <a:chExt cx="1555920" cy="1265760"/>
            </a:xfrm>
          </p:grpSpPr>
          <p:sp>
            <p:nvSpPr>
              <p:cNvPr id="412" name="Freeform 102"/>
              <p:cNvSpPr/>
              <p:nvPr/>
            </p:nvSpPr>
            <p:spPr>
              <a:xfrm flipV="1">
                <a:off x="10243800" y="996840"/>
                <a:ext cx="272160" cy="301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 flipV="1">
                <a:off x="10141560" y="1270440"/>
                <a:ext cx="1252800" cy="985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 flipV="1">
                <a:off x="11443680" y="2044800"/>
                <a:ext cx="253800" cy="217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12"/>
            <p:cNvGrpSpPr/>
            <p:nvPr/>
          </p:nvGrpSpPr>
          <p:grpSpPr>
            <a:xfrm>
              <a:off x="9528120" y="1164240"/>
              <a:ext cx="2268000" cy="844560"/>
              <a:chOff x="9528120" y="1164240"/>
              <a:chExt cx="2268000" cy="844560"/>
            </a:xfrm>
          </p:grpSpPr>
          <p:sp>
            <p:nvSpPr>
              <p:cNvPr id="416" name="Freeform 107"/>
              <p:cNvSpPr/>
              <p:nvPr/>
            </p:nvSpPr>
            <p:spPr>
              <a:xfrm flipV="1">
                <a:off x="9528120" y="1163880"/>
                <a:ext cx="514800" cy="19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8"/>
              <p:cNvSpPr/>
              <p:nvPr/>
            </p:nvSpPr>
            <p:spPr>
              <a:xfrm flipV="1">
                <a:off x="11341080" y="1208880"/>
                <a:ext cx="455040" cy="410400"/>
              </a:xfrm>
              <a:prstGeom prst="pie">
                <a:avLst/>
              </a:prstGeom>
              <a:solidFill>
                <a:srgbClr val="16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9"/>
              <p:cNvSpPr/>
              <p:nvPr/>
            </p:nvSpPr>
            <p:spPr>
              <a:xfrm flipV="1">
                <a:off x="9619920" y="1427760"/>
                <a:ext cx="661680" cy="21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10"/>
              <p:cNvSpPr/>
              <p:nvPr/>
            </p:nvSpPr>
            <p:spPr>
              <a:xfrm flipV="1">
                <a:off x="9613440" y="1749960"/>
                <a:ext cx="721440" cy="187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1"/>
              <p:cNvSpPr/>
              <p:nvPr/>
            </p:nvSpPr>
            <p:spPr>
              <a:xfrm flipV="1">
                <a:off x="9627480" y="1990800"/>
                <a:ext cx="345960" cy="18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Freeform 113"/>
            <p:cNvSpPr/>
            <p:nvPr/>
          </p:nvSpPr>
          <p:spPr>
            <a:xfrm flipV="1">
              <a:off x="10983960" y="1364400"/>
              <a:ext cx="725400" cy="794160"/>
            </a:xfrm>
            <a:prstGeom prst="pie">
              <a:avLst/>
            </a:prstGeom>
            <a:solidFill>
              <a:srgbClr val="b1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4"/>
            <p:cNvSpPr/>
            <p:nvPr/>
          </p:nvSpPr>
          <p:spPr>
            <a:xfrm flipV="1">
              <a:off x="10565640" y="1466640"/>
              <a:ext cx="4428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5"/>
            <p:cNvSpPr/>
            <p:nvPr/>
          </p:nvSpPr>
          <p:spPr>
            <a:xfrm flipV="1">
              <a:off x="11184840" y="1528560"/>
              <a:ext cx="88920" cy="86040"/>
            </a:xfrm>
            <a:prstGeom prst="pie">
              <a:avLst/>
            </a:pr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6"/>
            <p:cNvSpPr/>
            <p:nvPr/>
          </p:nvSpPr>
          <p:spPr>
            <a:xfrm flipV="1">
              <a:off x="11380320" y="1827000"/>
              <a:ext cx="97560" cy="79560"/>
            </a:xfrm>
            <a:prstGeom prst="pie">
              <a:avLst/>
            </a:prstGeom>
            <a:solidFill>
              <a:srgbClr val="b2b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7"/>
            <p:cNvSpPr/>
            <p:nvPr/>
          </p:nvSpPr>
          <p:spPr>
            <a:xfrm flipV="1">
              <a:off x="11486520" y="2084040"/>
              <a:ext cx="123120" cy="133560"/>
            </a:xfrm>
            <a:prstGeom prst="pie">
              <a:avLst/>
            </a:prstGeom>
            <a:solidFill>
              <a:srgbClr val="7d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8"/>
            <p:cNvSpPr/>
            <p:nvPr/>
          </p:nvSpPr>
          <p:spPr>
            <a:xfrm flipV="1">
              <a:off x="11531880" y="2128680"/>
              <a:ext cx="37800" cy="38520"/>
            </a:xfrm>
            <a:prstGeom prst="pie">
              <a:avLst/>
            </a:pr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144"/>
          <p:cNvGrpSpPr/>
          <p:nvPr/>
        </p:nvGrpSpPr>
        <p:grpSpPr>
          <a:xfrm>
            <a:off x="1076400" y="4862520"/>
            <a:ext cx="922320" cy="1406160"/>
            <a:chOff x="1076400" y="4862520"/>
            <a:chExt cx="922320" cy="1406160"/>
          </a:xfrm>
        </p:grpSpPr>
        <p:sp>
          <p:nvSpPr>
            <p:cNvPr id="428" name="Freeform 89"/>
            <p:cNvSpPr/>
            <p:nvPr/>
          </p:nvSpPr>
          <p:spPr>
            <a:xfrm flipV="1">
              <a:off x="1343880" y="4862520"/>
              <a:ext cx="293760" cy="292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146"/>
            <p:cNvSpPr/>
            <p:nvPr/>
          </p:nvSpPr>
          <p:spPr>
            <a:xfrm flipV="1">
              <a:off x="1076400" y="5077080"/>
              <a:ext cx="753120" cy="1191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2"/>
            <p:cNvSpPr/>
            <p:nvPr/>
          </p:nvSpPr>
          <p:spPr>
            <a:xfrm flipV="1">
              <a:off x="1532160" y="5994000"/>
              <a:ext cx="466560" cy="260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148"/>
          <p:cNvGrpSpPr/>
          <p:nvPr/>
        </p:nvGrpSpPr>
        <p:grpSpPr>
          <a:xfrm>
            <a:off x="3289320" y="3164040"/>
            <a:ext cx="763560" cy="1044360"/>
            <a:chOff x="3289320" y="3164040"/>
            <a:chExt cx="763560" cy="1044360"/>
          </a:xfrm>
        </p:grpSpPr>
        <p:sp>
          <p:nvSpPr>
            <p:cNvPr id="432" name="Freeform 44"/>
            <p:cNvSpPr/>
            <p:nvPr/>
          </p:nvSpPr>
          <p:spPr>
            <a:xfrm flipV="1">
              <a:off x="3289320" y="3495960"/>
              <a:ext cx="763560" cy="709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 flipV="1">
              <a:off x="3481920" y="4168800"/>
              <a:ext cx="159480" cy="39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151"/>
            <p:cNvSpPr/>
            <p:nvPr/>
          </p:nvSpPr>
          <p:spPr>
            <a:xfrm>
              <a:off x="3531240" y="3164040"/>
              <a:ext cx="301320" cy="301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161"/>
          <p:cNvGrpSpPr/>
          <p:nvPr/>
        </p:nvGrpSpPr>
        <p:grpSpPr>
          <a:xfrm>
            <a:off x="10179000" y="2950920"/>
            <a:ext cx="1774800" cy="1187280"/>
            <a:chOff x="10179000" y="2950920"/>
            <a:chExt cx="1774800" cy="1187280"/>
          </a:xfrm>
        </p:grpSpPr>
        <p:sp>
          <p:nvSpPr>
            <p:cNvPr id="436" name="Freeform 72"/>
            <p:cNvSpPr/>
            <p:nvPr/>
          </p:nvSpPr>
          <p:spPr>
            <a:xfrm flipV="1">
              <a:off x="11312280" y="2951280"/>
              <a:ext cx="129960" cy="277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3"/>
            <p:cNvSpPr/>
            <p:nvPr/>
          </p:nvSpPr>
          <p:spPr>
            <a:xfrm flipV="1">
              <a:off x="11360520" y="2950560"/>
              <a:ext cx="259920" cy="278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5"/>
            <p:cNvSpPr/>
            <p:nvPr/>
          </p:nvSpPr>
          <p:spPr>
            <a:xfrm flipV="1">
              <a:off x="11323080" y="3267000"/>
              <a:ext cx="185040" cy="100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6"/>
            <p:cNvSpPr/>
            <p:nvPr/>
          </p:nvSpPr>
          <p:spPr>
            <a:xfrm flipV="1">
              <a:off x="11483640" y="3288240"/>
              <a:ext cx="79200" cy="52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7"/>
            <p:cNvSpPr/>
            <p:nvPr/>
          </p:nvSpPr>
          <p:spPr>
            <a:xfrm flipV="1">
              <a:off x="10179000" y="3351960"/>
              <a:ext cx="1614240" cy="785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8"/>
            <p:cNvSpPr/>
            <p:nvPr/>
          </p:nvSpPr>
          <p:spPr>
            <a:xfrm flipV="1">
              <a:off x="10613880" y="4046040"/>
              <a:ext cx="415800" cy="90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9"/>
            <p:cNvSpPr/>
            <p:nvPr/>
          </p:nvSpPr>
          <p:spPr>
            <a:xfrm flipV="1">
              <a:off x="11509560" y="3343320"/>
              <a:ext cx="101520" cy="61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椭圆 169"/>
            <p:cNvSpPr/>
            <p:nvPr/>
          </p:nvSpPr>
          <p:spPr>
            <a:xfrm>
              <a:off x="11571480" y="3187440"/>
              <a:ext cx="382320" cy="382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任意多边形 170"/>
            <p:cNvSpPr/>
            <p:nvPr/>
          </p:nvSpPr>
          <p:spPr>
            <a:xfrm>
              <a:off x="11158560" y="3529080"/>
              <a:ext cx="452520" cy="446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24"/>
          <p:cNvGrpSpPr/>
          <p:nvPr/>
        </p:nvGrpSpPr>
        <p:grpSpPr>
          <a:xfrm>
            <a:off x="2136600" y="3111480"/>
            <a:ext cx="736920" cy="1050120"/>
            <a:chOff x="2136600" y="3111480"/>
            <a:chExt cx="736920" cy="1050120"/>
          </a:xfrm>
        </p:grpSpPr>
        <p:sp>
          <p:nvSpPr>
            <p:cNvPr id="446" name="Freeform 120"/>
            <p:cNvSpPr/>
            <p:nvPr/>
          </p:nvSpPr>
          <p:spPr>
            <a:xfrm flipV="1">
              <a:off x="2356920" y="3111480"/>
              <a:ext cx="290160" cy="288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 flipV="1">
              <a:off x="2220480" y="3430080"/>
              <a:ext cx="573480" cy="455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 flipV="1">
              <a:off x="2136600" y="3857760"/>
              <a:ext cx="736920" cy="299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 flipV="1">
              <a:off x="2309400" y="4120560"/>
              <a:ext cx="162720" cy="40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81"/>
          <p:cNvGrpSpPr/>
          <p:nvPr/>
        </p:nvGrpSpPr>
        <p:grpSpPr>
          <a:xfrm>
            <a:off x="8583480" y="4699080"/>
            <a:ext cx="1276560" cy="1684080"/>
            <a:chOff x="8583480" y="4699080"/>
            <a:chExt cx="1276560" cy="1684080"/>
          </a:xfrm>
        </p:grpSpPr>
        <p:sp>
          <p:nvSpPr>
            <p:cNvPr id="451" name="Freeform 30"/>
            <p:cNvSpPr/>
            <p:nvPr/>
          </p:nvSpPr>
          <p:spPr>
            <a:xfrm flipV="1">
              <a:off x="8583480" y="4699080"/>
              <a:ext cx="1276560" cy="1684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 flipV="1">
              <a:off x="8675280" y="4861800"/>
              <a:ext cx="474840" cy="41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188"/>
          <p:cNvGrpSpPr/>
          <p:nvPr/>
        </p:nvGrpSpPr>
        <p:grpSpPr>
          <a:xfrm>
            <a:off x="6111720" y="4984920"/>
            <a:ext cx="1562400" cy="1424880"/>
            <a:chOff x="6111720" y="4984920"/>
            <a:chExt cx="1562400" cy="1424880"/>
          </a:xfrm>
        </p:grpSpPr>
        <p:sp>
          <p:nvSpPr>
            <p:cNvPr id="454" name="Freeform 35"/>
            <p:cNvSpPr/>
            <p:nvPr/>
          </p:nvSpPr>
          <p:spPr>
            <a:xfrm flipV="1">
              <a:off x="6650640" y="4988520"/>
              <a:ext cx="1023480" cy="1420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6"/>
            <p:cNvSpPr/>
            <p:nvPr/>
          </p:nvSpPr>
          <p:spPr>
            <a:xfrm flipV="1">
              <a:off x="6986880" y="4984920"/>
              <a:ext cx="325440" cy="380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7"/>
            <p:cNvSpPr/>
            <p:nvPr/>
          </p:nvSpPr>
          <p:spPr>
            <a:xfrm flipV="1">
              <a:off x="6111720" y="5354640"/>
              <a:ext cx="830880" cy="779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201"/>
          <p:cNvGrpSpPr/>
          <p:nvPr/>
        </p:nvGrpSpPr>
        <p:grpSpPr>
          <a:xfrm>
            <a:off x="5748480" y="2808000"/>
            <a:ext cx="885600" cy="1548000"/>
            <a:chOff x="5748480" y="2808000"/>
            <a:chExt cx="885600" cy="1548000"/>
          </a:xfrm>
        </p:grpSpPr>
        <p:sp>
          <p:nvSpPr>
            <p:cNvPr id="458" name="Freeform 41"/>
            <p:cNvSpPr/>
            <p:nvPr/>
          </p:nvSpPr>
          <p:spPr>
            <a:xfrm flipV="1">
              <a:off x="5865840" y="2807640"/>
              <a:ext cx="355320" cy="345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 flipV="1">
              <a:off x="5748480" y="3117600"/>
              <a:ext cx="687240" cy="1238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 flipV="1">
              <a:off x="5970600" y="3143880"/>
              <a:ext cx="290520" cy="563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 flipV="1">
              <a:off x="6342120" y="3957120"/>
              <a:ext cx="118800" cy="98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5"/>
            <p:cNvSpPr/>
            <p:nvPr/>
          </p:nvSpPr>
          <p:spPr>
            <a:xfrm flipV="1">
              <a:off x="6364440" y="3982320"/>
              <a:ext cx="131760" cy="112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6"/>
            <p:cNvSpPr/>
            <p:nvPr/>
          </p:nvSpPr>
          <p:spPr>
            <a:xfrm flipV="1">
              <a:off x="6394680" y="4020480"/>
              <a:ext cx="136440" cy="122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7"/>
            <p:cNvSpPr/>
            <p:nvPr/>
          </p:nvSpPr>
          <p:spPr>
            <a:xfrm flipV="1">
              <a:off x="6427800" y="4050720"/>
              <a:ext cx="156960" cy="12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8"/>
            <p:cNvSpPr/>
            <p:nvPr/>
          </p:nvSpPr>
          <p:spPr>
            <a:xfrm flipV="1">
              <a:off x="6453360" y="4097520"/>
              <a:ext cx="166680" cy="131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9"/>
            <p:cNvSpPr/>
            <p:nvPr/>
          </p:nvSpPr>
          <p:spPr>
            <a:xfrm flipV="1">
              <a:off x="6491520" y="4138560"/>
              <a:ext cx="142560" cy="126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56"/>
          <p:cNvGrpSpPr/>
          <p:nvPr/>
        </p:nvGrpSpPr>
        <p:grpSpPr>
          <a:xfrm>
            <a:off x="2670120" y="4618080"/>
            <a:ext cx="2712960" cy="1731600"/>
            <a:chOff x="2670120" y="4618080"/>
            <a:chExt cx="2712960" cy="1731600"/>
          </a:xfrm>
        </p:grpSpPr>
        <p:sp>
          <p:nvSpPr>
            <p:cNvPr id="468" name="Freeform 53"/>
            <p:cNvSpPr/>
            <p:nvPr/>
          </p:nvSpPr>
          <p:spPr>
            <a:xfrm flipV="1">
              <a:off x="2670120" y="4618080"/>
              <a:ext cx="1440" cy="1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4"/>
            <p:cNvSpPr/>
            <p:nvPr/>
          </p:nvSpPr>
          <p:spPr>
            <a:xfrm flipV="1">
              <a:off x="2698560" y="4671360"/>
              <a:ext cx="2684520" cy="1677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5"/>
            <p:cNvSpPr/>
            <p:nvPr/>
          </p:nvSpPr>
          <p:spPr>
            <a:xfrm flipV="1">
              <a:off x="3195720" y="5287320"/>
              <a:ext cx="260280" cy="260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Freeform 69"/>
          <p:cNvSpPr/>
          <p:nvPr/>
        </p:nvSpPr>
        <p:spPr>
          <a:xfrm flipV="1">
            <a:off x="7756560" y="3268080"/>
            <a:ext cx="160200" cy="9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77"/>
          <p:cNvGrpSpPr/>
          <p:nvPr/>
        </p:nvGrpSpPr>
        <p:grpSpPr>
          <a:xfrm>
            <a:off x="6854760" y="2951280"/>
            <a:ext cx="603000" cy="1353240"/>
            <a:chOff x="6854760" y="2951280"/>
            <a:chExt cx="603000" cy="1353240"/>
          </a:xfrm>
        </p:grpSpPr>
        <p:sp>
          <p:nvSpPr>
            <p:cNvPr id="473" name="Freeform 72"/>
            <p:cNvSpPr/>
            <p:nvPr/>
          </p:nvSpPr>
          <p:spPr>
            <a:xfrm flipV="1">
              <a:off x="6854760" y="2951280"/>
              <a:ext cx="309960" cy="283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4"/>
            <p:cNvSpPr/>
            <p:nvPr/>
          </p:nvSpPr>
          <p:spPr>
            <a:xfrm flipV="1">
              <a:off x="6907680" y="3005640"/>
              <a:ext cx="550080" cy="1298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5"/>
            <p:cNvSpPr/>
            <p:nvPr/>
          </p:nvSpPr>
          <p:spPr>
            <a:xfrm flipV="1">
              <a:off x="7003080" y="3116160"/>
              <a:ext cx="258840" cy="279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6"/>
            <p:cNvSpPr/>
            <p:nvPr/>
          </p:nvSpPr>
          <p:spPr>
            <a:xfrm flipV="1">
              <a:off x="6858360" y="3508200"/>
              <a:ext cx="33840" cy="72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238"/>
          <p:cNvGrpSpPr/>
          <p:nvPr/>
        </p:nvGrpSpPr>
        <p:grpSpPr>
          <a:xfrm>
            <a:off x="4368960" y="3016080"/>
            <a:ext cx="1304640" cy="1257120"/>
            <a:chOff x="4368960" y="3016080"/>
            <a:chExt cx="1304640" cy="1257120"/>
          </a:xfrm>
        </p:grpSpPr>
        <p:sp>
          <p:nvSpPr>
            <p:cNvPr id="478" name="Freeform 81"/>
            <p:cNvSpPr/>
            <p:nvPr/>
          </p:nvSpPr>
          <p:spPr>
            <a:xfrm flipV="1">
              <a:off x="4368960" y="3016080"/>
              <a:ext cx="365040" cy="295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2"/>
            <p:cNvSpPr/>
            <p:nvPr/>
          </p:nvSpPr>
          <p:spPr>
            <a:xfrm flipV="1">
              <a:off x="4465800" y="3151800"/>
              <a:ext cx="666720" cy="924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3"/>
            <p:cNvSpPr/>
            <p:nvPr/>
          </p:nvSpPr>
          <p:spPr>
            <a:xfrm flipV="1">
              <a:off x="4802040" y="3718800"/>
              <a:ext cx="871560" cy="554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86"/>
          <p:cNvGrpSpPr/>
          <p:nvPr/>
        </p:nvGrpSpPr>
        <p:grpSpPr>
          <a:xfrm>
            <a:off x="8889840" y="2544480"/>
            <a:ext cx="1160640" cy="1755720"/>
            <a:chOff x="8889840" y="2544480"/>
            <a:chExt cx="1160640" cy="1755720"/>
          </a:xfrm>
        </p:grpSpPr>
        <p:sp>
          <p:nvSpPr>
            <p:cNvPr id="482" name="Freeform 87"/>
            <p:cNvSpPr/>
            <p:nvPr/>
          </p:nvSpPr>
          <p:spPr>
            <a:xfrm flipV="1">
              <a:off x="8948520" y="2544120"/>
              <a:ext cx="593640" cy="501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8"/>
            <p:cNvSpPr/>
            <p:nvPr/>
          </p:nvSpPr>
          <p:spPr>
            <a:xfrm flipV="1">
              <a:off x="9624960" y="2869560"/>
              <a:ext cx="425520" cy="412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9"/>
            <p:cNvSpPr/>
            <p:nvPr/>
          </p:nvSpPr>
          <p:spPr>
            <a:xfrm flipV="1">
              <a:off x="8889840" y="3085560"/>
              <a:ext cx="863640" cy="121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4"/>
          <p:cNvGrpSpPr/>
          <p:nvPr/>
        </p:nvGrpSpPr>
        <p:grpSpPr>
          <a:xfrm>
            <a:off x="755640" y="3013200"/>
            <a:ext cx="861840" cy="1396440"/>
            <a:chOff x="755640" y="3013200"/>
            <a:chExt cx="861840" cy="1396440"/>
          </a:xfrm>
        </p:grpSpPr>
        <p:sp>
          <p:nvSpPr>
            <p:cNvPr id="486" name="Freeform 5"/>
            <p:cNvSpPr/>
            <p:nvPr/>
          </p:nvSpPr>
          <p:spPr>
            <a:xfrm flipV="1">
              <a:off x="1266840" y="3013200"/>
              <a:ext cx="342720" cy="344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flipV="1">
              <a:off x="1068480" y="3314520"/>
              <a:ext cx="549000" cy="1095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"/>
            <p:cNvSpPr/>
            <p:nvPr/>
          </p:nvSpPr>
          <p:spPr>
            <a:xfrm flipV="1">
              <a:off x="961920" y="3338280"/>
              <a:ext cx="417600" cy="421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"/>
            <p:cNvSpPr/>
            <p:nvPr/>
          </p:nvSpPr>
          <p:spPr>
            <a:xfrm flipV="1">
              <a:off x="758880" y="3666240"/>
              <a:ext cx="230040" cy="78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"/>
            <p:cNvSpPr/>
            <p:nvPr/>
          </p:nvSpPr>
          <p:spPr>
            <a:xfrm flipV="1">
              <a:off x="755640" y="3755880"/>
              <a:ext cx="236520" cy="14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"/>
            <p:cNvSpPr/>
            <p:nvPr/>
          </p:nvSpPr>
          <p:spPr>
            <a:xfrm flipV="1">
              <a:off x="895320" y="3793320"/>
              <a:ext cx="135000" cy="18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0"/>
          <p:cNvGrpSpPr/>
          <p:nvPr/>
        </p:nvGrpSpPr>
        <p:grpSpPr>
          <a:xfrm>
            <a:off x="7340760" y="2625840"/>
            <a:ext cx="1051920" cy="1046880"/>
            <a:chOff x="7340760" y="2625840"/>
            <a:chExt cx="1051920" cy="1046880"/>
          </a:xfrm>
        </p:grpSpPr>
        <p:sp>
          <p:nvSpPr>
            <p:cNvPr id="493" name="Freeform 15"/>
            <p:cNvSpPr/>
            <p:nvPr/>
          </p:nvSpPr>
          <p:spPr>
            <a:xfrm flipV="1">
              <a:off x="7340760" y="2625840"/>
              <a:ext cx="1080" cy="1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6"/>
            <p:cNvSpPr/>
            <p:nvPr/>
          </p:nvSpPr>
          <p:spPr>
            <a:xfrm flipV="1">
              <a:off x="7462800" y="2656800"/>
              <a:ext cx="929880" cy="101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"/>
            <p:cNvSpPr/>
            <p:nvPr/>
          </p:nvSpPr>
          <p:spPr>
            <a:xfrm flipV="1">
              <a:off x="7761240" y="2785320"/>
              <a:ext cx="91440" cy="9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 flipV="1">
              <a:off x="7713360" y="2822760"/>
              <a:ext cx="88560" cy="109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9"/>
            <p:cNvSpPr/>
            <p:nvPr/>
          </p:nvSpPr>
          <p:spPr>
            <a:xfrm flipV="1">
              <a:off x="7792920" y="2893680"/>
              <a:ext cx="105840" cy="104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347920" y="638820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177"/>
          <p:cNvGrpSpPr/>
          <p:nvPr/>
        </p:nvGrpSpPr>
        <p:grpSpPr>
          <a:xfrm>
            <a:off x="711360" y="5051520"/>
            <a:ext cx="1720800" cy="1455120"/>
            <a:chOff x="711360" y="5051520"/>
            <a:chExt cx="1720800" cy="1455120"/>
          </a:xfrm>
        </p:grpSpPr>
        <p:sp>
          <p:nvSpPr>
            <p:cNvPr id="500" name="Freeform 172"/>
            <p:cNvSpPr/>
            <p:nvPr/>
          </p:nvSpPr>
          <p:spPr>
            <a:xfrm flipV="1">
              <a:off x="1712880" y="5051520"/>
              <a:ext cx="337680" cy="331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3"/>
            <p:cNvSpPr/>
            <p:nvPr/>
          </p:nvSpPr>
          <p:spPr>
            <a:xfrm flipV="1">
              <a:off x="1098720" y="5073840"/>
              <a:ext cx="318960" cy="332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74"/>
            <p:cNvSpPr/>
            <p:nvPr/>
          </p:nvSpPr>
          <p:spPr>
            <a:xfrm flipV="1">
              <a:off x="711360" y="5369040"/>
              <a:ext cx="929160" cy="1137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5"/>
            <p:cNvSpPr/>
            <p:nvPr/>
          </p:nvSpPr>
          <p:spPr>
            <a:xfrm flipV="1">
              <a:off x="1581120" y="5370840"/>
              <a:ext cx="851040" cy="1128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76"/>
            <p:cNvSpPr/>
            <p:nvPr/>
          </p:nvSpPr>
          <p:spPr>
            <a:xfrm flipV="1">
              <a:off x="1932840" y="5416200"/>
              <a:ext cx="381240" cy="441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KSO_Shape"/>
          <p:cNvSpPr/>
          <p:nvPr/>
        </p:nvSpPr>
        <p:spPr>
          <a:xfrm>
            <a:off x="3301920" y="5102280"/>
            <a:ext cx="1482840" cy="13986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8"/>
          <p:cNvGrpSpPr/>
          <p:nvPr/>
        </p:nvGrpSpPr>
        <p:grpSpPr>
          <a:xfrm>
            <a:off x="5383080" y="4888080"/>
            <a:ext cx="1649520" cy="1660320"/>
            <a:chOff x="5383080" y="4888080"/>
            <a:chExt cx="1649520" cy="1660320"/>
          </a:xfrm>
        </p:grpSpPr>
        <p:sp>
          <p:nvSpPr>
            <p:cNvPr id="507" name="Freeform 65"/>
            <p:cNvSpPr/>
            <p:nvPr/>
          </p:nvSpPr>
          <p:spPr>
            <a:xfrm flipV="1">
              <a:off x="6581880" y="4888080"/>
              <a:ext cx="313920" cy="284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6"/>
            <p:cNvSpPr/>
            <p:nvPr/>
          </p:nvSpPr>
          <p:spPr>
            <a:xfrm flipV="1">
              <a:off x="6341040" y="4986360"/>
              <a:ext cx="200160" cy="206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7"/>
            <p:cNvSpPr/>
            <p:nvPr/>
          </p:nvSpPr>
          <p:spPr>
            <a:xfrm flipV="1">
              <a:off x="6696720" y="5036400"/>
              <a:ext cx="99000" cy="5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"/>
            <p:cNvSpPr/>
            <p:nvPr/>
          </p:nvSpPr>
          <p:spPr>
            <a:xfrm flipV="1">
              <a:off x="6403320" y="5078880"/>
              <a:ext cx="66600" cy="3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9"/>
            <p:cNvSpPr/>
            <p:nvPr/>
          </p:nvSpPr>
          <p:spPr>
            <a:xfrm flipV="1">
              <a:off x="6663240" y="5099760"/>
              <a:ext cx="139680" cy="122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70"/>
            <p:cNvSpPr/>
            <p:nvPr/>
          </p:nvSpPr>
          <p:spPr>
            <a:xfrm flipV="1">
              <a:off x="5983200" y="5156280"/>
              <a:ext cx="45720" cy="81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1"/>
            <p:cNvSpPr/>
            <p:nvPr/>
          </p:nvSpPr>
          <p:spPr>
            <a:xfrm flipV="1">
              <a:off x="5970600" y="5178240"/>
              <a:ext cx="34200" cy="52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 flipV="1">
              <a:off x="5383080" y="5200560"/>
              <a:ext cx="1649520" cy="1347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 flipV="1">
              <a:off x="5468760" y="5210280"/>
              <a:ext cx="85320" cy="32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 flipV="1">
              <a:off x="5483520" y="5236560"/>
              <a:ext cx="58320" cy="22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7"/>
            <p:cNvSpPr/>
            <p:nvPr/>
          </p:nvSpPr>
          <p:spPr>
            <a:xfrm flipV="1">
              <a:off x="5441760" y="6028560"/>
              <a:ext cx="78120" cy="46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78"/>
            <p:cNvSpPr/>
            <p:nvPr/>
          </p:nvSpPr>
          <p:spPr>
            <a:xfrm flipV="1">
              <a:off x="5467680" y="6049800"/>
              <a:ext cx="50760" cy="3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79"/>
            <p:cNvSpPr/>
            <p:nvPr/>
          </p:nvSpPr>
          <p:spPr>
            <a:xfrm flipV="1">
              <a:off x="5998680" y="6086880"/>
              <a:ext cx="59400" cy="67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80"/>
            <p:cNvSpPr/>
            <p:nvPr/>
          </p:nvSpPr>
          <p:spPr>
            <a:xfrm flipV="1">
              <a:off x="5995800" y="6111360"/>
              <a:ext cx="40320" cy="50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81"/>
            <p:cNvSpPr/>
            <p:nvPr/>
          </p:nvSpPr>
          <p:spPr>
            <a:xfrm flipV="1">
              <a:off x="5622480" y="6150960"/>
              <a:ext cx="189360" cy="217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82"/>
            <p:cNvSpPr/>
            <p:nvPr/>
          </p:nvSpPr>
          <p:spPr>
            <a:xfrm flipV="1">
              <a:off x="5549040" y="6264360"/>
              <a:ext cx="38520" cy="8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83"/>
            <p:cNvSpPr/>
            <p:nvPr/>
          </p:nvSpPr>
          <p:spPr>
            <a:xfrm flipV="1">
              <a:off x="5575320" y="6272640"/>
              <a:ext cx="32040" cy="58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椭圆 26"/>
            <p:cNvSpPr/>
            <p:nvPr/>
          </p:nvSpPr>
          <p:spPr>
            <a:xfrm>
              <a:off x="6397920" y="5252400"/>
              <a:ext cx="265320" cy="265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33"/>
          <p:cNvGrpSpPr/>
          <p:nvPr/>
        </p:nvGrpSpPr>
        <p:grpSpPr>
          <a:xfrm>
            <a:off x="10017000" y="4838760"/>
            <a:ext cx="1608120" cy="1680840"/>
            <a:chOff x="10017000" y="4838760"/>
            <a:chExt cx="1608120" cy="1680840"/>
          </a:xfrm>
        </p:grpSpPr>
        <p:sp>
          <p:nvSpPr>
            <p:cNvPr id="526" name="Freeform 19"/>
            <p:cNvSpPr/>
            <p:nvPr/>
          </p:nvSpPr>
          <p:spPr>
            <a:xfrm flipV="1">
              <a:off x="10958760" y="4838760"/>
              <a:ext cx="95760" cy="90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 flipV="1">
              <a:off x="10579320" y="4842360"/>
              <a:ext cx="102960" cy="79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 flipV="1">
              <a:off x="10618200" y="4876920"/>
              <a:ext cx="70920" cy="53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 flipV="1">
              <a:off x="10960200" y="4874400"/>
              <a:ext cx="67320" cy="62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3"/>
            <p:cNvSpPr/>
            <p:nvPr/>
          </p:nvSpPr>
          <p:spPr>
            <a:xfrm flipV="1">
              <a:off x="11206440" y="4885200"/>
              <a:ext cx="338760" cy="333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 flipV="1">
              <a:off x="10110240" y="4877640"/>
              <a:ext cx="317880" cy="323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5"/>
            <p:cNvSpPr/>
            <p:nvPr/>
          </p:nvSpPr>
          <p:spPr>
            <a:xfrm flipV="1">
              <a:off x="10655640" y="4931280"/>
              <a:ext cx="135360" cy="159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 flipV="1">
              <a:off x="10866960" y="4931280"/>
              <a:ext cx="131400" cy="32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7"/>
            <p:cNvSpPr/>
            <p:nvPr/>
          </p:nvSpPr>
          <p:spPr>
            <a:xfrm flipV="1">
              <a:off x="10146960" y="5084280"/>
              <a:ext cx="633960" cy="324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8"/>
            <p:cNvSpPr/>
            <p:nvPr/>
          </p:nvSpPr>
          <p:spPr>
            <a:xfrm flipV="1">
              <a:off x="10869120" y="5101920"/>
              <a:ext cx="48960" cy="98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9"/>
            <p:cNvSpPr/>
            <p:nvPr/>
          </p:nvSpPr>
          <p:spPr>
            <a:xfrm flipV="1">
              <a:off x="10952640" y="5105160"/>
              <a:ext cx="672480" cy="1402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0"/>
            <p:cNvSpPr/>
            <p:nvPr/>
          </p:nvSpPr>
          <p:spPr>
            <a:xfrm flipV="1">
              <a:off x="10668600" y="5210640"/>
              <a:ext cx="113760" cy="45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1"/>
            <p:cNvSpPr/>
            <p:nvPr/>
          </p:nvSpPr>
          <p:spPr>
            <a:xfrm flipV="1">
              <a:off x="10017000" y="5225040"/>
              <a:ext cx="293760" cy="1294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2"/>
            <p:cNvSpPr/>
            <p:nvPr/>
          </p:nvSpPr>
          <p:spPr>
            <a:xfrm flipV="1">
              <a:off x="11256480" y="5303880"/>
              <a:ext cx="256680" cy="524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41"/>
          <p:cNvGrpSpPr/>
          <p:nvPr/>
        </p:nvGrpSpPr>
        <p:grpSpPr>
          <a:xfrm>
            <a:off x="10118880" y="420480"/>
            <a:ext cx="1170000" cy="1324080"/>
            <a:chOff x="10118880" y="420480"/>
            <a:chExt cx="1170000" cy="1324080"/>
          </a:xfrm>
        </p:grpSpPr>
        <p:sp>
          <p:nvSpPr>
            <p:cNvPr id="541" name="Freeform 35"/>
            <p:cNvSpPr/>
            <p:nvPr/>
          </p:nvSpPr>
          <p:spPr>
            <a:xfrm flipV="1">
              <a:off x="10707840" y="420120"/>
              <a:ext cx="467640" cy="680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"/>
            <p:cNvSpPr/>
            <p:nvPr/>
          </p:nvSpPr>
          <p:spPr>
            <a:xfrm flipV="1">
              <a:off x="10795680" y="555480"/>
              <a:ext cx="194760" cy="190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7"/>
            <p:cNvSpPr/>
            <p:nvPr/>
          </p:nvSpPr>
          <p:spPr>
            <a:xfrm flipV="1">
              <a:off x="10433520" y="562680"/>
              <a:ext cx="366840" cy="290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8"/>
            <p:cNvSpPr/>
            <p:nvPr/>
          </p:nvSpPr>
          <p:spPr>
            <a:xfrm flipV="1">
              <a:off x="10118880" y="787680"/>
              <a:ext cx="664920" cy="441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9"/>
            <p:cNvSpPr/>
            <p:nvPr/>
          </p:nvSpPr>
          <p:spPr>
            <a:xfrm flipV="1">
              <a:off x="10666800" y="1049040"/>
              <a:ext cx="622080" cy="69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0"/>
            <p:cNvSpPr/>
            <p:nvPr/>
          </p:nvSpPr>
          <p:spPr>
            <a:xfrm flipV="1">
              <a:off x="10123560" y="1090080"/>
              <a:ext cx="500040" cy="646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49"/>
          <p:cNvGrpSpPr/>
          <p:nvPr/>
        </p:nvGrpSpPr>
        <p:grpSpPr>
          <a:xfrm>
            <a:off x="343080" y="553680"/>
            <a:ext cx="1927080" cy="1298880"/>
            <a:chOff x="343080" y="553680"/>
            <a:chExt cx="1927080" cy="1298880"/>
          </a:xfrm>
        </p:grpSpPr>
        <p:sp>
          <p:nvSpPr>
            <p:cNvPr id="548" name="Freeform 46"/>
            <p:cNvSpPr/>
            <p:nvPr/>
          </p:nvSpPr>
          <p:spPr>
            <a:xfrm flipV="1">
              <a:off x="793800" y="553320"/>
              <a:ext cx="277200" cy="273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7"/>
            <p:cNvSpPr/>
            <p:nvPr/>
          </p:nvSpPr>
          <p:spPr>
            <a:xfrm flipV="1">
              <a:off x="343080" y="589320"/>
              <a:ext cx="1927080" cy="1262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8"/>
            <p:cNvSpPr/>
            <p:nvPr/>
          </p:nvSpPr>
          <p:spPr>
            <a:xfrm flipV="1">
              <a:off x="1661400" y="606240"/>
              <a:ext cx="265320" cy="262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85"/>
          <p:cNvGrpSpPr/>
          <p:nvPr/>
        </p:nvGrpSpPr>
        <p:grpSpPr>
          <a:xfrm>
            <a:off x="2795760" y="568080"/>
            <a:ext cx="1147680" cy="1065240"/>
            <a:chOff x="2795760" y="568080"/>
            <a:chExt cx="1147680" cy="1065240"/>
          </a:xfrm>
        </p:grpSpPr>
        <p:sp>
          <p:nvSpPr>
            <p:cNvPr id="552" name="Freeform 182"/>
            <p:cNvSpPr/>
            <p:nvPr/>
          </p:nvSpPr>
          <p:spPr>
            <a:xfrm flipV="1">
              <a:off x="2795760" y="567360"/>
              <a:ext cx="1147680" cy="1065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83"/>
            <p:cNvSpPr/>
            <p:nvPr/>
          </p:nvSpPr>
          <p:spPr>
            <a:xfrm flipV="1">
              <a:off x="2914920" y="575280"/>
              <a:ext cx="218520" cy="215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84"/>
            <p:cNvSpPr/>
            <p:nvPr/>
          </p:nvSpPr>
          <p:spPr>
            <a:xfrm flipV="1">
              <a:off x="3609000" y="574560"/>
              <a:ext cx="221760" cy="214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4"/>
          <p:cNvGrpSpPr/>
          <p:nvPr/>
        </p:nvGrpSpPr>
        <p:grpSpPr>
          <a:xfrm>
            <a:off x="4268880" y="393840"/>
            <a:ext cx="1431360" cy="1652040"/>
            <a:chOff x="4268880" y="393840"/>
            <a:chExt cx="1431360" cy="1652040"/>
          </a:xfrm>
        </p:grpSpPr>
        <p:sp>
          <p:nvSpPr>
            <p:cNvPr id="556" name="Freeform 5"/>
            <p:cNvSpPr/>
            <p:nvPr/>
          </p:nvSpPr>
          <p:spPr>
            <a:xfrm flipV="1">
              <a:off x="5184360" y="393840"/>
              <a:ext cx="290160" cy="250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"/>
            <p:cNvSpPr/>
            <p:nvPr/>
          </p:nvSpPr>
          <p:spPr>
            <a:xfrm flipV="1">
              <a:off x="4412880" y="490320"/>
              <a:ext cx="331560" cy="358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"/>
            <p:cNvSpPr/>
            <p:nvPr/>
          </p:nvSpPr>
          <p:spPr>
            <a:xfrm flipV="1">
              <a:off x="4938480" y="619920"/>
              <a:ext cx="293400" cy="288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"/>
            <p:cNvSpPr/>
            <p:nvPr/>
          </p:nvSpPr>
          <p:spPr>
            <a:xfrm flipV="1">
              <a:off x="4268880" y="796680"/>
              <a:ext cx="323640" cy="1249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9"/>
            <p:cNvSpPr/>
            <p:nvPr/>
          </p:nvSpPr>
          <p:spPr>
            <a:xfrm flipV="1">
              <a:off x="4398840" y="884160"/>
              <a:ext cx="510840" cy="347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0"/>
            <p:cNvSpPr/>
            <p:nvPr/>
          </p:nvSpPr>
          <p:spPr>
            <a:xfrm flipV="1">
              <a:off x="5028840" y="877680"/>
              <a:ext cx="468000" cy="699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1"/>
            <p:cNvSpPr/>
            <p:nvPr/>
          </p:nvSpPr>
          <p:spPr>
            <a:xfrm flipV="1">
              <a:off x="4900320" y="942120"/>
              <a:ext cx="288720" cy="279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2"/>
            <p:cNvSpPr/>
            <p:nvPr/>
          </p:nvSpPr>
          <p:spPr>
            <a:xfrm flipV="1">
              <a:off x="5230440" y="1535040"/>
              <a:ext cx="469800" cy="494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8"/>
          <p:cNvGrpSpPr/>
          <p:nvPr/>
        </p:nvGrpSpPr>
        <p:grpSpPr>
          <a:xfrm>
            <a:off x="4656240" y="3858840"/>
            <a:ext cx="150840" cy="177840"/>
            <a:chOff x="4656240" y="3858840"/>
            <a:chExt cx="150840" cy="177840"/>
          </a:xfrm>
        </p:grpSpPr>
        <p:sp>
          <p:nvSpPr>
            <p:cNvPr id="565" name="Freeform 16"/>
            <p:cNvSpPr/>
            <p:nvPr/>
          </p:nvSpPr>
          <p:spPr>
            <a:xfrm flipV="1">
              <a:off x="4656240" y="3858480"/>
              <a:ext cx="15084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"/>
            <p:cNvSpPr/>
            <p:nvPr/>
          </p:nvSpPr>
          <p:spPr>
            <a:xfrm flipV="1">
              <a:off x="4702320" y="3987000"/>
              <a:ext cx="586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67"/>
          <p:cNvGrpSpPr/>
          <p:nvPr/>
        </p:nvGrpSpPr>
        <p:grpSpPr>
          <a:xfrm>
            <a:off x="333360" y="2421000"/>
            <a:ext cx="1661760" cy="1545120"/>
            <a:chOff x="333360" y="2421000"/>
            <a:chExt cx="1661760" cy="1545120"/>
          </a:xfrm>
        </p:grpSpPr>
        <p:sp>
          <p:nvSpPr>
            <p:cNvPr id="568" name="Freeform 68"/>
            <p:cNvSpPr/>
            <p:nvPr/>
          </p:nvSpPr>
          <p:spPr>
            <a:xfrm flipV="1">
              <a:off x="708840" y="2421000"/>
              <a:ext cx="344880" cy="383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9"/>
            <p:cNvSpPr/>
            <p:nvPr/>
          </p:nvSpPr>
          <p:spPr>
            <a:xfrm flipV="1">
              <a:off x="333360" y="2765160"/>
              <a:ext cx="1131480" cy="1181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0"/>
            <p:cNvSpPr/>
            <p:nvPr/>
          </p:nvSpPr>
          <p:spPr>
            <a:xfrm flipV="1">
              <a:off x="1545120" y="2939040"/>
              <a:ext cx="361440" cy="381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1"/>
            <p:cNvSpPr/>
            <p:nvPr/>
          </p:nvSpPr>
          <p:spPr>
            <a:xfrm flipV="1">
              <a:off x="675720" y="3264840"/>
              <a:ext cx="1319400" cy="700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74"/>
          <p:cNvGrpSpPr/>
          <p:nvPr/>
        </p:nvGrpSpPr>
        <p:grpSpPr>
          <a:xfrm>
            <a:off x="6008760" y="934920"/>
            <a:ext cx="1465200" cy="985680"/>
            <a:chOff x="6008760" y="934920"/>
            <a:chExt cx="1465200" cy="985680"/>
          </a:xfrm>
        </p:grpSpPr>
        <p:sp>
          <p:nvSpPr>
            <p:cNvPr id="573" name="Freeform 75"/>
            <p:cNvSpPr/>
            <p:nvPr/>
          </p:nvSpPr>
          <p:spPr>
            <a:xfrm flipV="1">
              <a:off x="6334200" y="957960"/>
              <a:ext cx="201600" cy="204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6"/>
            <p:cNvSpPr/>
            <p:nvPr/>
          </p:nvSpPr>
          <p:spPr>
            <a:xfrm flipV="1">
              <a:off x="6937560" y="934920"/>
              <a:ext cx="377640" cy="249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7"/>
            <p:cNvSpPr/>
            <p:nvPr/>
          </p:nvSpPr>
          <p:spPr>
            <a:xfrm flipV="1">
              <a:off x="6008760" y="1160280"/>
              <a:ext cx="722160" cy="760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8"/>
            <p:cNvSpPr/>
            <p:nvPr/>
          </p:nvSpPr>
          <p:spPr>
            <a:xfrm flipV="1">
              <a:off x="6759720" y="1158840"/>
              <a:ext cx="714240" cy="750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9"/>
            <p:cNvSpPr/>
            <p:nvPr/>
          </p:nvSpPr>
          <p:spPr>
            <a:xfrm flipV="1">
              <a:off x="6077160" y="1185120"/>
              <a:ext cx="214200" cy="66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80"/>
            <p:cNvSpPr/>
            <p:nvPr/>
          </p:nvSpPr>
          <p:spPr>
            <a:xfrm flipV="1">
              <a:off x="7215120" y="1185840"/>
              <a:ext cx="208080" cy="3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1"/>
            <p:cNvSpPr/>
            <p:nvPr/>
          </p:nvSpPr>
          <p:spPr>
            <a:xfrm flipV="1">
              <a:off x="6059520" y="1261080"/>
              <a:ext cx="208080" cy="65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82"/>
            <p:cNvSpPr/>
            <p:nvPr/>
          </p:nvSpPr>
          <p:spPr>
            <a:xfrm flipV="1">
              <a:off x="7237440" y="1259640"/>
              <a:ext cx="203400" cy="33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3"/>
            <p:cNvSpPr/>
            <p:nvPr/>
          </p:nvSpPr>
          <p:spPr>
            <a:xfrm flipV="1">
              <a:off x="6037200" y="1336680"/>
              <a:ext cx="203400" cy="3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84"/>
            <p:cNvSpPr/>
            <p:nvPr/>
          </p:nvSpPr>
          <p:spPr>
            <a:xfrm flipV="1">
              <a:off x="7261200" y="1336680"/>
              <a:ext cx="201600" cy="3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87"/>
          <p:cNvGrpSpPr/>
          <p:nvPr/>
        </p:nvGrpSpPr>
        <p:grpSpPr>
          <a:xfrm>
            <a:off x="5583240" y="2308320"/>
            <a:ext cx="1677240" cy="1763280"/>
            <a:chOff x="5583240" y="2308320"/>
            <a:chExt cx="1677240" cy="1763280"/>
          </a:xfrm>
        </p:grpSpPr>
        <p:sp>
          <p:nvSpPr>
            <p:cNvPr id="584" name="Freeform 88"/>
            <p:cNvSpPr/>
            <p:nvPr/>
          </p:nvSpPr>
          <p:spPr>
            <a:xfrm flipV="1">
              <a:off x="5583240" y="2308320"/>
              <a:ext cx="442440" cy="358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9"/>
            <p:cNvSpPr/>
            <p:nvPr/>
          </p:nvSpPr>
          <p:spPr>
            <a:xfrm flipV="1">
              <a:off x="6073560" y="2546280"/>
              <a:ext cx="294120" cy="23112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0"/>
            <p:cNvSpPr/>
            <p:nvPr/>
          </p:nvSpPr>
          <p:spPr>
            <a:xfrm flipV="1">
              <a:off x="5664600" y="2606760"/>
              <a:ext cx="402480" cy="1456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1"/>
            <p:cNvSpPr/>
            <p:nvPr/>
          </p:nvSpPr>
          <p:spPr>
            <a:xfrm flipV="1">
              <a:off x="6426360" y="2671200"/>
              <a:ext cx="348120" cy="350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92"/>
            <p:cNvSpPr/>
            <p:nvPr/>
          </p:nvSpPr>
          <p:spPr>
            <a:xfrm flipV="1">
              <a:off x="6094080" y="2988720"/>
              <a:ext cx="1166400" cy="1082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4"/>
          <p:cNvGrpSpPr/>
          <p:nvPr/>
        </p:nvGrpSpPr>
        <p:grpSpPr>
          <a:xfrm>
            <a:off x="7831080" y="2117880"/>
            <a:ext cx="1285920" cy="1450440"/>
            <a:chOff x="7831080" y="2117880"/>
            <a:chExt cx="1285920" cy="1450440"/>
          </a:xfrm>
        </p:grpSpPr>
        <p:sp>
          <p:nvSpPr>
            <p:cNvPr id="590" name="Freeform 5"/>
            <p:cNvSpPr/>
            <p:nvPr/>
          </p:nvSpPr>
          <p:spPr>
            <a:xfrm flipV="1">
              <a:off x="8177040" y="2117880"/>
              <a:ext cx="608040" cy="511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"/>
            <p:cNvSpPr/>
            <p:nvPr/>
          </p:nvSpPr>
          <p:spPr>
            <a:xfrm flipV="1">
              <a:off x="7935840" y="2528280"/>
              <a:ext cx="220680" cy="23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"/>
            <p:cNvSpPr/>
            <p:nvPr/>
          </p:nvSpPr>
          <p:spPr>
            <a:xfrm flipV="1">
              <a:off x="8816760" y="2656080"/>
              <a:ext cx="300240" cy="279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9"/>
            <p:cNvSpPr/>
            <p:nvPr/>
          </p:nvSpPr>
          <p:spPr>
            <a:xfrm flipV="1">
              <a:off x="7831080" y="2764800"/>
              <a:ext cx="625320" cy="803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"/>
            <p:cNvSpPr/>
            <p:nvPr/>
          </p:nvSpPr>
          <p:spPr>
            <a:xfrm flipV="1">
              <a:off x="8547120" y="2817360"/>
              <a:ext cx="376200" cy="75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1"/>
            <p:cNvSpPr/>
            <p:nvPr/>
          </p:nvSpPr>
          <p:spPr>
            <a:xfrm flipV="1">
              <a:off x="8759880" y="2865600"/>
              <a:ext cx="220680" cy="326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23"/>
          <p:cNvGrpSpPr/>
          <p:nvPr/>
        </p:nvGrpSpPr>
        <p:grpSpPr>
          <a:xfrm>
            <a:off x="7950240" y="695160"/>
            <a:ext cx="1622520" cy="1087560"/>
            <a:chOff x="7950240" y="695160"/>
            <a:chExt cx="1622520" cy="1087560"/>
          </a:xfrm>
        </p:grpSpPr>
        <p:sp>
          <p:nvSpPr>
            <p:cNvPr id="597" name="Freeform 24"/>
            <p:cNvSpPr/>
            <p:nvPr/>
          </p:nvSpPr>
          <p:spPr>
            <a:xfrm flipV="1">
              <a:off x="8763120" y="722880"/>
              <a:ext cx="139680" cy="81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5"/>
            <p:cNvSpPr/>
            <p:nvPr/>
          </p:nvSpPr>
          <p:spPr>
            <a:xfrm flipV="1">
              <a:off x="8637480" y="733320"/>
              <a:ext cx="68400" cy="226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6"/>
            <p:cNvSpPr/>
            <p:nvPr/>
          </p:nvSpPr>
          <p:spPr>
            <a:xfrm flipV="1">
              <a:off x="7950240" y="741960"/>
              <a:ext cx="701640" cy="1017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7"/>
            <p:cNvSpPr/>
            <p:nvPr/>
          </p:nvSpPr>
          <p:spPr>
            <a:xfrm flipV="1">
              <a:off x="8137440" y="695160"/>
              <a:ext cx="293760" cy="271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8"/>
            <p:cNvSpPr/>
            <p:nvPr/>
          </p:nvSpPr>
          <p:spPr>
            <a:xfrm flipV="1">
              <a:off x="9023400" y="769680"/>
              <a:ext cx="549360" cy="101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9"/>
            <p:cNvSpPr/>
            <p:nvPr/>
          </p:nvSpPr>
          <p:spPr>
            <a:xfrm flipV="1">
              <a:off x="8771040" y="810360"/>
              <a:ext cx="195120" cy="5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0"/>
            <p:cNvSpPr/>
            <p:nvPr/>
          </p:nvSpPr>
          <p:spPr>
            <a:xfrm flipV="1">
              <a:off x="8763120" y="866520"/>
              <a:ext cx="149040" cy="76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7"/>
          <p:cNvGrpSpPr/>
          <p:nvPr/>
        </p:nvGrpSpPr>
        <p:grpSpPr>
          <a:xfrm>
            <a:off x="2709720" y="2498760"/>
            <a:ext cx="2311560" cy="1255680"/>
            <a:chOff x="2709720" y="2498760"/>
            <a:chExt cx="2311560" cy="1255680"/>
          </a:xfrm>
        </p:grpSpPr>
        <p:sp>
          <p:nvSpPr>
            <p:cNvPr id="605" name="Freeform 48"/>
            <p:cNvSpPr/>
            <p:nvPr/>
          </p:nvSpPr>
          <p:spPr>
            <a:xfrm flipV="1">
              <a:off x="3792240" y="2570040"/>
              <a:ext cx="34920" cy="61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69"/>
            <p:cNvGrpSpPr/>
            <p:nvPr/>
          </p:nvGrpSpPr>
          <p:grpSpPr>
            <a:xfrm>
              <a:off x="2709720" y="2498760"/>
              <a:ext cx="2311560" cy="1255680"/>
              <a:chOff x="2709720" y="2498760"/>
              <a:chExt cx="2311560" cy="1255680"/>
            </a:xfrm>
          </p:grpSpPr>
          <p:sp>
            <p:nvSpPr>
              <p:cNvPr id="607" name="Freeform 49"/>
              <p:cNvSpPr/>
              <p:nvPr/>
            </p:nvSpPr>
            <p:spPr>
              <a:xfrm flipV="1">
                <a:off x="3354120" y="2498760"/>
                <a:ext cx="55800" cy="1015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0"/>
              <p:cNvSpPr/>
              <p:nvPr/>
            </p:nvSpPr>
            <p:spPr>
              <a:xfrm flipV="1">
                <a:off x="3101760" y="2516400"/>
                <a:ext cx="123840" cy="1094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1"/>
              <p:cNvSpPr/>
              <p:nvPr/>
            </p:nvSpPr>
            <p:spPr>
              <a:xfrm flipV="1">
                <a:off x="4030560" y="2508120"/>
                <a:ext cx="34920" cy="100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52"/>
              <p:cNvSpPr/>
              <p:nvPr/>
            </p:nvSpPr>
            <p:spPr>
              <a:xfrm flipV="1">
                <a:off x="3439800" y="2528280"/>
                <a:ext cx="141480" cy="119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53"/>
              <p:cNvSpPr/>
              <p:nvPr/>
            </p:nvSpPr>
            <p:spPr>
              <a:xfrm flipV="1">
                <a:off x="3738600" y="2537640"/>
                <a:ext cx="134640" cy="135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"/>
              <p:cNvSpPr/>
              <p:nvPr/>
            </p:nvSpPr>
            <p:spPr>
              <a:xfrm flipV="1">
                <a:off x="3863880" y="2516400"/>
                <a:ext cx="139680" cy="150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5"/>
              <p:cNvSpPr/>
              <p:nvPr/>
            </p:nvSpPr>
            <p:spPr>
              <a:xfrm flipV="1">
                <a:off x="4092480" y="2544840"/>
                <a:ext cx="133200" cy="1159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6"/>
              <p:cNvSpPr/>
              <p:nvPr/>
            </p:nvSpPr>
            <p:spPr>
              <a:xfrm flipV="1">
                <a:off x="3376440" y="2589120"/>
                <a:ext cx="68400" cy="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7"/>
              <p:cNvSpPr/>
              <p:nvPr/>
            </p:nvSpPr>
            <p:spPr>
              <a:xfrm flipV="1">
                <a:off x="3136680" y="2617920"/>
                <a:ext cx="65160" cy="30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8"/>
              <p:cNvSpPr/>
              <p:nvPr/>
            </p:nvSpPr>
            <p:spPr>
              <a:xfrm flipV="1">
                <a:off x="4027320" y="2602800"/>
                <a:ext cx="69840" cy="73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59"/>
              <p:cNvSpPr/>
              <p:nvPr/>
            </p:nvSpPr>
            <p:spPr>
              <a:xfrm flipV="1">
                <a:off x="3200400" y="2693160"/>
                <a:ext cx="217440" cy="2444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60"/>
              <p:cNvSpPr/>
              <p:nvPr/>
            </p:nvSpPr>
            <p:spPr>
              <a:xfrm flipV="1">
                <a:off x="4100400" y="2722680"/>
                <a:ext cx="237960" cy="231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61"/>
              <p:cNvSpPr/>
              <p:nvPr/>
            </p:nvSpPr>
            <p:spPr>
              <a:xfrm flipV="1">
                <a:off x="3073320" y="2884680"/>
                <a:ext cx="404640" cy="852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62"/>
              <p:cNvSpPr/>
              <p:nvPr/>
            </p:nvSpPr>
            <p:spPr>
              <a:xfrm flipV="1">
                <a:off x="3973320" y="2911680"/>
                <a:ext cx="370080" cy="125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63"/>
              <p:cNvSpPr/>
              <p:nvPr/>
            </p:nvSpPr>
            <p:spPr>
              <a:xfrm flipV="1">
                <a:off x="4211640" y="2900520"/>
                <a:ext cx="244440" cy="830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64"/>
              <p:cNvSpPr/>
              <p:nvPr/>
            </p:nvSpPr>
            <p:spPr>
              <a:xfrm flipV="1">
                <a:off x="2709720" y="3164040"/>
                <a:ext cx="374760" cy="590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65"/>
              <p:cNvSpPr/>
              <p:nvPr/>
            </p:nvSpPr>
            <p:spPr>
              <a:xfrm flipV="1">
                <a:off x="3422520" y="3234600"/>
                <a:ext cx="252360" cy="33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66"/>
              <p:cNvSpPr/>
              <p:nvPr/>
            </p:nvSpPr>
            <p:spPr>
              <a:xfrm flipV="1">
                <a:off x="3798720" y="3239280"/>
                <a:ext cx="243000" cy="2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67"/>
              <p:cNvSpPr/>
              <p:nvPr/>
            </p:nvSpPr>
            <p:spPr>
              <a:xfrm flipV="1">
                <a:off x="3346200" y="3286080"/>
                <a:ext cx="774720" cy="4334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68"/>
              <p:cNvSpPr/>
              <p:nvPr/>
            </p:nvSpPr>
            <p:spPr>
              <a:xfrm flipV="1">
                <a:off x="4421160" y="3354480"/>
                <a:ext cx="600120" cy="372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Group 72"/>
          <p:cNvGrpSpPr/>
          <p:nvPr/>
        </p:nvGrpSpPr>
        <p:grpSpPr>
          <a:xfrm>
            <a:off x="9470880" y="2360160"/>
            <a:ext cx="768240" cy="1116000"/>
            <a:chOff x="9470880" y="2360160"/>
            <a:chExt cx="768240" cy="1116000"/>
          </a:xfrm>
        </p:grpSpPr>
        <p:sp>
          <p:nvSpPr>
            <p:cNvPr id="628" name="Freeform 73"/>
            <p:cNvSpPr/>
            <p:nvPr/>
          </p:nvSpPr>
          <p:spPr>
            <a:xfrm flipV="1">
              <a:off x="9698040" y="2369880"/>
              <a:ext cx="58680" cy="5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4"/>
            <p:cNvSpPr/>
            <p:nvPr/>
          </p:nvSpPr>
          <p:spPr>
            <a:xfrm flipV="1">
              <a:off x="9762840" y="2369880"/>
              <a:ext cx="59040" cy="5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5"/>
            <p:cNvSpPr/>
            <p:nvPr/>
          </p:nvSpPr>
          <p:spPr>
            <a:xfrm flipV="1">
              <a:off x="9821880" y="2376360"/>
              <a:ext cx="68040" cy="5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6"/>
            <p:cNvSpPr/>
            <p:nvPr/>
          </p:nvSpPr>
          <p:spPr>
            <a:xfrm flipV="1">
              <a:off x="9889920" y="2359800"/>
              <a:ext cx="63720" cy="66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7"/>
            <p:cNvSpPr/>
            <p:nvPr/>
          </p:nvSpPr>
          <p:spPr>
            <a:xfrm flipV="1">
              <a:off x="9582120" y="2475000"/>
              <a:ext cx="217440" cy="210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8"/>
            <p:cNvSpPr/>
            <p:nvPr/>
          </p:nvSpPr>
          <p:spPr>
            <a:xfrm flipV="1">
              <a:off x="9824760" y="2455920"/>
              <a:ext cx="219240" cy="234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9"/>
            <p:cNvSpPr/>
            <p:nvPr/>
          </p:nvSpPr>
          <p:spPr>
            <a:xfrm flipV="1">
              <a:off x="9582120" y="2581200"/>
              <a:ext cx="255600" cy="257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0"/>
            <p:cNvSpPr/>
            <p:nvPr/>
          </p:nvSpPr>
          <p:spPr>
            <a:xfrm flipV="1">
              <a:off x="9470880" y="2647800"/>
              <a:ext cx="220680" cy="827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1"/>
            <p:cNvSpPr/>
            <p:nvPr/>
          </p:nvSpPr>
          <p:spPr>
            <a:xfrm flipV="1">
              <a:off x="9764640" y="2648880"/>
              <a:ext cx="474480" cy="826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84"/>
          <p:cNvGrpSpPr/>
          <p:nvPr/>
        </p:nvGrpSpPr>
        <p:grpSpPr>
          <a:xfrm>
            <a:off x="10490040" y="2160360"/>
            <a:ext cx="968400" cy="1321200"/>
            <a:chOff x="10490040" y="2160360"/>
            <a:chExt cx="968400" cy="1321200"/>
          </a:xfrm>
        </p:grpSpPr>
        <p:sp>
          <p:nvSpPr>
            <p:cNvPr id="638" name="Freeform 85"/>
            <p:cNvSpPr/>
            <p:nvPr/>
          </p:nvSpPr>
          <p:spPr>
            <a:xfrm flipV="1">
              <a:off x="10610640" y="2160000"/>
              <a:ext cx="279360" cy="30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6"/>
            <p:cNvSpPr/>
            <p:nvPr/>
          </p:nvSpPr>
          <p:spPr>
            <a:xfrm flipV="1">
              <a:off x="11044080" y="2165400"/>
              <a:ext cx="291960" cy="292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7"/>
            <p:cNvSpPr/>
            <p:nvPr/>
          </p:nvSpPr>
          <p:spPr>
            <a:xfrm flipV="1">
              <a:off x="10490040" y="2421000"/>
              <a:ext cx="262080" cy="1060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8"/>
            <p:cNvSpPr/>
            <p:nvPr/>
          </p:nvSpPr>
          <p:spPr>
            <a:xfrm flipV="1">
              <a:off x="10990080" y="2427480"/>
              <a:ext cx="468360" cy="61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9"/>
            <p:cNvSpPr/>
            <p:nvPr/>
          </p:nvSpPr>
          <p:spPr>
            <a:xfrm flipV="1">
              <a:off x="10629720" y="2493360"/>
              <a:ext cx="384120" cy="322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0"/>
            <p:cNvSpPr/>
            <p:nvPr/>
          </p:nvSpPr>
          <p:spPr>
            <a:xfrm flipV="1">
              <a:off x="11261520" y="2492640"/>
              <a:ext cx="149400" cy="529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1"/>
            <p:cNvSpPr/>
            <p:nvPr/>
          </p:nvSpPr>
          <p:spPr>
            <a:xfrm flipV="1">
              <a:off x="11150280" y="2976120"/>
              <a:ext cx="301680" cy="268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2"/>
            <p:cNvSpPr/>
            <p:nvPr/>
          </p:nvSpPr>
          <p:spPr>
            <a:xfrm flipV="1">
              <a:off x="11255040" y="3001320"/>
              <a:ext cx="87480" cy="34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3"/>
            <p:cNvSpPr/>
            <p:nvPr/>
          </p:nvSpPr>
          <p:spPr>
            <a:xfrm flipV="1">
              <a:off x="11239200" y="3251160"/>
              <a:ext cx="150840" cy="223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195"/>
          <p:cNvGrpSpPr/>
          <p:nvPr/>
        </p:nvGrpSpPr>
        <p:grpSpPr>
          <a:xfrm>
            <a:off x="7316640" y="4324320"/>
            <a:ext cx="2070360" cy="1871280"/>
            <a:chOff x="7316640" y="4324320"/>
            <a:chExt cx="2070360" cy="1871280"/>
          </a:xfrm>
        </p:grpSpPr>
        <p:sp>
          <p:nvSpPr>
            <p:cNvPr id="648" name="图文框 194"/>
            <p:cNvSpPr/>
            <p:nvPr/>
          </p:nvSpPr>
          <p:spPr>
            <a:xfrm>
              <a:off x="7979400" y="4324320"/>
              <a:ext cx="1407600" cy="886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96"/>
            <p:cNvGrpSpPr/>
            <p:nvPr/>
          </p:nvGrpSpPr>
          <p:grpSpPr>
            <a:xfrm>
              <a:off x="7316640" y="4588920"/>
              <a:ext cx="1926000" cy="1606680"/>
              <a:chOff x="7316640" y="4588920"/>
              <a:chExt cx="1926000" cy="1606680"/>
            </a:xfrm>
          </p:grpSpPr>
          <p:sp>
            <p:nvSpPr>
              <p:cNvPr id="650" name="Freeform 97"/>
              <p:cNvSpPr/>
              <p:nvPr/>
            </p:nvSpPr>
            <p:spPr>
              <a:xfrm flipV="1">
                <a:off x="7503840" y="4588560"/>
                <a:ext cx="355680" cy="3538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98"/>
              <p:cNvSpPr/>
              <p:nvPr/>
            </p:nvSpPr>
            <p:spPr>
              <a:xfrm flipV="1">
                <a:off x="7316640" y="4794120"/>
                <a:ext cx="1032120" cy="13874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99"/>
              <p:cNvSpPr/>
              <p:nvPr/>
            </p:nvSpPr>
            <p:spPr>
              <a:xfrm flipV="1">
                <a:off x="8153280" y="5429880"/>
                <a:ext cx="357120" cy="345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00"/>
              <p:cNvSpPr/>
              <p:nvPr/>
            </p:nvSpPr>
            <p:spPr>
              <a:xfrm flipV="1">
                <a:off x="8774280" y="5429160"/>
                <a:ext cx="366840" cy="3506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01"/>
              <p:cNvSpPr/>
              <p:nvPr/>
            </p:nvSpPr>
            <p:spPr>
              <a:xfrm flipV="1">
                <a:off x="8037360" y="5775840"/>
                <a:ext cx="577800" cy="419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02"/>
              <p:cNvSpPr/>
              <p:nvPr/>
            </p:nvSpPr>
            <p:spPr>
              <a:xfrm flipV="1">
                <a:off x="8664840" y="5775120"/>
                <a:ext cx="577800" cy="4190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4"/>
          <p:cNvGrpSpPr/>
          <p:nvPr/>
        </p:nvGrpSpPr>
        <p:grpSpPr>
          <a:xfrm>
            <a:off x="917640" y="252360"/>
            <a:ext cx="2041200" cy="1563480"/>
            <a:chOff x="917640" y="252360"/>
            <a:chExt cx="2041200" cy="1563480"/>
          </a:xfrm>
        </p:grpSpPr>
        <p:grpSp>
          <p:nvGrpSpPr>
            <p:cNvPr id="657" name="Group 11"/>
            <p:cNvGrpSpPr/>
            <p:nvPr/>
          </p:nvGrpSpPr>
          <p:grpSpPr>
            <a:xfrm>
              <a:off x="987840" y="1313640"/>
              <a:ext cx="1904400" cy="407520"/>
              <a:chOff x="987840" y="1313640"/>
              <a:chExt cx="1904400" cy="407520"/>
            </a:xfrm>
          </p:grpSpPr>
          <p:sp>
            <p:nvSpPr>
              <p:cNvPr id="658" name="Freeform 5"/>
              <p:cNvSpPr/>
              <p:nvPr/>
            </p:nvSpPr>
            <p:spPr>
              <a:xfrm flipV="1">
                <a:off x="1542600" y="1313640"/>
                <a:ext cx="50400" cy="252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6"/>
              <p:cNvSpPr/>
              <p:nvPr/>
            </p:nvSpPr>
            <p:spPr>
              <a:xfrm flipV="1">
                <a:off x="2287080" y="1317240"/>
                <a:ext cx="48960" cy="22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7"/>
              <p:cNvSpPr/>
              <p:nvPr/>
            </p:nvSpPr>
            <p:spPr>
              <a:xfrm flipV="1">
                <a:off x="1303560" y="1452960"/>
                <a:ext cx="105840" cy="50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"/>
              <p:cNvSpPr/>
              <p:nvPr/>
            </p:nvSpPr>
            <p:spPr>
              <a:xfrm flipV="1">
                <a:off x="2413440" y="1460160"/>
                <a:ext cx="228240" cy="49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9"/>
              <p:cNvSpPr/>
              <p:nvPr/>
            </p:nvSpPr>
            <p:spPr>
              <a:xfrm flipV="1">
                <a:off x="987840" y="1653480"/>
                <a:ext cx="181800" cy="66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0"/>
              <p:cNvSpPr/>
              <p:nvPr/>
            </p:nvSpPr>
            <p:spPr>
              <a:xfrm flipV="1">
                <a:off x="2729160" y="1653480"/>
                <a:ext cx="163080" cy="67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28"/>
            <p:cNvGrpSpPr/>
            <p:nvPr/>
          </p:nvGrpSpPr>
          <p:grpSpPr>
            <a:xfrm>
              <a:off x="917640" y="252360"/>
              <a:ext cx="2041200" cy="1563480"/>
              <a:chOff x="917640" y="252360"/>
              <a:chExt cx="2041200" cy="1563480"/>
            </a:xfrm>
          </p:grpSpPr>
          <p:sp>
            <p:nvSpPr>
              <p:cNvPr id="665" name="Freeform 12"/>
              <p:cNvSpPr/>
              <p:nvPr/>
            </p:nvSpPr>
            <p:spPr>
              <a:xfrm flipV="1">
                <a:off x="1593360" y="252000"/>
                <a:ext cx="617040" cy="1342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"/>
              <p:cNvSpPr/>
              <p:nvPr/>
            </p:nvSpPr>
            <p:spPr>
              <a:xfrm flipV="1">
                <a:off x="1804320" y="305280"/>
                <a:ext cx="267840" cy="272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4"/>
              <p:cNvSpPr/>
              <p:nvPr/>
            </p:nvSpPr>
            <p:spPr>
              <a:xfrm flipV="1">
                <a:off x="1898640" y="592560"/>
                <a:ext cx="39600" cy="48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5"/>
              <p:cNvSpPr/>
              <p:nvPr/>
            </p:nvSpPr>
            <p:spPr>
              <a:xfrm flipV="1">
                <a:off x="1942200" y="590760"/>
                <a:ext cx="39960" cy="50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6"/>
              <p:cNvSpPr/>
              <p:nvPr/>
            </p:nvSpPr>
            <p:spPr>
              <a:xfrm flipV="1">
                <a:off x="1920960" y="638640"/>
                <a:ext cx="59400" cy="597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7"/>
              <p:cNvSpPr/>
              <p:nvPr/>
            </p:nvSpPr>
            <p:spPr>
              <a:xfrm flipV="1">
                <a:off x="1920960" y="673920"/>
                <a:ext cx="59400" cy="60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8"/>
              <p:cNvSpPr/>
              <p:nvPr/>
            </p:nvSpPr>
            <p:spPr>
              <a:xfrm flipV="1">
                <a:off x="1920960" y="717120"/>
                <a:ext cx="59400" cy="597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9"/>
              <p:cNvSpPr/>
              <p:nvPr/>
            </p:nvSpPr>
            <p:spPr>
              <a:xfrm flipV="1">
                <a:off x="990720" y="920520"/>
                <a:ext cx="323640" cy="1872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0"/>
              <p:cNvSpPr/>
              <p:nvPr/>
            </p:nvSpPr>
            <p:spPr>
              <a:xfrm flipV="1">
                <a:off x="2250000" y="914400"/>
                <a:ext cx="634320" cy="435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"/>
              <p:cNvSpPr/>
              <p:nvPr/>
            </p:nvSpPr>
            <p:spPr>
              <a:xfrm flipV="1">
                <a:off x="1278360" y="979920"/>
                <a:ext cx="143280" cy="132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"/>
              <p:cNvSpPr/>
              <p:nvPr/>
            </p:nvSpPr>
            <p:spPr>
              <a:xfrm flipV="1">
                <a:off x="1388520" y="1020600"/>
                <a:ext cx="241560" cy="332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3"/>
              <p:cNvSpPr/>
              <p:nvPr/>
            </p:nvSpPr>
            <p:spPr>
              <a:xfrm flipV="1">
                <a:off x="917640" y="1085400"/>
                <a:ext cx="303840" cy="665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4"/>
              <p:cNvSpPr/>
              <p:nvPr/>
            </p:nvSpPr>
            <p:spPr>
              <a:xfrm flipV="1">
                <a:off x="2660400" y="1085400"/>
                <a:ext cx="298440" cy="658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5"/>
              <p:cNvSpPr/>
              <p:nvPr/>
            </p:nvSpPr>
            <p:spPr>
              <a:xfrm flipV="1">
                <a:off x="1258560" y="1098000"/>
                <a:ext cx="189720" cy="425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6"/>
              <p:cNvSpPr/>
              <p:nvPr/>
            </p:nvSpPr>
            <p:spPr>
              <a:xfrm flipV="1">
                <a:off x="2413440" y="1098000"/>
                <a:ext cx="227880" cy="425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7"/>
              <p:cNvSpPr/>
              <p:nvPr/>
            </p:nvSpPr>
            <p:spPr>
              <a:xfrm flipV="1">
                <a:off x="1157760" y="1302840"/>
                <a:ext cx="1564920" cy="5126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Group 46"/>
          <p:cNvGrpSpPr/>
          <p:nvPr/>
        </p:nvGrpSpPr>
        <p:grpSpPr>
          <a:xfrm>
            <a:off x="3489480" y="523800"/>
            <a:ext cx="2842560" cy="1449360"/>
            <a:chOff x="3489480" y="523800"/>
            <a:chExt cx="2842560" cy="1449360"/>
          </a:xfrm>
        </p:grpSpPr>
        <p:sp>
          <p:nvSpPr>
            <p:cNvPr id="682" name="Freeform 19"/>
            <p:cNvSpPr/>
            <p:nvPr/>
          </p:nvSpPr>
          <p:spPr>
            <a:xfrm flipV="1">
              <a:off x="4773240" y="523800"/>
              <a:ext cx="262440" cy="228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0"/>
            <p:cNvSpPr/>
            <p:nvPr/>
          </p:nvSpPr>
          <p:spPr>
            <a:xfrm flipV="1">
              <a:off x="5496840" y="669600"/>
              <a:ext cx="281880" cy="27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 flipV="1">
              <a:off x="5960520" y="679680"/>
              <a:ext cx="247680" cy="253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2"/>
            <p:cNvSpPr/>
            <p:nvPr/>
          </p:nvSpPr>
          <p:spPr>
            <a:xfrm flipV="1">
              <a:off x="5091120" y="672480"/>
              <a:ext cx="256680" cy="262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3"/>
            <p:cNvSpPr/>
            <p:nvPr/>
          </p:nvSpPr>
          <p:spPr>
            <a:xfrm flipV="1">
              <a:off x="4520880" y="700920"/>
              <a:ext cx="255240" cy="285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4"/>
            <p:cNvSpPr/>
            <p:nvPr/>
          </p:nvSpPr>
          <p:spPr>
            <a:xfrm flipV="1">
              <a:off x="3778920" y="815760"/>
              <a:ext cx="307440" cy="321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5"/>
            <p:cNvSpPr/>
            <p:nvPr/>
          </p:nvSpPr>
          <p:spPr>
            <a:xfrm flipV="1">
              <a:off x="5432760" y="849600"/>
              <a:ext cx="456480" cy="699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6"/>
            <p:cNvSpPr/>
            <p:nvPr/>
          </p:nvSpPr>
          <p:spPr>
            <a:xfrm flipV="1">
              <a:off x="5119560" y="903600"/>
              <a:ext cx="351360" cy="648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7"/>
            <p:cNvSpPr/>
            <p:nvPr/>
          </p:nvSpPr>
          <p:spPr>
            <a:xfrm flipV="1">
              <a:off x="5994720" y="905040"/>
              <a:ext cx="337320" cy="643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8"/>
            <p:cNvSpPr/>
            <p:nvPr/>
          </p:nvSpPr>
          <p:spPr>
            <a:xfrm flipV="1">
              <a:off x="4486680" y="937080"/>
              <a:ext cx="597240" cy="622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9"/>
            <p:cNvSpPr/>
            <p:nvPr/>
          </p:nvSpPr>
          <p:spPr>
            <a:xfrm flipV="1">
              <a:off x="5054040" y="965520"/>
              <a:ext cx="245160" cy="378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0"/>
            <p:cNvSpPr/>
            <p:nvPr/>
          </p:nvSpPr>
          <p:spPr>
            <a:xfrm flipV="1">
              <a:off x="5903640" y="976680"/>
              <a:ext cx="248040" cy="248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1"/>
            <p:cNvSpPr/>
            <p:nvPr/>
          </p:nvSpPr>
          <p:spPr>
            <a:xfrm flipV="1">
              <a:off x="5421600" y="989640"/>
              <a:ext cx="43920" cy="113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2"/>
            <p:cNvSpPr/>
            <p:nvPr/>
          </p:nvSpPr>
          <p:spPr>
            <a:xfrm flipV="1">
              <a:off x="5939280" y="1012680"/>
              <a:ext cx="46440" cy="82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3"/>
            <p:cNvSpPr/>
            <p:nvPr/>
          </p:nvSpPr>
          <p:spPr>
            <a:xfrm flipV="1">
              <a:off x="3489480" y="1078200"/>
              <a:ext cx="1182960" cy="894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"/>
            <p:cNvSpPr/>
            <p:nvPr/>
          </p:nvSpPr>
          <p:spPr>
            <a:xfrm flipV="1">
              <a:off x="3765960" y="1135440"/>
              <a:ext cx="408240" cy="252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5"/>
            <p:cNvSpPr/>
            <p:nvPr/>
          </p:nvSpPr>
          <p:spPr>
            <a:xfrm flipV="1">
              <a:off x="5045400" y="1168560"/>
              <a:ext cx="66600" cy="9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6"/>
            <p:cNvSpPr/>
            <p:nvPr/>
          </p:nvSpPr>
          <p:spPr>
            <a:xfrm flipV="1">
              <a:off x="5933520" y="1175760"/>
              <a:ext cx="42120" cy="93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7"/>
            <p:cNvSpPr/>
            <p:nvPr/>
          </p:nvSpPr>
          <p:spPr>
            <a:xfrm flipV="1">
              <a:off x="4022640" y="1201680"/>
              <a:ext cx="78120" cy="63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8"/>
            <p:cNvSpPr/>
            <p:nvPr/>
          </p:nvSpPr>
          <p:spPr>
            <a:xfrm flipV="1">
              <a:off x="4430160" y="1276200"/>
              <a:ext cx="74880" cy="49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9"/>
            <p:cNvSpPr/>
            <p:nvPr/>
          </p:nvSpPr>
          <p:spPr>
            <a:xfrm flipV="1">
              <a:off x="4573080" y="1320480"/>
              <a:ext cx="92160" cy="76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0"/>
            <p:cNvSpPr/>
            <p:nvPr/>
          </p:nvSpPr>
          <p:spPr>
            <a:xfrm flipV="1">
              <a:off x="5098320" y="1339200"/>
              <a:ext cx="36360" cy="72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41"/>
            <p:cNvSpPr/>
            <p:nvPr/>
          </p:nvSpPr>
          <p:spPr>
            <a:xfrm flipV="1">
              <a:off x="4012560" y="1382040"/>
              <a:ext cx="297720" cy="29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2"/>
            <p:cNvSpPr/>
            <p:nvPr/>
          </p:nvSpPr>
          <p:spPr>
            <a:xfrm flipV="1">
              <a:off x="4845600" y="1551600"/>
              <a:ext cx="115920" cy="415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3"/>
            <p:cNvSpPr/>
            <p:nvPr/>
          </p:nvSpPr>
          <p:spPr>
            <a:xfrm flipV="1">
              <a:off x="5235480" y="1552320"/>
              <a:ext cx="117720" cy="39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4"/>
            <p:cNvSpPr/>
            <p:nvPr/>
          </p:nvSpPr>
          <p:spPr>
            <a:xfrm flipV="1">
              <a:off x="5654160" y="1550880"/>
              <a:ext cx="119160" cy="39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5"/>
            <p:cNvSpPr/>
            <p:nvPr/>
          </p:nvSpPr>
          <p:spPr>
            <a:xfrm flipV="1">
              <a:off x="6098040" y="1550880"/>
              <a:ext cx="119160" cy="39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49"/>
          <p:cNvGrpSpPr/>
          <p:nvPr/>
        </p:nvGrpSpPr>
        <p:grpSpPr>
          <a:xfrm>
            <a:off x="7145280" y="649440"/>
            <a:ext cx="1857240" cy="1283760"/>
            <a:chOff x="7145280" y="649440"/>
            <a:chExt cx="1857240" cy="1283760"/>
          </a:xfrm>
        </p:grpSpPr>
        <p:sp>
          <p:nvSpPr>
            <p:cNvPr id="710" name="Freeform 50"/>
            <p:cNvSpPr/>
            <p:nvPr/>
          </p:nvSpPr>
          <p:spPr>
            <a:xfrm flipV="1">
              <a:off x="8027280" y="649440"/>
              <a:ext cx="286560" cy="287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1"/>
            <p:cNvSpPr/>
            <p:nvPr/>
          </p:nvSpPr>
          <p:spPr>
            <a:xfrm flipV="1">
              <a:off x="8728560" y="676080"/>
              <a:ext cx="238680" cy="279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2"/>
            <p:cNvSpPr/>
            <p:nvPr/>
          </p:nvSpPr>
          <p:spPr>
            <a:xfrm flipV="1">
              <a:off x="7432200" y="716040"/>
              <a:ext cx="286560" cy="290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3"/>
            <p:cNvSpPr/>
            <p:nvPr/>
          </p:nvSpPr>
          <p:spPr>
            <a:xfrm flipV="1">
              <a:off x="8620920" y="781560"/>
              <a:ext cx="170280" cy="191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4"/>
            <p:cNvSpPr/>
            <p:nvPr/>
          </p:nvSpPr>
          <p:spPr>
            <a:xfrm flipV="1">
              <a:off x="8462520" y="869760"/>
              <a:ext cx="540000" cy="213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5"/>
            <p:cNvSpPr/>
            <p:nvPr/>
          </p:nvSpPr>
          <p:spPr>
            <a:xfrm flipV="1">
              <a:off x="7907760" y="926640"/>
              <a:ext cx="536040" cy="998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6"/>
            <p:cNvSpPr/>
            <p:nvPr/>
          </p:nvSpPr>
          <p:spPr>
            <a:xfrm flipV="1">
              <a:off x="8133480" y="935280"/>
              <a:ext cx="40680" cy="49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7"/>
            <p:cNvSpPr/>
            <p:nvPr/>
          </p:nvSpPr>
          <p:spPr>
            <a:xfrm flipV="1">
              <a:off x="8178120" y="936720"/>
              <a:ext cx="39240" cy="48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8"/>
            <p:cNvSpPr/>
            <p:nvPr/>
          </p:nvSpPr>
          <p:spPr>
            <a:xfrm flipV="1">
              <a:off x="7145280" y="948960"/>
              <a:ext cx="732600" cy="978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9"/>
            <p:cNvSpPr/>
            <p:nvPr/>
          </p:nvSpPr>
          <p:spPr>
            <a:xfrm flipV="1">
              <a:off x="8167680" y="979920"/>
              <a:ext cx="30960" cy="52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"/>
            <p:cNvSpPr/>
            <p:nvPr/>
          </p:nvSpPr>
          <p:spPr>
            <a:xfrm flipV="1">
              <a:off x="8623800" y="981720"/>
              <a:ext cx="273960" cy="208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1"/>
            <p:cNvSpPr/>
            <p:nvPr/>
          </p:nvSpPr>
          <p:spPr>
            <a:xfrm flipV="1">
              <a:off x="8155800" y="1018440"/>
              <a:ext cx="60120" cy="58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2"/>
            <p:cNvSpPr/>
            <p:nvPr/>
          </p:nvSpPr>
          <p:spPr>
            <a:xfrm flipV="1">
              <a:off x="7352280" y="1020600"/>
              <a:ext cx="263160" cy="416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3"/>
            <p:cNvSpPr/>
            <p:nvPr/>
          </p:nvSpPr>
          <p:spPr>
            <a:xfrm flipV="1">
              <a:off x="8155800" y="1059840"/>
              <a:ext cx="60120" cy="59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4"/>
            <p:cNvSpPr/>
            <p:nvPr/>
          </p:nvSpPr>
          <p:spPr>
            <a:xfrm flipV="1">
              <a:off x="8748360" y="1082160"/>
              <a:ext cx="252720" cy="851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31"/>
          <p:cNvGrpSpPr/>
          <p:nvPr/>
        </p:nvGrpSpPr>
        <p:grpSpPr>
          <a:xfrm>
            <a:off x="828720" y="4660560"/>
            <a:ext cx="3577680" cy="1542600"/>
            <a:chOff x="828720" y="4660560"/>
            <a:chExt cx="3577680" cy="1542600"/>
          </a:xfrm>
        </p:grpSpPr>
        <p:sp>
          <p:nvSpPr>
            <p:cNvPr id="726" name="Freeform 32"/>
            <p:cNvSpPr/>
            <p:nvPr/>
          </p:nvSpPr>
          <p:spPr>
            <a:xfrm flipV="1">
              <a:off x="1208880" y="5447520"/>
              <a:ext cx="298080" cy="477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57"/>
            <p:cNvGrpSpPr/>
            <p:nvPr/>
          </p:nvGrpSpPr>
          <p:grpSpPr>
            <a:xfrm>
              <a:off x="828720" y="4660560"/>
              <a:ext cx="3577680" cy="1542600"/>
              <a:chOff x="828720" y="4660560"/>
              <a:chExt cx="3577680" cy="1542600"/>
            </a:xfrm>
          </p:grpSpPr>
          <p:sp>
            <p:nvSpPr>
              <p:cNvPr id="728" name="Freeform 33"/>
              <p:cNvSpPr/>
              <p:nvPr/>
            </p:nvSpPr>
            <p:spPr>
              <a:xfrm flipV="1">
                <a:off x="2718000" y="4660200"/>
                <a:ext cx="1093680" cy="1524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4"/>
              <p:cNvSpPr/>
              <p:nvPr/>
            </p:nvSpPr>
            <p:spPr>
              <a:xfrm flipV="1">
                <a:off x="3491640" y="4833720"/>
                <a:ext cx="424440" cy="528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5"/>
              <p:cNvSpPr/>
              <p:nvPr/>
            </p:nvSpPr>
            <p:spPr>
              <a:xfrm flipV="1">
                <a:off x="3920400" y="4863960"/>
                <a:ext cx="228600" cy="137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6"/>
              <p:cNvSpPr/>
              <p:nvPr/>
            </p:nvSpPr>
            <p:spPr>
              <a:xfrm flipV="1">
                <a:off x="3499560" y="4950360"/>
                <a:ext cx="194760" cy="2142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7"/>
              <p:cNvSpPr/>
              <p:nvPr/>
            </p:nvSpPr>
            <p:spPr>
              <a:xfrm flipV="1">
                <a:off x="1123920" y="5003280"/>
                <a:ext cx="267840" cy="267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8"/>
              <p:cNvSpPr/>
              <p:nvPr/>
            </p:nvSpPr>
            <p:spPr>
              <a:xfrm flipV="1">
                <a:off x="1529280" y="5014440"/>
                <a:ext cx="284760" cy="292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9"/>
              <p:cNvSpPr/>
              <p:nvPr/>
            </p:nvSpPr>
            <p:spPr>
              <a:xfrm flipV="1">
                <a:off x="2067120" y="5019840"/>
                <a:ext cx="212760" cy="130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40"/>
              <p:cNvSpPr/>
              <p:nvPr/>
            </p:nvSpPr>
            <p:spPr>
              <a:xfrm flipV="1">
                <a:off x="3001680" y="5042160"/>
                <a:ext cx="252000" cy="257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1"/>
              <p:cNvSpPr/>
              <p:nvPr/>
            </p:nvSpPr>
            <p:spPr>
              <a:xfrm flipV="1">
                <a:off x="3951720" y="5042160"/>
                <a:ext cx="243000" cy="258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42"/>
              <p:cNvSpPr/>
              <p:nvPr/>
            </p:nvSpPr>
            <p:spPr>
              <a:xfrm flipV="1">
                <a:off x="2611080" y="5055120"/>
                <a:ext cx="244080" cy="258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43"/>
              <p:cNvSpPr/>
              <p:nvPr/>
            </p:nvSpPr>
            <p:spPr>
              <a:xfrm flipV="1">
                <a:off x="1992960" y="5099400"/>
                <a:ext cx="209160" cy="177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4"/>
              <p:cNvSpPr/>
              <p:nvPr/>
            </p:nvSpPr>
            <p:spPr>
              <a:xfrm flipV="1">
                <a:off x="1964160" y="5095080"/>
                <a:ext cx="541080" cy="283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5"/>
              <p:cNvSpPr/>
              <p:nvPr/>
            </p:nvSpPr>
            <p:spPr>
              <a:xfrm flipV="1">
                <a:off x="828720" y="5243400"/>
                <a:ext cx="1461960" cy="959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6"/>
              <p:cNvSpPr/>
              <p:nvPr/>
            </p:nvSpPr>
            <p:spPr>
              <a:xfrm flipV="1">
                <a:off x="2459520" y="5275440"/>
                <a:ext cx="539640" cy="580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47"/>
              <p:cNvSpPr/>
              <p:nvPr/>
            </p:nvSpPr>
            <p:spPr>
              <a:xfrm flipV="1">
                <a:off x="3845880" y="5270040"/>
                <a:ext cx="546120" cy="5853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48"/>
              <p:cNvSpPr/>
              <p:nvPr/>
            </p:nvSpPr>
            <p:spPr>
              <a:xfrm flipV="1">
                <a:off x="2060640" y="5318640"/>
                <a:ext cx="294120" cy="219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9"/>
              <p:cNvSpPr/>
              <p:nvPr/>
            </p:nvSpPr>
            <p:spPr>
              <a:xfrm flipV="1">
                <a:off x="2386080" y="5308560"/>
                <a:ext cx="295200" cy="2667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0"/>
              <p:cNvSpPr/>
              <p:nvPr/>
            </p:nvSpPr>
            <p:spPr>
              <a:xfrm flipV="1">
                <a:off x="4006440" y="5328000"/>
                <a:ext cx="399960" cy="1083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1"/>
              <p:cNvSpPr/>
              <p:nvPr/>
            </p:nvSpPr>
            <p:spPr>
              <a:xfrm flipV="1">
                <a:off x="2324880" y="5352480"/>
                <a:ext cx="116280" cy="70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2"/>
              <p:cNvSpPr/>
              <p:nvPr/>
            </p:nvSpPr>
            <p:spPr>
              <a:xfrm flipV="1">
                <a:off x="2154960" y="5389200"/>
                <a:ext cx="73080" cy="48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3"/>
              <p:cNvSpPr/>
              <p:nvPr/>
            </p:nvSpPr>
            <p:spPr>
              <a:xfrm flipV="1">
                <a:off x="2662200" y="5834520"/>
                <a:ext cx="412560" cy="3517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4"/>
              <p:cNvSpPr/>
              <p:nvPr/>
            </p:nvSpPr>
            <p:spPr>
              <a:xfrm flipV="1">
                <a:off x="3098520" y="5835600"/>
                <a:ext cx="168480" cy="345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"/>
              <p:cNvSpPr/>
              <p:nvPr/>
            </p:nvSpPr>
            <p:spPr>
              <a:xfrm flipV="1">
                <a:off x="3764880" y="5836320"/>
                <a:ext cx="455760" cy="3427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6"/>
              <p:cNvSpPr/>
              <p:nvPr/>
            </p:nvSpPr>
            <p:spPr>
              <a:xfrm flipV="1">
                <a:off x="2379600" y="5859360"/>
                <a:ext cx="280800" cy="329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2" name="组合 101"/>
          <p:cNvGrpSpPr/>
          <p:nvPr/>
        </p:nvGrpSpPr>
        <p:grpSpPr>
          <a:xfrm>
            <a:off x="4919760" y="5056200"/>
            <a:ext cx="1276200" cy="1182240"/>
            <a:chOff x="4919760" y="5056200"/>
            <a:chExt cx="1276200" cy="1182240"/>
          </a:xfrm>
        </p:grpSpPr>
        <p:sp>
          <p:nvSpPr>
            <p:cNvPr id="753" name="Freeform 60"/>
            <p:cNvSpPr/>
            <p:nvPr/>
          </p:nvSpPr>
          <p:spPr>
            <a:xfrm flipV="1">
              <a:off x="5797800" y="5056200"/>
              <a:ext cx="257040" cy="257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1"/>
            <p:cNvSpPr/>
            <p:nvPr/>
          </p:nvSpPr>
          <p:spPr>
            <a:xfrm flipV="1">
              <a:off x="5146200" y="5181840"/>
              <a:ext cx="272880" cy="3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2"/>
            <p:cNvSpPr/>
            <p:nvPr/>
          </p:nvSpPr>
          <p:spPr>
            <a:xfrm flipV="1">
              <a:off x="4919760" y="5256720"/>
              <a:ext cx="584640" cy="3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"/>
            <p:cNvSpPr/>
            <p:nvPr/>
          </p:nvSpPr>
          <p:spPr>
            <a:xfrm flipV="1">
              <a:off x="5399280" y="5287320"/>
              <a:ext cx="796680" cy="950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4"/>
            <p:cNvSpPr/>
            <p:nvPr/>
          </p:nvSpPr>
          <p:spPr>
            <a:xfrm flipV="1">
              <a:off x="4990320" y="5331960"/>
              <a:ext cx="274320" cy="31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5"/>
            <p:cNvSpPr/>
            <p:nvPr/>
          </p:nvSpPr>
          <p:spPr>
            <a:xfrm flipV="1">
              <a:off x="5735160" y="5361480"/>
              <a:ext cx="354240" cy="203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60"/>
          <p:cNvGrpSpPr/>
          <p:nvPr/>
        </p:nvGrpSpPr>
        <p:grpSpPr>
          <a:xfrm>
            <a:off x="9634680" y="4606920"/>
            <a:ext cx="1787040" cy="1615320"/>
            <a:chOff x="9634680" y="4606920"/>
            <a:chExt cx="1787040" cy="1615320"/>
          </a:xfrm>
        </p:grpSpPr>
        <p:grpSp>
          <p:nvGrpSpPr>
            <p:cNvPr id="760" name="Group 63"/>
            <p:cNvGrpSpPr/>
            <p:nvPr/>
          </p:nvGrpSpPr>
          <p:grpSpPr>
            <a:xfrm>
              <a:off x="9846720" y="5565960"/>
              <a:ext cx="1361520" cy="251280"/>
              <a:chOff x="9846720" y="5565960"/>
              <a:chExt cx="1361520" cy="251280"/>
            </a:xfrm>
          </p:grpSpPr>
          <p:sp>
            <p:nvSpPr>
              <p:cNvPr id="761" name="Freeform 61"/>
              <p:cNvSpPr/>
              <p:nvPr/>
            </p:nvSpPr>
            <p:spPr>
              <a:xfrm flipV="1">
                <a:off x="9846720" y="5566320"/>
                <a:ext cx="251640" cy="2502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62"/>
              <p:cNvSpPr/>
              <p:nvPr/>
            </p:nvSpPr>
            <p:spPr>
              <a:xfrm flipV="1">
                <a:off x="10955160" y="5565960"/>
                <a:ext cx="253080" cy="251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82"/>
            <p:cNvGrpSpPr/>
            <p:nvPr/>
          </p:nvGrpSpPr>
          <p:grpSpPr>
            <a:xfrm>
              <a:off x="9634680" y="4606920"/>
              <a:ext cx="1787040" cy="1615320"/>
              <a:chOff x="9634680" y="4606920"/>
              <a:chExt cx="1787040" cy="1615320"/>
            </a:xfrm>
          </p:grpSpPr>
          <p:sp>
            <p:nvSpPr>
              <p:cNvPr id="764" name="Freeform 64"/>
              <p:cNvSpPr/>
              <p:nvPr/>
            </p:nvSpPr>
            <p:spPr>
              <a:xfrm flipV="1">
                <a:off x="9732600" y="4609800"/>
                <a:ext cx="487800" cy="451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65"/>
              <p:cNvSpPr/>
              <p:nvPr/>
            </p:nvSpPr>
            <p:spPr>
              <a:xfrm flipV="1">
                <a:off x="10078200" y="4606920"/>
                <a:ext cx="278280" cy="2793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66"/>
              <p:cNvSpPr/>
              <p:nvPr/>
            </p:nvSpPr>
            <p:spPr>
              <a:xfrm flipV="1">
                <a:off x="10207800" y="4892400"/>
                <a:ext cx="38880" cy="46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67"/>
              <p:cNvSpPr/>
              <p:nvPr/>
            </p:nvSpPr>
            <p:spPr>
              <a:xfrm flipV="1">
                <a:off x="10248480" y="4892400"/>
                <a:ext cx="41760" cy="46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68"/>
              <p:cNvSpPr/>
              <p:nvPr/>
            </p:nvSpPr>
            <p:spPr>
              <a:xfrm flipV="1">
                <a:off x="9727200" y="4889880"/>
                <a:ext cx="1600560" cy="1003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69"/>
              <p:cNvSpPr/>
              <p:nvPr/>
            </p:nvSpPr>
            <p:spPr>
              <a:xfrm flipV="1">
                <a:off x="10229400" y="4937400"/>
                <a:ext cx="58320" cy="568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"/>
              <p:cNvSpPr/>
              <p:nvPr/>
            </p:nvSpPr>
            <p:spPr>
              <a:xfrm flipV="1">
                <a:off x="10229400" y="4972680"/>
                <a:ext cx="58320" cy="568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1"/>
              <p:cNvSpPr/>
              <p:nvPr/>
            </p:nvSpPr>
            <p:spPr>
              <a:xfrm flipV="1">
                <a:off x="10240920" y="5010840"/>
                <a:ext cx="30240" cy="51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2"/>
              <p:cNvSpPr/>
              <p:nvPr/>
            </p:nvSpPr>
            <p:spPr>
              <a:xfrm flipV="1">
                <a:off x="10111320" y="5160960"/>
                <a:ext cx="274320" cy="2779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73"/>
              <p:cNvSpPr/>
              <p:nvPr/>
            </p:nvSpPr>
            <p:spPr>
              <a:xfrm flipV="1">
                <a:off x="10680840" y="5161320"/>
                <a:ext cx="268200" cy="167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74"/>
              <p:cNvSpPr/>
              <p:nvPr/>
            </p:nvSpPr>
            <p:spPr>
              <a:xfrm flipV="1">
                <a:off x="10436760" y="5171040"/>
                <a:ext cx="176400" cy="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5"/>
              <p:cNvSpPr/>
              <p:nvPr/>
            </p:nvSpPr>
            <p:spPr>
              <a:xfrm flipV="1">
                <a:off x="9634680" y="5315040"/>
                <a:ext cx="257760" cy="152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6"/>
              <p:cNvSpPr/>
              <p:nvPr/>
            </p:nvSpPr>
            <p:spPr>
              <a:xfrm flipV="1">
                <a:off x="10567800" y="5342400"/>
                <a:ext cx="326520" cy="96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7"/>
              <p:cNvSpPr/>
              <p:nvPr/>
            </p:nvSpPr>
            <p:spPr>
              <a:xfrm flipV="1">
                <a:off x="10862640" y="5339160"/>
                <a:ext cx="203040" cy="99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8"/>
              <p:cNvSpPr/>
              <p:nvPr/>
            </p:nvSpPr>
            <p:spPr>
              <a:xfrm flipV="1">
                <a:off x="11163960" y="5313600"/>
                <a:ext cx="257760" cy="152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79"/>
              <p:cNvSpPr/>
              <p:nvPr/>
            </p:nvSpPr>
            <p:spPr>
              <a:xfrm flipV="1">
                <a:off x="9872280" y="5597280"/>
                <a:ext cx="190440" cy="19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80"/>
              <p:cNvSpPr/>
              <p:nvPr/>
            </p:nvSpPr>
            <p:spPr>
              <a:xfrm flipV="1">
                <a:off x="10982160" y="5596560"/>
                <a:ext cx="190800" cy="198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1"/>
              <p:cNvSpPr/>
              <p:nvPr/>
            </p:nvSpPr>
            <p:spPr>
              <a:xfrm flipV="1">
                <a:off x="9705600" y="5918400"/>
                <a:ext cx="1644840" cy="303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2" name="Group 85"/>
          <p:cNvGrpSpPr/>
          <p:nvPr/>
        </p:nvGrpSpPr>
        <p:grpSpPr>
          <a:xfrm>
            <a:off x="9860040" y="515520"/>
            <a:ext cx="1796760" cy="1445760"/>
            <a:chOff x="9860040" y="515520"/>
            <a:chExt cx="1796760" cy="1445760"/>
          </a:xfrm>
        </p:grpSpPr>
        <p:sp>
          <p:nvSpPr>
            <p:cNvPr id="783" name="Freeform 86"/>
            <p:cNvSpPr/>
            <p:nvPr/>
          </p:nvSpPr>
          <p:spPr>
            <a:xfrm flipV="1">
              <a:off x="10404000" y="514800"/>
              <a:ext cx="707400" cy="1443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87"/>
            <p:cNvSpPr/>
            <p:nvPr/>
          </p:nvSpPr>
          <p:spPr>
            <a:xfrm flipV="1">
              <a:off x="10008360" y="608040"/>
              <a:ext cx="297720" cy="288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88"/>
            <p:cNvSpPr/>
            <p:nvPr/>
          </p:nvSpPr>
          <p:spPr>
            <a:xfrm flipV="1">
              <a:off x="11201400" y="608040"/>
              <a:ext cx="303120" cy="286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89"/>
            <p:cNvSpPr/>
            <p:nvPr/>
          </p:nvSpPr>
          <p:spPr>
            <a:xfrm flipV="1">
              <a:off x="10605600" y="632520"/>
              <a:ext cx="284040" cy="30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0"/>
            <p:cNvSpPr/>
            <p:nvPr/>
          </p:nvSpPr>
          <p:spPr>
            <a:xfrm flipV="1">
              <a:off x="9860040" y="903240"/>
              <a:ext cx="406800" cy="488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1"/>
            <p:cNvSpPr/>
            <p:nvPr/>
          </p:nvSpPr>
          <p:spPr>
            <a:xfrm flipV="1">
              <a:off x="9950760" y="889920"/>
              <a:ext cx="550800" cy="1065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2"/>
            <p:cNvSpPr/>
            <p:nvPr/>
          </p:nvSpPr>
          <p:spPr>
            <a:xfrm flipV="1">
              <a:off x="11008080" y="903600"/>
              <a:ext cx="565560" cy="1057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3"/>
            <p:cNvSpPr/>
            <p:nvPr/>
          </p:nvSpPr>
          <p:spPr>
            <a:xfrm flipV="1">
              <a:off x="11246400" y="900720"/>
              <a:ext cx="410400" cy="489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4"/>
            <p:cNvSpPr/>
            <p:nvPr/>
          </p:nvSpPr>
          <p:spPr>
            <a:xfrm flipV="1">
              <a:off x="10712880" y="930600"/>
              <a:ext cx="42120" cy="51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95"/>
            <p:cNvSpPr/>
            <p:nvPr/>
          </p:nvSpPr>
          <p:spPr>
            <a:xfrm flipV="1">
              <a:off x="10759320" y="932400"/>
              <a:ext cx="42120" cy="50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96"/>
            <p:cNvSpPr/>
            <p:nvPr/>
          </p:nvSpPr>
          <p:spPr>
            <a:xfrm flipV="1">
              <a:off x="10737360" y="980640"/>
              <a:ext cx="61200" cy="61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97"/>
            <p:cNvSpPr/>
            <p:nvPr/>
          </p:nvSpPr>
          <p:spPr>
            <a:xfrm flipV="1">
              <a:off x="10737360" y="1016280"/>
              <a:ext cx="61200" cy="62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98"/>
            <p:cNvSpPr/>
            <p:nvPr/>
          </p:nvSpPr>
          <p:spPr>
            <a:xfrm flipV="1">
              <a:off x="10729440" y="1064880"/>
              <a:ext cx="75960" cy="59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05"/>
          <p:cNvGrpSpPr/>
          <p:nvPr/>
        </p:nvGrpSpPr>
        <p:grpSpPr>
          <a:xfrm>
            <a:off x="957240" y="2457000"/>
            <a:ext cx="2281320" cy="1713240"/>
            <a:chOff x="957240" y="2457000"/>
            <a:chExt cx="2281320" cy="1713240"/>
          </a:xfrm>
        </p:grpSpPr>
        <p:sp>
          <p:nvSpPr>
            <p:cNvPr id="797" name="Freeform 106"/>
            <p:cNvSpPr/>
            <p:nvPr/>
          </p:nvSpPr>
          <p:spPr>
            <a:xfrm flipV="1">
              <a:off x="1878120" y="2456640"/>
              <a:ext cx="514080" cy="102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 flipV="1">
              <a:off x="1019160" y="3603600"/>
              <a:ext cx="279360" cy="285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 flipV="1">
              <a:off x="1495440" y="3618000"/>
              <a:ext cx="255600" cy="263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 flipV="1">
              <a:off x="1963800" y="3612240"/>
              <a:ext cx="257040" cy="289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 flipV="1">
              <a:off x="2414520" y="3623400"/>
              <a:ext cx="289080" cy="257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11"/>
            <p:cNvSpPr/>
            <p:nvPr/>
          </p:nvSpPr>
          <p:spPr>
            <a:xfrm flipV="1">
              <a:off x="2895480" y="3628080"/>
              <a:ext cx="268560" cy="243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12"/>
            <p:cNvSpPr/>
            <p:nvPr/>
          </p:nvSpPr>
          <p:spPr>
            <a:xfrm flipV="1">
              <a:off x="957240" y="3848760"/>
              <a:ext cx="403200" cy="319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13"/>
            <p:cNvSpPr/>
            <p:nvPr/>
          </p:nvSpPr>
          <p:spPr>
            <a:xfrm flipV="1">
              <a:off x="1433520" y="3869640"/>
              <a:ext cx="404640" cy="299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14"/>
            <p:cNvSpPr/>
            <p:nvPr/>
          </p:nvSpPr>
          <p:spPr>
            <a:xfrm flipV="1">
              <a:off x="1892160" y="3847320"/>
              <a:ext cx="412920" cy="320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15"/>
            <p:cNvSpPr/>
            <p:nvPr/>
          </p:nvSpPr>
          <p:spPr>
            <a:xfrm flipV="1">
              <a:off x="2365200" y="3852720"/>
              <a:ext cx="401760" cy="317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16"/>
            <p:cNvSpPr/>
            <p:nvPr/>
          </p:nvSpPr>
          <p:spPr>
            <a:xfrm flipV="1">
              <a:off x="2835360" y="3847320"/>
              <a:ext cx="403200" cy="322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4"/>
          <p:cNvGrpSpPr/>
          <p:nvPr/>
        </p:nvGrpSpPr>
        <p:grpSpPr>
          <a:xfrm>
            <a:off x="1511280" y="1028520"/>
            <a:ext cx="1217520" cy="1672920"/>
            <a:chOff x="1511280" y="1028520"/>
            <a:chExt cx="1217520" cy="1672920"/>
          </a:xfrm>
        </p:grpSpPr>
        <p:sp>
          <p:nvSpPr>
            <p:cNvPr id="809" name="Freeform 5"/>
            <p:cNvSpPr/>
            <p:nvPr/>
          </p:nvSpPr>
          <p:spPr>
            <a:xfrm flipV="1">
              <a:off x="1898640" y="1028160"/>
              <a:ext cx="250920" cy="78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"/>
            <p:cNvSpPr/>
            <p:nvPr/>
          </p:nvSpPr>
          <p:spPr>
            <a:xfrm flipV="1">
              <a:off x="1803240" y="1076040"/>
              <a:ext cx="39960" cy="158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"/>
            <p:cNvSpPr/>
            <p:nvPr/>
          </p:nvSpPr>
          <p:spPr>
            <a:xfrm flipV="1">
              <a:off x="1511280" y="1079280"/>
              <a:ext cx="1217520" cy="162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"/>
            <p:cNvSpPr/>
            <p:nvPr/>
          </p:nvSpPr>
          <p:spPr>
            <a:xfrm flipV="1">
              <a:off x="1855800" y="1119960"/>
              <a:ext cx="770040" cy="70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9"/>
            <p:cNvSpPr/>
            <p:nvPr/>
          </p:nvSpPr>
          <p:spPr>
            <a:xfrm flipV="1">
              <a:off x="1865160" y="1204560"/>
              <a:ext cx="316080" cy="15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2"/>
          <p:cNvGrpSpPr/>
          <p:nvPr/>
        </p:nvGrpSpPr>
        <p:grpSpPr>
          <a:xfrm>
            <a:off x="3524400" y="1095120"/>
            <a:ext cx="1979640" cy="1392480"/>
            <a:chOff x="3524400" y="1095120"/>
            <a:chExt cx="1979640" cy="1392480"/>
          </a:xfrm>
        </p:grpSpPr>
        <p:sp>
          <p:nvSpPr>
            <p:cNvPr id="815" name="Freeform 13"/>
            <p:cNvSpPr/>
            <p:nvPr/>
          </p:nvSpPr>
          <p:spPr>
            <a:xfrm flipV="1">
              <a:off x="3922920" y="1094760"/>
              <a:ext cx="681120" cy="345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"/>
            <p:cNvSpPr/>
            <p:nvPr/>
          </p:nvSpPr>
          <p:spPr>
            <a:xfrm flipV="1">
              <a:off x="3524400" y="1213920"/>
              <a:ext cx="1297080" cy="733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"/>
            <p:cNvSpPr/>
            <p:nvPr/>
          </p:nvSpPr>
          <p:spPr>
            <a:xfrm flipV="1">
              <a:off x="4084920" y="1355760"/>
              <a:ext cx="333360" cy="222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6"/>
            <p:cNvSpPr/>
            <p:nvPr/>
          </p:nvSpPr>
          <p:spPr>
            <a:xfrm flipV="1">
              <a:off x="3622680" y="1423800"/>
              <a:ext cx="1509840" cy="1063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"/>
            <p:cNvSpPr/>
            <p:nvPr/>
          </p:nvSpPr>
          <p:spPr>
            <a:xfrm flipV="1">
              <a:off x="4216680" y="1580400"/>
              <a:ext cx="193680" cy="111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8"/>
            <p:cNvSpPr/>
            <p:nvPr/>
          </p:nvSpPr>
          <p:spPr>
            <a:xfrm flipV="1">
              <a:off x="4861080" y="1967040"/>
              <a:ext cx="642960" cy="42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21"/>
          <p:cNvGrpSpPr/>
          <p:nvPr/>
        </p:nvGrpSpPr>
        <p:grpSpPr>
          <a:xfrm>
            <a:off x="6543720" y="1089000"/>
            <a:ext cx="1287360" cy="1509480"/>
            <a:chOff x="6543720" y="1089000"/>
            <a:chExt cx="1287360" cy="1509480"/>
          </a:xfrm>
        </p:grpSpPr>
        <p:sp>
          <p:nvSpPr>
            <p:cNvPr id="822" name="Freeform 22"/>
            <p:cNvSpPr/>
            <p:nvPr/>
          </p:nvSpPr>
          <p:spPr>
            <a:xfrm flipV="1">
              <a:off x="7161120" y="1089000"/>
              <a:ext cx="322560" cy="333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3"/>
            <p:cNvSpPr/>
            <p:nvPr/>
          </p:nvSpPr>
          <p:spPr>
            <a:xfrm flipV="1">
              <a:off x="6972480" y="1374840"/>
              <a:ext cx="703080" cy="504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4"/>
            <p:cNvSpPr/>
            <p:nvPr/>
          </p:nvSpPr>
          <p:spPr>
            <a:xfrm flipV="1">
              <a:off x="7156440" y="1865160"/>
              <a:ext cx="333360" cy="100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5"/>
            <p:cNvSpPr/>
            <p:nvPr/>
          </p:nvSpPr>
          <p:spPr>
            <a:xfrm flipV="1">
              <a:off x="6811920" y="1938240"/>
              <a:ext cx="455760" cy="657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6"/>
            <p:cNvSpPr/>
            <p:nvPr/>
          </p:nvSpPr>
          <p:spPr>
            <a:xfrm flipV="1">
              <a:off x="7378920" y="1937520"/>
              <a:ext cx="452160" cy="66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7"/>
            <p:cNvSpPr/>
            <p:nvPr/>
          </p:nvSpPr>
          <p:spPr>
            <a:xfrm flipV="1">
              <a:off x="7223040" y="1967040"/>
              <a:ext cx="200160" cy="311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 flipV="1">
              <a:off x="6543720" y="2451240"/>
              <a:ext cx="30240" cy="63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31"/>
          <p:cNvGrpSpPr/>
          <p:nvPr/>
        </p:nvGrpSpPr>
        <p:grpSpPr>
          <a:xfrm>
            <a:off x="9358200" y="961560"/>
            <a:ext cx="952560" cy="1670040"/>
            <a:chOff x="9358200" y="961560"/>
            <a:chExt cx="952560" cy="1670040"/>
          </a:xfrm>
        </p:grpSpPr>
        <p:sp>
          <p:nvSpPr>
            <p:cNvPr id="830" name="Freeform 32"/>
            <p:cNvSpPr/>
            <p:nvPr/>
          </p:nvSpPr>
          <p:spPr>
            <a:xfrm flipV="1">
              <a:off x="9566280" y="961200"/>
              <a:ext cx="353880" cy="344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3"/>
            <p:cNvSpPr/>
            <p:nvPr/>
          </p:nvSpPr>
          <p:spPr>
            <a:xfrm flipV="1">
              <a:off x="9891720" y="1130040"/>
              <a:ext cx="419040" cy="144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4"/>
            <p:cNvSpPr/>
            <p:nvPr/>
          </p:nvSpPr>
          <p:spPr>
            <a:xfrm flipV="1">
              <a:off x="9358200" y="1150920"/>
              <a:ext cx="225360" cy="233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5"/>
            <p:cNvSpPr/>
            <p:nvPr/>
          </p:nvSpPr>
          <p:spPr>
            <a:xfrm flipV="1">
              <a:off x="9853560" y="1230120"/>
              <a:ext cx="380880" cy="206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6"/>
            <p:cNvSpPr/>
            <p:nvPr/>
          </p:nvSpPr>
          <p:spPr>
            <a:xfrm flipV="1">
              <a:off x="9389880" y="1324800"/>
              <a:ext cx="701640" cy="1306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7"/>
            <p:cNvSpPr/>
            <p:nvPr/>
          </p:nvSpPr>
          <p:spPr>
            <a:xfrm flipV="1">
              <a:off x="9986760" y="1990800"/>
              <a:ext cx="150840" cy="141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40"/>
          <p:cNvGrpSpPr/>
          <p:nvPr/>
        </p:nvGrpSpPr>
        <p:grpSpPr>
          <a:xfrm>
            <a:off x="1019160" y="4152600"/>
            <a:ext cx="1608120" cy="1439280"/>
            <a:chOff x="1019160" y="4152600"/>
            <a:chExt cx="1608120" cy="1439280"/>
          </a:xfrm>
        </p:grpSpPr>
        <p:sp>
          <p:nvSpPr>
            <p:cNvPr id="837" name="Freeform 41"/>
            <p:cNvSpPr/>
            <p:nvPr/>
          </p:nvSpPr>
          <p:spPr>
            <a:xfrm flipV="1">
              <a:off x="1160280" y="4347720"/>
              <a:ext cx="114480" cy="110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57"/>
            <p:cNvGrpSpPr/>
            <p:nvPr/>
          </p:nvGrpSpPr>
          <p:grpSpPr>
            <a:xfrm>
              <a:off x="1019160" y="4152600"/>
              <a:ext cx="1608120" cy="1439280"/>
              <a:chOff x="1019160" y="4152600"/>
              <a:chExt cx="1608120" cy="1439280"/>
            </a:xfrm>
          </p:grpSpPr>
          <p:sp>
            <p:nvSpPr>
              <p:cNvPr id="839" name="Freeform 42"/>
              <p:cNvSpPr/>
              <p:nvPr/>
            </p:nvSpPr>
            <p:spPr>
              <a:xfrm flipV="1">
                <a:off x="1249200" y="4152240"/>
                <a:ext cx="223920" cy="239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3"/>
              <p:cNvSpPr/>
              <p:nvPr/>
            </p:nvSpPr>
            <p:spPr>
              <a:xfrm flipV="1">
                <a:off x="1309680" y="4184280"/>
                <a:ext cx="314280" cy="318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4"/>
              <p:cNvSpPr/>
              <p:nvPr/>
            </p:nvSpPr>
            <p:spPr>
              <a:xfrm flipV="1">
                <a:off x="2473200" y="4155840"/>
                <a:ext cx="154080" cy="159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5"/>
              <p:cNvSpPr/>
              <p:nvPr/>
            </p:nvSpPr>
            <p:spPr>
              <a:xfrm flipV="1">
                <a:off x="2397240" y="4178160"/>
                <a:ext cx="169560" cy="183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6"/>
              <p:cNvSpPr/>
              <p:nvPr/>
            </p:nvSpPr>
            <p:spPr>
              <a:xfrm flipV="1">
                <a:off x="1996920" y="4190040"/>
                <a:ext cx="149400" cy="145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7"/>
              <p:cNvSpPr/>
              <p:nvPr/>
            </p:nvSpPr>
            <p:spPr>
              <a:xfrm flipV="1">
                <a:off x="2333520" y="4241520"/>
                <a:ext cx="160560" cy="156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8"/>
              <p:cNvSpPr/>
              <p:nvPr/>
            </p:nvSpPr>
            <p:spPr>
              <a:xfrm flipV="1">
                <a:off x="1960560" y="4256640"/>
                <a:ext cx="101520" cy="129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9"/>
              <p:cNvSpPr/>
              <p:nvPr/>
            </p:nvSpPr>
            <p:spPr>
              <a:xfrm flipV="1">
                <a:off x="1266840" y="4277160"/>
                <a:ext cx="1157400" cy="1029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50"/>
              <p:cNvSpPr/>
              <p:nvPr/>
            </p:nvSpPr>
            <p:spPr>
              <a:xfrm flipV="1">
                <a:off x="1913040" y="4307400"/>
                <a:ext cx="83880" cy="11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51"/>
              <p:cNvSpPr/>
              <p:nvPr/>
            </p:nvSpPr>
            <p:spPr>
              <a:xfrm flipV="1">
                <a:off x="1019160" y="4311360"/>
                <a:ext cx="274680" cy="490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52"/>
              <p:cNvSpPr/>
              <p:nvPr/>
            </p:nvSpPr>
            <p:spPr>
              <a:xfrm flipV="1">
                <a:off x="1573200" y="4662360"/>
                <a:ext cx="93600" cy="120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53"/>
              <p:cNvSpPr/>
              <p:nvPr/>
            </p:nvSpPr>
            <p:spPr>
              <a:xfrm flipV="1">
                <a:off x="1515960" y="4682160"/>
                <a:ext cx="60480" cy="11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54"/>
              <p:cNvSpPr/>
              <p:nvPr/>
            </p:nvSpPr>
            <p:spPr>
              <a:xfrm flipV="1">
                <a:off x="1743120" y="5317920"/>
                <a:ext cx="172800" cy="66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55"/>
              <p:cNvSpPr/>
              <p:nvPr/>
            </p:nvSpPr>
            <p:spPr>
              <a:xfrm flipV="1">
                <a:off x="1746360" y="5399640"/>
                <a:ext cx="179280" cy="85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56"/>
              <p:cNvSpPr/>
              <p:nvPr/>
            </p:nvSpPr>
            <p:spPr>
              <a:xfrm flipV="1">
                <a:off x="1752480" y="5499720"/>
                <a:ext cx="176400" cy="91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Group 60"/>
          <p:cNvGrpSpPr/>
          <p:nvPr/>
        </p:nvGrpSpPr>
        <p:grpSpPr>
          <a:xfrm>
            <a:off x="3670200" y="3045960"/>
            <a:ext cx="2556000" cy="2738520"/>
            <a:chOff x="3670200" y="3045960"/>
            <a:chExt cx="2556000" cy="2738520"/>
          </a:xfrm>
        </p:grpSpPr>
        <p:sp>
          <p:nvSpPr>
            <p:cNvPr id="855" name="Freeform 61"/>
            <p:cNvSpPr/>
            <p:nvPr/>
          </p:nvSpPr>
          <p:spPr>
            <a:xfrm flipV="1">
              <a:off x="3670200" y="3045600"/>
              <a:ext cx="2556000" cy="2738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2"/>
            <p:cNvSpPr/>
            <p:nvPr/>
          </p:nvSpPr>
          <p:spPr>
            <a:xfrm flipV="1">
              <a:off x="4708440" y="3154320"/>
              <a:ext cx="439560" cy="457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3"/>
            <p:cNvSpPr/>
            <p:nvPr/>
          </p:nvSpPr>
          <p:spPr>
            <a:xfrm flipV="1">
              <a:off x="3973320" y="3508200"/>
              <a:ext cx="419040" cy="457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4"/>
            <p:cNvSpPr/>
            <p:nvPr/>
          </p:nvSpPr>
          <p:spPr>
            <a:xfrm flipV="1">
              <a:off x="4786200" y="3596400"/>
              <a:ext cx="247680" cy="252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5"/>
            <p:cNvSpPr/>
            <p:nvPr/>
          </p:nvSpPr>
          <p:spPr>
            <a:xfrm flipV="1">
              <a:off x="5505480" y="3581280"/>
              <a:ext cx="420480" cy="447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"/>
            <p:cNvSpPr/>
            <p:nvPr/>
          </p:nvSpPr>
          <p:spPr>
            <a:xfrm flipV="1">
              <a:off x="4043160" y="3952800"/>
              <a:ext cx="247680" cy="249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7"/>
            <p:cNvSpPr/>
            <p:nvPr/>
          </p:nvSpPr>
          <p:spPr>
            <a:xfrm flipV="1">
              <a:off x="5603760" y="4034520"/>
              <a:ext cx="247680" cy="244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90"/>
          <p:cNvGrpSpPr/>
          <p:nvPr/>
        </p:nvGrpSpPr>
        <p:grpSpPr>
          <a:xfrm>
            <a:off x="6978600" y="4270320"/>
            <a:ext cx="1749600" cy="1438200"/>
            <a:chOff x="6978600" y="4270320"/>
            <a:chExt cx="1749600" cy="1438200"/>
          </a:xfrm>
        </p:grpSpPr>
        <p:grpSp>
          <p:nvGrpSpPr>
            <p:cNvPr id="863" name="Group 70"/>
            <p:cNvGrpSpPr/>
            <p:nvPr/>
          </p:nvGrpSpPr>
          <p:grpSpPr>
            <a:xfrm>
              <a:off x="6978600" y="4270320"/>
              <a:ext cx="1749600" cy="1438200"/>
              <a:chOff x="6978600" y="4270320"/>
              <a:chExt cx="1749600" cy="1438200"/>
            </a:xfrm>
          </p:grpSpPr>
          <p:sp>
            <p:nvSpPr>
              <p:cNvPr id="864" name="Freeform 71"/>
              <p:cNvSpPr/>
              <p:nvPr/>
            </p:nvSpPr>
            <p:spPr>
              <a:xfrm flipV="1">
                <a:off x="7845480" y="4818960"/>
                <a:ext cx="74520" cy="73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Group 81"/>
              <p:cNvGrpSpPr/>
              <p:nvPr/>
            </p:nvGrpSpPr>
            <p:grpSpPr>
              <a:xfrm>
                <a:off x="6978600" y="4270320"/>
                <a:ext cx="1749600" cy="1438200"/>
                <a:chOff x="6978600" y="4270320"/>
                <a:chExt cx="1749600" cy="1438200"/>
              </a:xfrm>
            </p:grpSpPr>
            <p:sp>
              <p:nvSpPr>
                <p:cNvPr id="866" name="Freeform 72"/>
                <p:cNvSpPr/>
                <p:nvPr/>
              </p:nvSpPr>
              <p:spPr>
                <a:xfrm flipV="1">
                  <a:off x="7172280" y="4270320"/>
                  <a:ext cx="304920" cy="3096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73"/>
                <p:cNvSpPr/>
                <p:nvPr/>
              </p:nvSpPr>
              <p:spPr>
                <a:xfrm flipV="1">
                  <a:off x="6978600" y="4522680"/>
                  <a:ext cx="1104840" cy="118584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75"/>
                <p:cNvSpPr/>
                <p:nvPr/>
              </p:nvSpPr>
              <p:spPr>
                <a:xfrm flipV="1">
                  <a:off x="8082000" y="5211720"/>
                  <a:ext cx="646200" cy="4968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78"/>
                <p:cNvSpPr/>
                <p:nvPr/>
              </p:nvSpPr>
              <p:spPr>
                <a:xfrm flipV="1">
                  <a:off x="7827840" y="5289480"/>
                  <a:ext cx="439920" cy="4032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79"/>
                <p:cNvSpPr/>
                <p:nvPr/>
              </p:nvSpPr>
              <p:spPr>
                <a:xfrm flipV="1">
                  <a:off x="7789680" y="5313240"/>
                  <a:ext cx="335160" cy="27144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"/>
                <p:cNvSpPr/>
                <p:nvPr/>
              </p:nvSpPr>
              <p:spPr>
                <a:xfrm flipV="1">
                  <a:off x="8184960" y="5544360"/>
                  <a:ext cx="84240" cy="12852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2" name="组合 83"/>
            <p:cNvGrpSpPr/>
            <p:nvPr/>
          </p:nvGrpSpPr>
          <p:grpSpPr>
            <a:xfrm>
              <a:off x="7800840" y="5297400"/>
              <a:ext cx="96480" cy="73800"/>
              <a:chOff x="7800840" y="5297400"/>
              <a:chExt cx="96480" cy="73800"/>
            </a:xfrm>
          </p:grpSpPr>
          <p:sp>
            <p:nvSpPr>
              <p:cNvPr id="873" name="任意多边形 81"/>
              <p:cNvSpPr/>
              <p:nvPr/>
            </p:nvSpPr>
            <p:spPr>
              <a:xfrm rot="20700000">
                <a:off x="7803720" y="5306040"/>
                <a:ext cx="72360" cy="32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任意多边形 82"/>
              <p:cNvSpPr/>
              <p:nvPr/>
            </p:nvSpPr>
            <p:spPr>
              <a:xfrm rot="20700000">
                <a:off x="7822080" y="5329800"/>
                <a:ext cx="72360" cy="32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组合 84"/>
            <p:cNvGrpSpPr/>
            <p:nvPr/>
          </p:nvGrpSpPr>
          <p:grpSpPr>
            <a:xfrm>
              <a:off x="8091720" y="5178960"/>
              <a:ext cx="105120" cy="64080"/>
              <a:chOff x="8091720" y="5178960"/>
              <a:chExt cx="105120" cy="64080"/>
            </a:xfrm>
          </p:grpSpPr>
          <p:sp>
            <p:nvSpPr>
              <p:cNvPr id="876" name="任意多边形 85"/>
              <p:cNvSpPr/>
              <p:nvPr/>
            </p:nvSpPr>
            <p:spPr>
              <a:xfrm rot="20700000">
                <a:off x="8093520" y="5189400"/>
                <a:ext cx="82800" cy="2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任意多边形 86"/>
              <p:cNvSpPr/>
              <p:nvPr/>
            </p:nvSpPr>
            <p:spPr>
              <a:xfrm rot="20700000">
                <a:off x="8111880" y="5207040"/>
                <a:ext cx="82800" cy="2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组合 87"/>
            <p:cNvGrpSpPr/>
            <p:nvPr/>
          </p:nvGrpSpPr>
          <p:grpSpPr>
            <a:xfrm>
              <a:off x="8616240" y="5209920"/>
              <a:ext cx="99360" cy="114120"/>
              <a:chOff x="8616240" y="5209920"/>
              <a:chExt cx="99360" cy="114120"/>
            </a:xfrm>
          </p:grpSpPr>
          <p:sp>
            <p:nvSpPr>
              <p:cNvPr id="879" name="任意多边形 88"/>
              <p:cNvSpPr/>
              <p:nvPr/>
            </p:nvSpPr>
            <p:spPr>
              <a:xfrm rot="2257200">
                <a:off x="8618760" y="5236560"/>
                <a:ext cx="97920" cy="30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任意多边形 89"/>
              <p:cNvSpPr/>
              <p:nvPr/>
            </p:nvSpPr>
            <p:spPr>
              <a:xfrm rot="2257200">
                <a:off x="8615160" y="5266800"/>
                <a:ext cx="97920" cy="30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14:3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4:22Z</dcterms:modified>
  <cp:revision>3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