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DD6-4995-4CEC-B86D-20172B20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43F7-E218-48CB-832F-B586CF62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F08-B546-4B66-B81B-59A1B015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2A9-7889-496C-BED2-70A94CB6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CDE-F70D-4149-827E-09F9C27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C3C6-8179-4C31-90E7-0D6212A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A17-4343-4259-8DC5-80EF9AF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B29-7CFD-42F1-9B03-F172659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244-4D8F-45FD-8012-58E9C46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F07-780F-4CBA-82A9-DCB40CC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EFD-BF41-499D-BDAF-10DF4EB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4F5-A812-4820-99B5-DF2FF48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D566-8198-4488-A041-ACB616F0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1428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95640" y="3068640"/>
            <a:ext cx="1944720" cy="1800360"/>
          </a:xfrm>
          <a:prstGeom prst="ellipse">
            <a:avLst/>
          </a:prstGeom>
          <a:gradFill rotWithShape="0">
            <a:gsLst>
              <a:gs pos="0">
                <a:srgbClr val="ffff99">
                  <a:alpha val="71372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1473400">
            <a:off x="-1192320" y="490680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1473400">
            <a:off x="-1192320" y="490644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0386200">
            <a:off x="7840800" y="7481520"/>
            <a:ext cx="384120" cy="38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0386200">
            <a:off x="7840800" y="748296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762280" y="72468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771640" y="724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 rot="21473400">
            <a:off x="999720" y="732168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 rot="21473400">
            <a:off x="999720" y="732168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 rot="20386200">
            <a:off x="9759960" y="4549680"/>
            <a:ext cx="474480" cy="47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 rot="20386200">
            <a:off x="9758520" y="455148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 flipH="1" rot="5992200">
            <a:off x="531720" y="-889200"/>
            <a:ext cx="317160" cy="3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 flipH="1" rot="6016200">
            <a:off x="541080" y="-89028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-6856560"/>
            <a:ext cx="9144000" cy="6856560"/>
          </a:xfrm>
          <a:prstGeom prst="rect">
            <a:avLst/>
          </a:prstGeom>
          <a:gradFill rotWithShape="0">
            <a:gsLst>
              <a:gs pos="0">
                <a:srgbClr val="000000">
                  <a:alpha val="51372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612360" y="-669960"/>
            <a:ext cx="863640" cy="1339920"/>
          </a:xfrm>
          <a:custGeom>
            <a:avLst/>
            <a:gdLst>
              <a:gd name="textAreaLeft" fmla="*/ 355680 w 863640"/>
              <a:gd name="textAreaRight" fmla="*/ 507960 w 863640"/>
              <a:gd name="textAreaTop" fmla="*/ 552240 h 1339920"/>
              <a:gd name="textAreaBottom" fmla="*/ 787680 h 1339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3887640" y="404640"/>
            <a:ext cx="1366920" cy="1366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0" y="117360"/>
            <a:ext cx="2813040" cy="281160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蝴蝶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080" y="652608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59" dur="10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61" dur="1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63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65" dur="10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1597 -0.01389 0.00434 -0.00093 0.01562 -0.025 C 0.03142 -0.05857 0.01805 -0.02616 0.03437 -0.05394 C 0.03906 -0.06204 0.04149 -0.07176 0.04687 -0.07894 C 0.0743 -0.11551 0.03958 -0.07084 0.06562 -0.1 C 0.08611 -0.12246 0.06371 -0.10139 0.08437 -0.12917 C 0.09253 -0.14005 0.10364 -0.14862 0.1125 -0.15811 C 0.12187 -0.16875 0.13072 -0.18195 0.14062 -0.19144 C 0.14444 -0.19538 0.14947 -0.1963 0.15312 -0.2 C 0.18472 -0.23125 0.14791 -0.20463 0.17812 -0.22477 C 0.18854 -0.24561 0.18125 -0.2345 0.20312 -0.25394 C 0.20538 -0.25602 0.21631 -0.27848 0.21875 -0.28311 C 0.2177 -0.32755 0.2184 -0.37223 0.21562 -0.41644 C 0.21527 -0.42153 0.21111 -0.42454 0.20937 -0.42917 C 0.20798 -0.43311 0.20833 -0.43797 0.20625 -0.44144 C 0.20381 -0.44561 0.19982 -0.44653 0.19687 -0.44977 C 0.17934 -0.46968 0.19722 -0.4588 0.17187 -0.46667 C 0.16354 -0.46922 0.14687 -0.47477 0.14687 -0.47477 C 0.12291 -0.47362 0.09895 -0.47269 0.075 -0.47061 C 0.05173 -0.46875 0.02968 -0.45741 0.00625 -0.45417 C -0.01077 -0.4426 -0.02813 -0.43426 -0.04688 -0.42917 C -0.06007 -0.41158 -0.06216 -0.40255 -0.07188 -0.38311 C -0.07084 -0.36783 -0.07205 -0.35186 -0.06875 -0.33727 C -0.06771 -0.33241 -0.06198 -0.33241 -0.05938 -0.32917 C -0.04375 -0.30811 -0.06667 -0.31945 -0.03438 -0.31227 C 0.01753 -0.2845 0.07291 -0.26875 0.12812 -0.25811 C 0.15173 -0.24769 0.18055 -0.24723 0.20312 -0.2625 C 0.20642 -0.26459 0.20902 -0.26875 0.2125 -0.27084 C 0.21649 -0.27292 0.221 -0.27246 0.225 -0.27477 C 0.24479 -0.28612 0.28055 -0.30718 0.29687 -0.32917 C 0.30625 -0.34144 0.31388 -0.36065 0.32187 -0.37477 C 0.32604 -0.4257 0.32812 -0.43172 0.32187 -0.49584 C 0.32135 -0.50047 0.31753 -0.50394 0.31562 -0.50811 C 0.31163 -0.51737 0.31059 -0.52871 0.30625 -0.53727 C 0.2967 -0.55672 0.28281 -0.57061 0.26875 -0.58311 C 0.2644 -0.58704 0.25833 -0.58565 0.25312 -0.5875 C 0.23715 -0.59213 0.22204 -0.59885 0.20625 -0.60394 C 0.19375 -0.60255 0.18125 -0.60209 0.16875 -0.6 C 0.16128 -0.59838 0.15434 -0.59329 0.14687 -0.59167 C 0.13854 -0.58959 0.1302 -0.58866 0.12187 -0.5875 C 0.071 -0.59167 0.06892 -0.57848 0.05 -0.62917 C 0.05295 -0.65325 0.05729 -0.67778 0.06562 -0.69977 C 0.07152 -0.71551 0.07256 -0.71112 0.08125 -0.725 C 0.09427 -0.74561 0.07968 -0.73033 0.09687 -0.74561 C 0.10781 -0.76783 0.09687 -0.75163 0.11562 -0.76227 C 0.11909 -0.76436 0.1217 -0.76829 0.125 -0.77061 C 0.1427 -0.78264 0.18211 -0.78519 0.2 -0.78727 C 0.25225 -0.78426 0.2552 -0.78681 0.29062 -0.775 C 0.30729 -0.75996 0.29739 -0.77014 0.31875 -0.74167 C 0.32187 -0.7375 0.32812 -0.72894 0.32812 -0.72894 C 0.31684 -0.65325 0.24288 -0.70209 0.19062 -0.70417 C 0.17777 -0.71112 0.17239 -0.71158 0.1625 -0.725 C 0.14444 -0.74908 0.14791 -0.79561 0.14062 -0.825 C 0.14166 -0.83311 0.14166 -0.8419 0.14375 -0.84977 C 0.14583 -0.85834 0.15902 -0.87593 0.1625 -0.87894 C 0.1651 -0.88149 0.16892 -0.88102 0.17187 -0.88311 C 0.17847 -0.88797 0.1835 -0.89676 0.19062 -0.89977 C 0.19375 -0.90139 0.19704 -0.90232 0.2 -0.90417 C 0.21753 -0.91575 0.2342 -0.93033 0.25312 -0.9375 C 0.27152 -0.94445 0.25364 -0.93774 0.27187 -0.94977 C 0.27482 -0.95186 0.27829 -0.95209 0.28125 -0.95417 C 0.28454 -0.95649 0.28715 -0.96088 0.29062 -0.96227 C 0.29861 -0.96644 0.31562 -0.97084 0.31562 -0.97084 C 0.31875 -0.97362 0.32152 -0.97732 0.325 -0.97894 C 0.33923 -0.98612 0.33836 -0.97987 0.35 -0.9875 C 0.35329 -0.98982 0.3559 -0.99352 0.35937 -0.99561 C 0.37222 -1.00348 0.38472 -1.00741 0.39687 -1.01644 C 0.40347 -1.0213 0.40885 -1.02871 0.41562 -1.03311 C 0.41979 -1.03588 0.42395 -1.03866 0.42812 -1.04144 C 0.4302 -1.047 0.4342 -1.05186 0.43437 -1.05811 C 0.43524 -1.08866 0.43402 -1.11945 0.43125 -1.14977 C 0.43072 -1.15556 0.41805 -1.17223 0.41562 -1.17477 C 0.40381 -1.18704 0.3901 -1.19607 0.37812 -1.20811 C 0.37395 -1.21227 0.36927 -1.21575 0.36562 -1.22061 C 0.36197 -1.22547 0.36024 -1.23264 0.35625 -1.23727 C 0.35277 -1.24121 0.34774 -1.24237 0.34375 -1.24561 C 0.33784 -1.25047 0.31909 -1.26713 0.3125 -1.27477 C 0.3092 -1.27871 0.30677 -1.2838 0.30312 -1.28727 C 0.2993 -1.29098 0.29427 -1.29167 0.29062 -1.29561 C 0.28368 -1.30301 0.27187 -1.32061 0.27187 -1.32061 C 0.27083 -1.32477 0.26718 -1.3294 0.26875 -1.33311 C 0.27204 -1.34075 0.28437 -1.34977 0.28437 -1.34977 E">
                                      <p:cBhvr>
                                        <p:cTn id="67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1597 -0.01389 0.00434 -0.00093 0.01562 -0.025 C 0.03142 -0.05857 0.01805 -0.02616 0.03437 -0.05394 C 0.03906 -0.06204 0.04149 -0.07176 0.04687 -0.07894 C 0.0743 -0.11551 0.03958 -0.07084 0.06562 -0.1 C 0.08611 -0.12246 0.06371 -0.10139 0.08437 -0.12917 C 0.09253 -0.14005 0.10364 -0.14862 0.1125 -0.15811 C 0.12187 -0.16875 0.13072 -0.18195 0.14062 -0.19144 C 0.14444 -0.19538 0.14947 -0.1963 0.15312 -0.2 C 0.18472 -0.23125 0.14791 -0.20463 0.17812 -0.22477 C 0.18854 -0.24561 0.18125 -0.2345 0.20312 -0.25394 C 0.20538 -0.25602 0.21631 -0.27848 0.21875 -0.28311 C 0.2177 -0.32755 0.2184 -0.37223 0.21562 -0.41644 C 0.21527 -0.42153 0.21111 -0.42454 0.20937 -0.42917 C 0.20798 -0.43311 0.20833 -0.43797 0.20625 -0.44144 C 0.20381 -0.44561 0.19982 -0.44653 0.19687 -0.44977 C 0.17934 -0.46968 0.19722 -0.4588 0.17187 -0.46667 C 0.16354 -0.46922 0.14687 -0.47477 0.14687 -0.47477 C 0.12291 -0.47362 0.09895 -0.47269 0.075 -0.47061 C 0.05173 -0.46875 0.02968 -0.45741 0.00625 -0.45417 C -0.01077 -0.4426 -0.02813 -0.43426 -0.04688 -0.42917 C -0.06007 -0.41158 -0.06216 -0.40255 -0.07188 -0.38311 C -0.07084 -0.36783 -0.07205 -0.35186 -0.06875 -0.33727 C -0.06771 -0.33241 -0.06198 -0.33241 -0.05938 -0.32917 C -0.04375 -0.30811 -0.06667 -0.31945 -0.03438 -0.31227 C 0.01753 -0.2845 0.07291 -0.26875 0.12812 -0.25811 C 0.15173 -0.24769 0.18055 -0.24723 0.20312 -0.2625 C 0.20642 -0.26459 0.20902 -0.26875 0.2125 -0.27084 C 0.21649 -0.27292 0.221 -0.27246 0.225 -0.27477 C 0.24479 -0.28612 0.28055 -0.30718 0.29687 -0.32917 C 0.30625 -0.34144 0.31388 -0.36065 0.32187 -0.37477 C 0.32604 -0.4257 0.32812 -0.43172 0.32187 -0.49584 C 0.32135 -0.50047 0.31753 -0.50394 0.31562 -0.50811 C 0.31163 -0.51737 0.31059 -0.52871 0.30625 -0.53727 C 0.2967 -0.55672 0.28281 -0.57061 0.26875 -0.58311 C 0.2644 -0.58704 0.25833 -0.58565 0.25312 -0.5875 C 0.23715 -0.59213 0.22204 -0.59885 0.20625 -0.60394 C 0.19375 -0.60255 0.18125 -0.60209 0.16875 -0.6 C 0.16128 -0.59838 0.15434 -0.59329 0.14687 -0.59167 C 0.13854 -0.58959 0.1302 -0.58866 0.12187 -0.5875 C 0.071 -0.59167 0.06892 -0.57848 0.05 -0.62917 C 0.05295 -0.65325 0.05729 -0.67778 0.06562 -0.69977 C 0.07152 -0.71551 0.07256 -0.71112 0.08125 -0.725 C 0.09427 -0.74561 0.07968 -0.73033 0.09687 -0.74561 C 0.10781 -0.76783 0.09687 -0.75163 0.11562 -0.76227 C 0.11909 -0.76436 0.1217 -0.76829 0.125 -0.77061 C 0.1427 -0.78264 0.18211 -0.78519 0.2 -0.78727 C 0.25225 -0.78426 0.2552 -0.78681 0.29062 -0.775 C 0.30729 -0.75996 0.29739 -0.77014 0.31875 -0.74167 C 0.32187 -0.7375 0.32812 -0.72894 0.32812 -0.72894 C 0.31684 -0.65325 0.24288 -0.70209 0.19062 -0.70417 C 0.17777 -0.71112 0.17239 -0.71158 0.1625 -0.725 C 0.14444 -0.74908 0.14791 -0.79561 0.14062 -0.825 C 0.14166 -0.83311 0.14166 -0.8419 0.14375 -0.84977 C 0.14583 -0.85834 0.15902 -0.87593 0.1625 -0.87894 C 0.1651 -0.88149 0.16892 -0.88102 0.17187 -0.88311 C 0.17847 -0.88797 0.1835 -0.89676 0.19062 -0.89977 C 0.19375 -0.90139 0.19704 -0.90232 0.2 -0.90417 C 0.21753 -0.91575 0.2342 -0.93033 0.25312 -0.9375 C 0.27152 -0.94445 0.25364 -0.93774 0.27187 -0.94977 C 0.27482 -0.95186 0.27829 -0.95209 0.28125 -0.95417 C 0.28454 -0.95649 0.28715 -0.96088 0.29062 -0.96227 C 0.29861 -0.96644 0.31562 -0.97084 0.31562 -0.97084 C 0.31875 -0.97362 0.32152 -0.97732 0.325 -0.97894 C 0.33923 -0.98612 0.33836 -0.97987 0.35 -0.9875 C 0.35329 -0.98982 0.3559 -0.99352 0.35937 -0.99561 C 0.37222 -1.00348 0.38472 -1.00741 0.39687 -1.01644 C 0.40347 -1.0213 0.40885 -1.02871 0.41562 -1.03311 C 0.41979 -1.03588 0.42395 -1.03866 0.42812 -1.04144 C 0.4302 -1.047 0.4342 -1.05186 0.43437 -1.05811 C 0.43524 -1.08866 0.43402 -1.11945 0.43125 -1.14977 C 0.43072 -1.15556 0.41805 -1.17223 0.41562 -1.17477 C 0.40381 -1.18704 0.3901 -1.19607 0.37812 -1.20811 C 0.37395 -1.21227 0.36927 -1.21575 0.36562 -1.22061 C 0.36197 -1.22547 0.36024 -1.23264 0.35625 -1.23727 C 0.35277 -1.24121 0.34774 -1.24237 0.34375 -1.24561 C 0.33784 -1.25047 0.31909 -1.26713 0.3125 -1.27477 C 0.3092 -1.27871 0.30677 -1.2838 0.30312 -1.28727 C 0.2993 -1.29098 0.29427 -1.29167 0.29062 -1.29561 C 0.28368 -1.30301 0.27187 -1.32061 0.27187 -1.32061 C 0.27083 -1.32477 0.26718 -1.3294 0.26875 -1.33311 C 0.27204 -1.34075 0.28437 -1.34977 0.28437 -1.34977 E">
                                      <p:cBhvr>
                                        <p:cTn id="69" dur="10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71" dur="10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.00139 -0.02222 0.00521 -0.04421 0.00625 -0.06667 C 0.00816 -0.10694 0.00469 -0.14769 0.00938 -0.1875 C 0.01111 -0.20278 0.04063 -0.20833 0.04063 -0.20833 C 0.05208 -0.20694 0.06372 -0.20694 0.075 -0.20417 C 0.08142 -0.20255 0.0875 -0.19861 0.09375 -0.19583 C 0.09688 -0.19444 0.10313 -0.19167 0.10313 -0.19167 C 0.10625 -0.1875 0.11007 -0.18403 0.1125 -0.17917 C 0.11875 -0.16667 0.11198 -0.14884 0.12813 -0.14167 C 0.14149 -0.13565 0.13438 -0.13866 0.15 -0.13333 C 0.15938 -0.125 0.16875 -0.12083 0.17813 -0.1125 C 0.20833 -0.11389 0.23872 -0.11296 0.26875 -0.11667 C 0.27344 -0.11713 0.27726 -0.12176 0.28125 -0.125 C 0.30469 -0.14375 0.32865 -0.16968 0.34375 -0.2 C 0.34045 -0.23588 0.33976 -0.26181 0.31563 -0.28333 C 0.30469 -0.29306 0.29635 -0.30185 0.28438 -0.30833 C 0.2783 -0.31157 0.26563 -0.31667 0.26563 -0.31667 C 0.24792 -0.31528 0.23003 -0.31551 0.2125 -0.3125 C 0.2059 -0.31134 0.2 -0.30694 0.19375 -0.30417 C 0.18663 -0.30093 0.175 -0.2875 0.175 -0.2875 C 0.16719 -0.25648 0.18142 -0.2412 0.19375 -0.21667 C 0.1974 -0.20926 0.2125 -0.20833 0.2125 -0.20833 C 0.27691 -0.21088 0.3092 -0.20718 0.3625 -0.225 C 0.3849 -0.24491 0.37951 -0.23194 0.38438 -0.25833 C 0.38611 -0.29514 0.3816 -0.33634 0.40625 -0.35833 C 0.41563 -0.37708 0.42222 -0.40046 0.43438 -0.41667 C 0.44253 -0.42755 0.45503 -0.42986 0.46563 -0.43333 C 0.48438 -0.43194 0.5033 -0.43264 0.52188 -0.42917 C 0.52813 -0.42801 0.53837 -0.41667 0.54375 -0.4125 C 0.55677 -0.40255 0.56597 -0.3912 0.57813 -0.37917 C 0.57934 -0.37593 0.5875 -0.35602 0.5875 -0.35 C 0.5875 -0.33194 0.58767 -0.31343 0.58438 -0.29583 C 0.5809 -0.27755 0.55122 -0.26944 0.54063 -0.26667 C 0.52292 -0.26806 0.50486 -0.26574 0.4875 -0.27083 C 0.4776 -0.27384 0.48715 -0.29213 0.49375 -0.3 C 0.49722 -0.30417 0.51337 -0.32014 0.52188 -0.32083 C 0.55087 -0.32338 0.58021 -0.32361 0.60938 -0.325 C 0.61233 -0.32593 0.6276 -0.33056 0.63125 -0.33333 C 0.63785 -0.33819 0.65 -0.35 0.65 -0.35 C 0.65208 -0.35417 0.65365 -0.35903 0.65625 -0.36273 C 0.65885 -0.3662 0.66337 -0.36667 0.66563 -0.37083 C 0.66892 -0.37685 0.66979 -0.38472 0.67188 -0.39167 C 0.66892 -0.43773 0.67326 -0.43981 0.65313 -0.46667 C 0.64479 -0.46528 0.63576 -0.46713 0.62813 -0.4625 C 0.62517 -0.46065 0.625 -0.4544 0.625 -0.45 C 0.625 -0.43009 0.62882 -0.43287 0.64063 -0.425 C 0.66667 -0.42639 0.69288 -0.42477 0.71875 -0.42917 C 0.73472 -0.43194 0.7349 -0.44282 0.74688 -0.45 C 0.76076 -0.45833 0.77431 -0.46065 0.7875 -0.47083 C 0.80139 -0.48148 0.81319 -0.50046 0.82813 -0.50833 C 0.83333 -0.51111 0.83889 -0.51296 0.84375 -0.51667 C 0.85625 -0.52593 0.86146 -0.53981 0.875 -0.54583 C 0.87708 -0.55 0.87882 -0.55463 0.88125 -0.55833 C 0.88715 -0.56713 0.9 -0.58333 0.9 -0.58333 C 0.90469 -0.60255 0.90156 -0.61898 0.89688 -0.6375 C 0.90035 -0.66551 0.90347 -0.6838 0.91875 -0.70417 C 0.92431 -0.72662 0.9191 -0.71042 0.93438 -0.7375 C 0.94392 -0.7544 0.94219 -0.7625 0.95625 -0.775 C 0.96354 -0.78958 0.96858 -0.79861 0.98125 -0.80417 C 0.99792 -0.80278 1.01528 -0.80671 1.03125 -0.8 C 1.03976 -0.79653 1.05 -0.775 1.05 -0.775 C 1.05104 -0.77083 1.05434 -0.76667 1.05313 -0.7625 C 1.04878 -0.74815 1.04045 -0.75556 1.03438 -0.75833 C 1.03229 -0.7625 1.02865 -0.76597 1.02813 -0.77083 C 1.02691 -0.7831 1.03333 -0.80093 1.04063 -0.80833 C 1.04514 -0.81273 1.05122 -0.81343 1.05625 -0.81667 C 1.05955 -0.81898 1.06233 -0.82245 1.06563 -0.825 C 1.06962 -0.82801 1.07813 -0.83333 1.07813 -0.83333 E">
                                      <p:cBhvr>
                                        <p:cTn id="73" dur="10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75" dur="10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-0.01094 -0.04398 -0.00695 -0.08773 0 -0.13333 C 0.00225 -0.16667 0.00347 -0.20556 0.0125 -0.2375 C 0.01388 -0.24236 0.01718 -0.24537 0.01875 -0.25 C 0.02118 -0.25833 0.02482 -0.275 0.02482 -0.275 C 0.02048 -0.37083 0.03385 -0.31991 0.0125 -0.35417 C 0.01006 -0.35833 0.0092 -0.36343 0.00607 -0.3669 C 0.00364 -0.36968 -0.00018 -0.36921 -0.0033 -0.37083 C -0.0066 -0.37315 -0.00921 -0.37778 -0.01268 -0.3794 C -0.02066 -0.3831 -0.0375 -0.3875 -0.0375 -0.3875 C -0.06164 -0.38102 -0.06667 -0.37153 -0.08143 -0.34583 C -0.08021 -0.34028 -0.08125 -0.3331 -0.07813 -0.32917 C -0.07535 -0.32523 -0.06997 -0.32523 -0.06563 -0.32523 C -0.05105 -0.32523 -0.03646 -0.32801 -0.02205 -0.32917 C -0.00261 -0.3463 -0.02136 -0.32755 -0.00625 -0.35023 C 0.01128 -0.37616 0.03402 -0.40972 0.05607 -0.42917 C 0.06128 -0.43935 0.06857 -0.44722 0.07187 -0.45833 C 0.0743 -0.4662 0.07378 -0.475 0.07482 -0.48333 C 0.07343 -0.5206 0.08385 -0.5588 0.05607 -0.57106 C 0.03958 -0.56944 0.02256 -0.57014 0.00607 -0.56667 C -0.00348 -0.56505 -0.02761 -0.53403 -0.0375 -0.525 C -0.04462 -0.51065 -0.05174 -0.50116 -0.06268 -0.4919 C -0.0698 -0.46319 -0.06268 -0.49861 -0.06268 -0.45833 C -0.06268 -0.43611 -0.07483 -0.41991 -0.0875 -0.40856 C -0.0948 -0.39375 -0.10018 -0.38912 -0.11268 -0.38333 C -0.14254 -0.38843 -0.16875 -0.39583 -0.1908 -0.425 C -0.19289 -0.43333 -0.1948 -0.44167 -0.19688 -0.45023 C -0.19792 -0.45417 -0.20018 -0.46273 -0.20018 -0.46273 C -0.18264 -0.47801 -0.18629 -0.4787 -0.1533 -0.46667 C -0.14896 -0.46505 -0.14723 -0.45787 -0.14375 -0.45417 C -0.1408 -0.45093 -0.1375 -0.44861 -0.13438 -0.44583 C -0.13646 -0.42639 -0.1349 -0.40556 -0.1408 -0.3875 C -0.14375 -0.37824 -0.15261 -0.37546 -0.15938 -0.37083 C -0.1757 -0.36019 -0.19202 -0.3588 -0.20938 -0.35417 C -0.25417 -0.35556 -0.29896 -0.35486 -0.34375 -0.35833 C -0.3573 -0.35949 -0.375 -0.3919 -0.375 -0.3919 C -0.38837 -0.44444 -0.37744 -0.39375 -0.38438 -0.4875 C -0.38542 -0.50231 -0.38959 -0.49931 -0.39375 -0.5125 C -0.39653 -0.5206 -0.40018 -0.5375 -0.40018 -0.5375 C -0.39914 -0.54583 -0.39948 -0.55509 -0.39688 -0.56273 C -0.38941 -0.58519 -0.36268 -0.58495 -0.35018 -0.6 C -0.34237 -0.60926 -0.32813 -0.62917 -0.32813 -0.62917 C -0.325 -0.64977 -0.32119 -0.66204 -0.3125 -0.67917 C -0.31164 -0.68495 -0.30886 -0.69005 -0.30955 -0.69606 C -0.31181 -0.72199 -0.3257 -0.72245 -0.3408 -0.72917 C -0.36771 -0.72801 -0.3948 -0.72755 -0.42205 -0.725 C -0.43629 -0.72361 -0.4448 -0.70139 -0.45018 -0.68773 C -0.45955 -0.66204 -0.47153 -0.63519 -0.48438 -0.61273 C -0.48247 -0.59722 -0.48212 -0.58125 -0.4783 -0.56667 C -0.47674 -0.56134 -0.47153 -0.55903 -0.46893 -0.55417 C -0.4665 -0.55023 -0.46459 -0.54583 -0.46268 -0.54167 C -0.46355 -0.52639 -0.46233 -0.51065 -0.46563 -0.49583 C -0.46667 -0.49097 -0.47119 -0.48796 -0.475 -0.4875 C -0.48542 -0.48634 -0.50695 -0.49259 -0.51875 -0.49583 C -0.52205 -0.49861 -0.525 -0.50208 -0.52813 -0.5044 C -0.53108 -0.50602 -0.53507 -0.50579 -0.5375 -0.50833 C -0.54254 -0.51296 -0.54601 -0.51944 -0.55018 -0.525 C -0.55122 -0.52917 -0.55244 -0.53333 -0.55313 -0.5375 C -0.55539 -0.54861 -0.55938 -0.57106 -0.55938 -0.57106 C -0.55712 -0.65579 -0.58039 -0.68102 -0.5375 -0.7 C -0.54306 -0.7213 -0.53629 -0.70648 -0.55018 -0.7169 C -0.5823 -0.74051 -0.55712 -0.72801 -0.57813 -0.73773 C -0.60105 -0.73611 -0.62396 -0.73565 -0.64688 -0.73333 C -0.65226 -0.73287 -0.65834 -0.73333 -0.6625 -0.72917 C -0.6665 -0.72569 -0.66667 -0.71829 -0.66875 -0.7125 C -0.66615 -0.68519 -0.66303 -0.65949 -0.65625 -0.63356 C -0.6573 -0.62384 -0.65625 -0.61319 -0.65955 -0.6044 C -0.66702 -0.58241 -0.68299 -0.58472 -0.69688 -0.57917 C -0.73455 -0.56412 -0.68872 -0.57616 -0.73125 -0.56667 C -0.78073 -0.57037 -0.78907 -0.55764 -0.8125 -0.6044 C -0.81563 -0.62014 -0.8191 -0.64722 -0.80625 -0.65833 C -0.80261 -0.66181 -0.79792 -0.66111 -0.79375 -0.6625 C -0.77709 -0.66111 -0.76025 -0.66181 -0.74393 -0.65833 C -0.74028 -0.65764 -0.73768 -0.65255 -0.73455 -0.65 C -0.68889 -0.61528 -0.74757 -0.66088 -0.7125 -0.6375 C -0.70747 -0.63403 -0.6941 -0.62014 -0.69063 -0.61667 C -0.68455 -0.61088 -0.67188 -0.6 -0.67188 -0.6 C -0.66424 -0.58472 -0.6573 -0.56991 -0.66563 -0.55 C -0.66719 -0.5463 -0.67188 -0.54699 -0.67518 -0.54583 C -0.67935 -0.54421 -0.68334 -0.54282 -0.6875 -0.54167 C -0.70608 -0.53681 -0.72518 -0.53264 -0.74393 -0.52917 C -0.76476 -0.53194 -0.79185 -0.51713 -0.80625 -0.5375 C -0.81858 -0.55509 -0.80261 -0.58472 -0.80018 -0.60833 C -0.79671 -0.63866 -0.78056 -0.65648 -0.76893 -0.67917 C -0.76198 -0.69259 -0.7566 -0.70718 -0.75018 -0.72083 C -0.74323 -0.73565 -0.73125 -0.76667 -0.73125 -0.76667 C -0.72935 -0.78032 -0.71997 -0.81597 -0.72813 -0.83333 C -0.72917 -0.83519 -0.74671 -0.8456 -0.75018 -0.84606 C -0.81997 -0.84977 -0.88959 -0.85139 -0.95938 -0.85417 C -0.98473 -0.85694 -1.00191 -0.85301 -1.02188 -0.87106 C -1.02761 -0.88241 -1.03594 -0.8919 -1.04063 -0.90417 C -1.04896 -0.92639 -1.05348 -0.95556 -1.05938 -0.97917 C -1.06251 -0.9919 -1.06563 -1.00417 -1.06876 -1.01667 C -1.06997 -1.02153 -1.07813 -1.025 -1.07813 -1.025 E">
                                      <p:cBhvr>
                                        <p:cTn id="77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89 0.01968 0.01475 0.04306 0.025 0.0625 C 0.02829 0.06898 0.03402 0.07292 0.0375 0.07917 C 0.0434 0.08959 0.04791 0.10139 0.05312 0.1125 C 0.05503 0.11667 0.05972 0.1176 0.0625 0.12084 C 0.09895 0.1625 0.04965 0.11366 0.09062 0.15 C 0.11406 0.17084 0.09149 0.15486 0.11875 0.175 C 0.12569 0.1801 0.13368 0.18241 0.14062 0.1875 C 0.14722 0.19236 0.15312 0.19861 0.15937 0.20417 C 0.16875 0.2125 0.18993 0.21482 0.2 0.21667 C 0.22031 0.21273 0.22795 0.2176 0.23437 0.19167 C 0.23333 0.18611 0.22708 0.17639 0.23125 0.175 C 0.26736 0.16297 0.26666 0.16875 0.27812 0.19167 C 0.27569 0.23658 0.28298 0.24977 0.25937 0.27084 C 0.2427 0.30417 0.22065 0.29746 0.19062 0.3 C 0.17291 0.30162 0.1552 0.30278 0.1375 0.30417 C 0.10225 0.30116 0.08732 0.30811 0.0625 0.28334 C 0.05625 0.28473 0.0493 0.28334 0.04375 0.2875 C 0.04097 0.28959 0.03958 0.29561 0.04062 0.3 C 0.04305 0.30949 0.04861 0.3169 0.05312 0.325 C 0.06423 0.34491 0.07743 0.36158 0.09062 0.37917 C 0.09375 0.38334 0.09565 0.39028 0.1 0.39167 C 0.10416 0.39306 0.10833 0.39445 0.1125 0.39584 C 0.14895 0.39445 0.18541 0.39398 0.22187 0.39167 C 0.22725 0.39144 0.24322 0.38773 0.25 0.38334 C 0.26076 0.37616 0.26822 0.36297 0.27812 0.35417 C 0.2802 0.35 0.28125 0.34422 0.28437 0.34167 C 0.2927 0.33473 0.30312 0.33334 0.3125 0.32917 C 0.32065 0.32547 0.3375 0.32084 0.3375 0.32084 C 0.34687 0.32223 0.35659 0.32107 0.36562 0.325 C 0.36979 0.32686 0.3717 0.33357 0.375 0.3375 C 0.37899 0.34213 0.3835 0.34537 0.3875 0.35 C 0.39079 0.35394 0.39409 0.35787 0.39687 0.3625 C 0.40156 0.37037 0.40937 0.3875 0.40937 0.3875 C 0.40833 0.40834 0.40798 0.42917 0.40625 0.45 C 0.40468 0.46898 0.39166 0.48982 0.38437 0.50417 C 0.38194 0.50903 0.37604 0.50695 0.37187 0.50834 C 0.35312 0.50695 0.3342 0.50764 0.31562 0.50417 C 0.29635 0.50047 0.30711 0.46042 0.30937 0.45 C 0.3118 0.43843 0.32152 0.43635 0.32812 0.43334 C 0.33229 0.42917 0.33593 0.42361 0.34062 0.42084 C 0.38854 0.39236 0.32708 0.44005 0.36875 0.40834 C 0.37899 0.40047 0.38975 0.39561 0.4 0.3875 C 0.40642 0.38241 0.4125 0.37639 0.41875 0.37084 C 0.43038 0.36042 0.46388 0.35278 0.47812 0.35 C 0.50937 0.35139 0.54062 0.35162 0.57187 0.35417 C 0.57621 0.3544 0.58072 0.35556 0.58437 0.35834 C 0.59392 0.36574 0.60156 0.38542 0.60937 0.39584 C 0.61076 0.43079 0.61579 0.49653 0.60937 0.53334 C 0.6085 0.5382 0.60312 0.53889 0.6 0.54167 C 0.57083 0.54028 0.54149 0.5426 0.5125 0.5375 C 0.49774 0.53496 0.50364 0.50787 0.50625 0.5 C 0.51527 0.47292 0.55138 0.47408 0.56875 0.47084 C 0.60868 0.47361 0.6342 0.46806 0.66562 0.49584 C 0.67916 0.49445 0.69305 0.4963 0.70625 0.49167 C 0.71354 0.48912 0.7177 0.47732 0.725 0.475 C 0.73229 0.47246 0.73958 0.46922 0.74687 0.46667 C 0.77118 0.45857 0.78611 0.46065 0.81562 0.45834 C 0.83402 0.45023 0.85312 0.44375 0.87187 0.4375 C 0.89218 0.43079 0.91319 0.41713 0.93437 0.41667 C 0.98854 0.41551 1.0427 0.41667 1.09687 0.41667 E">
                                      <p:cBhvr>
                                        <p:cTn id="79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89 0.01968 0.01475 0.04306 0.025 0.0625 C 0.02829 0.06898 0.03402 0.07292 0.0375 0.07917 C 0.0434 0.08959 0.04791 0.10139 0.05312 0.1125 C 0.05503 0.11667 0.05972 0.1176 0.0625 0.12084 C 0.09895 0.1625 0.04965 0.11366 0.09062 0.15 C 0.11406 0.17084 0.09149 0.15486 0.11875 0.175 C 0.12569 0.1801 0.13368 0.18241 0.14062 0.1875 C 0.14722 0.19236 0.15312 0.19861 0.15937 0.20417 C 0.16875 0.2125 0.18993 0.21482 0.2 0.21667 C 0.22031 0.21273 0.22795 0.2176 0.23437 0.19167 C 0.23333 0.18611 0.22708 0.17639 0.23125 0.175 C 0.26736 0.16297 0.26666 0.16875 0.27812 0.19167 C 0.27569 0.23658 0.28298 0.24977 0.25937 0.27084 C 0.2427 0.30417 0.22065 0.29746 0.19062 0.3 C 0.17291 0.30162 0.1552 0.30278 0.1375 0.30417 C 0.10225 0.30116 0.08732 0.30811 0.0625 0.28334 C 0.05625 0.28473 0.0493 0.28334 0.04375 0.2875 C 0.04097 0.28959 0.03958 0.29561 0.04062 0.3 C 0.04305 0.30949 0.04861 0.3169 0.05312 0.325 C 0.06423 0.34491 0.07743 0.36158 0.09062 0.37917 C 0.09375 0.38334 0.09565 0.39028 0.1 0.39167 C 0.10416 0.39306 0.10833 0.39445 0.1125 0.39584 C 0.14895 0.39445 0.18541 0.39398 0.22187 0.39167 C 0.22725 0.39144 0.24322 0.38773 0.25 0.38334 C 0.26076 0.37616 0.26822 0.36297 0.27812 0.35417 C 0.2802 0.35 0.28125 0.34422 0.28437 0.34167 C 0.2927 0.33473 0.30312 0.33334 0.3125 0.32917 C 0.32065 0.32547 0.3375 0.32084 0.3375 0.32084 C 0.34687 0.32223 0.35659 0.32107 0.36562 0.325 C 0.36979 0.32686 0.3717 0.33357 0.375 0.3375 C 0.37899 0.34213 0.3835 0.34537 0.3875 0.35 C 0.39079 0.35394 0.39409 0.35787 0.39687 0.3625 C 0.40156 0.37037 0.40937 0.3875 0.40937 0.3875 C 0.40833 0.40834 0.40798 0.42917 0.40625 0.45 C 0.40468 0.46898 0.39166 0.48982 0.38437 0.50417 C 0.38194 0.50903 0.37604 0.50695 0.37187 0.50834 C 0.35312 0.50695 0.3342 0.50764 0.31562 0.50417 C 0.29635 0.50047 0.30711 0.46042 0.30937 0.45 C 0.3118 0.43843 0.32152 0.43635 0.32812 0.43334 C 0.33229 0.42917 0.33593 0.42361 0.34062 0.42084 C 0.38854 0.39236 0.32708 0.44005 0.36875 0.40834 C 0.37899 0.40047 0.38975 0.39561 0.4 0.3875 C 0.40642 0.38241 0.4125 0.37639 0.41875 0.37084 C 0.43038 0.36042 0.46388 0.35278 0.47812 0.35 C 0.50937 0.35139 0.54062 0.35162 0.57187 0.35417 C 0.57621 0.3544 0.58072 0.35556 0.58437 0.35834 C 0.59392 0.36574 0.60156 0.38542 0.60937 0.39584 C 0.61076 0.43079 0.61579 0.49653 0.60937 0.53334 C 0.6085 0.5382 0.60312 0.53889 0.6 0.54167 C 0.57083 0.54028 0.54149 0.5426 0.5125 0.5375 C 0.49774 0.53496 0.50364 0.50787 0.50625 0.5 C 0.51527 0.47292 0.55138 0.47408 0.56875 0.47084 C 0.60868 0.47361 0.6342 0.46806 0.66562 0.49584 C 0.67916 0.49445 0.69305 0.4963 0.70625 0.49167 C 0.71354 0.48912 0.7177 0.47732 0.725 0.475 C 0.73229 0.47246 0.73958 0.46922 0.74687 0.46667 C 0.77118 0.45857 0.78611 0.46065 0.81562 0.45834 C 0.83402 0.45023 0.85312 0.44375 0.87187 0.4375 C 0.89218 0.43079 0.91319 0.41713 0.93437 0.41667 C 0.98854 0.41551 1.0427 0.41667 1.09687 0.41667 E">
                                      <p:cBhvr>
                                        <p:cTn id="81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2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-0.29132 0.12185 E">
                                      <p:cBhvr>
                                        <p:cTn id="101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54A-D5C6-4696-AA38-D4BF1885C1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2:12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5:19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