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7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EAD-201C-4807-8632-35BE603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EA9-25D3-4D88-A649-3FBAF97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552-AC18-4155-9240-37153F0E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ED1-A442-4538-A576-08DD75C6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41F-C60D-4143-82AF-CB7AF2B3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B1C-359A-4326-BE73-A71DAD8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C63-224E-4A67-BC30-561E14F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D1D-F514-4D2D-A9BB-A0ED9CB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B84-0780-4D96-88BD-115C746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DDB-0A09-4F04-8E79-9070C19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5B1-95CA-41F4-9CC3-08CB851E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34B-29B6-4D7A-B45A-7F0FE6B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53F2-D2D6-47CA-B676-8D0E843B1F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hyperlink" Target="http://www.eeppt.com/moban/jiaoyu/" TargetMode="External"/><Relationship Id="rId9" Type="http://schemas.openxmlformats.org/officeDocument/2006/relationships/hyperlink" Target="http://www.eeppt.com/moban/jiaoy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58_30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990720" y="685800"/>
            <a:ext cx="7086600" cy="335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的勇气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37000" y="327672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冯骥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856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用手拨开草一看，原来青草下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满满一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花，白的、黄的、紫的；纯洁、娇小、鲜亮；这么多、这么密、这么辽阔！它们比青草只矮几厘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草下边，好像只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一使劲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就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齐刷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冒出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untitled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506736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50000">
                <a:srgbClr val="ffffff">
                  <a:alpha val="75294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此刻那些花儿一下子全冒了出来，顿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改天换地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，整个世界铺满了全新的色彩。虽然远处大片大片的花与蒙蒙细雨融在一起，低头却能清晰地看到，在冷雨中，每一朵小花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傲然挺立，明亮夺目，神气十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0091217161510628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914400" y="91440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冷雨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中，每一朵小花都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傲然挺立，明亮夺目，神气十足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huazhiyuanwuqu.MP3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7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0091217161510628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990720" y="533520"/>
            <a:ext cx="754380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500" spc="-1" strike="noStrike">
                <a:solidFill>
                  <a:srgbClr val="333399"/>
                </a:solidFill>
                <a:latin typeface="Arial"/>
              </a:rPr>
              <a:t>当天夜里，冷雨伴着凉风下了起来。后来的几天，雨时下时停，太阳一直没露面儿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0000"/>
                </a:solidFill>
                <a:latin typeface="Arial"/>
              </a:rPr>
              <a:t>   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5029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好像在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114800" y="5715000"/>
            <a:ext cx="419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38080" y="3276720"/>
            <a:ext cx="7620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每一朵小花都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傲然挺立，明亮夺目，神气十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91217161510628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990720" y="533520"/>
            <a:ext cx="754380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500" spc="-1" strike="noStrike">
                <a:solidFill>
                  <a:srgbClr val="333399"/>
                </a:solidFill>
                <a:latin typeface="Arial"/>
              </a:rPr>
              <a:t>当天夜里，冷雨伴着凉风下了起来。后来的几天，雨时下时停，太阳一直没露面儿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800000"/>
                </a:solidFill>
                <a:latin typeface="Arial"/>
              </a:rPr>
              <a:t>   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5029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好像在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114800" y="5715000"/>
            <a:ext cx="419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838080" y="3276720"/>
            <a:ext cx="7620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每一朵小花都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傲然挺立，明亮夺目，神气十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9000" y="64371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untitled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29596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50000">
                <a:srgbClr val="ffffff">
                  <a:alpha val="75294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迎着吹在脸上的细密的、凉凉的雨点，我看到的竟是一片花的原野。这正是前几天那片千万朵小花藏身的草地，此刻那些花儿一下子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冒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了出来，顿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改天换地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，整个世界铺满了全新的色彩。虽然远处大片大片的花与蒙蒙细雨融在一起，低头却能清晰地看到，在冷雨中，每一朵小花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傲然挺立，明亮夺目，神气十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wall001_com_GG14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325080" cy="378936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4360" y="53352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它们为什么不是在温暖的阳光下冒出来，      在冷风冷雨中               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905120" y="19810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拔地而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815000" y="12574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偏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09480" y="3048120"/>
            <a:ext cx="8077320" cy="210492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小小的花儿居然有如此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我的心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，这一震，使我明白了生命的意味是什么，是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308320" y="49798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勇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849400" y="370692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怦然一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6729480" y="30114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气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257800" y="19810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581280" y="49528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8001000" y="30481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 rot="20700000">
            <a:off x="304560" y="228240"/>
            <a:ext cx="4038480" cy="2567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038480" cy="272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 rot="1500000">
            <a:off x="761760" y="22860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 rot="19800000">
            <a:off x="228600" y="4190760"/>
            <a:ext cx="3505320" cy="24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449568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6"/>
          <a:stretch/>
        </p:blipFill>
        <p:spPr>
          <a:xfrm rot="1500000">
            <a:off x="4876920" y="2286000"/>
            <a:ext cx="35049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 rot="20700000">
            <a:off x="304560" y="228240"/>
            <a:ext cx="4038480" cy="2567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038480" cy="2724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 rot="1500000">
            <a:off x="761760" y="22860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 rot="19800000">
            <a:off x="228600" y="4190760"/>
            <a:ext cx="3505320" cy="244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4495680" cy="281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 rot="1500000">
            <a:off x="4876920" y="2286000"/>
            <a:ext cx="3504960" cy="2236680"/>
          </a:xfrm>
          <a:prstGeom prst="rect">
            <a:avLst/>
          </a:prstGeom>
          <a:ln w="0">
            <a:noFill/>
          </a:ln>
        </p:spPr>
      </p:pic>
      <p:pic>
        <p:nvPicPr>
          <p:cNvPr id="161" name="8.mp3" descr=""/>
          <p:cNvPicPr/>
          <p:nvPr/>
        </p:nvPicPr>
        <p:blipFill>
          <a:blip r:embed="rId7"/>
          <a:stretch/>
        </p:blipFill>
        <p:spPr>
          <a:xfrm>
            <a:off x="83059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533520" y="457200"/>
            <a:ext cx="7888320" cy="2037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大自然赋予的生命总是那么美好，你一定有很多话想对眼前的小花说吧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生命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，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勇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，你一定也有不少的感受吧！请把你的心声通过笔尖静静地流淌出来吧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5562720"/>
            <a:ext cx="625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教育教学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eppt.com/moban/jiaoy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00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09480" y="1066680"/>
            <a:ext cx="784872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000" spc="-1" strike="noStrike">
                <a:solidFill>
                  <a:srgbClr val="000099"/>
                </a:solidFill>
                <a:latin typeface="Arial"/>
              </a:rPr>
              <a:t>在地球上最大和最伟大的画家，不是达</a:t>
            </a:r>
            <a:r>
              <a:rPr b="1" lang="en-US" sz="50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5000" spc="-1" strike="noStrike">
                <a:solidFill>
                  <a:srgbClr val="000099"/>
                </a:solidFill>
                <a:latin typeface="Arial"/>
              </a:rPr>
              <a:t>芬奇和毕加索，而是 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春 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冯骥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CDE-B4A1-4B6C-834C-1B7B539AD6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 rot="20700000">
            <a:off x="304560" y="228240"/>
            <a:ext cx="4038480" cy="2567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038480" cy="2724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 rot="1500000">
            <a:off x="761760" y="22860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 rot="19800000">
            <a:off x="228600" y="4190760"/>
            <a:ext cx="3505320" cy="2447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4495680" cy="281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 rot="1500000">
            <a:off x="4876920" y="2286000"/>
            <a:ext cx="3504960" cy="2236680"/>
          </a:xfrm>
          <a:prstGeom prst="rect">
            <a:avLst/>
          </a:prstGeom>
          <a:ln w="0">
            <a:noFill/>
          </a:ln>
        </p:spPr>
      </p:pic>
      <p:pic>
        <p:nvPicPr>
          <p:cNvPr id="173" name="8.mp3" descr=""/>
          <p:cNvPicPr/>
          <p:nvPr/>
        </p:nvPicPr>
        <p:blipFill>
          <a:blip r:embed="rId7"/>
          <a:stretch/>
        </p:blipFill>
        <p:spPr>
          <a:xfrm>
            <a:off x="83059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609480" y="609480"/>
            <a:ext cx="7888320" cy="21146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大自然赋予的生命总是那么美好，你一定有很多话想对眼前的小花说吧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生命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，对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勇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，你一定也有不少的感受吧！请把你的心声通过笔尖静静地流淌出来吧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无标题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80360" cy="7715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勇气是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决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在困难面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让我们擦干眼泪，咬紧牙关，力争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2362320"/>
            <a:ext cx="80773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气是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困难面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让我们藐视一切，义无反顾，勇往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69800" y="3608280"/>
            <a:ext cx="8001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气是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胆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困难面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让我们披荆斩棘，所向披靡，笑对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4876920"/>
            <a:ext cx="8183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危不乱，从容不迫，永不言败激励我们永远向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勇气，就有希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286000" y="228600"/>
            <a:ext cx="2819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勇    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_14147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Line 3"/>
          <p:cNvSpPr/>
          <p:nvPr/>
        </p:nvSpPr>
        <p:spPr>
          <a:xfrm>
            <a:off x="228600" y="4876920"/>
            <a:ext cx="86104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228600" y="5791320"/>
            <a:ext cx="419112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04920" y="3886200"/>
            <a:ext cx="86104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724280" y="5791320"/>
            <a:ext cx="4191120" cy="0"/>
          </a:xfrm>
          <a:prstGeom prst="line">
            <a:avLst/>
          </a:prstGeom>
          <a:ln w="414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80880" y="6705720"/>
            <a:ext cx="5791320" cy="0"/>
          </a:xfrm>
          <a:prstGeom prst="line">
            <a:avLst/>
          </a:prstGeom>
          <a:ln w="414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76212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114300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4"/>
          <p:cNvSpPr/>
          <p:nvPr/>
        </p:nvSpPr>
        <p:spPr>
          <a:xfrm>
            <a:off x="152388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365760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281952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2438280" y="6553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1600200" y="6553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0"/>
          <p:cNvSpPr/>
          <p:nvPr/>
        </p:nvSpPr>
        <p:spPr>
          <a:xfrm>
            <a:off x="2895480" y="6553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1"/>
          <p:cNvSpPr/>
          <p:nvPr/>
        </p:nvSpPr>
        <p:spPr>
          <a:xfrm>
            <a:off x="2057400" y="6553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2"/>
          <p:cNvSpPr/>
          <p:nvPr/>
        </p:nvSpPr>
        <p:spPr>
          <a:xfrm>
            <a:off x="822960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3"/>
          <p:cNvSpPr/>
          <p:nvPr/>
        </p:nvSpPr>
        <p:spPr>
          <a:xfrm>
            <a:off x="868680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358_30968"/>
          <p:cNvPicPr/>
          <p:nvPr/>
        </p:nvPicPr>
        <p:blipFill>
          <a:blip r:embed="rId1"/>
          <a:stretch/>
        </p:blipFill>
        <p:spPr>
          <a:xfrm>
            <a:off x="-324000" y="0"/>
            <a:ext cx="9792000" cy="7086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-457200" y="-380880"/>
            <a:ext cx="9937800" cy="74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85800" y="1447920"/>
            <a:ext cx="8153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四月，作者在维也纳看到满是绿色的草地上没有一朵花时，感到（       ）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扒开草后看见躲藏着的小花时，感到（　  　），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</a:rPr>
              <a:t>离开维也纳前，一直没有看到藏着的花盛开，感到（      ）。就在作者即将离开时，他看到一大片花冒了出来，感到（       ），体会到小花的气魄时，心头（               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8459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556320" y="5364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怦然一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503520" y="6094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遗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5048280" y="5587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惊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82680" y="6094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失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54080" y="5716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吃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23312E-007 L 0.62118 0.21092 E">
                                      <p:cBhvr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031E-007 L -0.10417 0.37188 E">
                                      <p:cBhvr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23312E-007 L 0.20972 0.45513 E">
                                      <p:cBhvr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827E-007 L -0.14253 0.62905 E"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2544E-006 L -0.21701 0.72109 E">
                                      <p:cBhvr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856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用手拨开草一看，原来青草下边    着               小花，白的、黄的、紫的    纯洁、娇小、鲜亮    这么多、这么密、这么辽阔   它们比青草只矮几厘米，    在草下边，好像只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           ，就会           地   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5105520"/>
            <a:ext cx="96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</a:rPr>
              <a:t>面对（    ）的花，我真想（      ）！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03480" y="12747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满一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192720" y="380988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087560" y="3811680"/>
            <a:ext cx="20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劲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140360" y="382284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齐刷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6324480" y="182880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752480" y="190512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590920" y="3124080"/>
            <a:ext cx="7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648320" y="2514600"/>
            <a:ext cx="7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1038240" y="128412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7696080" y="3733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6736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50000">
                <a:srgbClr val="ffffff">
                  <a:alpha val="75294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这正是前几天那片千万朵小花藏身的草地，此刻那些花儿 一下子全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了出来，顿时               ，整个世界       了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的色彩。虽然远处大片大片的花与蒙蒙细雨融在一起，低头却能清晰地看到，在冷雨中，每一朵小花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315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162920" y="2438280"/>
            <a:ext cx="13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铺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30360" y="3087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全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09560" y="4827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明亮夺目，神气十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48120" y="2438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改天换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696000" y="4254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傲然挺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82680" y="264960"/>
            <a:ext cx="8381880" cy="6426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迎着吹在脸上的细密的、凉凉的雨点，我看到的竟是一片花的原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685800" y="5486400"/>
            <a:ext cx="76960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我从（            ）词语中体会到了（          ）。</a:t>
            </a: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titled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5800" y="382320"/>
            <a:ext cx="8839080" cy="52959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迎着吹在脸上的细密的、凉凉的雨点，我看到的竟是一片花的原野。这正是前几天那片千万朵小花藏身的草地，此刻那些花儿一下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全冒了出来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，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顿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改天换地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，整个世界铺满了全新的色彩。虽然远处大片大片的花与蒙蒙细雨融在一起，低头却能清晰地看到，在冷雨中，每一朵小花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傲然挺立，明亮夺目，神气十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819520" y="23623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57200" y="29718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untitled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260280"/>
            <a:ext cx="8964720" cy="453564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342720"/>
            <a:ext cx="8915400" cy="567684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50000">
                <a:srgbClr val="ffffff">
                  <a:alpha val="75294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迎着吹在脸上的细密的、凉凉的雨点，我看到的竟是一片花的原野。这正是前几天那片千万朵小花藏身的草地，此刻那些花儿一下子全冒了出来，</a:t>
            </a:r>
            <a:r>
              <a:rPr b="1" lang="zh-CN" sz="3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白的、黄的、紫的；纯洁、娇小、鲜亮；这么多、这么密、这么辽阔！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顿时                 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整个世界铺满了全新的色彩。虽然远处大片大片的花与蒙蒙细雨融在一起，低头却能清晰地看到，在冷雨中，每一朵小花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傲然挺立，明亮夺目，神气十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3000" y="3048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天换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7121218122593_2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-243000"/>
            <a:ext cx="9144000" cy="710100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花的绿地是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寂寞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295280" y="251460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月的维也纳可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乏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绿色到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泛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见不到花儿，下次再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躲开四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轻音乐 伤感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9:01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4:37:15Z</dcterms:modified>
  <cp:revision>44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