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2DC6-CAE0-4687-8616-B5D04DB7F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-보람B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6936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A5C7-22DF-4E3F-800A-8724B989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-보람B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693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693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8EDF-020D-4FBA-A070-0D16FC4A8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-보람B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6936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6936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6936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71ED-276F-488E-8ADF-C95FDDEBA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859B-6034-4AF0-98D3-7FD257278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-보람B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-보람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94732-8294-48C5-A55B-1C50B2EF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-보람B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82A2-CC25-4DB1-B18A-228B8EF2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-보람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9E27-E940-4BDE-8A39-97A9C82F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-보람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B9A3-1030-4A87-83DB-A77660DB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-보람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AF51-A601-4D49-AE10-089E2366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-보람B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693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058E-F04A-4B49-A81A-CF295210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-보람B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-보람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75AF-EEE4-4DA6-A0C3-984A9F96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-보람B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693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40EB5-AF3D-4680-B961-0A64437F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-보람B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6936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7EBA-B2FE-4661-8BC9-BC4004E2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-보람B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6936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E32C-7CA3-4917-AA76-45D5125F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-보람B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693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693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AD0F-BB17-46C3-8E12-DBF3927BD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-보람B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6936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6936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6936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AD44-6453-4E49-B0A7-BCC715DA5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-보람B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00A6-6933-48EB-B0D1-58036E0D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-보람B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472C-79BA-44A1-8661-DF41FA86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-보람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011B-5825-46C3-90E4-D11631FB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-보람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4FEA-12FE-4E1B-B6C0-73FC8CB8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-보람B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693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AD6F-39D8-47C2-AB94-21B0339E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-보람B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693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7589-E636-4C2B-A76E-CB66CDC2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-보람B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6936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AA88-00F3-4F5B-BBAA-7AF09130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984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-보람B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-보람B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d056f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56f"/>
                </a:solidFill>
                <a:latin typeface="-보람M"/>
              </a:rPr>
              <a:t>Click to edit the outline text format</a:t>
            </a: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  <a:p>
            <a:pPr lvl="1" marL="743040" indent="-285840">
              <a:spcBef>
                <a:spcPts val="550"/>
              </a:spcBef>
              <a:buClr>
                <a:srgbClr val="0d056f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56f"/>
                </a:solidFill>
                <a:latin typeface="-보람M"/>
              </a:rPr>
              <a:t>Second Outline Level</a:t>
            </a: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  <a:p>
            <a:pPr lvl="2" marL="1143000" indent="-228600">
              <a:spcBef>
                <a:spcPts val="550"/>
              </a:spcBef>
              <a:buClr>
                <a:srgbClr val="0d056f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56f"/>
                </a:solidFill>
                <a:latin typeface="-보람M"/>
              </a:rPr>
              <a:t>Third Outline Level</a:t>
            </a: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  <a:p>
            <a:pPr lvl="3" marL="1600200" indent="-228600">
              <a:spcBef>
                <a:spcPts val="550"/>
              </a:spcBef>
              <a:buClr>
                <a:srgbClr val="0d056f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56f"/>
                </a:solidFill>
                <a:latin typeface="-보람M"/>
              </a:rPr>
              <a:t>Fourth Outline Level</a:t>
            </a: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  <a:p>
            <a:pPr lvl="4" marL="2057400" indent="-228600">
              <a:spcBef>
                <a:spcPts val="550"/>
              </a:spcBef>
              <a:buClr>
                <a:srgbClr val="0d056f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56f"/>
                </a:solidFill>
                <a:latin typeface="-보람M"/>
              </a:rPr>
              <a:t>Fifth Outline Level</a:t>
            </a: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56f"/>
                </a:solidFill>
                <a:latin typeface="-보람M"/>
              </a:rPr>
              <a:t>Sixth Outline Level</a:t>
            </a: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56f"/>
                </a:solidFill>
                <a:latin typeface="-보람M"/>
              </a:rPr>
              <a:t>Seventh Outline Level</a:t>
            </a:r>
            <a:endParaRPr b="0" lang="en-US" sz="2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b2b2b2"/>
                </a:solidFill>
                <a:latin typeface="-보람M"/>
                <a:ea typeface="-보람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b2b2b2"/>
                </a:solidFill>
                <a:latin typeface="-보람M"/>
                <a:ea typeface="-보람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b2b2b2"/>
                </a:solidFill>
                <a:latin typeface="-보람M"/>
                <a:ea typeface="-보람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b2b2b2"/>
                </a:solidFill>
                <a:latin typeface="-보람M"/>
                <a:ea typeface="-보람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b2b2b2"/>
                </a:solidFill>
                <a:latin typeface="-보람M"/>
                <a:ea typeface="-보람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E2B3-AED8-4C0D-AB0F-85F2E9414906}" type="slidenum">
              <a:rPr b="0" lang="ko-KR" sz="1400" spc="-1" strike="noStrike">
                <a:solidFill>
                  <a:srgbClr val="b2b2b2"/>
                </a:solidFill>
                <a:latin typeface="-보람M"/>
                <a:ea typeface="-보람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9840" cy="6873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d056f"/>
                </a:solidFill>
                <a:latin typeface="-보람B"/>
              </a:rPr>
              <a:t>Click to edit the title text format</a:t>
            </a:r>
            <a:endParaRPr b="0" lang="en-US" sz="5200" spc="-1" strike="noStrike">
              <a:solidFill>
                <a:srgbClr val="0d056f"/>
              </a:solidFill>
              <a:latin typeface="-보람B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b2b2b2"/>
                </a:solidFill>
                <a:latin typeface="-보람M"/>
                <a:ea typeface="-보람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b2b2b2"/>
                </a:solidFill>
                <a:latin typeface="-보람M"/>
                <a:ea typeface="-보람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b2b2b2"/>
                </a:solidFill>
                <a:latin typeface="-보람M"/>
                <a:ea typeface="-보람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b2b2b2"/>
                </a:solidFill>
                <a:latin typeface="-보람M"/>
                <a:ea typeface="-보람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b2b2b2"/>
                </a:solidFill>
                <a:latin typeface="-보람M"/>
                <a:ea typeface="-보람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E674-BEE2-4198-9199-46D30E1EDF1F}" type="slidenum">
              <a:rPr b="0" lang="ko-KR" sz="1400" spc="-1" strike="noStrike">
                <a:solidFill>
                  <a:srgbClr val="b2b2b2"/>
                </a:solidFill>
                <a:latin typeface="-보람M"/>
                <a:ea typeface="-보람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-보람B"/>
              </a:rPr>
              <a:t>Click to edit the outline text format</a:t>
            </a:r>
            <a:endParaRPr b="0" lang="en-US" sz="3800" spc="-1" strike="noStrike">
              <a:solidFill>
                <a:srgbClr val="ffffff"/>
              </a:solidFill>
              <a:latin typeface="-보람B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56f"/>
                </a:solidFill>
                <a:latin typeface="-보람M"/>
              </a:rPr>
              <a:t>Second Outline Level</a:t>
            </a:r>
            <a:endParaRPr b="0" lang="en-US" sz="2000" spc="-1" strike="noStrike">
              <a:solidFill>
                <a:srgbClr val="0d056f"/>
              </a:solidFill>
              <a:latin typeface="-보람M"/>
            </a:endParaRPr>
          </a:p>
          <a:p>
            <a:pPr lvl="2" marL="914400" algn="ctr">
              <a:spcBef>
                <a:spcPts val="476"/>
              </a:spcBef>
              <a:buClr>
                <a:srgbClr val="0d056f"/>
              </a:buClr>
              <a:buFont typeface="-보람M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d056f"/>
                </a:solidFill>
                <a:latin typeface="-보람M"/>
              </a:rPr>
              <a:t>Third Outline Level</a:t>
            </a:r>
            <a:endParaRPr b="0" lang="en-US" sz="1900" spc="-1" strike="noStrike">
              <a:solidFill>
                <a:srgbClr val="0d056f"/>
              </a:solidFill>
              <a:latin typeface="-보람M"/>
            </a:endParaRPr>
          </a:p>
          <a:p>
            <a:pPr lvl="3" marL="1371600" algn="ctr">
              <a:spcBef>
                <a:spcPts val="451"/>
              </a:spcBef>
              <a:buClr>
                <a:srgbClr val="0d056f"/>
              </a:buClr>
              <a:buFont typeface="-보람M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56f"/>
                </a:solidFill>
                <a:latin typeface="-보람M"/>
              </a:rPr>
              <a:t>Fourth Outline Level</a:t>
            </a:r>
            <a:endParaRPr b="0" lang="en-US" sz="1800" spc="-1" strike="noStrike">
              <a:solidFill>
                <a:srgbClr val="0d056f"/>
              </a:solidFill>
              <a:latin typeface="-보람M"/>
            </a:endParaRPr>
          </a:p>
          <a:p>
            <a:pPr lvl="4" marL="1828800" algn="ctr">
              <a:spcBef>
                <a:spcPts val="425"/>
              </a:spcBef>
              <a:buClr>
                <a:srgbClr val="0d056f"/>
              </a:buClr>
              <a:buFont typeface="-보람M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d056f"/>
                </a:solidFill>
                <a:latin typeface="-보람M"/>
              </a:rPr>
              <a:t>Fifth Outline Level</a:t>
            </a:r>
            <a:endParaRPr b="0" lang="en-US" sz="1700" spc="-1" strike="noStrike">
              <a:solidFill>
                <a:srgbClr val="0d056f"/>
              </a:solidFill>
              <a:latin typeface="-보람M"/>
            </a:endParaRPr>
          </a:p>
          <a:p>
            <a:pPr lvl="5" marL="1828800">
              <a:spcBef>
                <a:spcPts val="425"/>
              </a:spcBef>
              <a:buClr>
                <a:srgbClr val="000000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d056f"/>
                </a:solidFill>
                <a:latin typeface="-보람M"/>
              </a:rPr>
              <a:t>Sixth Outline Level</a:t>
            </a:r>
            <a:endParaRPr b="0" lang="en-US" sz="1700" spc="-1" strike="noStrike">
              <a:solidFill>
                <a:srgbClr val="0d056f"/>
              </a:solidFill>
              <a:latin typeface="-보람M"/>
            </a:endParaRPr>
          </a:p>
          <a:p>
            <a:pPr lvl="6" marL="1828800">
              <a:spcBef>
                <a:spcPts val="425"/>
              </a:spcBef>
              <a:buClr>
                <a:srgbClr val="000000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d056f"/>
                </a:solidFill>
                <a:latin typeface="-보람M"/>
              </a:rPr>
              <a:t>Seventh Outline Level</a:t>
            </a:r>
            <a:endParaRPr b="0" lang="en-US" sz="1700" spc="-1" strike="noStrike">
              <a:solidFill>
                <a:srgbClr val="0d056f"/>
              </a:solidFill>
              <a:latin typeface="-보람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d056f"/>
                </a:solidFill>
                <a:latin typeface="-보람B"/>
              </a:rPr>
              <a:t>好看的</a:t>
            </a:r>
            <a:r>
              <a:rPr b="0" lang="zh-CN" sz="4000" spc="-1" strike="noStrike">
                <a:solidFill>
                  <a:srgbClr val="0d056f"/>
                </a:solidFill>
                <a:latin typeface="-보람B"/>
              </a:rPr>
              <a:t>PPT</a:t>
            </a:r>
            <a:r>
              <a:rPr b="0" lang="zh-CN" sz="4000" spc="-1" strike="noStrike">
                <a:solidFill>
                  <a:srgbClr val="0d056f"/>
                </a:solidFill>
                <a:latin typeface="-보람B"/>
              </a:rPr>
              <a:t>目录模板</a:t>
            </a:r>
            <a:endParaRPr b="0" lang="en-US" sz="4000" spc="-1" strike="noStrike">
              <a:solidFill>
                <a:srgbClr val="0d056f"/>
              </a:solidFill>
              <a:latin typeface="-보람B"/>
            </a:endParaRPr>
          </a:p>
        </p:txBody>
      </p:sp>
      <p:sp>
        <p:nvSpPr>
          <p:cNvPr id="85" name=""/>
          <p:cNvSpPr/>
          <p:nvPr/>
        </p:nvSpPr>
        <p:spPr>
          <a:xfrm>
            <a:off x="19080" y="6478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-보람B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200" spc="-1" strike="noStrike">
              <a:solidFill>
                <a:srgbClr val="0d056f"/>
              </a:solidFill>
              <a:latin typeface="-보람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-보람B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-보람B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-보람M"/>
              </a:rPr>
              <a:t>站点介绍</a:t>
            </a:r>
            <a:r>
              <a:rPr b="1" lang="ko-KR" sz="1400" spc="-1" strike="noStrike">
                <a:solidFill>
                  <a:srgbClr val="ededed"/>
                </a:solidFill>
                <a:latin typeface="-보람M"/>
              </a:rPr>
              <a:t>：</a:t>
            </a:r>
            <a:endParaRPr b="0" lang="en-US" sz="1400" spc="-1" strike="noStrike">
              <a:solidFill>
                <a:srgbClr val="0d056f"/>
              </a:solidFill>
              <a:latin typeface="-보람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d056f"/>
              </a:solidFill>
              <a:latin typeface="-보람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-보람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-보람M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-보람M"/>
              </a:rPr>
              <a:t>www.eeppt.com</a:t>
            </a:r>
            <a:r>
              <a:rPr b="1" lang="ko-KR" sz="1400" spc="-1" strike="noStrike">
                <a:solidFill>
                  <a:srgbClr val="ededed"/>
                </a:solidFill>
                <a:latin typeface="-보람M"/>
              </a:rPr>
              <a:t>为您提供免费</a:t>
            </a:r>
            <a:r>
              <a:rPr b="1" lang="ko-KR" sz="1400" spc="-1" strike="noStrike">
                <a:solidFill>
                  <a:srgbClr val="ededed"/>
                </a:solidFill>
                <a:latin typeface="-보람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-보람M"/>
              </a:rPr>
              <a:t>模板下载，有好看的</a:t>
            </a:r>
            <a:r>
              <a:rPr b="1" lang="ko-KR" sz="1400" spc="-1" strike="noStrike">
                <a:solidFill>
                  <a:srgbClr val="ededed"/>
                </a:solidFill>
                <a:latin typeface="-보람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-보람M"/>
              </a:rPr>
              <a:t>模板，</a:t>
            </a:r>
            <a:r>
              <a:rPr b="1" lang="ko-KR" sz="1400" spc="-1" strike="noStrike">
                <a:solidFill>
                  <a:srgbClr val="ededed"/>
                </a:solidFill>
                <a:latin typeface="-보람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-보람M"/>
              </a:rPr>
              <a:t>背景图片，</a:t>
            </a:r>
            <a:r>
              <a:rPr b="1" lang="ko-KR" sz="1400" spc="-1" strike="noStrike">
                <a:solidFill>
                  <a:srgbClr val="ededed"/>
                </a:solidFill>
                <a:latin typeface="-보람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-보람M"/>
              </a:rPr>
              <a:t>素材，</a:t>
            </a:r>
            <a:r>
              <a:rPr b="1" lang="ko-KR" sz="1400" spc="-1" strike="noStrike">
                <a:solidFill>
                  <a:srgbClr val="ededed"/>
                </a:solidFill>
                <a:latin typeface="-보람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-보람M"/>
              </a:rPr>
              <a:t>图表，动态</a:t>
            </a:r>
            <a:r>
              <a:rPr b="1" lang="ko-KR" sz="1400" spc="-1" strike="noStrike">
                <a:solidFill>
                  <a:srgbClr val="ededed"/>
                </a:solidFill>
                <a:latin typeface="-보람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-보람M"/>
              </a:rPr>
              <a:t>模板大全，幻灯片模板，</a:t>
            </a:r>
            <a:r>
              <a:rPr b="1" lang="ko-KR" sz="1400" spc="-1" strike="noStrike">
                <a:solidFill>
                  <a:srgbClr val="ededed"/>
                </a:solidFill>
                <a:latin typeface="-보람M"/>
              </a:rPr>
              <a:t>Powe</a:t>
            </a:r>
            <a:r>
              <a:rPr b="1" lang="ko-KR" sz="1400" spc="-1" strike="noStrike">
                <a:solidFill>
                  <a:srgbClr val="e8eff7"/>
                </a:solidFill>
                <a:latin typeface="-보람M"/>
              </a:rPr>
              <a:t>rPoint</a:t>
            </a:r>
            <a:r>
              <a:rPr b="1" lang="ko-KR" sz="1400" spc="-1" strike="noStrike">
                <a:solidFill>
                  <a:srgbClr val="e8eff7"/>
                </a:solidFill>
                <a:latin typeface="-보람M"/>
              </a:rPr>
              <a:t>模板等各类</a:t>
            </a:r>
            <a:r>
              <a:rPr b="1" lang="ko-KR" sz="1400" spc="-1" strike="noStrike">
                <a:solidFill>
                  <a:srgbClr val="e8eff7"/>
                </a:solidFill>
                <a:latin typeface="-보람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-보람M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-보람M"/>
              </a:rPr>
              <a:t>助</a:t>
            </a:r>
            <a:r>
              <a:rPr b="1" lang="ko-KR" sz="1400" spc="-1" strike="noStrike">
                <a:solidFill>
                  <a:srgbClr val="e8eff7"/>
                </a:solidFill>
                <a:latin typeface="-보람M"/>
              </a:rPr>
              <a:t>您轻松制作出精美</a:t>
            </a:r>
            <a:r>
              <a:rPr b="1" lang="ko-KR" sz="1400" spc="-1" strike="noStrike">
                <a:solidFill>
                  <a:srgbClr val="e8eff7"/>
                </a:solidFill>
                <a:latin typeface="-보람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-보람M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d056f"/>
              </a:solidFill>
              <a:latin typeface="-보람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d056f"/>
              </a:solidFill>
              <a:latin typeface="-보람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d056f"/>
              </a:solidFill>
              <a:latin typeface="-보람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-보람M"/>
              </a:rPr>
              <a:t>特别说明：</a:t>
            </a:r>
            <a:endParaRPr b="0" lang="en-US" sz="1400" spc="-1" strike="noStrike">
              <a:solidFill>
                <a:srgbClr val="0d056f"/>
              </a:solidFill>
              <a:latin typeface="-보람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d056f"/>
              </a:solidFill>
              <a:latin typeface="-보람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-보람M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-보람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-보람M"/>
              </a:rPr>
              <a:t>模板收集于网络，</a:t>
            </a:r>
            <a:r>
              <a:rPr b="1" lang="ko-KR" sz="1400" spc="-1" strike="noStrike">
                <a:solidFill>
                  <a:srgbClr val="ededed"/>
                </a:solidFill>
                <a:latin typeface="-보람M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d056f"/>
              </a:solidFill>
              <a:latin typeface="-보람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d056f"/>
              </a:solidFill>
              <a:latin typeface="-보람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d056f"/>
              </a:solidFill>
              <a:latin typeface="-보람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d056f"/>
              </a:solidFill>
              <a:latin typeface="-보람M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-보람M"/>
              </a:rPr>
              <a:t>栏目推荐</a:t>
            </a:r>
            <a:r>
              <a:rPr b="1" lang="ko-KR" sz="1400" spc="-1" strike="noStrike">
                <a:solidFill>
                  <a:srgbClr val="ededed"/>
                </a:solidFill>
                <a:latin typeface="-보람M"/>
              </a:rPr>
              <a:t>：</a:t>
            </a:r>
            <a:endParaRPr b="0" lang="en-US" sz="1400" spc="-1" strike="noStrike">
              <a:solidFill>
                <a:srgbClr val="0d056f"/>
              </a:solidFill>
              <a:latin typeface="-보람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d056f"/>
              </a:solidFill>
              <a:latin typeface="-보람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d056f"/>
              </a:solidFill>
              <a:latin typeface="-보람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d056f"/>
              </a:solidFill>
              <a:latin typeface="-보람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d056f"/>
              </a:solidFill>
              <a:latin typeface="-보람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d056f"/>
              </a:solidFill>
              <a:latin typeface="-보람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d056f"/>
              </a:solidFill>
              <a:latin typeface="-보람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d056f"/>
              </a:solidFill>
              <a:latin typeface="-보람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d056f"/>
              </a:solidFill>
              <a:latin typeface="-보람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d056f"/>
              </a:solidFill>
              <a:latin typeface="-보람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d056f"/>
              </a:solidFill>
              <a:latin typeface="-보람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d056f"/>
              </a:solidFill>
              <a:latin typeface="-보람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d056f"/>
              </a:solidFill>
              <a:latin typeface="-보람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d056f"/>
              </a:solidFill>
              <a:latin typeface="-보람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d056f"/>
              </a:solidFill>
              <a:latin typeface="-보람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d056f"/>
              </a:solidFill>
              <a:latin typeface="-보람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d056f"/>
              </a:solidFill>
              <a:latin typeface="-보람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d056f"/>
              </a:solidFill>
              <a:latin typeface="-보람M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D76D-E85C-4FD8-8DA8-FAA89C711B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4T02:41:2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34Z</dcterms:modified>
  <cp:revision>43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