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B4D9-B2D7-4B4C-ACFC-6324606C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0FB7-3155-42DE-8A7D-AB1AA8B3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25D8-01EA-4D29-A390-D8AE8AF8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1332-AEE0-4178-AC81-9FAE949C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E129-93B5-40F9-B3FF-C99CF686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061D-F16D-451F-8FDA-64990CA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EDBA-AD7F-4213-B061-DDEA1A98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294-CB2B-40B5-9436-C29F8A38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743F-A0E3-4FC7-AFB5-AF096065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31FD-9A94-479A-B8A7-061853F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3289-1F44-4616-B066-9DAA310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D339-8F85-457C-9888-7ABE9D1B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374F-127E-4484-848A-464DFBDA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99C4-0F35-486F-A0CE-0C79578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E9F-3B74-4FA9-8158-111BCB65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52D3-8544-43EE-AFEA-CD1EDBFC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66E4-2B01-430C-8416-8641C053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4B48-ACEE-49C8-A9B6-7B32221B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FC2A-F09F-4CAA-81FD-2D1DB381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FE55-5778-4BC1-9888-684CA560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42DB-B857-4798-92C7-362EEC8D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0282-2978-4012-ACB1-D854E5B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DBC1-F32C-4976-B64A-8C890060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0F79-A702-4AEE-8A2F-2803E4F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3060720" y="2205000"/>
            <a:ext cx="6083280" cy="4653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0" t="0" r="14489" b="12893"/>
          <a:stretch/>
        </p:blipFill>
        <p:spPr>
          <a:xfrm>
            <a:off x="0" y="692280"/>
            <a:ext cx="8664480" cy="46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4"/>
          <a:srcRect l="6185" t="16981" r="12709" b="9748"/>
          <a:stretch/>
        </p:blipFill>
        <p:spPr>
          <a:xfrm>
            <a:off x="611280" y="6308640"/>
            <a:ext cx="8218440" cy="19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1FDA97E1-98BF-40B8-9510-9AE37C93DE63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10"/>
          <p:cNvSpPr/>
          <p:nvPr/>
        </p:nvSpPr>
        <p:spPr>
          <a:xfrm>
            <a:off x="446040" y="739800"/>
            <a:ext cx="8197920" cy="55688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143C-F6AB-4FCA-B86B-D96C52341F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1.wmf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12490" t="0" r="21220" b="9748"/>
          <a:stretch/>
        </p:blipFill>
        <p:spPr>
          <a:xfrm>
            <a:off x="1449360" y="4724280"/>
            <a:ext cx="769464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矩形 16"/>
          <p:cNvSpPr/>
          <p:nvPr/>
        </p:nvSpPr>
        <p:spPr>
          <a:xfrm>
            <a:off x="1579680" y="2276640"/>
            <a:ext cx="7589880" cy="25923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86" descr=""/>
          <p:cNvPicPr/>
          <p:nvPr/>
        </p:nvPicPr>
        <p:blipFill>
          <a:blip r:embed="rId2"/>
          <a:srcRect l="0" t="0" r="10874" b="25683"/>
          <a:stretch/>
        </p:blipFill>
        <p:spPr>
          <a:xfrm flipH="1">
            <a:off x="-360" y="0"/>
            <a:ext cx="738036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>
            <a:hlinkClick r:id="rId3"/>
          </p:cNvPr>
          <p:cNvSpPr/>
          <p:nvPr/>
        </p:nvSpPr>
        <p:spPr>
          <a:xfrm>
            <a:off x="6083280" y="5896080"/>
            <a:ext cx="3060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0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82560" y="2491920"/>
            <a:ext cx="6048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个人简历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自我介绍幻灯片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2470680" y="10368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黄色个性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496800" y="6543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62828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47F092EB-D7AA-4DFD-99BA-89E2FB7D4D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101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0c8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www.1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2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E1EBA514-80CA-4E9D-A875-BF94F032E6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rcRect l="0" t="0" r="9757" b="9748"/>
          <a:stretch/>
        </p:blipFill>
        <p:spPr>
          <a:xfrm>
            <a:off x="-33480" y="5084640"/>
            <a:ext cx="9141120" cy="10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18"/>
          <p:cNvSpPr/>
          <p:nvPr/>
        </p:nvSpPr>
        <p:spPr>
          <a:xfrm>
            <a:off x="0" y="2133720"/>
            <a:ext cx="9142560" cy="29829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>
            <a:hlinkClick r:id="rId2"/>
          </p:cNvPr>
          <p:cNvSpPr/>
          <p:nvPr/>
        </p:nvSpPr>
        <p:spPr>
          <a:xfrm>
            <a:off x="0" y="5913360"/>
            <a:ext cx="3060720" cy="505080"/>
          </a:xfrm>
          <a:prstGeom prst="rect">
            <a:avLst/>
          </a:prstGeom>
          <a:gradFill rotWithShape="0">
            <a:gsLst>
              <a:gs pos="0">
                <a:srgbClr val="fff0d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rm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86" descr=""/>
          <p:cNvPicPr/>
          <p:nvPr/>
        </p:nvPicPr>
        <p:blipFill>
          <a:blip r:embed="rId3"/>
          <a:srcRect l="0" t="0" r="11063" b="48256"/>
          <a:stretch/>
        </p:blipFill>
        <p:spPr>
          <a:xfrm>
            <a:off x="1681200" y="1268280"/>
            <a:ext cx="7461360" cy="5588280"/>
          </a:xfrm>
          <a:prstGeom prst="rect">
            <a:avLst/>
          </a:prstGeom>
          <a:ln w="0">
            <a:noFill/>
          </a:ln>
        </p:spPr>
      </p:pic>
      <p:sp>
        <p:nvSpPr>
          <p:cNvPr id="152" name="标题 3"/>
          <p:cNvSpPr/>
          <p:nvPr/>
        </p:nvSpPr>
        <p:spPr>
          <a:xfrm>
            <a:off x="0" y="2670120"/>
            <a:ext cx="86612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副标题 4"/>
          <p:cNvSpPr/>
          <p:nvPr/>
        </p:nvSpPr>
        <p:spPr>
          <a:xfrm>
            <a:off x="0" y="3473280"/>
            <a:ext cx="867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466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4572000" y="587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6036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70c0"/>
                </a:solidFill>
                <a:uFillTx/>
                <a:latin typeface="Verdana"/>
                <a:ea typeface="宋体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2:26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