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61FB-2AD7-4F0B-B0EA-592A9DD07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B41AA-A792-4330-AB7F-7475301C5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F14-2C36-414E-B90A-E811CADB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261-84A1-457C-8150-F171FFB8F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0431-B02E-4B9B-9C76-876891AB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AD38-94EA-4B01-BCCD-3E720FD5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8E43-FEC2-41DF-8436-B2E84435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69A-7453-4166-94DF-F25DA270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85F3-B823-46BB-95CC-66B778A4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0B71-0C2E-44DF-9AD2-1714F24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ED37-B180-459D-BF35-125275DC9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9AF-FBB9-436E-A749-3C6EB9E3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F6A64-2B80-4542-B687-5391F8331FD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8"/>
          <p:cNvSpPr/>
          <p:nvPr/>
        </p:nvSpPr>
        <p:spPr>
          <a:xfrm>
            <a:off x="14400" y="4944960"/>
            <a:ext cx="9144000" cy="18925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D:\Desktop\素材\照片\建筑\city_wallpaper_by_faytalitygfx-d577mqg.jpg"/>
          <p:cNvPicPr/>
          <p:nvPr/>
        </p:nvPicPr>
        <p:blipFill>
          <a:blip r:embed="rId1"/>
          <a:srcRect l="5882" t="0" r="5932" b="0"/>
          <a:stretch/>
        </p:blipFill>
        <p:spPr>
          <a:xfrm>
            <a:off x="-1440" y="0"/>
            <a:ext cx="9142200" cy="5000760"/>
          </a:xfrm>
          <a:prstGeom prst="rect">
            <a:avLst/>
          </a:prstGeom>
          <a:ln w="0">
            <a:noFill/>
          </a:ln>
        </p:spPr>
      </p:pic>
      <p:grpSp>
        <p:nvGrpSpPr>
          <p:cNvPr id="43" name=""/>
          <p:cNvGrpSpPr/>
          <p:nvPr/>
        </p:nvGrpSpPr>
        <p:grpSpPr>
          <a:xfrm>
            <a:off x="-17640" y="4937040"/>
            <a:ext cx="9174240" cy="104760"/>
            <a:chOff x="-17640" y="4937040"/>
            <a:chExt cx="9174240" cy="104760"/>
          </a:xfrm>
        </p:grpSpPr>
        <p:pic>
          <p:nvPicPr>
            <p:cNvPr id="44" name="矩形 9" descr=""/>
            <p:cNvPicPr/>
            <p:nvPr/>
          </p:nvPicPr>
          <p:blipFill>
            <a:blip r:embed="rId2"/>
            <a:stretch/>
          </p:blipFill>
          <p:spPr>
            <a:xfrm>
              <a:off x="-17640" y="4937040"/>
              <a:ext cx="91742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-1800" y="4956120"/>
              <a:ext cx="914256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矩形 4"/>
          <p:cNvSpPr/>
          <p:nvPr/>
        </p:nvSpPr>
        <p:spPr>
          <a:xfrm>
            <a:off x="2197080" y="5380200"/>
            <a:ext cx="474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62626"/>
                </a:solidFill>
                <a:latin typeface="Copperplate Gothic Bold"/>
                <a:ea typeface="Arial Unicode MS"/>
              </a:rPr>
              <a:t>SlideIdea Templat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-3636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2612520" y="44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色简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9144000" cy="532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D:\Desktop\素材\照片\建筑\city_wallpaper_by_faytalitygfx-d577mqg.jpg"/>
          <p:cNvPicPr/>
          <p:nvPr/>
        </p:nvPicPr>
        <p:blipFill>
          <a:blip r:embed="rId2"/>
          <a:srcRect l="0" t="30409" r="0" b="34798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1" name="矩形 7"/>
          <p:cNvSpPr/>
          <p:nvPr/>
        </p:nvSpPr>
        <p:spPr>
          <a:xfrm>
            <a:off x="4098600" y="22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前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7640" y="1438200"/>
            <a:ext cx="9174240" cy="104760"/>
            <a:chOff x="-17640" y="1438200"/>
            <a:chExt cx="9174240" cy="104760"/>
          </a:xfrm>
        </p:grpSpPr>
        <p:pic>
          <p:nvPicPr>
            <p:cNvPr id="53" name="矩形 9" descr=""/>
            <p:cNvPicPr/>
            <p:nvPr/>
          </p:nvPicPr>
          <p:blipFill>
            <a:blip r:embed="rId3"/>
            <a:stretch/>
          </p:blipFill>
          <p:spPr>
            <a:xfrm>
              <a:off x="-17640" y="1438200"/>
              <a:ext cx="91742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-1800" y="1457280"/>
              <a:ext cx="914256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755640" y="393372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-3240" y="1530360"/>
            <a:ext cx="9142560" cy="5324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D:\Desktop\素材\照片\建筑\city_wallpaper_by_faytalitygfx-d577mqg.jpg"/>
          <p:cNvPicPr/>
          <p:nvPr/>
        </p:nvPicPr>
        <p:blipFill>
          <a:blip r:embed="rId2"/>
          <a:srcRect l="0" t="30409" r="0" b="34798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58" name="矩形 7"/>
          <p:cNvSpPr/>
          <p:nvPr/>
        </p:nvSpPr>
        <p:spPr>
          <a:xfrm>
            <a:off x="4098600" y="225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目录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969920" y="957240"/>
            <a:ext cx="5108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-17640" y="1438200"/>
            <a:ext cx="9174240" cy="104760"/>
            <a:chOff x="-17640" y="1438200"/>
            <a:chExt cx="9174240" cy="104760"/>
          </a:xfrm>
        </p:grpSpPr>
        <p:pic>
          <p:nvPicPr>
            <p:cNvPr id="61" name="矩形 9" descr=""/>
            <p:cNvPicPr/>
            <p:nvPr/>
          </p:nvPicPr>
          <p:blipFill>
            <a:blip r:embed="rId3"/>
            <a:stretch/>
          </p:blipFill>
          <p:spPr>
            <a:xfrm>
              <a:off x="-17640" y="1438200"/>
              <a:ext cx="91742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-1800" y="1457280"/>
              <a:ext cx="914256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矩形 2"/>
          <p:cNvSpPr/>
          <p:nvPr/>
        </p:nvSpPr>
        <p:spPr>
          <a:xfrm>
            <a:off x="1392120" y="27655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1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矩形 8"/>
          <p:cNvSpPr/>
          <p:nvPr/>
        </p:nvSpPr>
        <p:spPr>
          <a:xfrm>
            <a:off x="1392120" y="38149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2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1392120" y="494172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3.</a:t>
            </a: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-3240" y="1530360"/>
            <a:ext cx="9142560" cy="532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D:\Desktop\素材\照片\建筑\city_wallpaper_by_faytalitygfx-d577mqg.jpg"/>
          <p:cNvPicPr/>
          <p:nvPr/>
        </p:nvPicPr>
        <p:blipFill>
          <a:blip r:embed="rId2"/>
          <a:srcRect l="0" t="30409" r="0" b="34798"/>
          <a:stretch/>
        </p:blipFill>
        <p:spPr>
          <a:xfrm>
            <a:off x="0" y="0"/>
            <a:ext cx="9144000" cy="1484280"/>
          </a:xfrm>
          <a:prstGeom prst="rect">
            <a:avLst/>
          </a:prstGeom>
          <a:ln w="0">
            <a:noFill/>
          </a:ln>
        </p:spPr>
      </p:pic>
      <p:sp>
        <p:nvSpPr>
          <p:cNvPr id="68" name="矩形 7"/>
          <p:cNvSpPr/>
          <p:nvPr/>
        </p:nvSpPr>
        <p:spPr>
          <a:xfrm>
            <a:off x="3427920" y="225360"/>
            <a:ext cx="219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2f2f2"/>
                </a:solidFill>
                <a:latin typeface="Copperplate Gothic Bold"/>
                <a:ea typeface="Arial Unicode MS"/>
              </a:rPr>
              <a:t>双击输入标题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1969920" y="957240"/>
            <a:ext cx="5108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-17640" y="1438200"/>
            <a:ext cx="9174240" cy="104760"/>
            <a:chOff x="-17640" y="1438200"/>
            <a:chExt cx="9174240" cy="104760"/>
          </a:xfrm>
        </p:grpSpPr>
        <p:pic>
          <p:nvPicPr>
            <p:cNvPr id="71" name="矩形 9" descr=""/>
            <p:cNvPicPr/>
            <p:nvPr/>
          </p:nvPicPr>
          <p:blipFill>
            <a:blip r:embed="rId3"/>
            <a:stretch/>
          </p:blipFill>
          <p:spPr>
            <a:xfrm>
              <a:off x="-17640" y="1438200"/>
              <a:ext cx="9174240" cy="10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-1800" y="1457280"/>
              <a:ext cx="9142560" cy="7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" name="矩形 2"/>
          <p:cNvSpPr/>
          <p:nvPr/>
        </p:nvSpPr>
        <p:spPr>
          <a:xfrm>
            <a:off x="1116000" y="2394000"/>
            <a:ext cx="626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双击输入正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-3240" y="0"/>
            <a:ext cx="9147240" cy="6854760"/>
            <a:chOff x="-3240" y="0"/>
            <a:chExt cx="9147240" cy="6854760"/>
          </a:xfrm>
        </p:grpSpPr>
        <p:pic>
          <p:nvPicPr>
            <p:cNvPr id="75" name="Picture 3" descr=""/>
            <p:cNvPicPr/>
            <p:nvPr/>
          </p:nvPicPr>
          <p:blipFill>
            <a:blip r:embed="rId1"/>
            <a:stretch/>
          </p:blipFill>
          <p:spPr>
            <a:xfrm>
              <a:off x="-3240" y="1725840"/>
              <a:ext cx="9141840" cy="51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矩形 4"/>
            <p:cNvSpPr/>
            <p:nvPr/>
          </p:nvSpPr>
          <p:spPr>
            <a:xfrm>
              <a:off x="-3240" y="0"/>
              <a:ext cx="9147240" cy="19886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BC3C-D47F-47F4-BB13-4CF5D1B893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4T07:03:19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10:14Z</dcterms:modified>
  <cp:revision>22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