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6B8-7C9C-47A7-B9D3-756A5310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2A9-EA21-4D2F-B0AA-F8B0B64A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7F3-F0E5-44EB-A935-DD9B15D9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840-0A78-4D31-81B0-ED442C16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A6C3-0A3C-4C41-ABCB-D5D83989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DD58-D5F9-4A91-84BD-7ECDB7C7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937A-A3DA-4234-A061-42CFCDD6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593C-6301-4774-8F4A-E0182F53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1601-FF2E-4726-BC48-5352A4E5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92D6-B54E-4975-A3E8-5A10062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4798-98F5-4B7C-8FF0-E7E76979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0C39-E62A-4216-8601-5489DDB6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0641-6F74-4807-A844-6C919F6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7B8C-BB83-43F7-957A-546B10B1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CBE6-2E1A-4D03-B429-395C2AE8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D4A3-409D-436F-BCD5-9C2A9633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464E-9110-4B99-8F1C-4717C470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A3C-A9B1-42FF-A28D-9F59C57B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A05-F128-42FF-9865-2B4F891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11B-E77D-4EA5-B5FC-347E4BE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06F-D6FC-4CB6-AE15-33EC1DD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08D-0342-4D87-91A2-52A0253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6C2-4BFD-4316-B7ED-146EC6E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3A6-9FA9-4B78-AF42-ADCE990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99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7D38-DF27-4091-A9FF-2909CA617F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cc66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99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285-F902-448A-BA6B-300DBA2E5F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1080" y="5651280"/>
            <a:ext cx="53643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財務管理與生活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-- 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個人財務規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DFKai-SB"/>
                <a:ea typeface="宋体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DFKai-SB"/>
                <a:ea typeface="DFKai-SB"/>
              </a:rPr>
              <a:t>          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DFKai-SB"/>
                <a:ea typeface="DFKai-SB"/>
              </a:rPr>
              <a:t>          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3216960" y="1052640"/>
            <a:ext cx="37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金黄财务资料</a:t>
            </a:r>
            <a:r>
              <a:rPr b="1" lang="en-US" sz="40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5e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5e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5e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財務規劃觀念 </a:t>
            </a:r>
            <a:br>
              <a:rPr sz="3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一、打破理財迷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二、您知不知道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三、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培養與學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Object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85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一、打破理財迷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1599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〔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生吃都不夠，還能曬成乾？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 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積沙成塔，聚少成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DFKai-SB"/>
                <a:ea typeface="DFKai-SB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〔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我一直在賺錢啊！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 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增加財富≠ 累積財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打破理財迷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19320" y="1599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〔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我很忙碌！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　  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 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時間是理財的根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312372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〔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我不懂什麼理財的！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 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您不理財，財不理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打破理財迷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19320" y="1599840"/>
            <a:ext cx="777240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〔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一個錢打２４個結！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 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規劃≠吝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2971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6.</a:t>
            </a: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〔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立遺囑？有沒有搞錯！</a:t>
            </a: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〕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--- </a:t>
            </a: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不要把您的遺產或負債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        </a:t>
            </a: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成為家人的糾紛或負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二、您知不知道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您知道您</a:t>
            </a:r>
            <a:r>
              <a:rPr b="0" lang="zh-TW" sz="3600" spc="-1" strike="noStrike">
                <a:solidFill>
                  <a:srgbClr val="ff3300"/>
                </a:solidFill>
                <a:latin typeface="Times New Roman"/>
                <a:ea typeface="DFKai-SB"/>
              </a:rPr>
              <a:t>已經知道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事情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您知道您</a:t>
            </a:r>
            <a:r>
              <a:rPr b="0" lang="zh-TW" sz="3600" spc="-1" strike="noStrike">
                <a:solidFill>
                  <a:srgbClr val="ff3300"/>
                </a:solidFill>
                <a:latin typeface="Times New Roman"/>
                <a:ea typeface="DFKai-SB"/>
              </a:rPr>
              <a:t>不知道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事情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您知道您</a:t>
            </a:r>
            <a:r>
              <a:rPr b="0" lang="zh-TW" sz="3600" spc="-1" strike="noStrike">
                <a:solidFill>
                  <a:srgbClr val="ff3300"/>
                </a:solidFill>
                <a:latin typeface="Times New Roman"/>
                <a:ea typeface="DFKai-SB"/>
              </a:rPr>
              <a:t>應該知道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事情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您不知道您</a:t>
            </a:r>
            <a:r>
              <a:rPr b="0" lang="zh-TW" sz="3600" spc="-1" strike="noStrike">
                <a:solidFill>
                  <a:srgbClr val="ff3300"/>
                </a:solidFill>
                <a:latin typeface="Times New Roman"/>
                <a:ea typeface="DFKai-SB"/>
              </a:rPr>
              <a:t>不知道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的事情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BD00028_"/>
          <p:cNvPicPr/>
          <p:nvPr/>
        </p:nvPicPr>
        <p:blipFill>
          <a:blip r:embed="rId1"/>
          <a:stretch/>
        </p:blipFill>
        <p:spPr>
          <a:xfrm>
            <a:off x="7010280" y="4800600"/>
            <a:ext cx="1828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zh-TW" sz="5800" spc="-1" strike="noStrike">
                <a:solidFill>
                  <a:srgbClr val="000000"/>
                </a:solidFill>
                <a:latin typeface="DFKai-SB"/>
                <a:ea typeface="DFKai-SB"/>
              </a:rPr>
              <a:t>三、培養與學習</a:t>
            </a:r>
            <a:br>
              <a:rPr sz="5800"/>
            </a:b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培養正確理財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→</a:t>
            </a: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不要成為金錢奴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學習理財知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→</a:t>
            </a: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５Ｗ加１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BS00508_"/>
          <p:cNvPicPr/>
          <p:nvPr/>
        </p:nvPicPr>
        <p:blipFill>
          <a:blip r:embed="rId1"/>
          <a:stretch/>
        </p:blipFill>
        <p:spPr>
          <a:xfrm>
            <a:off x="5867280" y="2971800"/>
            <a:ext cx="2960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參、致富理財工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FKai-SB"/>
                <a:ea typeface="DFKai-SB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致富理財工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7724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三個籃子理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退休籃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----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保障未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安全籃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----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保障全家安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夢想籃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----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實現夢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zh-TW" sz="2800" spc="-1" strike="noStrike">
                <a:solidFill>
                  <a:srgbClr val="6600cc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  </a:t>
            </a: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好好裝滿這三個籃子，絕對可以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  </a:t>
            </a: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創造出豐盈的財富及財務安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BD08911_"/>
          <p:cNvPicPr/>
          <p:nvPr/>
        </p:nvPicPr>
        <p:blipFill>
          <a:blip r:embed="rId1"/>
          <a:stretch/>
        </p:blipFill>
        <p:spPr>
          <a:xfrm>
            <a:off x="6781680" y="228600"/>
            <a:ext cx="23623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退休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DFKai-SB"/>
                <a:ea typeface="DFKai-SB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DFKai-SB"/>
                <a:ea typeface="DFKai-SB"/>
              </a:rPr>
              <a:t>[</a:t>
            </a:r>
            <a:r>
              <a:rPr b="0" lang="zh-TW" sz="3200" spc="-1" strike="noStrike">
                <a:solidFill>
                  <a:srgbClr val="ff3300"/>
                </a:solidFill>
                <a:latin typeface="DFKai-SB"/>
                <a:ea typeface="DFKai-SB"/>
              </a:rPr>
              <a:t>先付錢給自己</a:t>
            </a:r>
            <a:r>
              <a:rPr b="0" lang="zh-CN" sz="3200" spc="-1" strike="noStrike">
                <a:solidFill>
                  <a:srgbClr val="ff3300"/>
                </a:solidFill>
                <a:latin typeface="DFKai-SB"/>
                <a:ea typeface="DFKai-SB"/>
              </a:rPr>
              <a:t>]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；是把賺到的每一塊錢，提撥一定比率，投資在退休帳戶；且未到退休年齡絕對禁止領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可以</a:t>
            </a: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共同基金</a:t>
            </a: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投資方式來累積退休基金。並可符合理財鐵律：分散投資，降低風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238480" y="629928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個人財務規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壹、認識財務管理         </a:t>
            </a:r>
            <a:r>
              <a:rPr b="0" lang="en-US" sz="4000" spc="-1" strike="noStrike">
                <a:solidFill>
                  <a:srgbClr val="000000"/>
                </a:solidFill>
                <a:latin typeface="DFKai-SB"/>
                <a:ea typeface="DFKai-SB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貳、財務規劃觀念         </a:t>
            </a:r>
            <a:r>
              <a:rPr b="0" lang="en-US" sz="4000" spc="-1" strike="noStrike">
                <a:solidFill>
                  <a:srgbClr val="000000"/>
                </a:solidFill>
                <a:latin typeface="DFKai-SB"/>
                <a:ea typeface="DFKai-SB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參、致富理財工具         </a:t>
            </a:r>
            <a:r>
              <a:rPr b="0" lang="en-US" sz="4000" spc="-1" strike="noStrike">
                <a:solidFill>
                  <a:srgbClr val="000000"/>
                </a:solidFill>
                <a:latin typeface="DFKai-SB"/>
                <a:ea typeface="DFKai-SB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肆、淺談人生規劃         </a:t>
            </a:r>
            <a:r>
              <a:rPr b="0" lang="en-US" sz="4000" spc="-1" strike="noStrike">
                <a:solidFill>
                  <a:srgbClr val="000000"/>
                </a:solidFill>
                <a:latin typeface="DFKai-SB"/>
                <a:ea typeface="DFKai-SB"/>
              </a:rPr>
              <a:t>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340000" y="631044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安全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人有旦夕禍福，世事難料，總要防患未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DFKai-SB"/>
                <a:ea typeface="DFKai-SB"/>
              </a:rPr>
              <a:t>凡事都要預期最佳狀況，作最壞的打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DFKai-SB"/>
              </a:rPr>
              <a:t>‧</a:t>
            </a: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預留備用</a:t>
            </a: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現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DFKai-SB"/>
              </a:rPr>
              <a:t>‧</a:t>
            </a: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盡己所能購買最好的</a:t>
            </a: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醫療保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Times New Roman"/>
                <a:ea typeface="DFKai-SB"/>
              </a:rPr>
              <a:t>‧</a:t>
            </a: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購買</a:t>
            </a: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人壽保險</a:t>
            </a:r>
            <a:r>
              <a:rPr b="0" lang="zh-TW" sz="3600" spc="-1" strike="noStrike">
                <a:solidFill>
                  <a:srgbClr val="6600cc"/>
                </a:solidFill>
                <a:latin typeface="DFKai-SB"/>
                <a:ea typeface="DFKai-SB"/>
              </a:rPr>
              <a:t>，保障依賴你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    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夢想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每個人都應該有夢想！只要有計畫，訂定明確目標，擬出進度，幾乎任何事情都是有可能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‧</a:t>
            </a:r>
            <a:r>
              <a:rPr b="0" lang="zh-TW" sz="2800" spc="-1" strike="noStrike">
                <a:solidFill>
                  <a:srgbClr val="6600cc"/>
                </a:solidFill>
                <a:latin typeface="DFKai-SB"/>
                <a:ea typeface="DFKai-SB"/>
              </a:rPr>
              <a:t>短期夢想</a:t>
            </a: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DFKai-SB"/>
              </a:rPr>
              <a:t>---</a:t>
            </a:r>
            <a:r>
              <a:rPr b="0" lang="zh-TW" sz="2800" spc="-1" strike="noStrike">
                <a:solidFill>
                  <a:srgbClr val="ff3300"/>
                </a:solidFill>
                <a:latin typeface="DFKai-SB"/>
                <a:ea typeface="DFKai-SB"/>
              </a:rPr>
              <a:t>貨幣型基金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具保本，保息，高流動性且合法節稅的利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‧</a:t>
            </a:r>
            <a:r>
              <a:rPr b="0" lang="zh-TW" sz="2800" spc="-1" strike="noStrike">
                <a:solidFill>
                  <a:srgbClr val="6600cc"/>
                </a:solidFill>
                <a:latin typeface="DFKai-SB"/>
                <a:ea typeface="DFKai-SB"/>
              </a:rPr>
              <a:t>中期夢想</a:t>
            </a: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DFKai-SB"/>
              </a:rPr>
              <a:t>---</a:t>
            </a:r>
            <a:r>
              <a:rPr b="0" lang="zh-TW" sz="2800" spc="-1" strike="noStrike">
                <a:solidFill>
                  <a:srgbClr val="ff3300"/>
                </a:solidFill>
                <a:latin typeface="DFKai-SB"/>
                <a:ea typeface="DFKai-SB"/>
              </a:rPr>
              <a:t>平衡型基金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同時投資</a:t>
            </a:r>
            <a:r>
              <a:rPr b="0" lang="zh-TW" sz="2800" spc="-1" strike="noStrike">
                <a:solidFill>
                  <a:srgbClr val="ff3300"/>
                </a:solidFill>
                <a:latin typeface="DFKai-SB"/>
                <a:ea typeface="DFKai-SB"/>
              </a:rPr>
              <a:t>股票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和</a:t>
            </a:r>
            <a:r>
              <a:rPr b="0" lang="zh-TW" sz="2800" spc="-1" strike="noStrike">
                <a:solidFill>
                  <a:srgbClr val="ff3300"/>
                </a:solidFill>
                <a:latin typeface="DFKai-SB"/>
                <a:ea typeface="DFKai-SB"/>
              </a:rPr>
              <a:t>債券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屬於緩慢而穩定，但可以帶你達成目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DFKai-SB"/>
              </a:rPr>
              <a:t>‧</a:t>
            </a:r>
            <a:r>
              <a:rPr b="0" lang="zh-TW" sz="2800" spc="-1" strike="noStrike">
                <a:solidFill>
                  <a:srgbClr val="6600cc"/>
                </a:solidFill>
                <a:latin typeface="DFKai-SB"/>
                <a:ea typeface="DFKai-SB"/>
              </a:rPr>
              <a:t>長期夢想</a:t>
            </a: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DFKai-SB"/>
              </a:rPr>
              <a:t>---</a:t>
            </a:r>
            <a:r>
              <a:rPr b="0" lang="zh-TW" sz="2800" spc="-1" strike="noStrike">
                <a:solidFill>
                  <a:srgbClr val="ff3300"/>
                </a:solidFill>
                <a:latin typeface="DFKai-SB"/>
                <a:ea typeface="DFKai-SB"/>
              </a:rPr>
              <a:t>股票型基金</a:t>
            </a:r>
            <a:r>
              <a:rPr b="0" lang="zh-TW" sz="2800" spc="-1" strike="noStrike">
                <a:solidFill>
                  <a:srgbClr val="000000"/>
                </a:solidFill>
                <a:latin typeface="DFKai-SB"/>
                <a:ea typeface="DFKai-SB"/>
              </a:rPr>
              <a:t>時間越長，越能承受較大的風險，獲取更大的報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肆、淺談人生規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FKai-SB"/>
                <a:ea typeface="DFKai-SB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000000"/>
                </a:solidFill>
                <a:latin typeface="Times New Roman"/>
                <a:ea typeface="DFKai-SB"/>
              </a:rPr>
              <a:t>一、理財愈早開始愈好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當我們需要資金時，已不能依靠慢慢累積，因此及早作好適當的</a:t>
            </a:r>
            <a:r>
              <a:rPr b="1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理財計劃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是非常重要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PE02043_"/>
          <p:cNvPicPr/>
          <p:nvPr/>
        </p:nvPicPr>
        <p:blipFill>
          <a:blip r:embed="rId1"/>
          <a:stretch/>
        </p:blipFill>
        <p:spPr>
          <a:xfrm>
            <a:off x="6837480" y="3770280"/>
            <a:ext cx="19065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DFKai-SB"/>
              </a:rPr>
              <a:t>二、認識自己，了解家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人的成長環境不同，思想觀念亦不同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所做的決策當然也不一樣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所以認真審慎的評估自己的個性與需求是相當重要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家庭成員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需求亦應一併考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DFKai-SB"/>
                <a:ea typeface="DFKai-SB"/>
              </a:rPr>
              <a:t>三</a:t>
            </a: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DFKai-SB"/>
              </a:rPr>
              <a:t>、</a:t>
            </a:r>
            <a:r>
              <a:rPr b="0" lang="zh-TW" sz="5400" spc="-1" strike="noStrike">
                <a:solidFill>
                  <a:srgbClr val="000000"/>
                </a:solidFill>
                <a:latin typeface="DFKai-SB"/>
                <a:ea typeface="DFKai-SB"/>
              </a:rPr>
              <a:t>規劃開銷，編列預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理財的計畫在執行時最大的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點就是消費習慣的控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決定開銷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-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什麼該買，什麼又是急迫要的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編列預算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是實踐理財最好的方法要愈容易愈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DFKai-SB"/>
              </a:rPr>
              <a:t>四</a:t>
            </a: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DFKai-SB"/>
              </a:rPr>
              <a:t>、</a:t>
            </a: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DFKai-SB"/>
              </a:rPr>
              <a:t>訂定清楚的財務目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1.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必須知道確切的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金額需求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，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能做準備資金的計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2.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有了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時間的規劃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，才會有進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的壓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訂定財務目標時，應注意其是否能實現及輕重緩急，是否深思過，且要簡單有彈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0773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例 </a:t>
            </a:r>
            <a:r>
              <a:rPr b="0" lang="zh-CN" sz="6000" spc="-1" strike="noStrike">
                <a:solidFill>
                  <a:srgbClr val="000000"/>
                </a:solidFill>
                <a:latin typeface="DFKai-SB"/>
                <a:ea typeface="DFKai-SB"/>
              </a:rPr>
              <a:t>: </a:t>
            </a: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以購屋為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設定三個目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DFKai-S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短程目標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: 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建立足夠的經濟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DFKai-SB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中程目標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: 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籌措足額的頭期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DFKai-SB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長程目標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DFKai-SB"/>
                <a:ea typeface="DFKai-SB"/>
              </a:rPr>
              <a:t>: 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如何將貸款還清，擁　　　　　 有屬於自己的房子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PE03254_"/>
          <p:cNvPicPr/>
          <p:nvPr/>
        </p:nvPicPr>
        <p:blipFill>
          <a:blip r:embed="rId1"/>
          <a:stretch/>
        </p:blipFill>
        <p:spPr>
          <a:xfrm>
            <a:off x="6781680" y="1523880"/>
            <a:ext cx="1787760" cy="16113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>
            <a:hlinkClick r:id="" action="ppaction://hlinkshowjump?jump=previousslide"/>
          </p:cNvPr>
          <p:cNvSpPr/>
          <p:nvPr/>
        </p:nvSpPr>
        <p:spPr>
          <a:xfrm>
            <a:off x="8229600" y="571500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3794" y="14848"/>
                </a:moveTo>
                <a:lnTo>
                  <a:pt x="17806" y="7842"/>
                </a:lnTo>
                <a:lnTo>
                  <a:pt x="17806" y="21855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DFKai-SB"/>
              </a:rPr>
              <a:t>五</a:t>
            </a:r>
            <a:r>
              <a:rPr b="0" lang="zh-TW" sz="5500" spc="-1" strike="noStrike">
                <a:solidFill>
                  <a:srgbClr val="000000"/>
                </a:solidFill>
                <a:latin typeface="Times New Roman"/>
                <a:ea typeface="DFKai-SB"/>
              </a:rPr>
              <a:t>、</a:t>
            </a: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DFKai-SB"/>
              </a:rPr>
              <a:t>理財目標的優先順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人的慾望無窮，見一個，愛一個，見二個，愛一雙，但資源有限，無法實現博愛的精神，故列出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優先順序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相當重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六</a:t>
            </a:r>
            <a:r>
              <a:rPr b="0" lang="zh-TW" sz="5500" spc="-1" strike="noStrike">
                <a:solidFill>
                  <a:srgbClr val="000000"/>
                </a:solidFill>
                <a:latin typeface="Times New Roman"/>
                <a:ea typeface="DFKai-SB"/>
              </a:rPr>
              <a:t>、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決定理財策略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分為三個部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Times New Roman"/>
                <a:ea typeface="DFKai-SB"/>
              </a:rPr>
              <a:t>財務策略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DFKai-SB"/>
              </a:rPr>
              <a:t>: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開源節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Times New Roman"/>
                <a:ea typeface="DFKai-SB"/>
              </a:rPr>
              <a:t>投資策略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DFKai-SB"/>
              </a:rPr>
              <a:t>: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正確投資觀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9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Times New Roman"/>
                <a:ea typeface="DFKai-SB"/>
              </a:rPr>
              <a:t>節稅策略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DFKai-SB"/>
              </a:rPr>
              <a:t>: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DFKai-SB"/>
              </a:rPr>
              <a:t>預防措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238480" y="629928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壹、認識財務管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FKai-SB"/>
                <a:ea typeface="DFKai-SB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七</a:t>
            </a:r>
            <a:r>
              <a:rPr b="0" lang="zh-TW" sz="5500" spc="-1" strike="noStrike">
                <a:solidFill>
                  <a:srgbClr val="000000"/>
                </a:solidFill>
                <a:latin typeface="Times New Roman"/>
                <a:ea typeface="DFKai-SB"/>
              </a:rPr>
              <a:t>、</a:t>
            </a: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定期檢討理財計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不同階段的理財計劃，會面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不一樣的財務問題，故定期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討相當重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DFKai-SB"/>
                <a:ea typeface="DFKai-SB"/>
              </a:rPr>
              <a:t>1.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注意外在環境的改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DFKai-SB"/>
                <a:ea typeface="DFKai-SB"/>
              </a:rPr>
              <a:t>2.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既定目標的執行，追蹤，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  </a:t>
            </a: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善，更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報告完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Times New Roman"/>
                <a:ea typeface="DFKai-SB"/>
              </a:rPr>
              <a:t>為何要做個人理財規劃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錢不是萬能，沒有錢萬萬不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人有二隻腳，錢有四隻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開源和節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—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DFKai-SB"/>
              </a:rPr>
              <a:t>賺錢、用錢、存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Times New Roman"/>
                <a:ea typeface="DFKai-SB"/>
              </a:rPr>
              <a:t>財務規劃的重要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0" y="1935000"/>
            <a:ext cx="9083520" cy="517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E01832_"/>
          <p:cNvPicPr/>
          <p:nvPr/>
        </p:nvPicPr>
        <p:blipFill>
          <a:blip r:embed="rId2"/>
          <a:stretch/>
        </p:blipFill>
        <p:spPr>
          <a:xfrm>
            <a:off x="6019920" y="40384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Times New Roman"/>
                <a:ea typeface="DFKai-SB"/>
              </a:rPr>
              <a:t>個人財務規劃定義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經濟學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的極大化的精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最少的代價，獲取最大效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會計學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的客觀紀錄基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透過財富流量和存量的紀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DFKai-SB"/>
                <a:ea typeface="DFKai-SB"/>
              </a:rPr>
              <a:t>財務學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的運作方式手段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DFKai-SB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提供最佳的策略和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DFKai-SB"/>
                <a:ea typeface="DFKai-SB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1219320" y="3429000"/>
            <a:ext cx="2666880" cy="297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Times New Roman"/>
                <a:ea typeface="DFKai-SB"/>
              </a:rPr>
              <a:t>個人財務規劃目的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積極的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不虞匱乏的豐富人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消極的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--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晚年之際，工作能力喪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 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生活準備金安全無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0000"/>
                </a:solidFill>
                <a:latin typeface="Times New Roman"/>
                <a:ea typeface="DFKai-SB"/>
              </a:rPr>
              <a:t>良好個人財務規劃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對抗通貨膨脹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選擇高報酬的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　　　　     資工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降低稅賦侵蝕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選擇免稅的投資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           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工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DFKai-SB"/>
                <a:ea typeface="DFKai-SB"/>
              </a:rPr>
              <a:t>為意外做準備</a:t>
            </a:r>
            <a:r>
              <a:rPr b="0" lang="zh-CN" sz="4000" spc="-1" strike="noStrike">
                <a:solidFill>
                  <a:srgbClr val="000000"/>
                </a:solidFill>
                <a:latin typeface="DFKai-SB"/>
                <a:ea typeface="DFKai-SB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設定流動性高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               </a:t>
            </a:r>
            <a:r>
              <a:rPr b="0" lang="zh-TW" sz="4000" spc="-1" strike="noStrike">
                <a:solidFill>
                  <a:srgbClr val="000000"/>
                </a:solidFill>
                <a:latin typeface="DFKai-SB"/>
                <a:ea typeface="DFKai-SB"/>
              </a:rPr>
              <a:t>預備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Kai-SB"/>
                <a:ea typeface="DFKai-SB"/>
              </a:rPr>
              <a:t>貳、財務規劃觀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FKai-SB"/>
                <a:ea typeface="DFKai-SB"/>
              </a:rPr>
              <a:t>XX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38480" y="629928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模板素材 </a:t>
            </a:r>
            <a:r>
              <a:rPr b="0" lang="zh-CN" sz="20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6:22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25:24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