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1ACA1-1770-4679-8EA5-3339BC8547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68560" y="1447920"/>
            <a:ext cx="52149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068560" y="1686960"/>
            <a:ext cx="52149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718AC-F7DF-4C23-B1FC-0AF5E50AE6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068560" y="1447920"/>
            <a:ext cx="25448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1200" y="1447920"/>
            <a:ext cx="25448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068560" y="1686960"/>
            <a:ext cx="25448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1200" y="1686960"/>
            <a:ext cx="25448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36625-B553-4071-B479-AD2DF6C0FA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068560" y="1447920"/>
            <a:ext cx="16790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31840" y="1447920"/>
            <a:ext cx="16790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595480" y="1447920"/>
            <a:ext cx="16790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068560" y="1686960"/>
            <a:ext cx="16790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31840" y="1686960"/>
            <a:ext cx="16790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595480" y="1686960"/>
            <a:ext cx="16790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F0C12-E6D5-43F2-BC05-4483CD54A9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068560" y="1447920"/>
            <a:ext cx="521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068560" y="1447920"/>
            <a:ext cx="5214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068560" y="1447920"/>
            <a:ext cx="2544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41200" y="1447920"/>
            <a:ext cx="2544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e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068560" y="1447920"/>
            <a:ext cx="25448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1200" y="1447920"/>
            <a:ext cx="2544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068560" y="1686960"/>
            <a:ext cx="25448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068560" y="1447920"/>
            <a:ext cx="521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8E8C7-DA0D-4106-8357-05461255DC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68560" y="1447920"/>
            <a:ext cx="2544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1200" y="1447920"/>
            <a:ext cx="25448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41200" y="1686960"/>
            <a:ext cx="25448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068560" y="1447920"/>
            <a:ext cx="25448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41200" y="1447920"/>
            <a:ext cx="25448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068560" y="1686960"/>
            <a:ext cx="52149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068560" y="1447920"/>
            <a:ext cx="52149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068560" y="1686960"/>
            <a:ext cx="52149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068560" y="1447920"/>
            <a:ext cx="25448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1200" y="1447920"/>
            <a:ext cx="25448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068560" y="1686960"/>
            <a:ext cx="25448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41200" y="1686960"/>
            <a:ext cx="25448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068560" y="1447920"/>
            <a:ext cx="16790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31840" y="1447920"/>
            <a:ext cx="16790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95480" y="1447920"/>
            <a:ext cx="16790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068560" y="1686960"/>
            <a:ext cx="16790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31840" y="1686960"/>
            <a:ext cx="16790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95480" y="1686960"/>
            <a:ext cx="16790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068560" y="1447920"/>
            <a:ext cx="5214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002D2-6DA9-404C-BA60-EDA7BE4865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068560" y="1447920"/>
            <a:ext cx="2544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1200" y="1447920"/>
            <a:ext cx="2544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AF099-A1AC-46ED-B04E-A1FA927991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F4340-EFA0-447C-8F09-3E160B3075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228BC-EBF9-446C-832F-AF25D46BED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68560" y="1447920"/>
            <a:ext cx="25448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1200" y="1447920"/>
            <a:ext cx="2544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068560" y="1686960"/>
            <a:ext cx="25448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CB795-9D9F-4829-B864-904462D4A0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68560" y="1447920"/>
            <a:ext cx="2544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1200" y="1447920"/>
            <a:ext cx="25448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1200" y="1686960"/>
            <a:ext cx="25448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7659F-D8C5-46BA-88A0-6A3D5ED87C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68560" y="1447920"/>
            <a:ext cx="25448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1200" y="1447920"/>
            <a:ext cx="25448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068560" y="1686960"/>
            <a:ext cx="52149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5D89E-731F-439E-A245-A28ED8D322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405160" y="120600"/>
            <a:ext cx="6738840" cy="1055880"/>
          </a:xfrm>
          <a:prstGeom prst="rect">
            <a:avLst/>
          </a:prstGeom>
          <a:solidFill>
            <a:srgbClr val="e4c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480000"/>
            <a:ext cx="9144000" cy="405000"/>
          </a:xfrm>
          <a:prstGeom prst="rect">
            <a:avLst/>
          </a:prstGeom>
          <a:solidFill>
            <a:srgbClr val="6a9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5920"/>
          </a:xfrm>
          <a:prstGeom prst="rect">
            <a:avLst/>
          </a:prstGeom>
          <a:solidFill>
            <a:srgbClr val="3c230a"/>
          </a:solidFill>
          <a:ln w="9360">
            <a:solidFill>
              <a:srgbClr val="3c23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c230a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58920" cy="11653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1187280" y="0"/>
            <a:ext cx="1224000" cy="11732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a9eb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7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4c5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7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c230a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7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c230a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7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c230a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7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3c230a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7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3c230a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7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1"/>
          </p:nvPr>
        </p:nvSpPr>
        <p:spPr>
          <a:xfrm>
            <a:off x="5867280" y="6486120"/>
            <a:ext cx="28958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e7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e7"/>
                </a:solidFill>
                <a:latin typeface="Times New Roman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2"/>
          </p:nvPr>
        </p:nvSpPr>
        <p:spPr>
          <a:xfrm>
            <a:off x="609480" y="6489360"/>
            <a:ext cx="99072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B60B8-EEE8-46F9-BEB0-45B9E9FE34FA}" type="slidenum">
              <a:rPr b="1" lang="zh-CN" sz="14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2666520" y="50292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c230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e7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486080"/>
            <a:ext cx="7380360" cy="430200"/>
          </a:xfrm>
          <a:prstGeom prst="rect">
            <a:avLst/>
          </a:prstGeom>
          <a:solidFill>
            <a:srgbClr val="3c23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308720" y="1495440"/>
            <a:ext cx="1835280" cy="420840"/>
          </a:xfrm>
          <a:prstGeom prst="rect">
            <a:avLst/>
          </a:prstGeom>
          <a:solidFill>
            <a:srgbClr val="e4c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39680" y="3048120"/>
            <a:ext cx="122472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ompany</a:t>
            </a:r>
            <a:endParaRPr b="0" lang="en-US" sz="1600" spc="-1" strike="noStrike">
              <a:solidFill>
                <a:srgbClr val="3c230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LOGO</a:t>
            </a:r>
            <a:endParaRPr b="0" lang="en-US" sz="28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c578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230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c230a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3c230a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c230a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c230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c230a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c230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c230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c230a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c230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c230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c230a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c230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c230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c230a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c230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c230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000" y="137448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7"/>
                </a:solidFill>
                <a:latin typeface="Arial"/>
                <a:ea typeface="宋体"/>
              </a:rPr>
              <a:t>PowerPoint Template</a:t>
            </a:r>
            <a:endParaRPr b="1" lang="en-US" sz="40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17440" y="476280"/>
            <a:ext cx="6670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4c578"/>
                </a:solidFill>
                <a:latin typeface="Arial"/>
              </a:rPr>
              <a:t>计算机</a:t>
            </a:r>
            <a:r>
              <a:rPr b="1" lang="zh-CN" sz="4000" spc="-1" strike="noStrike">
                <a:solidFill>
                  <a:srgbClr val="e4c578"/>
                </a:solidFill>
                <a:latin typeface="楷体"/>
                <a:ea typeface="楷体"/>
              </a:rPr>
              <a:t>PPT</a:t>
            </a:r>
            <a:r>
              <a:rPr b="1" lang="en-US" sz="4000" spc="-1" strike="noStrike">
                <a:solidFill>
                  <a:srgbClr val="e4c578"/>
                </a:solidFill>
                <a:latin typeface="Arial"/>
              </a:rPr>
              <a:t>模板在线下载</a:t>
            </a:r>
            <a:endParaRPr b="1" lang="en-US" sz="4000" spc="-1" strike="noStrike">
              <a:solidFill>
                <a:srgbClr val="e4c578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6320" y="64771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e7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e7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3c23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666520" y="50292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c230a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3c230a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219320" y="1828800"/>
            <a:ext cx="6781680" cy="4114800"/>
            <a:chOff x="1219320" y="1828800"/>
            <a:chExt cx="6781680" cy="4114800"/>
          </a:xfrm>
        </p:grpSpPr>
        <p:sp>
          <p:nvSpPr>
            <p:cNvPr id="248" name=""/>
            <p:cNvSpPr/>
            <p:nvPr/>
          </p:nvSpPr>
          <p:spPr>
            <a:xfrm>
              <a:off x="3722760" y="3657600"/>
              <a:ext cx="1839960" cy="228600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6000"/>
                <a:gd name="textAreaBottom" fmla="*/ 2212200 h 2286000"/>
              </a:gdLst>
              <a:ahLst/>
              <a:rect l="textAreaLeft" t="textAreaTop" r="textAreaRight" b="textAreaBottom"/>
              <a:pathLst>
                <a:path w="21600" h="26835">
                  <a:moveTo>
                    <a:pt x="2969" y="0"/>
                  </a:moveTo>
                  <a:arcTo wR="2969" hR="2969" stAng="16200000" swAng="-5400000"/>
                  <a:lnTo>
                    <a:pt x="0" y="23866"/>
                  </a:lnTo>
                  <a:arcTo wR="2969" hR="2969" stAng="10800000" swAng="-5400000"/>
                  <a:lnTo>
                    <a:pt x="18631" y="26835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3c23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c230a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219320" y="3657600"/>
              <a:ext cx="1828800" cy="228600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6000"/>
                <a:gd name="textAreaBottom" fmla="*/ 221256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2969" y="0"/>
                  </a:moveTo>
                  <a:arcTo wR="2969" hR="2969" stAng="16200000" swAng="-5400000"/>
                  <a:lnTo>
                    <a:pt x="0" y="24030"/>
                  </a:lnTo>
                  <a:arcTo wR="2969" hR="2969" stAng="10800000" swAng="-5400000"/>
                  <a:lnTo>
                    <a:pt x="18631" y="2699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3c23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c230a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248520" y="3657600"/>
              <a:ext cx="1752480" cy="2286000"/>
            </a:xfrm>
            <a:custGeom>
              <a:avLst/>
              <a:gdLst>
                <a:gd name="textAreaLeft" fmla="*/ 70560 w 1752480"/>
                <a:gd name="textAreaRight" fmla="*/ 1681920 w 1752480"/>
                <a:gd name="textAreaTop" fmla="*/ 70560 h 2286000"/>
                <a:gd name="textAreaBottom" fmla="*/ 221544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2969" y="0"/>
                  </a:moveTo>
                  <a:arcTo wR="2969" hR="2969" stAng="16200000" swAng="-5400000"/>
                  <a:lnTo>
                    <a:pt x="0" y="25205"/>
                  </a:lnTo>
                  <a:arcTo wR="2969" hR="2969" stAng="10800000" swAng="-5400000"/>
                  <a:lnTo>
                    <a:pt x="18631" y="2817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3c23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c230a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151440" y="2452680"/>
              <a:ext cx="399960" cy="4492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e4c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613480" y="245268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6a9e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a9eb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6a9eb0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332760" y="19447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39555e"/>
                </a:gs>
                <a:gs pos="50000">
                  <a:srgbClr val="6a9eb0"/>
                </a:gs>
                <a:gs pos="100000">
                  <a:srgbClr val="39555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357960" y="19526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6a9eb0">
                    <a:alpha val="0"/>
                  </a:srgbClr>
                </a:gs>
                <a:gs pos="100000">
                  <a:srgbClr val="43636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411960" y="2016000"/>
              <a:ext cx="13352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36699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336699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406520" y="19382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1b3652"/>
                </a:gs>
                <a:gs pos="50000">
                  <a:srgbClr val="336699"/>
                </a:gs>
                <a:gs pos="100000">
                  <a:srgbClr val="1b365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408320" y="194148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336699">
                    <a:alpha val="0"/>
                  </a:srgbClr>
                </a:gs>
                <a:gs pos="100000">
                  <a:srgbClr val="204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481400" y="2013120"/>
              <a:ext cx="133344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1501920" y="2031840"/>
              <a:ext cx="1290600" cy="1278000"/>
              <a:chOff x="1501920" y="2031840"/>
              <a:chExt cx="1290600" cy="1278000"/>
            </a:xfrm>
          </p:grpSpPr>
          <p:sp>
            <p:nvSpPr>
              <p:cNvPr id="264" name=""/>
              <p:cNvSpPr/>
              <p:nvPr/>
            </p:nvSpPr>
            <p:spPr>
              <a:xfrm>
                <a:off x="150192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51848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3180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60164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</p:grpSp>
        <p:sp>
          <p:nvSpPr>
            <p:cNvPr id="268" name="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e4c578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695a37"/>
                </a:gs>
                <a:gs pos="100000">
                  <a:srgbClr val="e4c578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870360" y="194472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7a6a40"/>
                </a:gs>
                <a:gs pos="50000">
                  <a:srgbClr val="e4c578"/>
                </a:gs>
                <a:gs pos="100000">
                  <a:srgbClr val="7a6a4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872160" y="194616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e4c578">
                    <a:alpha val="0"/>
                  </a:srgbClr>
                </a:gs>
                <a:gs pos="100000">
                  <a:srgbClr val="907c4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943440" y="201600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3965760" y="2031840"/>
              <a:ext cx="1290600" cy="1278000"/>
              <a:chOff x="3965760" y="2031840"/>
              <a:chExt cx="1290600" cy="1278000"/>
            </a:xfrm>
          </p:grpSpPr>
          <p:sp>
            <p:nvSpPr>
              <p:cNvPr id="274" name=""/>
              <p:cNvSpPr/>
              <p:nvPr/>
            </p:nvSpPr>
            <p:spPr>
              <a:xfrm>
                <a:off x="396576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98232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99564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06548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6435720" y="2031840"/>
              <a:ext cx="1292400" cy="1278000"/>
              <a:chOff x="6435720" y="2031840"/>
              <a:chExt cx="1292400" cy="1278000"/>
            </a:xfrm>
          </p:grpSpPr>
          <p:sp>
            <p:nvSpPr>
              <p:cNvPr id="279" name=""/>
              <p:cNvSpPr/>
              <p:nvPr/>
            </p:nvSpPr>
            <p:spPr>
              <a:xfrm>
                <a:off x="6435720" y="2031840"/>
                <a:ext cx="12924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452280" y="2038680"/>
                <a:ext cx="12610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465600" y="2051280"/>
                <a:ext cx="11995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535800" y="2083680"/>
                <a:ext cx="106632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17650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23360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7006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3c230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"/>
          <p:cNvGrpSpPr/>
          <p:nvPr/>
        </p:nvGrpSpPr>
        <p:grpSpPr>
          <a:xfrm>
            <a:off x="1893960" y="1490760"/>
            <a:ext cx="5344560" cy="4986000"/>
            <a:chOff x="1893960" y="1490760"/>
            <a:chExt cx="5344560" cy="4986000"/>
          </a:xfrm>
        </p:grpSpPr>
        <p:sp>
          <p:nvSpPr>
            <p:cNvPr id="287" name=""/>
            <p:cNvSpPr/>
            <p:nvPr/>
          </p:nvSpPr>
          <p:spPr>
            <a:xfrm rot="13770000">
              <a:off x="5006520" y="3904560"/>
              <a:ext cx="950400" cy="1836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ececec"/>
                </a:gs>
                <a:gs pos="100000">
                  <a:srgbClr val="dddddd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20856000">
              <a:off x="3117240" y="3459600"/>
              <a:ext cx="968400" cy="17064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ededed"/>
                </a:gs>
                <a:gs pos="100000">
                  <a:srgbClr val="dddddd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8394200">
              <a:off x="5132880" y="2371320"/>
              <a:ext cx="590760" cy="12744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4019040" y="2409480"/>
              <a:ext cx="1545480" cy="1575360"/>
              <a:chOff x="4019040" y="2409480"/>
              <a:chExt cx="1545480" cy="1575360"/>
            </a:xfrm>
          </p:grpSpPr>
          <p:grpSp>
            <p:nvGrpSpPr>
              <p:cNvPr id="291" name=""/>
              <p:cNvGrpSpPr/>
              <p:nvPr/>
            </p:nvGrpSpPr>
            <p:grpSpPr>
              <a:xfrm>
                <a:off x="4019040" y="2409480"/>
                <a:ext cx="1545480" cy="1575360"/>
                <a:chOff x="4019040" y="2409480"/>
                <a:chExt cx="1545480" cy="15753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019040" y="2409480"/>
                  <a:ext cx="1545480" cy="1575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6699"/>
                    </a:gs>
                    <a:gs pos="100000">
                      <a:srgbClr val="0c182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c230a"/>
                    </a:solidFill>
                    <a:latin typeface="Arial"/>
                  </a:endParaRPr>
                </a:p>
              </p:txBody>
            </p:sp>
            <p:sp>
              <p:nvSpPr>
                <p:cNvPr id="293" name="未知"/>
                <p:cNvSpPr/>
                <p:nvPr/>
              </p:nvSpPr>
              <p:spPr>
                <a:xfrm>
                  <a:off x="4195440" y="2435400"/>
                  <a:ext cx="1192320" cy="5943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3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c230a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4" name=""/>
              <p:cNvSpPr/>
              <p:nvPr/>
            </p:nvSpPr>
            <p:spPr>
              <a:xfrm>
                <a:off x="4074120" y="309420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4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5356440" y="1490760"/>
              <a:ext cx="909360" cy="853200"/>
              <a:chOff x="5356440" y="1490760"/>
              <a:chExt cx="909360" cy="853200"/>
            </a:xfrm>
          </p:grpSpPr>
          <p:grpSp>
            <p:nvGrpSpPr>
              <p:cNvPr id="296" name=""/>
              <p:cNvGrpSpPr/>
              <p:nvPr/>
            </p:nvGrpSpPr>
            <p:grpSpPr>
              <a:xfrm>
                <a:off x="5370840" y="1490760"/>
                <a:ext cx="837000" cy="853200"/>
                <a:chOff x="5370840" y="1490760"/>
                <a:chExt cx="837000" cy="85320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5370840" y="1490760"/>
                  <a:ext cx="837000" cy="853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4c578"/>
                    </a:gs>
                    <a:gs pos="100000">
                      <a:srgbClr val="372f1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c230a"/>
                    </a:solidFill>
                    <a:latin typeface="Arial"/>
                  </a:endParaRPr>
                </a:p>
              </p:txBody>
            </p:sp>
            <p:sp>
              <p:nvSpPr>
                <p:cNvPr id="298" name="未知"/>
                <p:cNvSpPr/>
                <p:nvPr/>
              </p:nvSpPr>
              <p:spPr>
                <a:xfrm>
                  <a:off x="5466240" y="1504800"/>
                  <a:ext cx="645840" cy="321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4c57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c230a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9" name=""/>
              <p:cNvSpPr/>
              <p:nvPr/>
            </p:nvSpPr>
            <p:spPr>
              <a:xfrm>
                <a:off x="5356440" y="1818720"/>
                <a:ext cx="909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Concept</a:t>
                </a:r>
                <a:endParaRPr b="0" lang="en-US" sz="14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893960" y="2737800"/>
              <a:ext cx="1674000" cy="1772280"/>
              <a:chOff x="1893960" y="2737800"/>
              <a:chExt cx="1674000" cy="1772280"/>
            </a:xfrm>
          </p:grpSpPr>
          <p:grpSp>
            <p:nvGrpSpPr>
              <p:cNvPr id="301" name=""/>
              <p:cNvGrpSpPr/>
              <p:nvPr/>
            </p:nvGrpSpPr>
            <p:grpSpPr>
              <a:xfrm>
                <a:off x="1893960" y="2737800"/>
                <a:ext cx="1674000" cy="1772280"/>
                <a:chOff x="1893960" y="2737800"/>
                <a:chExt cx="1674000" cy="177228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1893960" y="2737800"/>
                  <a:ext cx="1674000" cy="177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6600"/>
                    </a:gs>
                    <a:gs pos="100000">
                      <a:srgbClr val="814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c230a"/>
                    </a:solidFill>
                    <a:latin typeface="Arial"/>
                  </a:endParaRPr>
                </a:p>
              </p:txBody>
            </p:sp>
            <p:sp>
              <p:nvSpPr>
                <p:cNvPr id="303" name="未知"/>
                <p:cNvSpPr/>
                <p:nvPr/>
              </p:nvSpPr>
              <p:spPr>
                <a:xfrm>
                  <a:off x="2085120" y="2766960"/>
                  <a:ext cx="1291320" cy="6688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c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c230a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4" name=""/>
              <p:cNvSpPr/>
              <p:nvPr/>
            </p:nvSpPr>
            <p:spPr>
              <a:xfrm>
                <a:off x="1952280" y="352548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5306760" y="4050720"/>
              <a:ext cx="1931760" cy="1969200"/>
              <a:chOff x="5306760" y="4050720"/>
              <a:chExt cx="1931760" cy="1969200"/>
            </a:xfrm>
          </p:grpSpPr>
          <p:grpSp>
            <p:nvGrpSpPr>
              <p:cNvPr id="306" name=""/>
              <p:cNvGrpSpPr/>
              <p:nvPr/>
            </p:nvGrpSpPr>
            <p:grpSpPr>
              <a:xfrm>
                <a:off x="5306760" y="4050720"/>
                <a:ext cx="1931760" cy="1969200"/>
                <a:chOff x="5306760" y="4050720"/>
                <a:chExt cx="1931760" cy="196920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5306760" y="4050720"/>
                  <a:ext cx="1931760" cy="196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9eb0"/>
                    </a:gs>
                    <a:gs pos="100000">
                      <a:srgbClr val="36505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c230a"/>
                    </a:solidFill>
                    <a:latin typeface="Arial"/>
                  </a:endParaRPr>
                </a:p>
              </p:txBody>
            </p:sp>
            <p:sp>
              <p:nvSpPr>
                <p:cNvPr id="308" name="未知"/>
                <p:cNvSpPr/>
                <p:nvPr/>
              </p:nvSpPr>
              <p:spPr>
                <a:xfrm>
                  <a:off x="5527440" y="4083120"/>
                  <a:ext cx="1490040" cy="7430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6a9eb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c230a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9" name=""/>
              <p:cNvSpPr/>
              <p:nvPr/>
            </p:nvSpPr>
            <p:spPr>
              <a:xfrm>
                <a:off x="5550120" y="490392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2086920" y="4575960"/>
              <a:ext cx="1360080" cy="4564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147560" y="3987720"/>
              <a:ext cx="1361520" cy="4564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628960" y="6020280"/>
              <a:ext cx="1360080" cy="4564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500080" y="2409480"/>
              <a:ext cx="623880" cy="2282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666520" y="50292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c230a"/>
                </a:solidFill>
                <a:latin typeface="Arial"/>
                <a:ea typeface="宋体"/>
              </a:rPr>
              <a:t>Marketing Diagram</a:t>
            </a: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666520" y="50292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c230a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3c230a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752760" y="1828800"/>
            <a:ext cx="7282440" cy="3770280"/>
            <a:chOff x="752760" y="1828800"/>
            <a:chExt cx="7282440" cy="3770280"/>
          </a:xfrm>
        </p:grpSpPr>
        <p:sp>
          <p:nvSpPr>
            <p:cNvPr id="317" name=""/>
            <p:cNvSpPr/>
            <p:nvPr/>
          </p:nvSpPr>
          <p:spPr>
            <a:xfrm rot="17973000">
              <a:off x="4556880" y="2529360"/>
              <a:ext cx="792000" cy="288720"/>
            </a:xfrm>
            <a:prstGeom prst="rightArrow">
              <a:avLst>
                <a:gd name="adj1" fmla="val 35167"/>
                <a:gd name="adj2" fmla="val 111084"/>
              </a:avLst>
            </a:prstGeom>
            <a:solidFill>
              <a:srgbClr val="e4c578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3465600">
              <a:off x="4607280" y="463932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e4c578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rot="14368800">
              <a:off x="3388320" y="255168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e4c578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7534800">
              <a:off x="3349800" y="460584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e4c578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194080" y="361152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e4c578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rot="10800000">
              <a:off x="278388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e4c578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556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c230a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c230a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4706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c230a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556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c230a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c230a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c230a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5b382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5b382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5b382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e5b382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5b382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5b382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a9eb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549600" y="28828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6a9eb0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55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39555e"/>
                </a:gs>
                <a:gs pos="50000">
                  <a:srgbClr val="6a9eb0"/>
                </a:gs>
                <a:gs pos="100000">
                  <a:srgbClr val="39555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52560" y="299736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6a9eb0">
                    <a:alpha val="0"/>
                  </a:srgbClr>
                </a:gs>
                <a:gs pos="100000">
                  <a:srgbClr val="43636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342" name="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</p:grpSp>
        <p:sp>
          <p:nvSpPr>
            <p:cNvPr id="346" name="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3c230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666520" y="50292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c230a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3c230a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49" name="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56" name="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98468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3c230a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64" name="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61476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332240" y="183636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340160" y="1839600"/>
              <a:ext cx="60804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346280" y="1846080"/>
              <a:ext cx="57816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381560" y="1861920"/>
              <a:ext cx="51264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65760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5845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6288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78" name=""/>
            <p:cNvSpPr/>
            <p:nvPr/>
          </p:nvSpPr>
          <p:spPr>
            <a:xfrm>
              <a:off x="59436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9943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9943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6688080" y="1832040"/>
              <a:ext cx="642960" cy="642600"/>
              <a:chOff x="6688080" y="1832040"/>
              <a:chExt cx="642960" cy="642600"/>
            </a:xfrm>
          </p:grpSpPr>
          <p:sp>
            <p:nvSpPr>
              <p:cNvPr id="383" name=""/>
              <p:cNvSpPr/>
              <p:nvPr/>
            </p:nvSpPr>
            <p:spPr>
              <a:xfrm>
                <a:off x="66880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6945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7024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70896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7428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</p:grpSp>
        <p:sp>
          <p:nvSpPr>
            <p:cNvPr id="388" name="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6f9db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9814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aa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666520" y="50292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c230a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3c230a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0" y="1828800"/>
            <a:ext cx="9144000" cy="4188960"/>
            <a:chOff x="0" y="1828800"/>
            <a:chExt cx="9144000" cy="4188960"/>
          </a:xfrm>
        </p:grpSpPr>
        <p:grpSp>
          <p:nvGrpSpPr>
            <p:cNvPr id="394" name=""/>
            <p:cNvGrpSpPr/>
            <p:nvPr/>
          </p:nvGrpSpPr>
          <p:grpSpPr>
            <a:xfrm>
              <a:off x="0" y="3238560"/>
              <a:ext cx="9144000" cy="122040"/>
              <a:chOff x="0" y="3238560"/>
              <a:chExt cx="9144000" cy="122040"/>
            </a:xfrm>
          </p:grpSpPr>
          <p:sp>
            <p:nvSpPr>
              <p:cNvPr id="395" name=""/>
              <p:cNvSpPr/>
              <p:nvPr/>
            </p:nvSpPr>
            <p:spPr>
              <a:xfrm>
                <a:off x="0" y="3238560"/>
                <a:ext cx="9144000" cy="47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0" y="3285360"/>
                <a:ext cx="9144000" cy="75240"/>
              </a:xfrm>
              <a:prstGeom prst="rect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762120" y="2685960"/>
              <a:ext cx="1931400" cy="3265560"/>
              <a:chOff x="762120" y="2685960"/>
              <a:chExt cx="1931400" cy="3265560"/>
            </a:xfrm>
          </p:grpSpPr>
          <p:grpSp>
            <p:nvGrpSpPr>
              <p:cNvPr id="398" name=""/>
              <p:cNvGrpSpPr/>
              <p:nvPr/>
            </p:nvGrpSpPr>
            <p:grpSpPr>
              <a:xfrm>
                <a:off x="1164600" y="3522960"/>
                <a:ext cx="1528920" cy="2428560"/>
                <a:chOff x="1164600" y="3522960"/>
                <a:chExt cx="1528920" cy="2428560"/>
              </a:xfrm>
            </p:grpSpPr>
            <p:grpSp>
              <p:nvGrpSpPr>
                <p:cNvPr id="399" name=""/>
                <p:cNvGrpSpPr/>
                <p:nvPr/>
              </p:nvGrpSpPr>
              <p:grpSpPr>
                <a:xfrm>
                  <a:off x="1164600" y="3681360"/>
                  <a:ext cx="1423080" cy="2270160"/>
                  <a:chOff x="1164600" y="3681360"/>
                  <a:chExt cx="1423080" cy="2270160"/>
                </a:xfrm>
              </p:grpSpPr>
              <p:sp>
                <p:nvSpPr>
                  <p:cNvPr id="400" name="未知"/>
                  <p:cNvSpPr/>
                  <p:nvPr/>
                </p:nvSpPr>
                <p:spPr>
                  <a:xfrm rot="3876600">
                    <a:off x="736560" y="4569480"/>
                    <a:ext cx="2278800" cy="493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c230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未知"/>
                  <p:cNvSpPr/>
                  <p:nvPr/>
                </p:nvSpPr>
                <p:spPr>
                  <a:xfrm rot="3876600">
                    <a:off x="2106360" y="5449680"/>
                    <a:ext cx="358200" cy="40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c230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2" name=""/>
                <p:cNvGrpSpPr/>
                <p:nvPr/>
              </p:nvGrpSpPr>
              <p:grpSpPr>
                <a:xfrm>
                  <a:off x="1601640" y="3522960"/>
                  <a:ext cx="1091880" cy="1742040"/>
                  <a:chOff x="1601640" y="3522960"/>
                  <a:chExt cx="1091880" cy="1742040"/>
                </a:xfrm>
              </p:grpSpPr>
              <p:sp>
                <p:nvSpPr>
                  <p:cNvPr id="403" name="未知"/>
                  <p:cNvSpPr/>
                  <p:nvPr/>
                </p:nvSpPr>
                <p:spPr>
                  <a:xfrm flipV="1" rot="3876600">
                    <a:off x="1272960" y="4204080"/>
                    <a:ext cx="1748520" cy="37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c230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未知"/>
                  <p:cNvSpPr/>
                  <p:nvPr/>
                </p:nvSpPr>
                <p:spPr>
                  <a:xfrm flipV="1" rot="3876600">
                    <a:off x="2308320" y="4887720"/>
                    <a:ext cx="274680" cy="30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c230a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5" name=""/>
              <p:cNvGrpSpPr/>
              <p:nvPr/>
            </p:nvGrpSpPr>
            <p:grpSpPr>
              <a:xfrm>
                <a:off x="762120" y="2685960"/>
                <a:ext cx="1274040" cy="1311480"/>
                <a:chOff x="762120" y="2685960"/>
                <a:chExt cx="1274040" cy="131148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762120" y="2685960"/>
                  <a:ext cx="1274040" cy="131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3c230a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762120" y="2685960"/>
                  <a:ext cx="1274040" cy="131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3c230a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846360" y="2770920"/>
                  <a:ext cx="1105200" cy="113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3c230a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846360" y="2773800"/>
                  <a:ext cx="1105200" cy="113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3c230a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901080" y="2829240"/>
                  <a:ext cx="995400" cy="1024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3c230a"/>
                    </a:solidFill>
                    <a:latin typeface="Arial"/>
                  </a:endParaRPr>
                </a:p>
              </p:txBody>
            </p:sp>
            <p:grpSp>
              <p:nvGrpSpPr>
                <p:cNvPr id="411" name=""/>
                <p:cNvGrpSpPr/>
                <p:nvPr/>
              </p:nvGrpSpPr>
              <p:grpSpPr>
                <a:xfrm>
                  <a:off x="916560" y="2844720"/>
                  <a:ext cx="964800" cy="994680"/>
                  <a:chOff x="916560" y="2844720"/>
                  <a:chExt cx="964800" cy="994680"/>
                </a:xfrm>
              </p:grpSpPr>
              <p:sp>
                <p:nvSpPr>
                  <p:cNvPr id="412" name=""/>
                  <p:cNvSpPr/>
                  <p:nvPr/>
                </p:nvSpPr>
                <p:spPr>
                  <a:xfrm>
                    <a:off x="916560" y="2844720"/>
                    <a:ext cx="964800" cy="99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3c230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928800" y="2850120"/>
                    <a:ext cx="941400" cy="96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3c230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938880" y="2859840"/>
                    <a:ext cx="895320" cy="906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3c230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991080" y="2885040"/>
                    <a:ext cx="795960" cy="735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3c230a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16" name=""/>
              <p:cNvSpPr/>
              <p:nvPr/>
            </p:nvSpPr>
            <p:spPr>
              <a:xfrm rot="3925800">
                <a:off x="1131480" y="45057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rot="3925800">
                <a:off x="1590120" y="42217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c230a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2509920" y="2685960"/>
              <a:ext cx="1930320" cy="3265560"/>
              <a:chOff x="2509920" y="2685960"/>
              <a:chExt cx="1930320" cy="3265560"/>
            </a:xfrm>
          </p:grpSpPr>
          <p:grpSp>
            <p:nvGrpSpPr>
              <p:cNvPr id="419" name=""/>
              <p:cNvGrpSpPr/>
              <p:nvPr/>
            </p:nvGrpSpPr>
            <p:grpSpPr>
              <a:xfrm>
                <a:off x="2910960" y="3522600"/>
                <a:ext cx="1529280" cy="2428920"/>
                <a:chOff x="2910960" y="3522600"/>
                <a:chExt cx="1529280" cy="2428920"/>
              </a:xfrm>
            </p:grpSpPr>
            <p:grpSp>
              <p:nvGrpSpPr>
                <p:cNvPr id="420" name=""/>
                <p:cNvGrpSpPr/>
                <p:nvPr/>
              </p:nvGrpSpPr>
              <p:grpSpPr>
                <a:xfrm>
                  <a:off x="2910960" y="3681360"/>
                  <a:ext cx="1423080" cy="2270160"/>
                  <a:chOff x="2910960" y="3681360"/>
                  <a:chExt cx="1423080" cy="2270160"/>
                </a:xfrm>
              </p:grpSpPr>
              <p:sp>
                <p:nvSpPr>
                  <p:cNvPr id="421" name="未知"/>
                  <p:cNvSpPr/>
                  <p:nvPr/>
                </p:nvSpPr>
                <p:spPr>
                  <a:xfrm rot="3876600">
                    <a:off x="2482920" y="4569480"/>
                    <a:ext cx="2278800" cy="493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c230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未知"/>
                  <p:cNvSpPr/>
                  <p:nvPr/>
                </p:nvSpPr>
                <p:spPr>
                  <a:xfrm rot="3876600">
                    <a:off x="3852720" y="5449680"/>
                    <a:ext cx="358200" cy="40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c230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3" name=""/>
                <p:cNvGrpSpPr/>
                <p:nvPr/>
              </p:nvGrpSpPr>
              <p:grpSpPr>
                <a:xfrm>
                  <a:off x="3348720" y="3522600"/>
                  <a:ext cx="1091520" cy="1742040"/>
                  <a:chOff x="3348720" y="3522600"/>
                  <a:chExt cx="1091520" cy="1742040"/>
                </a:xfrm>
              </p:grpSpPr>
              <p:sp>
                <p:nvSpPr>
                  <p:cNvPr id="424" name="未知"/>
                  <p:cNvSpPr/>
                  <p:nvPr/>
                </p:nvSpPr>
                <p:spPr>
                  <a:xfrm flipV="1" rot="3876600">
                    <a:off x="3020040" y="4203720"/>
                    <a:ext cx="1748520" cy="37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c230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未知"/>
                  <p:cNvSpPr/>
                  <p:nvPr/>
                </p:nvSpPr>
                <p:spPr>
                  <a:xfrm flipV="1" rot="3876600">
                    <a:off x="4055400" y="4887360"/>
                    <a:ext cx="27468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c230a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6" name=""/>
              <p:cNvGrpSpPr/>
              <p:nvPr/>
            </p:nvGrpSpPr>
            <p:grpSpPr>
              <a:xfrm>
                <a:off x="2509920" y="2685960"/>
                <a:ext cx="1273680" cy="1311480"/>
                <a:chOff x="2509920" y="2685960"/>
                <a:chExt cx="1273680" cy="131148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2509920" y="2685960"/>
                  <a:ext cx="1273680" cy="131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3c230a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2509920" y="2685960"/>
                  <a:ext cx="1273680" cy="131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3c230a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2594160" y="2770920"/>
                  <a:ext cx="1104840" cy="113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3c230a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2594160" y="2773800"/>
                  <a:ext cx="1104840" cy="113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3c230a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2648880" y="2829240"/>
                  <a:ext cx="995400" cy="1024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3c230a"/>
                    </a:solidFill>
                    <a:latin typeface="Arial"/>
                  </a:endParaRPr>
                </a:p>
              </p:txBody>
            </p:sp>
            <p:grpSp>
              <p:nvGrpSpPr>
                <p:cNvPr id="432" name=""/>
                <p:cNvGrpSpPr/>
                <p:nvPr/>
              </p:nvGrpSpPr>
              <p:grpSpPr>
                <a:xfrm>
                  <a:off x="2664000" y="2844720"/>
                  <a:ext cx="964800" cy="994680"/>
                  <a:chOff x="2664000" y="2844720"/>
                  <a:chExt cx="964800" cy="994680"/>
                </a:xfrm>
              </p:grpSpPr>
              <p:sp>
                <p:nvSpPr>
                  <p:cNvPr id="433" name=""/>
                  <p:cNvSpPr/>
                  <p:nvPr/>
                </p:nvSpPr>
                <p:spPr>
                  <a:xfrm>
                    <a:off x="2664000" y="2844720"/>
                    <a:ext cx="964800" cy="99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3c230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2676240" y="2850120"/>
                    <a:ext cx="941400" cy="96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3c230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2686320" y="2859840"/>
                    <a:ext cx="895320" cy="906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3c230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2738520" y="2885040"/>
                    <a:ext cx="795960" cy="735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3c230a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37" name=""/>
              <p:cNvSpPr/>
              <p:nvPr/>
            </p:nvSpPr>
            <p:spPr>
              <a:xfrm rot="3925800">
                <a:off x="2872800" y="45057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rot="3925800">
                <a:off x="3330720" y="42217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c230a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4313160" y="2685960"/>
              <a:ext cx="1931400" cy="3265560"/>
              <a:chOff x="4313160" y="2685960"/>
              <a:chExt cx="1931400" cy="3265560"/>
            </a:xfrm>
          </p:grpSpPr>
          <p:grpSp>
            <p:nvGrpSpPr>
              <p:cNvPr id="440" name=""/>
              <p:cNvGrpSpPr/>
              <p:nvPr/>
            </p:nvGrpSpPr>
            <p:grpSpPr>
              <a:xfrm>
                <a:off x="4715640" y="3522960"/>
                <a:ext cx="1528920" cy="2428560"/>
                <a:chOff x="4715640" y="3522960"/>
                <a:chExt cx="1528920" cy="2428560"/>
              </a:xfrm>
            </p:grpSpPr>
            <p:grpSp>
              <p:nvGrpSpPr>
                <p:cNvPr id="441" name=""/>
                <p:cNvGrpSpPr/>
                <p:nvPr/>
              </p:nvGrpSpPr>
              <p:grpSpPr>
                <a:xfrm>
                  <a:off x="4715640" y="3681360"/>
                  <a:ext cx="1423080" cy="2270160"/>
                  <a:chOff x="4715640" y="3681360"/>
                  <a:chExt cx="1423080" cy="2270160"/>
                </a:xfrm>
              </p:grpSpPr>
              <p:sp>
                <p:nvSpPr>
                  <p:cNvPr id="442" name="未知"/>
                  <p:cNvSpPr/>
                  <p:nvPr/>
                </p:nvSpPr>
                <p:spPr>
                  <a:xfrm rot="3876600">
                    <a:off x="4287600" y="4569480"/>
                    <a:ext cx="2278800" cy="493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c230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未知"/>
                  <p:cNvSpPr/>
                  <p:nvPr/>
                </p:nvSpPr>
                <p:spPr>
                  <a:xfrm rot="3876600">
                    <a:off x="5657400" y="5449680"/>
                    <a:ext cx="358200" cy="40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c230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4" name=""/>
                <p:cNvGrpSpPr/>
                <p:nvPr/>
              </p:nvGrpSpPr>
              <p:grpSpPr>
                <a:xfrm>
                  <a:off x="5152680" y="3522960"/>
                  <a:ext cx="1091880" cy="1742040"/>
                  <a:chOff x="5152680" y="3522960"/>
                  <a:chExt cx="1091880" cy="1742040"/>
                </a:xfrm>
              </p:grpSpPr>
              <p:sp>
                <p:nvSpPr>
                  <p:cNvPr id="445" name="未知"/>
                  <p:cNvSpPr/>
                  <p:nvPr/>
                </p:nvSpPr>
                <p:spPr>
                  <a:xfrm flipV="1" rot="3876600">
                    <a:off x="4824000" y="4204080"/>
                    <a:ext cx="1748520" cy="37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c230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未知"/>
                  <p:cNvSpPr/>
                  <p:nvPr/>
                </p:nvSpPr>
                <p:spPr>
                  <a:xfrm flipV="1" rot="3876600">
                    <a:off x="5859360" y="4887720"/>
                    <a:ext cx="274680" cy="30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c230a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7" name=""/>
              <p:cNvGrpSpPr/>
              <p:nvPr/>
            </p:nvGrpSpPr>
            <p:grpSpPr>
              <a:xfrm>
                <a:off x="4313160" y="2685960"/>
                <a:ext cx="1275840" cy="1311480"/>
                <a:chOff x="4313160" y="2685960"/>
                <a:chExt cx="1275840" cy="131148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4313160" y="2685960"/>
                  <a:ext cx="1275840" cy="131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3c230a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4313160" y="2685960"/>
                  <a:ext cx="1275840" cy="131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3c230a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4397400" y="2770920"/>
                  <a:ext cx="1106640" cy="113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3c230a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4397400" y="2773800"/>
                  <a:ext cx="1106640" cy="113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3c230a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4452480" y="2829240"/>
                  <a:ext cx="996840" cy="1024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3c230a"/>
                    </a:solidFill>
                    <a:latin typeface="Arial"/>
                  </a:endParaRPr>
                </a:p>
              </p:txBody>
            </p:sp>
            <p:grpSp>
              <p:nvGrpSpPr>
                <p:cNvPr id="453" name=""/>
                <p:cNvGrpSpPr/>
                <p:nvPr/>
              </p:nvGrpSpPr>
              <p:grpSpPr>
                <a:xfrm>
                  <a:off x="4467600" y="2844720"/>
                  <a:ext cx="966240" cy="994680"/>
                  <a:chOff x="4467600" y="2844720"/>
                  <a:chExt cx="966240" cy="994680"/>
                </a:xfrm>
              </p:grpSpPr>
              <p:sp>
                <p:nvSpPr>
                  <p:cNvPr id="454" name=""/>
                  <p:cNvSpPr/>
                  <p:nvPr/>
                </p:nvSpPr>
                <p:spPr>
                  <a:xfrm>
                    <a:off x="4467600" y="2844720"/>
                    <a:ext cx="966240" cy="99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3c230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4479840" y="2850120"/>
                    <a:ext cx="942840" cy="96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3c230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4489920" y="2859840"/>
                    <a:ext cx="896760" cy="906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3c230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4542480" y="2885040"/>
                    <a:ext cx="797040" cy="735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3c230a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8" name=""/>
              <p:cNvSpPr/>
              <p:nvPr/>
            </p:nvSpPr>
            <p:spPr>
              <a:xfrm rot="3925800">
                <a:off x="4685760" y="45057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rot="3925800">
                <a:off x="5144400" y="42217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c230a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6089760" y="2541600"/>
              <a:ext cx="2122920" cy="3476160"/>
              <a:chOff x="6089760" y="2541600"/>
              <a:chExt cx="2122920" cy="3476160"/>
            </a:xfrm>
          </p:grpSpPr>
          <p:grpSp>
            <p:nvGrpSpPr>
              <p:cNvPr id="461" name=""/>
              <p:cNvGrpSpPr/>
              <p:nvPr/>
            </p:nvGrpSpPr>
            <p:grpSpPr>
              <a:xfrm>
                <a:off x="6684480" y="3589920"/>
                <a:ext cx="1528200" cy="2427840"/>
                <a:chOff x="6684480" y="3589920"/>
                <a:chExt cx="1528200" cy="2427840"/>
              </a:xfrm>
            </p:grpSpPr>
            <p:grpSp>
              <p:nvGrpSpPr>
                <p:cNvPr id="462" name=""/>
                <p:cNvGrpSpPr/>
                <p:nvPr/>
              </p:nvGrpSpPr>
              <p:grpSpPr>
                <a:xfrm>
                  <a:off x="6684480" y="3747960"/>
                  <a:ext cx="1422360" cy="2269800"/>
                  <a:chOff x="6684480" y="3747960"/>
                  <a:chExt cx="1422360" cy="2269800"/>
                </a:xfrm>
              </p:grpSpPr>
              <p:sp>
                <p:nvSpPr>
                  <p:cNvPr id="463" name="未知"/>
                  <p:cNvSpPr/>
                  <p:nvPr/>
                </p:nvSpPr>
                <p:spPr>
                  <a:xfrm rot="3876600">
                    <a:off x="6256080" y="4636080"/>
                    <a:ext cx="2278440" cy="49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c230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未知"/>
                  <p:cNvSpPr/>
                  <p:nvPr/>
                </p:nvSpPr>
                <p:spPr>
                  <a:xfrm rot="3876600">
                    <a:off x="7625160" y="5516280"/>
                    <a:ext cx="357840" cy="4035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c230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5" name=""/>
                <p:cNvGrpSpPr/>
                <p:nvPr/>
              </p:nvGrpSpPr>
              <p:grpSpPr>
                <a:xfrm>
                  <a:off x="7121160" y="3589920"/>
                  <a:ext cx="1091520" cy="1741680"/>
                  <a:chOff x="7121160" y="3589920"/>
                  <a:chExt cx="1091520" cy="1741680"/>
                </a:xfrm>
              </p:grpSpPr>
              <p:sp>
                <p:nvSpPr>
                  <p:cNvPr id="466" name="未知"/>
                  <p:cNvSpPr/>
                  <p:nvPr/>
                </p:nvSpPr>
                <p:spPr>
                  <a:xfrm flipV="1" rot="3876600">
                    <a:off x="6792480" y="4271760"/>
                    <a:ext cx="1748520" cy="37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c230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未知"/>
                  <p:cNvSpPr/>
                  <p:nvPr/>
                </p:nvSpPr>
                <p:spPr>
                  <a:xfrm flipV="1" rot="3876600">
                    <a:off x="7827480" y="4954320"/>
                    <a:ext cx="27468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c230a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8" name=""/>
              <p:cNvSpPr/>
              <p:nvPr/>
            </p:nvSpPr>
            <p:spPr>
              <a:xfrm>
                <a:off x="6089760" y="2541600"/>
                <a:ext cx="1530000" cy="15721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089760" y="2541600"/>
                <a:ext cx="1530000" cy="157212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191640" y="2644920"/>
                <a:ext cx="1329480" cy="136476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193440" y="2647800"/>
                <a:ext cx="1329120" cy="136512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256800" y="2713320"/>
                <a:ext cx="1197000" cy="12283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grpSp>
            <p:nvGrpSpPr>
              <p:cNvPr id="473" name=""/>
              <p:cNvGrpSpPr/>
              <p:nvPr/>
            </p:nvGrpSpPr>
            <p:grpSpPr>
              <a:xfrm>
                <a:off x="6276240" y="2732400"/>
                <a:ext cx="1160280" cy="1191600"/>
                <a:chOff x="6276240" y="2732400"/>
                <a:chExt cx="1160280" cy="119160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6276240" y="2732400"/>
                  <a:ext cx="1160280" cy="1191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3c230a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291000" y="2738880"/>
                  <a:ext cx="1132200" cy="1162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3c230a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6302880" y="2750400"/>
                  <a:ext cx="1076760" cy="1085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3c230a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6365880" y="2780640"/>
                  <a:ext cx="957240" cy="881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3c230a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8" name=""/>
              <p:cNvSpPr/>
              <p:nvPr/>
            </p:nvSpPr>
            <p:spPr>
              <a:xfrm rot="3925800">
                <a:off x="6638760" y="46490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rot="3925800">
                <a:off x="7095600" y="43650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c230a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1101600" y="1828800"/>
              <a:ext cx="6056640" cy="407880"/>
              <a:chOff x="1101600" y="1828800"/>
              <a:chExt cx="6056640" cy="407880"/>
            </a:xfrm>
          </p:grpSpPr>
          <p:sp>
            <p:nvSpPr>
              <p:cNvPr id="481" name=""/>
              <p:cNvSpPr/>
              <p:nvPr/>
            </p:nvSpPr>
            <p:spPr>
              <a:xfrm>
                <a:off x="110160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c230a"/>
                    </a:solidFill>
                    <a:latin typeface="Verdana"/>
                    <a:ea typeface="宋体"/>
                  </a:rPr>
                  <a:t>2001</a:t>
                </a:r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2855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c230a"/>
                    </a:solidFill>
                    <a:latin typeface="Verdana"/>
                    <a:ea typeface="宋体"/>
                  </a:rPr>
                  <a:t>2002</a:t>
                </a:r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601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c230a"/>
                    </a:solidFill>
                    <a:latin typeface="Verdana"/>
                    <a:ea typeface="宋体"/>
                  </a:rPr>
                  <a:t>2003</a:t>
                </a:r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392160" y="182880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c230a"/>
                    </a:solidFill>
                    <a:latin typeface="Verdana"/>
                    <a:ea typeface="宋体"/>
                  </a:rPr>
                  <a:t>2004</a:t>
                </a:r>
                <a:endParaRPr b="0" lang="en-US" sz="20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cxnSp>
            <p:nvCxnSpPr>
              <p:cNvPr id="485" name=""/>
              <p:cNvCxnSpPr>
                <a:stCxn id="481" idx="3"/>
                <a:endCxn id="482" idx="1"/>
              </p:cNvCxnSpPr>
              <p:nvPr/>
            </p:nvCxnSpPr>
            <p:spPr>
              <a:xfrm>
                <a:off x="1837800" y="2052360"/>
                <a:ext cx="986760" cy="1080"/>
              </a:xfrm>
              <a:prstGeom prst="straightConnector1">
                <a:avLst/>
              </a:prstGeom>
              <a:ln w="9360">
                <a:solidFill>
                  <a:srgbClr val="3c230a"/>
                </a:solidFill>
                <a:miter/>
                <a:tailEnd len="med" type="triangle" w="med"/>
              </a:ln>
            </p:spPr>
          </p:cxnSp>
          <p:cxnSp>
            <p:nvCxnSpPr>
              <p:cNvPr id="486" name=""/>
              <p:cNvCxnSpPr>
                <a:stCxn id="482" idx="3"/>
                <a:endCxn id="483" idx="1"/>
              </p:cNvCxnSpPr>
              <p:nvPr/>
            </p:nvCxnSpPr>
            <p:spPr>
              <a:xfrm>
                <a:off x="3592440" y="2052360"/>
                <a:ext cx="978480" cy="1080"/>
              </a:xfrm>
              <a:prstGeom prst="straightConnector1">
                <a:avLst/>
              </a:prstGeom>
              <a:ln w="9360">
                <a:solidFill>
                  <a:srgbClr val="3c230a"/>
                </a:solidFill>
                <a:miter/>
                <a:tailEnd len="med" type="triangle" w="med"/>
              </a:ln>
            </p:spPr>
          </p:cxnSp>
          <p:cxnSp>
            <p:nvCxnSpPr>
              <p:cNvPr id="487" name=""/>
              <p:cNvCxnSpPr/>
              <p:nvPr/>
            </p:nvCxnSpPr>
            <p:spPr>
              <a:xfrm>
                <a:off x="5338800" y="2057040"/>
                <a:ext cx="978480" cy="1080"/>
              </a:xfrm>
              <a:prstGeom prst="straightConnector1">
                <a:avLst/>
              </a:prstGeom>
              <a:ln w="9360">
                <a:solidFill>
                  <a:srgbClr val="3c230a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c230a"/>
                </a:solidFill>
                <a:latin typeface="Arial"/>
              </a:rPr>
              <a:t>使用规范说明</a:t>
            </a: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6a9eb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6a9eb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4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6a9eb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6a9eb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6a9eb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6a9eb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6a9eb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6a9eb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6a9eb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6a9eb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6a9eb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6a9eb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6a9eb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6a9eb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6a9eb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6a9eb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6a9eb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6a9eb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6a9eb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6a9eb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6a9eb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6a9eb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6a9eb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6a9eb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6a9eb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4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c230a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1ADCE-8D19-4173-B5D8-CD006AEB534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666520" y="50292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c230a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1676520" y="1523880"/>
            <a:ext cx="5867280" cy="1301760"/>
            <a:chOff x="1676520" y="1523880"/>
            <a:chExt cx="5867280" cy="1301760"/>
          </a:xfrm>
        </p:grpSpPr>
        <p:sp>
          <p:nvSpPr>
            <p:cNvPr id="493" name=""/>
            <p:cNvSpPr/>
            <p:nvPr/>
          </p:nvSpPr>
          <p:spPr>
            <a:xfrm>
              <a:off x="1676520" y="152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grpSp>
          <p:nvGrpSpPr>
            <p:cNvPr id="494" name=""/>
            <p:cNvGrpSpPr/>
            <p:nvPr/>
          </p:nvGrpSpPr>
          <p:grpSpPr>
            <a:xfrm>
              <a:off x="1804680" y="1643400"/>
              <a:ext cx="1130760" cy="1064520"/>
              <a:chOff x="1804680" y="1643400"/>
              <a:chExt cx="1130760" cy="1064520"/>
            </a:xfrm>
          </p:grpSpPr>
          <p:sp>
            <p:nvSpPr>
              <p:cNvPr id="495" name=""/>
              <p:cNvSpPr/>
              <p:nvPr/>
            </p:nvSpPr>
            <p:spPr>
              <a:xfrm>
                <a:off x="1804680" y="164340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4c578"/>
                  </a:gs>
                  <a:gs pos="100000">
                    <a:srgbClr val="9e8853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496" name="未知"/>
              <p:cNvSpPr/>
              <p:nvPr/>
            </p:nvSpPr>
            <p:spPr>
              <a:xfrm>
                <a:off x="1875240" y="171180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deb4"/>
                  </a:gs>
                  <a:gs pos="50000">
                    <a:srgbClr val="e4c578">
                      <a:alpha val="0"/>
                    </a:srgbClr>
                  </a:gs>
                  <a:gs pos="100000">
                    <a:srgbClr val="efdeb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930680" y="1932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</p:grpSp>
        <p:sp>
          <p:nvSpPr>
            <p:cNvPr id="498" name=""/>
            <p:cNvSpPr/>
            <p:nvPr/>
          </p:nvSpPr>
          <p:spPr>
            <a:xfrm>
              <a:off x="3090240" y="17251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1676520" y="3054240"/>
            <a:ext cx="5867280" cy="1301760"/>
            <a:chOff x="1676520" y="3054240"/>
            <a:chExt cx="5867280" cy="1301760"/>
          </a:xfrm>
        </p:grpSpPr>
        <p:sp>
          <p:nvSpPr>
            <p:cNvPr id="500" name=""/>
            <p:cNvSpPr/>
            <p:nvPr/>
          </p:nvSpPr>
          <p:spPr>
            <a:xfrm>
              <a:off x="1676520" y="305424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0f0f0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grpSp>
          <p:nvGrpSpPr>
            <p:cNvPr id="501" name=""/>
            <p:cNvGrpSpPr/>
            <p:nvPr/>
          </p:nvGrpSpPr>
          <p:grpSpPr>
            <a:xfrm>
              <a:off x="1804680" y="3173760"/>
              <a:ext cx="1130760" cy="1064520"/>
              <a:chOff x="1804680" y="3173760"/>
              <a:chExt cx="1130760" cy="1064520"/>
            </a:xfrm>
          </p:grpSpPr>
          <p:sp>
            <p:nvSpPr>
              <p:cNvPr id="502" name=""/>
              <p:cNvSpPr/>
              <p:nvPr/>
            </p:nvSpPr>
            <p:spPr>
              <a:xfrm>
                <a:off x="1804680" y="317376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92b7c4"/>
                  </a:gs>
                  <a:gs pos="100000">
                    <a:srgbClr val="6a9eb0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503" name="未知"/>
              <p:cNvSpPr/>
              <p:nvPr/>
            </p:nvSpPr>
            <p:spPr>
              <a:xfrm>
                <a:off x="1875240" y="324216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a9eb0">
                      <a:alpha val="0"/>
                    </a:srgbClr>
                  </a:gs>
                  <a:gs pos="100000">
                    <a:srgbClr val="bfd5d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930680" y="34646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</p:grpSp>
        <p:sp>
          <p:nvSpPr>
            <p:cNvPr id="505" name=""/>
            <p:cNvSpPr/>
            <p:nvPr/>
          </p:nvSpPr>
          <p:spPr>
            <a:xfrm>
              <a:off x="3090240" y="32324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3c230a"/>
                  </a:solidFill>
                  <a:latin typeface="Arial"/>
                  <a:ea typeface="宋体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1676520" y="4594320"/>
            <a:ext cx="5867280" cy="1301760"/>
            <a:chOff x="1676520" y="4594320"/>
            <a:chExt cx="5867280" cy="1301760"/>
          </a:xfrm>
        </p:grpSpPr>
        <p:sp>
          <p:nvSpPr>
            <p:cNvPr id="507" name=""/>
            <p:cNvSpPr/>
            <p:nvPr/>
          </p:nvSpPr>
          <p:spPr>
            <a:xfrm>
              <a:off x="1676520" y="459432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deded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1804680" y="4713840"/>
              <a:ext cx="1130760" cy="1064520"/>
              <a:chOff x="1804680" y="4713840"/>
              <a:chExt cx="1130760" cy="1064520"/>
            </a:xfrm>
          </p:grpSpPr>
          <p:sp>
            <p:nvSpPr>
              <p:cNvPr id="509" name=""/>
              <p:cNvSpPr/>
              <p:nvPr/>
            </p:nvSpPr>
            <p:spPr>
              <a:xfrm>
                <a:off x="1804680" y="471384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7c9dbd"/>
                  </a:gs>
                  <a:gs pos="100000">
                    <a:srgbClr val="336699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510" name="未知"/>
              <p:cNvSpPr/>
              <p:nvPr/>
            </p:nvSpPr>
            <p:spPr>
              <a:xfrm>
                <a:off x="1875240" y="478224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6699">
                      <a:alpha val="0"/>
                    </a:srgbClr>
                  </a:gs>
                  <a:gs pos="100000">
                    <a:srgbClr val="9bb3c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930680" y="50047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</p:grpSp>
        <p:sp>
          <p:nvSpPr>
            <p:cNvPr id="512" name=""/>
            <p:cNvSpPr/>
            <p:nvPr/>
          </p:nvSpPr>
          <p:spPr>
            <a:xfrm>
              <a:off x="3090240" y="47725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666520" y="50292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c230a"/>
                </a:solidFill>
                <a:latin typeface="Arial"/>
                <a:ea typeface="宋体"/>
              </a:rPr>
              <a:t>Block Diagram</a:t>
            </a: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3c23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3c23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3c23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3c23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c230a"/>
              </a:solidFill>
              <a:latin typeface="Arial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1127520" y="1863360"/>
            <a:ext cx="6215400" cy="1324800"/>
            <a:chOff x="1127520" y="1863360"/>
            <a:chExt cx="6215400" cy="1324800"/>
          </a:xfrm>
        </p:grpSpPr>
        <p:sp>
          <p:nvSpPr>
            <p:cNvPr id="519" name="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6a9eb0"/>
                </a:gs>
                <a:gs pos="100000">
                  <a:srgbClr val="304851"/>
                </a:gs>
              </a:gsLst>
              <a:lin ang="1980000"/>
            </a:gradFill>
            <a:ln w="9360">
              <a:solidFill>
                <a:srgbClr val="3c23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grpSp>
          <p:nvGrpSpPr>
            <p:cNvPr id="520" name=""/>
            <p:cNvGrpSpPr/>
            <p:nvPr/>
          </p:nvGrpSpPr>
          <p:grpSpPr>
            <a:xfrm>
              <a:off x="2258280" y="2244600"/>
              <a:ext cx="901080" cy="124200"/>
              <a:chOff x="2258280" y="2244600"/>
              <a:chExt cx="901080" cy="124200"/>
            </a:xfrm>
          </p:grpSpPr>
          <p:sp>
            <p:nvSpPr>
              <p:cNvPr id="521" name="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234468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302292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096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</p:grpSp>
        <p:sp>
          <p:nvSpPr>
            <p:cNvPr id="525" name="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e4c578"/>
            </a:solidFill>
            <a:ln w="9360">
              <a:solidFill>
                <a:srgbClr val="3c23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grpSp>
          <p:nvGrpSpPr>
            <p:cNvPr id="526" name=""/>
            <p:cNvGrpSpPr/>
            <p:nvPr/>
          </p:nvGrpSpPr>
          <p:grpSpPr>
            <a:xfrm>
              <a:off x="3922920" y="2244600"/>
              <a:ext cx="901080" cy="124200"/>
              <a:chOff x="3922920" y="2244600"/>
              <a:chExt cx="901080" cy="124200"/>
            </a:xfrm>
          </p:grpSpPr>
          <p:sp>
            <p:nvSpPr>
              <p:cNvPr id="527" name="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00932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68756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76064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</p:grpSp>
        <p:sp>
          <p:nvSpPr>
            <p:cNvPr id="531" name=""/>
            <p:cNvSpPr/>
            <p:nvPr/>
          </p:nvSpPr>
          <p:spPr>
            <a:xfrm rot="3418800">
              <a:off x="4595760" y="2008800"/>
              <a:ext cx="874080" cy="971280"/>
            </a:xfrm>
            <a:prstGeom prst="rect">
              <a:avLst/>
            </a:prstGeom>
            <a:gradFill rotWithShape="0">
              <a:gsLst>
                <a:gs pos="0">
                  <a:srgbClr val="6a9eb0"/>
                </a:gs>
                <a:gs pos="100000">
                  <a:srgbClr val="304851"/>
                </a:gs>
              </a:gsLst>
              <a:lin ang="1980000"/>
            </a:gradFill>
            <a:ln w="9360">
              <a:solidFill>
                <a:srgbClr val="3c23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grpSp>
          <p:nvGrpSpPr>
            <p:cNvPr id="532" name=""/>
            <p:cNvGrpSpPr/>
            <p:nvPr/>
          </p:nvGrpSpPr>
          <p:grpSpPr>
            <a:xfrm>
              <a:off x="5587560" y="2244600"/>
              <a:ext cx="1178640" cy="124200"/>
              <a:chOff x="5587560" y="2244600"/>
              <a:chExt cx="1178640" cy="124200"/>
            </a:xfrm>
          </p:grpSpPr>
          <p:sp>
            <p:nvSpPr>
              <p:cNvPr id="533" name=""/>
              <p:cNvSpPr/>
              <p:nvPr/>
            </p:nvSpPr>
            <p:spPr>
              <a:xfrm>
                <a:off x="558756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70060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68304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 rot="3418800">
              <a:off x="6260400" y="2008800"/>
              <a:ext cx="874080" cy="971280"/>
            </a:xfrm>
            <a:prstGeom prst="rect">
              <a:avLst/>
            </a:prstGeom>
            <a:solidFill>
              <a:srgbClr val="e4c578"/>
            </a:solidFill>
            <a:ln w="9360">
              <a:solidFill>
                <a:srgbClr val="3c23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c230a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c230a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c230a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c230a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3c23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2666520" y="50292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c230a"/>
                </a:solidFill>
                <a:latin typeface="Arial"/>
                <a:ea typeface="宋体"/>
              </a:rPr>
              <a:t>Table</a:t>
            </a: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graphicFrame>
        <p:nvGraphicFramePr>
          <p:cNvPr id="547" name=""/>
          <p:cNvGraphicFramePr/>
          <p:nvPr/>
        </p:nvGraphicFramePr>
        <p:xfrm>
          <a:off x="841320" y="2316240"/>
          <a:ext cx="7537320" cy="3198600"/>
        </p:xfrm>
        <a:graphic>
          <a:graphicData uri="http://schemas.openxmlformats.org/drawingml/2006/table">
            <a:tbl>
              <a:tblPr/>
              <a:tblGrid>
                <a:gridCol w="1700280"/>
                <a:gridCol w="1185840"/>
                <a:gridCol w="1163520"/>
                <a:gridCol w="1158840"/>
                <a:gridCol w="1168560"/>
                <a:gridCol w="1160280"/>
              </a:tblGrid>
              <a:tr h="47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c230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c230a"/>
                      </a:solidFill>
                    </a:lnR>
                    <a:lnT>
                      <a:noFill/>
                    </a:lnT>
                    <a:lnB w="5760">
                      <a:solidFill>
                        <a:srgbClr val="3c230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3c230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c230a"/>
                      </a:solidFill>
                    </a:lnL>
                    <a:lnR w="5760">
                      <a:solidFill>
                        <a:srgbClr val="3c230a"/>
                      </a:solidFill>
                    </a:lnR>
                    <a:lnT w="5760">
                      <a:solidFill>
                        <a:srgbClr val="3c230a"/>
                      </a:solidFill>
                    </a:lnT>
                    <a:lnB w="5760">
                      <a:solidFill>
                        <a:srgbClr val="3c230a"/>
                      </a:solidFill>
                    </a:lnB>
                    <a:solidFill>
                      <a:srgbClr val="e4c57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3c230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c230a"/>
                      </a:solidFill>
                    </a:lnL>
                    <a:lnR w="5760">
                      <a:solidFill>
                        <a:srgbClr val="3c230a"/>
                      </a:solidFill>
                    </a:lnR>
                    <a:lnT w="5760">
                      <a:solidFill>
                        <a:srgbClr val="3c230a"/>
                      </a:solidFill>
                    </a:lnT>
                    <a:lnB w="5760">
                      <a:solidFill>
                        <a:srgbClr val="3c230a"/>
                      </a:solidFill>
                    </a:lnB>
                    <a:solidFill>
                      <a:srgbClr val="e4c578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3c230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c230a"/>
                      </a:solidFill>
                    </a:lnL>
                    <a:lnR w="5760">
                      <a:solidFill>
                        <a:srgbClr val="3c230a"/>
                      </a:solidFill>
                    </a:lnR>
                    <a:lnT w="5760">
                      <a:solidFill>
                        <a:srgbClr val="3c230a"/>
                      </a:solidFill>
                    </a:lnT>
                    <a:lnB w="5760">
                      <a:solidFill>
                        <a:srgbClr val="3c230a"/>
                      </a:solidFill>
                    </a:lnB>
                    <a:solidFill>
                      <a:srgbClr val="e4c57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3c230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c230a"/>
                      </a:solidFill>
                    </a:lnL>
                    <a:lnR w="5760">
                      <a:solidFill>
                        <a:srgbClr val="3c230a"/>
                      </a:solidFill>
                    </a:lnR>
                    <a:lnT w="5760">
                      <a:solidFill>
                        <a:srgbClr val="3c230a"/>
                      </a:solidFill>
                    </a:lnT>
                    <a:lnB w="5760">
                      <a:solidFill>
                        <a:srgbClr val="3c230a"/>
                      </a:solidFill>
                    </a:lnB>
                    <a:solidFill>
                      <a:srgbClr val="e4c578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3c230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c230a"/>
                      </a:solidFill>
                    </a:lnL>
                    <a:lnR w="5760">
                      <a:solidFill>
                        <a:srgbClr val="3c230a"/>
                      </a:solidFill>
                    </a:lnR>
                    <a:lnT w="5760">
                      <a:solidFill>
                        <a:srgbClr val="3c230a"/>
                      </a:solidFill>
                    </a:lnT>
                    <a:lnB w="5760">
                      <a:solidFill>
                        <a:srgbClr val="3c230a"/>
                      </a:solidFill>
                    </a:lnB>
                    <a:solidFill>
                      <a:srgbClr val="e4c578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3c230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c230a"/>
                      </a:solidFill>
                    </a:lnL>
                    <a:lnR w="5760">
                      <a:solidFill>
                        <a:srgbClr val="3c230a"/>
                      </a:solidFill>
                    </a:lnR>
                    <a:lnT w="5760">
                      <a:solidFill>
                        <a:srgbClr val="3c230a"/>
                      </a:solidFill>
                    </a:lnT>
                    <a:lnB w="5760">
                      <a:solidFill>
                        <a:srgbClr val="3c230a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c230a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c230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c230a"/>
                      </a:solidFill>
                    </a:lnL>
                    <a:lnR w="5760">
                      <a:solidFill>
                        <a:srgbClr val="3c230a"/>
                      </a:solidFill>
                    </a:lnR>
                    <a:lnT w="5760">
                      <a:solidFill>
                        <a:srgbClr val="3c230a"/>
                      </a:solidFill>
                    </a:lnT>
                    <a:lnB w="5760">
                      <a:solidFill>
                        <a:srgbClr val="3c230a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c230a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c230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c230a"/>
                      </a:solidFill>
                    </a:lnL>
                    <a:lnR w="5760">
                      <a:solidFill>
                        <a:srgbClr val="3c230a"/>
                      </a:solidFill>
                    </a:lnR>
                    <a:lnT w="5760">
                      <a:solidFill>
                        <a:srgbClr val="3c230a"/>
                      </a:solidFill>
                    </a:lnT>
                    <a:lnB w="5760">
                      <a:solidFill>
                        <a:srgbClr val="3c230a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c230a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c230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c230a"/>
                      </a:solidFill>
                    </a:lnL>
                    <a:lnR w="5760">
                      <a:solidFill>
                        <a:srgbClr val="3c230a"/>
                      </a:solidFill>
                    </a:lnR>
                    <a:lnT w="5760">
                      <a:solidFill>
                        <a:srgbClr val="3c230a"/>
                      </a:solidFill>
                    </a:lnT>
                    <a:lnB w="5760">
                      <a:solidFill>
                        <a:srgbClr val="3c230a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c230a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c230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c230a"/>
                      </a:solidFill>
                    </a:lnL>
                    <a:lnR w="5760">
                      <a:solidFill>
                        <a:srgbClr val="3c230a"/>
                      </a:solidFill>
                    </a:lnR>
                    <a:lnT w="5760">
                      <a:solidFill>
                        <a:srgbClr val="3c230a"/>
                      </a:solidFill>
                    </a:lnT>
                    <a:lnB w="5760">
                      <a:solidFill>
                        <a:srgbClr val="3c230a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c230a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c230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c230a"/>
                      </a:solidFill>
                    </a:lnL>
                    <a:lnR w="5760">
                      <a:solidFill>
                        <a:srgbClr val="3c230a"/>
                      </a:solidFill>
                    </a:lnR>
                    <a:lnT w="5760">
                      <a:solidFill>
                        <a:srgbClr val="3c230a"/>
                      </a:solidFill>
                    </a:lnT>
                    <a:lnB w="5760">
                      <a:solidFill>
                        <a:srgbClr val="3c230a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3c230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c230a"/>
                      </a:solidFill>
                    </a:lnL>
                    <a:lnR w="5760">
                      <a:solidFill>
                        <a:srgbClr val="3c230a"/>
                      </a:solidFill>
                    </a:lnR>
                    <a:lnT w="5760">
                      <a:solidFill>
                        <a:srgbClr val="3c230a"/>
                      </a:solidFill>
                    </a:lnT>
                    <a:lnB w="5760">
                      <a:solidFill>
                        <a:srgbClr val="3c230a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c230a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c230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c230a"/>
                      </a:solidFill>
                    </a:lnL>
                    <a:lnR w="5760">
                      <a:solidFill>
                        <a:srgbClr val="3c230a"/>
                      </a:solidFill>
                    </a:lnR>
                    <a:lnT w="5760">
                      <a:solidFill>
                        <a:srgbClr val="3c230a"/>
                      </a:solidFill>
                    </a:lnT>
                    <a:lnB w="5760">
                      <a:solidFill>
                        <a:srgbClr val="3c230a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c230a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c230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c230a"/>
                      </a:solidFill>
                    </a:lnL>
                    <a:lnR w="5760">
                      <a:solidFill>
                        <a:srgbClr val="3c230a"/>
                      </a:solidFill>
                    </a:lnR>
                    <a:lnT w="5760">
                      <a:solidFill>
                        <a:srgbClr val="3c230a"/>
                      </a:solidFill>
                    </a:lnT>
                    <a:lnB w="5760">
                      <a:solidFill>
                        <a:srgbClr val="3c230a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c230a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c230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c230a"/>
                      </a:solidFill>
                    </a:lnL>
                    <a:lnR w="5760">
                      <a:solidFill>
                        <a:srgbClr val="3c230a"/>
                      </a:solidFill>
                    </a:lnR>
                    <a:lnT w="5760">
                      <a:solidFill>
                        <a:srgbClr val="3c230a"/>
                      </a:solidFill>
                    </a:lnT>
                    <a:lnB w="5760">
                      <a:solidFill>
                        <a:srgbClr val="3c230a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c230a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c230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c230a"/>
                      </a:solidFill>
                    </a:lnL>
                    <a:lnR w="5760">
                      <a:solidFill>
                        <a:srgbClr val="3c230a"/>
                      </a:solidFill>
                    </a:lnR>
                    <a:lnT w="5760">
                      <a:solidFill>
                        <a:srgbClr val="3c230a"/>
                      </a:solidFill>
                    </a:lnT>
                    <a:lnB w="5760">
                      <a:solidFill>
                        <a:srgbClr val="3c230a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c230a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c230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c230a"/>
                      </a:solidFill>
                    </a:lnL>
                    <a:lnR w="5760">
                      <a:solidFill>
                        <a:srgbClr val="3c230a"/>
                      </a:solidFill>
                    </a:lnR>
                    <a:lnT w="5760">
                      <a:solidFill>
                        <a:srgbClr val="3c230a"/>
                      </a:solidFill>
                    </a:lnT>
                    <a:lnB w="5760">
                      <a:solidFill>
                        <a:srgbClr val="3c230a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</a:tr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3c230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c230a"/>
                      </a:solidFill>
                    </a:lnL>
                    <a:lnR w="5760">
                      <a:solidFill>
                        <a:srgbClr val="3c230a"/>
                      </a:solidFill>
                    </a:lnR>
                    <a:lnT w="5760">
                      <a:solidFill>
                        <a:srgbClr val="3c230a"/>
                      </a:solidFill>
                    </a:lnT>
                    <a:lnB w="5760">
                      <a:solidFill>
                        <a:srgbClr val="3c230a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c230a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c230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c230a"/>
                      </a:solidFill>
                    </a:lnL>
                    <a:lnR w="5760">
                      <a:solidFill>
                        <a:srgbClr val="3c230a"/>
                      </a:solidFill>
                    </a:lnR>
                    <a:lnT w="5760">
                      <a:solidFill>
                        <a:srgbClr val="3c230a"/>
                      </a:solidFill>
                    </a:lnT>
                    <a:lnB w="5760">
                      <a:solidFill>
                        <a:srgbClr val="3c230a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c230a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c230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c230a"/>
                      </a:solidFill>
                    </a:lnL>
                    <a:lnR w="5760">
                      <a:solidFill>
                        <a:srgbClr val="3c230a"/>
                      </a:solidFill>
                    </a:lnR>
                    <a:lnT w="5760">
                      <a:solidFill>
                        <a:srgbClr val="3c230a"/>
                      </a:solidFill>
                    </a:lnT>
                    <a:lnB w="5760">
                      <a:solidFill>
                        <a:srgbClr val="3c230a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c230a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c230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c230a"/>
                      </a:solidFill>
                    </a:lnL>
                    <a:lnR w="5760">
                      <a:solidFill>
                        <a:srgbClr val="3c230a"/>
                      </a:solidFill>
                    </a:lnR>
                    <a:lnT w="5760">
                      <a:solidFill>
                        <a:srgbClr val="3c230a"/>
                      </a:solidFill>
                    </a:lnT>
                    <a:lnB w="5760">
                      <a:solidFill>
                        <a:srgbClr val="3c230a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c230a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c230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c230a"/>
                      </a:solidFill>
                    </a:lnL>
                    <a:lnR w="5760">
                      <a:solidFill>
                        <a:srgbClr val="3c230a"/>
                      </a:solidFill>
                    </a:lnR>
                    <a:lnT w="5760">
                      <a:solidFill>
                        <a:srgbClr val="3c230a"/>
                      </a:solidFill>
                    </a:lnT>
                    <a:lnB w="5760">
                      <a:solidFill>
                        <a:srgbClr val="3c230a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c230a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c230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c230a"/>
                      </a:solidFill>
                    </a:lnL>
                    <a:lnR w="5760">
                      <a:solidFill>
                        <a:srgbClr val="3c230a"/>
                      </a:solidFill>
                    </a:lnR>
                    <a:lnT w="5760">
                      <a:solidFill>
                        <a:srgbClr val="3c230a"/>
                      </a:solidFill>
                    </a:lnT>
                    <a:lnB w="5760">
                      <a:solidFill>
                        <a:srgbClr val="3c230a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5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3c230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c230a"/>
                      </a:solidFill>
                    </a:lnL>
                    <a:lnR w="5760">
                      <a:solidFill>
                        <a:srgbClr val="3c230a"/>
                      </a:solidFill>
                    </a:lnR>
                    <a:lnT w="5760">
                      <a:solidFill>
                        <a:srgbClr val="3c230a"/>
                      </a:solidFill>
                    </a:lnT>
                    <a:lnB w="5760">
                      <a:solidFill>
                        <a:srgbClr val="3c230a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c230a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c230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c230a"/>
                      </a:solidFill>
                    </a:lnL>
                    <a:lnR w="5760">
                      <a:solidFill>
                        <a:srgbClr val="3c230a"/>
                      </a:solidFill>
                    </a:lnR>
                    <a:lnT w="5760">
                      <a:solidFill>
                        <a:srgbClr val="3c230a"/>
                      </a:solidFill>
                    </a:lnT>
                    <a:lnB w="5760">
                      <a:solidFill>
                        <a:srgbClr val="3c230a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c230a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c230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c230a"/>
                      </a:solidFill>
                    </a:lnL>
                    <a:lnR w="5760">
                      <a:solidFill>
                        <a:srgbClr val="3c230a"/>
                      </a:solidFill>
                    </a:lnR>
                    <a:lnT w="5760">
                      <a:solidFill>
                        <a:srgbClr val="3c230a"/>
                      </a:solidFill>
                    </a:lnT>
                    <a:lnB w="5760">
                      <a:solidFill>
                        <a:srgbClr val="3c230a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c230a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c230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c230a"/>
                      </a:solidFill>
                    </a:lnL>
                    <a:lnR w="5760">
                      <a:solidFill>
                        <a:srgbClr val="3c230a"/>
                      </a:solidFill>
                    </a:lnR>
                    <a:lnT w="5760">
                      <a:solidFill>
                        <a:srgbClr val="3c230a"/>
                      </a:solidFill>
                    </a:lnT>
                    <a:lnB w="5760">
                      <a:solidFill>
                        <a:srgbClr val="3c230a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c230a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c230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c230a"/>
                      </a:solidFill>
                    </a:lnL>
                    <a:lnR w="5760">
                      <a:solidFill>
                        <a:srgbClr val="3c230a"/>
                      </a:solidFill>
                    </a:lnR>
                    <a:lnT w="5760">
                      <a:solidFill>
                        <a:srgbClr val="3c230a"/>
                      </a:solidFill>
                    </a:lnT>
                    <a:lnB w="5760">
                      <a:solidFill>
                        <a:srgbClr val="3c230a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c230a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c230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c230a"/>
                      </a:solidFill>
                    </a:lnL>
                    <a:lnR w="5760">
                      <a:solidFill>
                        <a:srgbClr val="3c230a"/>
                      </a:solidFill>
                    </a:lnR>
                    <a:lnT w="5760">
                      <a:solidFill>
                        <a:srgbClr val="3c230a"/>
                      </a:solidFill>
                    </a:lnT>
                    <a:lnB w="5760">
                      <a:solidFill>
                        <a:srgbClr val="3c230a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</a:tr>
              <a:tr h="45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3c230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c230a"/>
                      </a:solidFill>
                    </a:lnL>
                    <a:lnR w="5760">
                      <a:solidFill>
                        <a:srgbClr val="3c230a"/>
                      </a:solidFill>
                    </a:lnR>
                    <a:lnT w="5760">
                      <a:solidFill>
                        <a:srgbClr val="3c230a"/>
                      </a:solidFill>
                    </a:lnT>
                    <a:lnB w="5760">
                      <a:solidFill>
                        <a:srgbClr val="3c230a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c230a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c230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c230a"/>
                      </a:solidFill>
                    </a:lnL>
                    <a:lnR w="5760">
                      <a:solidFill>
                        <a:srgbClr val="3c230a"/>
                      </a:solidFill>
                    </a:lnR>
                    <a:lnT w="5760">
                      <a:solidFill>
                        <a:srgbClr val="3c230a"/>
                      </a:solidFill>
                    </a:lnT>
                    <a:lnB w="5760">
                      <a:solidFill>
                        <a:srgbClr val="3c230a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c230a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c230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c230a"/>
                      </a:solidFill>
                    </a:lnL>
                    <a:lnR w="5760">
                      <a:solidFill>
                        <a:srgbClr val="3c230a"/>
                      </a:solidFill>
                    </a:lnR>
                    <a:lnT w="5760">
                      <a:solidFill>
                        <a:srgbClr val="3c230a"/>
                      </a:solidFill>
                    </a:lnT>
                    <a:lnB w="5760">
                      <a:solidFill>
                        <a:srgbClr val="3c230a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c230a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c230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c230a"/>
                      </a:solidFill>
                    </a:lnL>
                    <a:lnR w="5760">
                      <a:solidFill>
                        <a:srgbClr val="3c230a"/>
                      </a:solidFill>
                    </a:lnR>
                    <a:lnT w="5760">
                      <a:solidFill>
                        <a:srgbClr val="3c230a"/>
                      </a:solidFill>
                    </a:lnT>
                    <a:lnB w="5760">
                      <a:solidFill>
                        <a:srgbClr val="3c230a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c230a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c230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c230a"/>
                      </a:solidFill>
                    </a:lnL>
                    <a:lnR w="5760">
                      <a:solidFill>
                        <a:srgbClr val="3c230a"/>
                      </a:solidFill>
                    </a:lnR>
                    <a:lnT w="5760">
                      <a:solidFill>
                        <a:srgbClr val="3c230a"/>
                      </a:solidFill>
                    </a:lnT>
                    <a:lnB w="5760">
                      <a:solidFill>
                        <a:srgbClr val="3c230a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c230a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c230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c230a"/>
                      </a:solidFill>
                    </a:lnL>
                    <a:lnR w="5760">
                      <a:solidFill>
                        <a:srgbClr val="3c230a"/>
                      </a:solidFill>
                    </a:lnR>
                    <a:lnT w="5760">
                      <a:solidFill>
                        <a:srgbClr val="3c230a"/>
                      </a:solidFill>
                    </a:lnT>
                    <a:lnB w="5760">
                      <a:solidFill>
                        <a:srgbClr val="3c230a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5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3c230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c230a"/>
                      </a:solidFill>
                    </a:lnL>
                    <a:lnR w="5760">
                      <a:solidFill>
                        <a:srgbClr val="3c230a"/>
                      </a:solidFill>
                    </a:lnR>
                    <a:lnT w="5760">
                      <a:solidFill>
                        <a:srgbClr val="3c230a"/>
                      </a:solidFill>
                    </a:lnT>
                    <a:lnB w="5760">
                      <a:solidFill>
                        <a:srgbClr val="3c230a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c230a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c230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c230a"/>
                      </a:solidFill>
                    </a:lnL>
                    <a:lnR w="5760">
                      <a:solidFill>
                        <a:srgbClr val="3c230a"/>
                      </a:solidFill>
                    </a:lnR>
                    <a:lnT w="5760">
                      <a:solidFill>
                        <a:srgbClr val="3c230a"/>
                      </a:solidFill>
                    </a:lnT>
                    <a:lnB w="5760">
                      <a:solidFill>
                        <a:srgbClr val="3c230a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c230a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3c230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c230a"/>
                      </a:solidFill>
                    </a:lnL>
                    <a:lnR w="5760">
                      <a:solidFill>
                        <a:srgbClr val="3c230a"/>
                      </a:solidFill>
                    </a:lnR>
                    <a:lnT w="5760">
                      <a:solidFill>
                        <a:srgbClr val="3c230a"/>
                      </a:solidFill>
                    </a:lnT>
                    <a:lnB w="5760">
                      <a:solidFill>
                        <a:srgbClr val="3c230a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c230a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c230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c230a"/>
                      </a:solidFill>
                    </a:lnL>
                    <a:lnR w="5760">
                      <a:solidFill>
                        <a:srgbClr val="3c230a"/>
                      </a:solidFill>
                    </a:lnR>
                    <a:lnT w="5760">
                      <a:solidFill>
                        <a:srgbClr val="3c230a"/>
                      </a:solidFill>
                    </a:lnT>
                    <a:lnB w="5760">
                      <a:solidFill>
                        <a:srgbClr val="3c230a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c230a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3c230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c230a"/>
                      </a:solidFill>
                    </a:lnL>
                    <a:lnR w="5760">
                      <a:solidFill>
                        <a:srgbClr val="3c230a"/>
                      </a:solidFill>
                    </a:lnR>
                    <a:lnT w="5760">
                      <a:solidFill>
                        <a:srgbClr val="3c230a"/>
                      </a:solidFill>
                    </a:lnT>
                    <a:lnB w="5760">
                      <a:solidFill>
                        <a:srgbClr val="3c230a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c230a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c230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c230a"/>
                      </a:solidFill>
                    </a:lnL>
                    <a:lnR w="5760">
                      <a:solidFill>
                        <a:srgbClr val="3c230a"/>
                      </a:solidFill>
                    </a:lnR>
                    <a:lnT w="5760">
                      <a:solidFill>
                        <a:srgbClr val="3c230a"/>
                      </a:solidFill>
                    </a:lnT>
                    <a:lnB w="5760">
                      <a:solidFill>
                        <a:srgbClr val="3c230a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666520" y="50292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230a"/>
                </a:solidFill>
                <a:latin typeface="Arial"/>
                <a:ea typeface="宋体"/>
              </a:rPr>
              <a:t>3-D Pie Chart</a:t>
            </a:r>
            <a:endParaRPr b="1" lang="en-US" sz="3200" spc="-1" strike="noStrike">
              <a:solidFill>
                <a:srgbClr val="3c230a"/>
              </a:solidFill>
              <a:latin typeface="Arial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604080" y="504360"/>
            <a:ext cx="7379640" cy="5581800"/>
            <a:chOff x="604080" y="504360"/>
            <a:chExt cx="7379640" cy="5581800"/>
          </a:xfrm>
        </p:grpSpPr>
        <p:sp>
          <p:nvSpPr>
            <p:cNvPr id="550" name=""/>
            <p:cNvSpPr/>
            <p:nvPr/>
          </p:nvSpPr>
          <p:spPr>
            <a:xfrm>
              <a:off x="2141640" y="429120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fcfcfc"/>
                </a:gs>
                <a:gs pos="100000">
                  <a:srgbClr val="dddd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rot="20601600">
              <a:off x="1452240" y="2179440"/>
              <a:ext cx="5686560" cy="3016080"/>
            </a:xfrm>
            <a:prstGeom prst="ellipse">
              <a:avLst/>
            </a:prstGeom>
            <a:gradFill rotWithShape="0">
              <a:gsLst>
                <a:gs pos="0">
                  <a:srgbClr val="565656"/>
                </a:gs>
                <a:gs pos="50000">
                  <a:srgbClr val="dddddd"/>
                </a:gs>
                <a:gs pos="100000">
                  <a:srgbClr val="5656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rot="20601600">
              <a:off x="1471320" y="2016360"/>
              <a:ext cx="5564160" cy="2922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rot="20601600">
              <a:off x="1388880" y="2001600"/>
              <a:ext cx="5698440" cy="29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9bbdc9"/>
                </a:gs>
                <a:gs pos="100000">
                  <a:srgbClr val="6a9eb0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 rot="20602200">
              <a:off x="1437840" y="2001240"/>
              <a:ext cx="564408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8a7748"/>
                </a:gs>
                <a:gs pos="100000">
                  <a:srgbClr val="e4c578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 rot="20601600">
              <a:off x="1395720" y="2013840"/>
              <a:ext cx="568152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587" y="1342"/>
                  </a:moveTo>
                  <a:arcTo wR="10800" hR="10800" stAng="-7131749" swAng="4032112"/>
                  <a:lnTo>
                    <a:pt x="10800" y="10800"/>
                  </a:lnTo>
                  <a:close/>
                </a:path>
                <a:path fill="none" w="21600" h="21600">
                  <a:moveTo>
                    <a:pt x="5587" y="1342"/>
                  </a:moveTo>
                  <a:arcTo wR="10800" hR="10800" stAng="-7131749" swAng="4032112"/>
                </a:path>
              </a:pathLst>
            </a:custGeom>
            <a:gradFill rotWithShape="0">
              <a:gsLst>
                <a:gs pos="0">
                  <a:srgbClr val="306069"/>
                </a:gs>
                <a:gs pos="100000">
                  <a:srgbClr val="5cb8ca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 rot="20602200">
              <a:off x="1405800" y="1994400"/>
              <a:ext cx="5698440" cy="297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674" y="719"/>
                  </a:moveTo>
                  <a:arcTo wR="10800" hR="10800" stAng="-4138599" swAng="58879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674" y="719"/>
                  </a:moveTo>
                  <a:arcTo wR="10800" hR="10800" stAng="-4138599" swAng="5887996"/>
                </a:path>
              </a:pathLst>
            </a:custGeom>
            <a:gradFill rotWithShape="0">
              <a:gsLst>
                <a:gs pos="0">
                  <a:srgbClr val="6e3700"/>
                </a:gs>
                <a:gs pos="100000">
                  <a:srgbClr val="cc6600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 rot="20601600">
              <a:off x="2933640" y="27302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5f5f5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924560" y="3409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829680" y="2190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658480" y="2495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grpSp>
          <p:nvGrpSpPr>
            <p:cNvPr id="561" name=""/>
            <p:cNvGrpSpPr/>
            <p:nvPr/>
          </p:nvGrpSpPr>
          <p:grpSpPr>
            <a:xfrm>
              <a:off x="604080" y="504360"/>
              <a:ext cx="7379640" cy="5581800"/>
              <a:chOff x="604080" y="504360"/>
              <a:chExt cx="7379640" cy="5581800"/>
            </a:xfrm>
          </p:grpSpPr>
          <p:sp>
            <p:nvSpPr>
              <p:cNvPr id="562" name="未知"/>
              <p:cNvSpPr/>
              <p:nvPr/>
            </p:nvSpPr>
            <p:spPr>
              <a:xfrm>
                <a:off x="5448240" y="3448440"/>
                <a:ext cx="1773000" cy="1776240"/>
              </a:xfrm>
              <a:custGeom>
                <a:avLst/>
                <a:gdLst/>
                <a:ahLst/>
                <a:rect l="l" t="t" r="r" b="b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336699"/>
                  </a:gs>
                  <a:gs pos="100000">
                    <a:srgbClr val="1e3d5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rot="20539200">
                <a:off x="1022400" y="1408320"/>
                <a:ext cx="6542640" cy="377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808" y="16758"/>
                    </a:moveTo>
                    <a:arcTo wR="10800" hR="10800" stAng="2008784" swAng="28002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808" y="16758"/>
                    </a:moveTo>
                    <a:arcTo wR="10800" hR="10800" stAng="2008784" swAng="2800242"/>
                  </a:path>
                </a:pathLst>
              </a:custGeom>
              <a:gradFill rotWithShape="0">
                <a:gsLst>
                  <a:gs pos="0">
                    <a:srgbClr val="172f46"/>
                  </a:gs>
                  <a:gs pos="100000">
                    <a:srgbClr val="336699"/>
                  </a:gs>
                </a:gsLst>
                <a:lin ang="118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564" name="未知"/>
              <p:cNvSpPr/>
              <p:nvPr/>
            </p:nvSpPr>
            <p:spPr>
              <a:xfrm>
                <a:off x="4582800" y="3924720"/>
                <a:ext cx="924120" cy="1311120"/>
              </a:xfrm>
              <a:custGeom>
                <a:avLst/>
                <a:gdLst/>
                <a:ahLst/>
                <a:rect l="l" t="t" r="r" b="b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72f46"/>
                  </a:gs>
                  <a:gs pos="100000">
                    <a:srgbClr val="33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353200" y="371520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Text4</a:t>
                </a:r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</p:grpSp>
        <p:sp>
          <p:nvSpPr>
            <p:cNvPr id="566" name=""/>
            <p:cNvSpPr/>
            <p:nvPr/>
          </p:nvSpPr>
          <p:spPr>
            <a:xfrm>
              <a:off x="3143880" y="44006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567" name="未知"/>
            <p:cNvSpPr/>
            <p:nvPr/>
          </p:nvSpPr>
          <p:spPr>
            <a:xfrm>
              <a:off x="4427640" y="3990960"/>
              <a:ext cx="838080" cy="110808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3c230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rot="20601600">
              <a:off x="3036960" y="2981520"/>
              <a:ext cx="2587680" cy="1112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666520" y="50292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c230a"/>
                </a:solidFill>
                <a:latin typeface="Arial"/>
                <a:ea typeface="宋体"/>
              </a:rPr>
              <a:t>Contents</a:t>
            </a: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c230a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92" name="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6600"/>
                </a:gs>
                <a:gs pos="100000">
                  <a:srgbClr val="f3ddc8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cc6600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89600" y="200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3c230a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97" name="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4c578"/>
                </a:gs>
                <a:gs pos="100000">
                  <a:srgbClr val="f8f1e1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e4c578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289600" y="2841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3c230a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02" name="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a9eb0"/>
                </a:gs>
                <a:gs pos="100000">
                  <a:srgbClr val="dee9ed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6a9eb0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89600" y="3679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3c230a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07" name="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6699"/>
                </a:gs>
                <a:gs pos="100000">
                  <a:srgbClr val="d2dde8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33669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289600" y="4593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3c230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2666520" y="50292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c230a"/>
                </a:solidFill>
                <a:latin typeface="Arial"/>
                <a:ea typeface="宋体"/>
              </a:rPr>
              <a:t>Block Diagram</a:t>
            </a: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914400" y="1558800"/>
            <a:ext cx="7391160" cy="4633920"/>
            <a:chOff x="914400" y="1558800"/>
            <a:chExt cx="7391160" cy="4633920"/>
          </a:xfrm>
        </p:grpSpPr>
        <p:sp>
          <p:nvSpPr>
            <p:cNvPr id="571" name=""/>
            <p:cNvSpPr/>
            <p:nvPr/>
          </p:nvSpPr>
          <p:spPr>
            <a:xfrm>
              <a:off x="1905120" y="2320920"/>
              <a:ext cx="5530680" cy="274320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6a9eb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grpSp>
          <p:nvGrpSpPr>
            <p:cNvPr id="572" name=""/>
            <p:cNvGrpSpPr/>
            <p:nvPr/>
          </p:nvGrpSpPr>
          <p:grpSpPr>
            <a:xfrm>
              <a:off x="2819520" y="4194000"/>
              <a:ext cx="1523880" cy="1998720"/>
              <a:chOff x="2819520" y="4194000"/>
              <a:chExt cx="1523880" cy="1998720"/>
            </a:xfrm>
          </p:grpSpPr>
          <p:grpSp>
            <p:nvGrpSpPr>
              <p:cNvPr id="573" name=""/>
              <p:cNvGrpSpPr/>
              <p:nvPr/>
            </p:nvGrpSpPr>
            <p:grpSpPr>
              <a:xfrm>
                <a:off x="2819520" y="4194000"/>
                <a:ext cx="1523880" cy="1521000"/>
                <a:chOff x="2819520" y="4194000"/>
                <a:chExt cx="1523880" cy="1521000"/>
              </a:xfrm>
            </p:grpSpPr>
            <p:sp>
              <p:nvSpPr>
                <p:cNvPr id="574" name=""/>
                <p:cNvSpPr/>
                <p:nvPr/>
              </p:nvSpPr>
              <p:spPr>
                <a:xfrm>
                  <a:off x="2819520" y="4194000"/>
                  <a:ext cx="1523880" cy="152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9eb0"/>
                    </a:gs>
                    <a:gs pos="100000">
                      <a:srgbClr val="36505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c230a"/>
                    </a:solidFill>
                    <a:latin typeface="Arial"/>
                  </a:endParaRPr>
                </a:p>
              </p:txBody>
            </p:sp>
            <p:sp>
              <p:nvSpPr>
                <p:cNvPr id="575" name="未知"/>
                <p:cNvSpPr/>
                <p:nvPr/>
              </p:nvSpPr>
              <p:spPr>
                <a:xfrm>
                  <a:off x="2993760" y="421920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6a9eb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c230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6" name=""/>
              <p:cNvSpPr/>
              <p:nvPr/>
            </p:nvSpPr>
            <p:spPr>
              <a:xfrm>
                <a:off x="2895840" y="492408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819520" y="5703840"/>
                <a:ext cx="1454040" cy="4888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</p:grpSp>
        <p:sp>
          <p:nvSpPr>
            <p:cNvPr id="578" name=""/>
            <p:cNvSpPr/>
            <p:nvPr/>
          </p:nvSpPr>
          <p:spPr>
            <a:xfrm>
              <a:off x="2438280" y="1558800"/>
              <a:ext cx="4419720" cy="57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6600"/>
                </a:gs>
                <a:gs pos="50000">
                  <a:srgbClr val="f1d8c0"/>
                </a:gs>
                <a:gs pos="100000">
                  <a:srgbClr val="cc6600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c230a"/>
                  </a:solidFill>
                  <a:latin typeface="Verdana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656160" y="293040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3c230a"/>
                </a:solidFill>
                <a:latin typeface="Arial"/>
              </a:endParaRPr>
            </a:p>
          </p:txBody>
        </p:sp>
        <p:grpSp>
          <p:nvGrpSpPr>
            <p:cNvPr id="580" name=""/>
            <p:cNvGrpSpPr/>
            <p:nvPr/>
          </p:nvGrpSpPr>
          <p:grpSpPr>
            <a:xfrm>
              <a:off x="914400" y="4194000"/>
              <a:ext cx="1486080" cy="1898640"/>
              <a:chOff x="914400" y="4194000"/>
              <a:chExt cx="1486080" cy="1898640"/>
            </a:xfrm>
          </p:grpSpPr>
          <p:sp>
            <p:nvSpPr>
              <p:cNvPr id="581" name=""/>
              <p:cNvSpPr/>
              <p:nvPr/>
            </p:nvSpPr>
            <p:spPr>
              <a:xfrm>
                <a:off x="1066680" y="5703840"/>
                <a:ext cx="1206720" cy="38880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grpSp>
            <p:nvGrpSpPr>
              <p:cNvPr id="582" name=""/>
              <p:cNvGrpSpPr/>
              <p:nvPr/>
            </p:nvGrpSpPr>
            <p:grpSpPr>
              <a:xfrm>
                <a:off x="914400" y="4194000"/>
                <a:ext cx="1486080" cy="1514520"/>
                <a:chOff x="914400" y="4194000"/>
                <a:chExt cx="1486080" cy="1514520"/>
              </a:xfrm>
            </p:grpSpPr>
            <p:grpSp>
              <p:nvGrpSpPr>
                <p:cNvPr id="583" name=""/>
                <p:cNvGrpSpPr/>
                <p:nvPr/>
              </p:nvGrpSpPr>
              <p:grpSpPr>
                <a:xfrm>
                  <a:off x="914400" y="4194000"/>
                  <a:ext cx="1486080" cy="1514520"/>
                  <a:chOff x="914400" y="4194000"/>
                  <a:chExt cx="1486080" cy="1514520"/>
                </a:xfrm>
              </p:grpSpPr>
              <p:sp>
                <p:nvSpPr>
                  <p:cNvPr id="584" name=""/>
                  <p:cNvSpPr/>
                  <p:nvPr/>
                </p:nvSpPr>
                <p:spPr>
                  <a:xfrm>
                    <a:off x="914400" y="4194000"/>
                    <a:ext cx="1486080" cy="1514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100000">
                        <a:srgbClr val="814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c230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未知"/>
                  <p:cNvSpPr/>
                  <p:nvPr/>
                </p:nvSpPr>
                <p:spPr>
                  <a:xfrm>
                    <a:off x="1084320" y="4218840"/>
                    <a:ext cx="1146240" cy="57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c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c230a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6" name=""/>
                <p:cNvSpPr/>
                <p:nvPr/>
              </p:nvSpPr>
              <p:spPr>
                <a:xfrm>
                  <a:off x="1072440" y="4965120"/>
                  <a:ext cx="1157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concept</a:t>
                  </a:r>
                  <a:endParaRPr b="0" lang="en-US" sz="2000" spc="-1" strike="noStrike">
                    <a:solidFill>
                      <a:srgbClr val="3c230a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7" name=""/>
            <p:cNvGrpSpPr/>
            <p:nvPr/>
          </p:nvGrpSpPr>
          <p:grpSpPr>
            <a:xfrm>
              <a:off x="6781680" y="4149720"/>
              <a:ext cx="1523880" cy="1976400"/>
              <a:chOff x="6781680" y="4149720"/>
              <a:chExt cx="1523880" cy="1976400"/>
            </a:xfrm>
          </p:grpSpPr>
          <p:sp>
            <p:nvSpPr>
              <p:cNvPr id="588" name=""/>
              <p:cNvSpPr/>
              <p:nvPr/>
            </p:nvSpPr>
            <p:spPr>
              <a:xfrm>
                <a:off x="6824520" y="5638680"/>
                <a:ext cx="1455840" cy="48744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grpSp>
            <p:nvGrpSpPr>
              <p:cNvPr id="589" name=""/>
              <p:cNvGrpSpPr/>
              <p:nvPr/>
            </p:nvGrpSpPr>
            <p:grpSpPr>
              <a:xfrm>
                <a:off x="6781680" y="4149720"/>
                <a:ext cx="1523880" cy="1531800"/>
                <a:chOff x="6781680" y="4149720"/>
                <a:chExt cx="1523880" cy="1531800"/>
              </a:xfrm>
            </p:grpSpPr>
            <p:grpSp>
              <p:nvGrpSpPr>
                <p:cNvPr id="590" name=""/>
                <p:cNvGrpSpPr/>
                <p:nvPr/>
              </p:nvGrpSpPr>
              <p:grpSpPr>
                <a:xfrm>
                  <a:off x="6781680" y="4149720"/>
                  <a:ext cx="1523880" cy="1531800"/>
                  <a:chOff x="6781680" y="4149720"/>
                  <a:chExt cx="1523880" cy="1531800"/>
                </a:xfrm>
              </p:grpSpPr>
              <p:sp>
                <p:nvSpPr>
                  <p:cNvPr id="591" name=""/>
                  <p:cNvSpPr/>
                  <p:nvPr/>
                </p:nvSpPr>
                <p:spPr>
                  <a:xfrm>
                    <a:off x="6781680" y="4149720"/>
                    <a:ext cx="1523880" cy="1531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36699"/>
                      </a:gs>
                      <a:gs pos="100000">
                        <a:srgbClr val="0c182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c230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未知"/>
                  <p:cNvSpPr/>
                  <p:nvPr/>
                </p:nvSpPr>
                <p:spPr>
                  <a:xfrm>
                    <a:off x="6955920" y="4174920"/>
                    <a:ext cx="1175400" cy="57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33669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c230a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3" name=""/>
                <p:cNvSpPr/>
                <p:nvPr/>
              </p:nvSpPr>
              <p:spPr>
                <a:xfrm>
                  <a:off x="6924600" y="4863600"/>
                  <a:ext cx="1200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Concept</a:t>
                  </a:r>
                  <a:endParaRPr b="0" lang="en-US" sz="2000" spc="-1" strike="noStrike">
                    <a:solidFill>
                      <a:srgbClr val="3c230a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94" name=""/>
            <p:cNvGrpSpPr/>
            <p:nvPr/>
          </p:nvGrpSpPr>
          <p:grpSpPr>
            <a:xfrm>
              <a:off x="4876920" y="4149720"/>
              <a:ext cx="1523880" cy="1998720"/>
              <a:chOff x="4876920" y="4149720"/>
              <a:chExt cx="1523880" cy="1998720"/>
            </a:xfrm>
          </p:grpSpPr>
          <p:sp>
            <p:nvSpPr>
              <p:cNvPr id="595" name=""/>
              <p:cNvSpPr/>
              <p:nvPr/>
            </p:nvSpPr>
            <p:spPr>
              <a:xfrm>
                <a:off x="4876920" y="5659560"/>
                <a:ext cx="1454040" cy="4888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grpSp>
            <p:nvGrpSpPr>
              <p:cNvPr id="596" name=""/>
              <p:cNvGrpSpPr/>
              <p:nvPr/>
            </p:nvGrpSpPr>
            <p:grpSpPr>
              <a:xfrm>
                <a:off x="4876920" y="4149720"/>
                <a:ext cx="1523880" cy="1521000"/>
                <a:chOff x="4876920" y="4149720"/>
                <a:chExt cx="1523880" cy="1521000"/>
              </a:xfrm>
            </p:grpSpPr>
            <p:grpSp>
              <p:nvGrpSpPr>
                <p:cNvPr id="597" name=""/>
                <p:cNvGrpSpPr/>
                <p:nvPr/>
              </p:nvGrpSpPr>
              <p:grpSpPr>
                <a:xfrm>
                  <a:off x="4876920" y="4149720"/>
                  <a:ext cx="1523880" cy="1521000"/>
                  <a:chOff x="4876920" y="4149720"/>
                  <a:chExt cx="1523880" cy="1521000"/>
                </a:xfrm>
              </p:grpSpPr>
              <p:sp>
                <p:nvSpPr>
                  <p:cNvPr id="598" name=""/>
                  <p:cNvSpPr/>
                  <p:nvPr/>
                </p:nvSpPr>
                <p:spPr>
                  <a:xfrm>
                    <a:off x="4876920" y="4149720"/>
                    <a:ext cx="1523880" cy="1521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4c578"/>
                      </a:gs>
                      <a:gs pos="100000">
                        <a:srgbClr val="74643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c230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未知"/>
                  <p:cNvSpPr/>
                  <p:nvPr/>
                </p:nvSpPr>
                <p:spPr>
                  <a:xfrm>
                    <a:off x="5051160" y="4174920"/>
                    <a:ext cx="1175400" cy="5738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e4c57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c230a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0" name=""/>
                <p:cNvSpPr/>
                <p:nvPr/>
              </p:nvSpPr>
              <p:spPr>
                <a:xfrm>
                  <a:off x="4953240" y="4879800"/>
                  <a:ext cx="1371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Concept</a:t>
                  </a:r>
                  <a:endParaRPr b="0" lang="en-US" sz="2000" spc="-1" strike="noStrike">
                    <a:solidFill>
                      <a:srgbClr val="3c230a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 txBox="1"/>
          <p:nvPr/>
        </p:nvSpPr>
        <p:spPr>
          <a:xfrm>
            <a:off x="1066680" y="609480"/>
            <a:ext cx="5881680" cy="72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6a9eb0"/>
                    </a:gs>
                    <a:gs pos="100000">
                      <a:srgbClr val="e4c578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dddddd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6a9eb0"/>
                  </a:gs>
                  <a:gs pos="100000">
                    <a:srgbClr val="e4c578"/>
                  </a:gs>
                </a:gsLst>
                <a:lin ang="10800000"/>
              </a:gradFill>
              <a:effectLst>
                <a:outerShdw dist="53966" dir="2700000" blurRad="0" rotWithShape="0">
                  <a:srgbClr val="ddddd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ubTitle"/>
          </p:nvPr>
        </p:nvSpPr>
        <p:spPr>
          <a:xfrm>
            <a:off x="2068560" y="1447920"/>
            <a:ext cx="521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e4c578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666520" y="50292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c230a"/>
                </a:solidFill>
                <a:latin typeface="Arial"/>
                <a:ea typeface="宋体"/>
              </a:rPr>
              <a:t>Hot Tip</a:t>
            </a: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77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a9eb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230a"/>
                </a:solidFill>
                <a:latin typeface="Verdana"/>
                <a:ea typeface="宋体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ffffe7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e7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4c5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宋体"/>
              </a:rPr>
              <a:t>On the </a:t>
            </a:r>
            <a:r>
              <a:rPr b="0" lang="en-US" sz="2400" spc="-1" strike="noStrike">
                <a:solidFill>
                  <a:srgbClr val="6a9eb0"/>
                </a:solidFill>
                <a:latin typeface="Arial"/>
                <a:ea typeface="宋体"/>
              </a:rPr>
              <a:t>[View]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宋体"/>
              </a:rPr>
              <a:t> menu, point to </a:t>
            </a:r>
            <a:r>
              <a:rPr b="0" lang="en-US" sz="2400" spc="-1" strike="noStrike">
                <a:solidFill>
                  <a:srgbClr val="6a9eb0"/>
                </a:solidFill>
                <a:latin typeface="Arial"/>
                <a:ea typeface="宋体"/>
              </a:rPr>
              <a:t>[Master],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宋体"/>
              </a:rPr>
              <a:t> and then click </a:t>
            </a:r>
            <a:r>
              <a:rPr b="0" lang="en-US" sz="2400" spc="-1" strike="noStrike">
                <a:solidFill>
                  <a:srgbClr val="6a9eb0"/>
                </a:solidFill>
                <a:latin typeface="Arial"/>
                <a:ea typeface="宋体"/>
              </a:rPr>
              <a:t>[Slide Master]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宋体"/>
              </a:rPr>
              <a:t> or </a:t>
            </a:r>
            <a:r>
              <a:rPr b="0" lang="en-US" sz="2400" spc="-1" strike="noStrike">
                <a:solidFill>
                  <a:srgbClr val="6a9eb0"/>
                </a:solidFill>
                <a:latin typeface="Arial"/>
                <a:ea typeface="宋体"/>
              </a:rPr>
              <a:t>[Notes Master].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3c230a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宋体"/>
              </a:rPr>
              <a:t>   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宋体"/>
              </a:rPr>
              <a:t>Change images to the one you like, then it will apply to all the other slides.</a:t>
            </a:r>
            <a:r>
              <a:rPr b="0" lang="en-US" sz="2400" spc="-1" strike="noStrike">
                <a:solidFill>
                  <a:srgbClr val="3c230a"/>
                </a:solidFill>
                <a:latin typeface="Arial"/>
                <a:ea typeface="宋体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3c23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666520" y="50292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c230a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3c230a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143000" y="3171960"/>
            <a:ext cx="2286000" cy="2666880"/>
            <a:chOff x="1143000" y="3171960"/>
            <a:chExt cx="2286000" cy="2666880"/>
          </a:xfrm>
        </p:grpSpPr>
        <p:sp>
          <p:nvSpPr>
            <p:cNvPr id="115" name=""/>
            <p:cNvSpPr/>
            <p:nvPr/>
          </p:nvSpPr>
          <p:spPr>
            <a:xfrm>
              <a:off x="114300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3c23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384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3c230a"/>
                </a:solidFill>
                <a:latin typeface="Arial"/>
              </a:endParaRPr>
            </a:p>
          </p:txBody>
        </p:sp>
      </p:grpSp>
      <p:sp>
        <p:nvSpPr>
          <p:cNvPr id="117" name="未知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d9d5c"/>
              </a:gs>
              <a:gs pos="100000">
                <a:srgbClr val="cc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c230a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3048120" y="1447920"/>
            <a:ext cx="2998440" cy="1601280"/>
            <a:chOff x="3048120" y="1447920"/>
            <a:chExt cx="2998440" cy="1601280"/>
          </a:xfrm>
        </p:grpSpPr>
        <p:grpSp>
          <p:nvGrpSpPr>
            <p:cNvPr id="119" name=""/>
            <p:cNvGrpSpPr/>
            <p:nvPr/>
          </p:nvGrpSpPr>
          <p:grpSpPr>
            <a:xfrm>
              <a:off x="3048120" y="1447920"/>
              <a:ext cx="2998440" cy="1601280"/>
              <a:chOff x="3048120" y="1447920"/>
              <a:chExt cx="2998440" cy="1601280"/>
            </a:xfrm>
          </p:grpSpPr>
          <p:grpSp>
            <p:nvGrpSpPr>
              <p:cNvPr id="120" name=""/>
              <p:cNvGrpSpPr/>
              <p:nvPr/>
            </p:nvGrpSpPr>
            <p:grpSpPr>
              <a:xfrm>
                <a:off x="3048120" y="1590840"/>
                <a:ext cx="2998440" cy="1458360"/>
                <a:chOff x="3048120" y="1590840"/>
                <a:chExt cx="2998440" cy="145836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3080880" y="163728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4c55"/>
                    </a:gs>
                    <a:gs pos="100000">
                      <a:srgbClr val="6a9eb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c230a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3048120" y="159084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9eb0"/>
                    </a:gs>
                    <a:gs pos="100000">
                      <a:srgbClr val="bcd3db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c230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3" name=""/>
              <p:cNvSpPr/>
              <p:nvPr/>
            </p:nvSpPr>
            <p:spPr>
              <a:xfrm>
                <a:off x="3189240" y="144792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e4c578"/>
                  </a:gs>
                  <a:gs pos="100000">
                    <a:srgbClr val="695a3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224160" y="145584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f4e9cf"/>
                  </a:gs>
                  <a:gs pos="100000">
                    <a:srgbClr val="e4c578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251160" y="146844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e4c578">
                      <a:alpha val="48235"/>
                    </a:srgbClr>
                  </a:gs>
                  <a:gs pos="100000">
                    <a:srgbClr val="b39b5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382920" y="149544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e4c578">
                      <a:alpha val="38039"/>
                    </a:srgbClr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3882960" y="164808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3c230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3c230a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5562720" y="3171960"/>
            <a:ext cx="2286000" cy="2666880"/>
            <a:chOff x="5562720" y="3171960"/>
            <a:chExt cx="2286000" cy="2666880"/>
          </a:xfrm>
        </p:grpSpPr>
        <p:sp>
          <p:nvSpPr>
            <p:cNvPr id="129" name=""/>
            <p:cNvSpPr/>
            <p:nvPr/>
          </p:nvSpPr>
          <p:spPr>
            <a:xfrm>
              <a:off x="556272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3c23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7150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3c230a"/>
                </a:solidFill>
                <a:latin typeface="Arial"/>
              </a:endParaRPr>
            </a:p>
          </p:txBody>
        </p:sp>
      </p:grpSp>
      <p:sp>
        <p:nvSpPr>
          <p:cNvPr id="131" name="未知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edfe5"/>
              </a:gs>
              <a:gs pos="100000">
                <a:srgbClr val="6a9eb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c23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666520" y="50292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c230a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3c230a"/>
                </a:solidFill>
                <a:latin typeface="Arial"/>
                <a:ea typeface="宋体"/>
              </a:rPr>
              <a:t>Cycle Diagram</a:t>
            </a: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762120" y="1722240"/>
            <a:ext cx="6956640" cy="4583520"/>
            <a:chOff x="762120" y="1722240"/>
            <a:chExt cx="6956640" cy="4583520"/>
          </a:xfrm>
        </p:grpSpPr>
        <p:sp>
          <p:nvSpPr>
            <p:cNvPr id="134" name="未知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3f3f3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6a9eb0"/>
                </a:gs>
                <a:gs pos="100000">
                  <a:srgbClr val="24363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e4c578"/>
                </a:gs>
                <a:gs pos="100000">
                  <a:srgbClr val="473d2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482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e4e4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336699"/>
                </a:gs>
                <a:gs pos="100000">
                  <a:srgbClr val="11233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766160" y="374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69800" y="242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67944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087160" y="466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577600" y="5202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c230a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3c230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cxnSp>
          <p:nvCxnSpPr>
            <p:cNvPr id="147" name="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3c230a"/>
              </a:solidFill>
              <a:miter/>
            </a:ln>
          </p:spPr>
        </p:cxnSp>
        <p:sp>
          <p:nvSpPr>
            <p:cNvPr id="148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c230a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3c230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666520" y="50292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c230a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51" name="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2f46"/>
                </a:gs>
                <a:gs pos="50000">
                  <a:srgbClr val="336699"/>
                </a:gs>
                <a:gs pos="100000">
                  <a:srgbClr val="172f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2f46"/>
                </a:gs>
                <a:gs pos="50000">
                  <a:srgbClr val="336699"/>
                </a:gs>
                <a:gs pos="100000">
                  <a:srgbClr val="172f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2f46"/>
                </a:gs>
                <a:gs pos="50000">
                  <a:srgbClr val="336699"/>
                </a:gs>
                <a:gs pos="100000">
                  <a:srgbClr val="172f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656565">
                    <a:alpha val="12156"/>
                  </a:srgbClr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3c23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3c230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3c230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3c230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3c230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3c23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3c230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3c230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3c230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3c230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56565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695a37"/>
                </a:gs>
                <a:gs pos="50000">
                  <a:srgbClr val="e4c578"/>
                </a:gs>
                <a:gs pos="100000">
                  <a:srgbClr val="695a3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8e8e8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304851"/>
                </a:gs>
                <a:gs pos="50000">
                  <a:srgbClr val="6a9eb0"/>
                </a:gs>
                <a:gs pos="100000">
                  <a:srgbClr val="3048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8e8e8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666520" y="50292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c230a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sp>
          <p:nvSpPr>
            <p:cNvPr id="171" name=""/>
            <p:cNvSpPr/>
            <p:nvPr/>
          </p:nvSpPr>
          <p:spPr>
            <a:xfrm flipH="1" rot="16200000">
              <a:off x="2919960" y="3251880"/>
              <a:ext cx="460440" cy="2966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eac29a"/>
                </a:gs>
                <a:gs pos="100000">
                  <a:srgbClr val="cc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rot="5400000">
              <a:off x="5524200" y="3201480"/>
              <a:ext cx="459000" cy="2966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eac29a"/>
                </a:gs>
                <a:gs pos="100000">
                  <a:srgbClr val="cc66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rot="10800000">
              <a:off x="4238640" y="4609800"/>
              <a:ext cx="442800" cy="30636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eac29a"/>
                </a:gs>
                <a:gs pos="100000">
                  <a:srgbClr val="cc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306600" y="2209680"/>
              <a:ext cx="2325960" cy="24004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438360" y="2344680"/>
              <a:ext cx="2060640" cy="212544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60760" y="2471760"/>
              <a:ext cx="1816200" cy="18777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a9eb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560760" y="2471760"/>
              <a:ext cx="1816200" cy="187776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679920" y="2595600"/>
              <a:ext cx="1577880" cy="1631880"/>
            </a:xfrm>
            <a:prstGeom prst="ellipse">
              <a:avLst/>
            </a:prstGeom>
            <a:gradFill rotWithShape="0">
              <a:gsLst>
                <a:gs pos="0">
                  <a:srgbClr val="39555e"/>
                </a:gs>
                <a:gs pos="50000">
                  <a:srgbClr val="6a9eb0"/>
                </a:gs>
                <a:gs pos="100000">
                  <a:srgbClr val="39555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679920" y="2595600"/>
              <a:ext cx="1577880" cy="163188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143000" y="3708360"/>
              <a:ext cx="1658880" cy="569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2f46"/>
                </a:gs>
                <a:gs pos="50000">
                  <a:srgbClr val="336699"/>
                </a:gs>
                <a:gs pos="100000">
                  <a:srgbClr val="172f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43000" y="3208320"/>
              <a:ext cx="1658880" cy="5713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2f46"/>
                </a:gs>
                <a:gs pos="50000">
                  <a:srgbClr val="336699"/>
                </a:gs>
                <a:gs pos="100000">
                  <a:srgbClr val="172f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143000" y="2709720"/>
              <a:ext cx="1658880" cy="569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2f46"/>
                </a:gs>
                <a:gs pos="50000">
                  <a:srgbClr val="336699"/>
                </a:gs>
                <a:gs pos="100000">
                  <a:srgbClr val="172f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119640" y="3708360"/>
              <a:ext cx="1729080" cy="569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95a37"/>
                </a:gs>
                <a:gs pos="50000">
                  <a:srgbClr val="e4c578"/>
                </a:gs>
                <a:gs pos="100000">
                  <a:srgbClr val="695a3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19640" y="3208320"/>
              <a:ext cx="1729080" cy="5713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95a37"/>
                </a:gs>
                <a:gs pos="50000">
                  <a:srgbClr val="e4c578"/>
                </a:gs>
                <a:gs pos="100000">
                  <a:srgbClr val="695a3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19640" y="2709720"/>
              <a:ext cx="1729080" cy="569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95a37"/>
                </a:gs>
                <a:gs pos="50000">
                  <a:srgbClr val="e4c578"/>
                </a:gs>
                <a:gs pos="100000">
                  <a:srgbClr val="695a3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7604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703600" y="5062320"/>
              <a:ext cx="3524040" cy="50004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3c23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c230a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5876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87600" y="3355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587600" y="3854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685200" y="3355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685200" y="3854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666520" y="50292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c230a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3c230a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872640" y="2276640"/>
            <a:ext cx="7544160" cy="3352680"/>
            <a:chOff x="872640" y="2276640"/>
            <a:chExt cx="7544160" cy="3352680"/>
          </a:xfrm>
        </p:grpSpPr>
        <p:sp>
          <p:nvSpPr>
            <p:cNvPr id="196" name=""/>
            <p:cNvSpPr/>
            <p:nvPr/>
          </p:nvSpPr>
          <p:spPr>
            <a:xfrm flipH="1">
              <a:off x="873000" y="5621400"/>
              <a:ext cx="1657440" cy="1800"/>
            </a:xfrm>
            <a:prstGeom prst="line">
              <a:avLst/>
            </a:prstGeom>
            <a:ln w="9360">
              <a:solidFill>
                <a:srgbClr val="3c23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872640" y="4783320"/>
              <a:ext cx="2438280" cy="0"/>
            </a:xfrm>
            <a:prstGeom prst="line">
              <a:avLst/>
            </a:prstGeom>
            <a:ln w="9360">
              <a:solidFill>
                <a:srgbClr val="3c23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872640" y="3953160"/>
              <a:ext cx="3352680" cy="0"/>
            </a:xfrm>
            <a:prstGeom prst="line">
              <a:avLst/>
            </a:prstGeom>
            <a:ln w="9360">
              <a:solidFill>
                <a:srgbClr val="3c23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872640" y="3124440"/>
              <a:ext cx="4165560" cy="0"/>
            </a:xfrm>
            <a:prstGeom prst="line">
              <a:avLst/>
            </a:prstGeom>
            <a:ln w="9360">
              <a:solidFill>
                <a:srgbClr val="3c23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872640" y="2283120"/>
              <a:ext cx="5033880" cy="0"/>
            </a:xfrm>
            <a:prstGeom prst="line">
              <a:avLst/>
            </a:prstGeom>
            <a:ln w="9360">
              <a:solidFill>
                <a:srgbClr val="3c23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25280" y="2276640"/>
              <a:ext cx="0" cy="871560"/>
            </a:xfrm>
            <a:prstGeom prst="line">
              <a:avLst/>
            </a:prstGeom>
            <a:ln w="9360">
              <a:solidFill>
                <a:srgbClr val="3c230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025280" y="3148200"/>
              <a:ext cx="0" cy="817560"/>
            </a:xfrm>
            <a:prstGeom prst="line">
              <a:avLst/>
            </a:prstGeom>
            <a:ln w="9360">
              <a:solidFill>
                <a:srgbClr val="3c230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25280" y="3965760"/>
              <a:ext cx="0" cy="816120"/>
            </a:xfrm>
            <a:prstGeom prst="line">
              <a:avLst/>
            </a:prstGeom>
            <a:ln w="9360">
              <a:solidFill>
                <a:srgbClr val="3c230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025280" y="4783320"/>
              <a:ext cx="0" cy="816120"/>
            </a:xfrm>
            <a:prstGeom prst="line">
              <a:avLst/>
            </a:prstGeom>
            <a:ln w="9360">
              <a:solidFill>
                <a:srgbClr val="3c230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24720" y="2600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c230a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c230a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224720" y="4291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c230a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c230a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3c230a"/>
                </a:solidFill>
                <a:latin typeface="Arial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2590560" y="2286000"/>
              <a:ext cx="5826240" cy="3343320"/>
              <a:chOff x="2590560" y="2286000"/>
              <a:chExt cx="5826240" cy="3343320"/>
            </a:xfrm>
          </p:grpSpPr>
          <p:sp>
            <p:nvSpPr>
              <p:cNvPr id="210" name="未知"/>
              <p:cNvSpPr/>
              <p:nvPr/>
            </p:nvSpPr>
            <p:spPr>
              <a:xfrm>
                <a:off x="7833960" y="2286000"/>
                <a:ext cx="57636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2f00"/>
                  </a:gs>
                  <a:gs pos="50000">
                    <a:srgbClr val="cc6600"/>
                  </a:gs>
                  <a:gs pos="100000">
                    <a:srgbClr val="5e2f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211" name="未知"/>
              <p:cNvSpPr/>
              <p:nvPr/>
            </p:nvSpPr>
            <p:spPr>
              <a:xfrm>
                <a:off x="5073480" y="2286000"/>
                <a:ext cx="3343320" cy="541440"/>
              </a:xfrm>
              <a:custGeom>
                <a:avLst/>
                <a:gdLst/>
                <a:ahLst/>
                <a:rect l="l" t="t" r="r" b="b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212" name="未知"/>
              <p:cNvSpPr/>
              <p:nvPr/>
            </p:nvSpPr>
            <p:spPr>
              <a:xfrm>
                <a:off x="7254720" y="311796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04851"/>
                  </a:gs>
                  <a:gs pos="50000">
                    <a:srgbClr val="6a9eb0"/>
                  </a:gs>
                  <a:gs pos="100000">
                    <a:srgbClr val="30485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213" name="未知"/>
              <p:cNvSpPr/>
              <p:nvPr/>
            </p:nvSpPr>
            <p:spPr>
              <a:xfrm>
                <a:off x="4243320" y="3117960"/>
                <a:ext cx="3593880" cy="539640"/>
              </a:xfrm>
              <a:custGeom>
                <a:avLst/>
                <a:gdLst/>
                <a:ahLst/>
                <a:rect l="l" t="t" r="r" b="b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6a9e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214" name="未知"/>
              <p:cNvSpPr/>
              <p:nvPr/>
            </p:nvSpPr>
            <p:spPr>
              <a:xfrm>
                <a:off x="6673680" y="3949560"/>
                <a:ext cx="57312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72f46"/>
                  </a:gs>
                  <a:gs pos="50000">
                    <a:srgbClr val="336699"/>
                  </a:gs>
                  <a:gs pos="100000">
                    <a:srgbClr val="172f4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215" name="未知"/>
              <p:cNvSpPr/>
              <p:nvPr/>
            </p:nvSpPr>
            <p:spPr>
              <a:xfrm>
                <a:off x="6095880" y="4782960"/>
                <a:ext cx="57780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95a37"/>
                  </a:gs>
                  <a:gs pos="50000">
                    <a:srgbClr val="e4c578"/>
                  </a:gs>
                  <a:gs pos="100000">
                    <a:srgbClr val="695a3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216" name="未知"/>
              <p:cNvSpPr/>
              <p:nvPr/>
            </p:nvSpPr>
            <p:spPr>
              <a:xfrm>
                <a:off x="2592000" y="4788000"/>
                <a:ext cx="4081680" cy="539640"/>
              </a:xfrm>
              <a:custGeom>
                <a:avLst/>
                <a:gdLst/>
                <a:ahLst/>
                <a:rect l="l" t="t" r="r" b="b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e4c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217" name="未知"/>
              <p:cNvSpPr/>
              <p:nvPr/>
            </p:nvSpPr>
            <p:spPr>
              <a:xfrm>
                <a:off x="3184200" y="2440080"/>
                <a:ext cx="1838520" cy="272232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008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079600" y="2827440"/>
                <a:ext cx="2767320" cy="304560"/>
              </a:xfrm>
              <a:prstGeom prst="rect">
                <a:avLst/>
              </a:prstGeom>
              <a:gradFill rotWithShape="0">
                <a:gsLst>
                  <a:gs pos="0">
                    <a:srgbClr val="934900"/>
                  </a:gs>
                  <a:gs pos="50000">
                    <a:srgbClr val="cc6600"/>
                  </a:gs>
                  <a:gs pos="100000">
                    <a:srgbClr val="9349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4c727f"/>
                  </a:gs>
                  <a:gs pos="50000">
                    <a:srgbClr val="6a9eb0"/>
                  </a:gs>
                  <a:gs pos="100000">
                    <a:srgbClr val="4c727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220" name="未知"/>
              <p:cNvSpPr/>
              <p:nvPr/>
            </p:nvSpPr>
            <p:spPr>
              <a:xfrm>
                <a:off x="3419280" y="3949560"/>
                <a:ext cx="3833640" cy="544680"/>
              </a:xfrm>
              <a:custGeom>
                <a:avLst/>
                <a:gdLst/>
                <a:ahLst/>
                <a:rect l="l" t="t" r="r" b="b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422520" y="4492800"/>
                <a:ext cx="3263760" cy="298440"/>
              </a:xfrm>
              <a:prstGeom prst="rect">
                <a:avLst/>
              </a:prstGeom>
              <a:gradFill rotWithShape="0">
                <a:gsLst>
                  <a:gs pos="0">
                    <a:srgbClr val="24496e"/>
                  </a:gs>
                  <a:gs pos="50000">
                    <a:srgbClr val="336699"/>
                  </a:gs>
                  <a:gs pos="100000">
                    <a:srgbClr val="24496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590560" y="5329080"/>
                <a:ext cx="3513240" cy="297000"/>
              </a:xfrm>
              <a:prstGeom prst="rect">
                <a:avLst/>
              </a:prstGeom>
              <a:gradFill rotWithShape="0">
                <a:gsLst>
                  <a:gs pos="0">
                    <a:srgbClr val="a48e56"/>
                  </a:gs>
                  <a:gs pos="50000">
                    <a:srgbClr val="e4c578"/>
                  </a:gs>
                  <a:gs pos="100000">
                    <a:srgbClr val="a48e5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666520" y="50292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c230a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914400" y="1219320"/>
            <a:ext cx="7315200" cy="5018760"/>
            <a:chOff x="914400" y="1219320"/>
            <a:chExt cx="7315200" cy="5018760"/>
          </a:xfrm>
        </p:grpSpPr>
        <p:sp>
          <p:nvSpPr>
            <p:cNvPr id="225" name="未知"/>
            <p:cNvSpPr/>
            <p:nvPr/>
          </p:nvSpPr>
          <p:spPr>
            <a:xfrm>
              <a:off x="5073480" y="1219320"/>
              <a:ext cx="1467000" cy="1155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6a9eb0"/>
                </a:gs>
                <a:gs pos="100000">
                  <a:srgbClr val="76a6b6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424320" y="265248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57600" y="251424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e2f00"/>
                </a:gs>
                <a:gs pos="50000">
                  <a:srgbClr val="cc6600"/>
                </a:gs>
                <a:gs pos="100000">
                  <a:srgbClr val="5e2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5333400" y="2590560"/>
              <a:ext cx="7308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3742560" y="2581200"/>
              <a:ext cx="7164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934240" y="2151000"/>
              <a:ext cx="2295360" cy="315540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400"/>
                <a:gd name="textAreaBottom" fmla="*/ 3124080 h 3155400"/>
              </a:gdLst>
              <a:ahLst/>
              <a:rect l="textAreaLeft" t="textAreaTop" r="textAreaRight" b="textAreaBottom"/>
              <a:pathLst>
                <a:path w="21600" h="29692">
                  <a:moveTo>
                    <a:pt x="1013" y="0"/>
                  </a:moveTo>
                  <a:arcTo wR="1013" hR="1013" stAng="16200000" swAng="-5400000"/>
                  <a:lnTo>
                    <a:pt x="0" y="28679"/>
                  </a:lnTo>
                  <a:arcTo wR="1013" hR="1013" stAng="10800000" swAng="-5400000"/>
                  <a:lnTo>
                    <a:pt x="20587" y="29692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6a9e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149880" y="200808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04851"/>
                </a:gs>
                <a:gs pos="50000">
                  <a:srgbClr val="6a9eb0"/>
                </a:gs>
                <a:gs pos="100000">
                  <a:srgbClr val="3048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7835040" y="2079360"/>
              <a:ext cx="7164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6253200" y="2079360"/>
              <a:ext cx="7128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234" name="未知"/>
            <p:cNvSpPr/>
            <p:nvPr/>
          </p:nvSpPr>
          <p:spPr>
            <a:xfrm>
              <a:off x="2492280" y="1720440"/>
              <a:ext cx="1467000" cy="11570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88a6c3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913200" y="248580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427800" y="19904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3c230a"/>
                </a:solidFill>
                <a:latin typeface="Arial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914400" y="2914560"/>
              <a:ext cx="2295360" cy="3323520"/>
              <a:chOff x="914400" y="2914560"/>
              <a:chExt cx="2295360" cy="3323520"/>
            </a:xfrm>
          </p:grpSpPr>
          <p:sp>
            <p:nvSpPr>
              <p:cNvPr id="238" name=""/>
              <p:cNvSpPr/>
              <p:nvPr/>
            </p:nvSpPr>
            <p:spPr>
              <a:xfrm>
                <a:off x="914400" y="3082320"/>
                <a:ext cx="2295360" cy="3155760"/>
              </a:xfrm>
              <a:custGeom>
                <a:avLst/>
                <a:gdLst>
                  <a:gd name="textAreaLeft" fmla="*/ 31320 w 2295360"/>
                  <a:gd name="textAreaRight" fmla="*/ 2264040 w 2295360"/>
                  <a:gd name="textAreaTop" fmla="*/ 31320 h 3155760"/>
                  <a:gd name="textAreaBottom" fmla="*/ 3124440 h 3155760"/>
                </a:gdLst>
                <a:ahLst/>
                <a:rect l="textAreaLeft" t="textAreaTop" r="textAreaRight" b="textAreaBottom"/>
                <a:pathLst>
                  <a:path w="21600" h="29695">
                    <a:moveTo>
                      <a:pt x="1013" y="0"/>
                    </a:moveTo>
                    <a:arcTo wR="1013" hR="1013" stAng="16200000" swAng="-5400000"/>
                    <a:lnTo>
                      <a:pt x="0" y="28682"/>
                    </a:lnTo>
                    <a:arcTo wR="1013" hR="1013" stAng="10800000" swAng="-5400000"/>
                    <a:lnTo>
                      <a:pt x="20587" y="29695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130400" y="2939760"/>
                <a:ext cx="1863720" cy="286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13273b"/>
                  </a:gs>
                  <a:gs pos="50000">
                    <a:srgbClr val="336699"/>
                  </a:gs>
                  <a:gs pos="100000">
                    <a:srgbClr val="13273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2813760" y="3011040"/>
                <a:ext cx="7164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1231200" y="3011040"/>
                <a:ext cx="7308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398600" y="2914560"/>
                <a:ext cx="131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dd Your Title</a:t>
                </a:r>
                <a:endParaRPr b="0" lang="en-US" sz="14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990720" y="3342960"/>
                <a:ext cx="213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</p:grpSp>
        <p:sp>
          <p:nvSpPr>
            <p:cNvPr id="244" name=""/>
            <p:cNvSpPr/>
            <p:nvPr/>
          </p:nvSpPr>
          <p:spPr>
            <a:xfrm>
              <a:off x="3505320" y="288576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019920" y="235260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0:51:38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40:22Z</dcterms:modified>
  <cp:revision>2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