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93B1-C484-4B9C-90AB-8128CFCFF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81E4-7F93-4897-8D20-A7544D783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54C6-5BED-46A1-A2DB-31BF5C0F9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04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96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04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96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5B6E-49BB-48DD-BECC-B1CCB5BD2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85840" y="1371600"/>
            <a:ext cx="4876920" cy="151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B917-F0BA-4BA6-99D5-5F8C13F42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3904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2596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3904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2596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EEC5-37D9-4190-9D01-242571EA4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6843-BA3C-4240-AA6D-5EB7D2FBD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8154-88C9-4AFA-9570-2D339F98A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5840" y="1371600"/>
            <a:ext cx="4876920" cy="151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DD3B-F934-421F-9475-5942C8F96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AADB-7A31-42F9-8271-71091C786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C5AB-0734-41AB-8AAE-87E39BBBF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56E1-8A7A-45A0-8A29-CAC1DD097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9698d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698d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29698d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014B-3151-408E-A0BA-FB72DD7542F4}" type="slidenum">
              <a:rPr b="1" lang="zh-CN" sz="1400" spc="-1" strike="noStrike">
                <a:solidFill>
                  <a:srgbClr val="29698d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" b="0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2969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969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14800" y="1066320"/>
            <a:ext cx="4572000" cy="3048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  <a:ea typeface="宋体"/>
              </a:rPr>
              <a:t>PowerPoint </a:t>
            </a:r>
            <a:r>
              <a:rPr b="1" lang="en-US" sz="6000" spc="-1" strike="noStrike">
                <a:solidFill>
                  <a:srgbClr val="ffffcc"/>
                </a:solidFill>
                <a:latin typeface="Verdana"/>
                <a:ea typeface="宋体"/>
              </a:rPr>
              <a:t>Template</a:t>
            </a:r>
            <a:endParaRPr b="1" lang="en-US" sz="6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63280" y="5661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计算机网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310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698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969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5200"/>
                </a:gs>
                <a:gs pos="50000">
                  <a:srgbClr val="669900"/>
                </a:gs>
                <a:gs pos="100000">
                  <a:srgbClr val="36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0"/>
                  </a:srgbClr>
                </a:gs>
                <a:gs pos="100000">
                  <a:srgbClr val="40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83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1f2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9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6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3" name="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6e1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5200"/>
                </a:gs>
                <a:gs pos="50000">
                  <a:srgbClr val="669900"/>
                </a:gs>
                <a:gs pos="100000">
                  <a:srgbClr val="36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0"/>
                  </a:srgbClr>
                </a:gs>
                <a:gs pos="100000">
                  <a:srgbClr val="40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3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5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2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0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79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0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396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399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7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cxnSp>
            <p:nvCxnSpPr>
              <p:cNvPr id="481" name=""/>
              <p:cNvCxnSpPr>
                <a:stCxn id="477" idx="3"/>
                <a:endCxn id="47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"/>
              <p:cNvCxnSpPr>
                <a:stCxn id="478" idx="3"/>
                <a:endCxn id="47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3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6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88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a8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e2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3c6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3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b445"/>
                  </a:gs>
                  <a:gs pos="100000">
                    <a:srgbClr val="6699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00">
                      <a:alpha val="0"/>
                    </a:srgbClr>
                  </a:gs>
                  <a:gs pos="100000">
                    <a:srgbClr val="bdd2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2969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0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fc5c6"/>
                  </a:gs>
                  <a:gs pos="100000">
                    <a:srgbClr val="83a6a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c1d2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6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35200" y="2316240"/>
          <a:ext cx="7397640" cy="30589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9698d"/>
                      </a:solidFill>
                    </a:lnR>
                    <a:lnT>
                      <a:noFill/>
                    </a:lnT>
                    <a:lnB w="5760">
                      <a:solidFill>
                        <a:srgbClr val="2969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3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dfd"/>
                </a:gs>
                <a:gs pos="100000">
                  <a:srgbClr val="d6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35758"/>
                </a:gs>
                <a:gs pos="50000">
                  <a:srgbClr val="d6e1e2"/>
                </a:gs>
                <a:gs pos="100000">
                  <a:srgbClr val="5357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8ba54"/>
                </a:gs>
                <a:gs pos="100000">
                  <a:srgbClr val="6699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5c7b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8a5300"/>
                </a:gs>
                <a:gs pos="100000">
                  <a:srgbClr val="ff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50000">
                  <a:srgbClr val="f4f6f6"/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5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3a6a7"/>
                  </a:gs>
                  <a:gs pos="100000">
                    <a:srgbClr val="4f64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100000">
                    <a:srgbClr val="83a6a7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100000">
                    <a:srgbClr val="83a6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969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4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0e5f1"/>
                </a:gs>
                <a:gs pos="100000">
                  <a:srgbClr val="0099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a16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3a6a7"/>
                      </a:gs>
                      <a:gs pos="100000">
                        <a:srgbClr val="1f28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3a6a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9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584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e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3920" y="16164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7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2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dde8c8"/>
                </a:gs>
                <a:gs pos="100000">
                  <a:srgbClr val="6699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6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a6a7"/>
                </a:gs>
                <a:gs pos="50000">
                  <a:srgbClr val="e3ebeb"/>
                </a:gs>
                <a:gs pos="100000">
                  <a:srgbClr val="83a6a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3a6a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69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F61D-5812-4BBB-AD6B-AA08EA6E17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890720" y="251460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6e1e2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d6e1e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52352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0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11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5c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4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4a00"/>
                    </a:gs>
                    <a:gs pos="100000">
                      <a:srgbClr val="66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bad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126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ad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6e1e2"/>
                </a:gs>
                <a:gs pos="100000">
                  <a:srgbClr val="f1f4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33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a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4c4f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969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9698d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26768">
                    <a:alpha val="12156"/>
                  </a:srgbClr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62676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e4ebe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4ebeb">
                    <a:alpha val="12156"/>
                  </a:srgbClr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6" name=""/>
            <p:cNvGrpSpPr/>
            <p:nvPr/>
          </p:nvGrpSpPr>
          <p:grpSpPr>
            <a:xfrm>
              <a:off x="3008520" y="2209680"/>
              <a:ext cx="2900520" cy="2706120"/>
              <a:chOff x="3008520" y="2209680"/>
              <a:chExt cx="2900520" cy="2706120"/>
            </a:xfrm>
          </p:grpSpPr>
          <p:sp>
            <p:nvSpPr>
              <p:cNvPr id="167" name=""/>
              <p:cNvSpPr/>
              <p:nvPr/>
            </p:nvSpPr>
            <p:spPr>
              <a:xfrm flipH="1" rot="16200000">
                <a:off x="2926800" y="325224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5400000">
                <a:off x="5530320" y="320148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0800000">
                <a:off x="423936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06240" y="2209680"/>
                <a:ext cx="23317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39440" y="2344680"/>
                <a:ext cx="20646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5200"/>
                  </a:gs>
                  <a:gs pos="50000">
                    <a:srgbClr val="669900"/>
                  </a:gs>
                  <a:gs pos="100000">
                    <a:srgbClr val="365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2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50000">
                    <a:srgbClr val="669900"/>
                  </a:gs>
                  <a:gs pos="100000">
                    <a:srgbClr val="2f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50000">
                    <a:srgbClr val="83a6a7"/>
                  </a:gs>
                  <a:gs pos="100000">
                    <a:srgbClr val="3c4c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6e00"/>
                  </a:gs>
                  <a:gs pos="50000">
                    <a:srgbClr val="ff9900"/>
                  </a:gs>
                  <a:gs pos="100000">
                    <a:srgbClr val="b8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96e00"/>
                  </a:gs>
                  <a:gs pos="50000">
                    <a:srgbClr val="669900"/>
                  </a:gs>
                  <a:gs pos="100000">
                    <a:srgbClr val="49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5e7778"/>
                  </a:gs>
                  <a:gs pos="50000">
                    <a:srgbClr val="83a6a7"/>
                  </a:gs>
                  <a:gs pos="100000">
                    <a:srgbClr val="5e77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1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73a11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b6cac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3a6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24040"/>
                  </a:gs>
                  <a:gs pos="50000">
                    <a:srgbClr val="83a6a7"/>
                  </a:gs>
                  <a:gs pos="100000">
                    <a:srgbClr val="32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6:5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10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