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001C-4CA6-4A72-BAB3-671A3EC7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298C-3665-404D-B94A-2C60B336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F5B-66C0-48BC-8B9C-7612E5D9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5887-B111-4ADA-935B-0F14BC70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8129-3583-4164-BFDF-98783330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BB16-D254-4A7D-A7E7-1430C3A4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79A6-235E-4AA6-B61F-A1CB9266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5A74-0015-4172-8AF3-C9876749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A25E-51BA-42A6-8B73-7A239491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664000" y="260280"/>
            <a:ext cx="47368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E7A6-3C9F-4AF1-9D2B-BF954C0D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A50E-E1C6-4E4A-9D5B-57C8F71E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4A1F-59E7-4E1F-A261-57B2D0B7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B896-B70C-46BE-A1B2-BCF2DB40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8537-A995-4EFC-B1BD-13CFF8F2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2091-7684-4618-88FF-35AB3196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A177-0FCF-4560-AFC5-B09C6819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7133-5878-4C24-9373-A9CB4CA2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E99F-9053-43D4-9818-5C6F066D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B882-E8E4-4F01-9A46-A7AF2E6B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69B7-E24A-489E-9336-A8F455C0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4000" y="260280"/>
            <a:ext cx="47368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4A55-D8E3-4E77-BFA7-8EEC4F01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FFC8-8C49-4FC6-90CC-8CBBA8BC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26A7-3871-4608-B321-683A664F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49ED-76F8-4CC7-91C1-92B9BD46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p_large_SuhC_3379000051671262"/>
          <p:cNvPicPr/>
          <p:nvPr/>
        </p:nvPicPr>
        <p:blipFill>
          <a:blip r:embed="rId2"/>
          <a:stretch/>
        </p:blipFill>
        <p:spPr>
          <a:xfrm>
            <a:off x="7343640" y="0"/>
            <a:ext cx="178128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2"/>
          <p:cNvSpPr/>
          <p:nvPr/>
        </p:nvSpPr>
        <p:spPr>
          <a:xfrm>
            <a:off x="0" y="0"/>
            <a:ext cx="7451640" cy="1052640"/>
          </a:xfrm>
          <a:prstGeom prst="rect">
            <a:avLst/>
          </a:prstGeom>
          <a:gradFill rotWithShape="0">
            <a:gsLst>
              <a:gs pos="0">
                <a:srgbClr val="3790cc"/>
              </a:gs>
              <a:gs pos="100000">
                <a:srgbClr val="0241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519840" y="34596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公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logo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及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E94C-B8F2-4613-9337-CACADF898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1"/>
          <p:cNvGrpSpPr/>
          <p:nvPr/>
        </p:nvGrpSpPr>
        <p:grpSpPr>
          <a:xfrm>
            <a:off x="-592200" y="-33480"/>
            <a:ext cx="9786960" cy="6927840"/>
            <a:chOff x="-592200" y="-33480"/>
            <a:chExt cx="9786960" cy="6927840"/>
          </a:xfrm>
        </p:grpSpPr>
        <p:pic>
          <p:nvPicPr>
            <p:cNvPr id="45" name="Picture 17" descr="p_large_SuhC_3379000051671262"/>
            <p:cNvPicPr/>
            <p:nvPr/>
          </p:nvPicPr>
          <p:blipFill>
            <a:blip r:embed="rId2"/>
            <a:stretch/>
          </p:blipFill>
          <p:spPr>
            <a:xfrm>
              <a:off x="0" y="-27000"/>
              <a:ext cx="9144000" cy="539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Freeform 20"/>
            <p:cNvSpPr/>
            <p:nvPr/>
          </p:nvSpPr>
          <p:spPr>
            <a:xfrm>
              <a:off x="-592200" y="-33480"/>
              <a:ext cx="9786960" cy="5076720"/>
            </a:xfrm>
            <a:custGeom>
              <a:avLst/>
              <a:gdLst/>
              <a:ahLst/>
              <a:rect l="l" t="t" r="r" b="b"/>
              <a:pathLst>
                <a:path w="17904" h="9293">
                  <a:moveTo>
                    <a:pt x="4434" y="0"/>
                  </a:moveTo>
                  <a:lnTo>
                    <a:pt x="1024" y="15"/>
                  </a:lnTo>
                  <a:lnTo>
                    <a:pt x="1055" y="8777"/>
                  </a:lnTo>
                  <a:lnTo>
                    <a:pt x="17904" y="9266"/>
                  </a:lnTo>
                  <a:lnTo>
                    <a:pt x="17904" y="8455"/>
                  </a:lnTo>
                  <a:cubicBezTo>
                    <a:pt x="17904" y="8455"/>
                    <a:pt x="12442" y="9293"/>
                    <a:pt x="7813" y="7936"/>
                  </a:cubicBezTo>
                  <a:cubicBezTo>
                    <a:pt x="3337" y="6640"/>
                    <a:pt x="0" y="3272"/>
                    <a:pt x="44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1313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9"/>
            <p:cNvSpPr/>
            <p:nvPr/>
          </p:nvSpPr>
          <p:spPr>
            <a:xfrm>
              <a:off x="-236520" y="-22320"/>
              <a:ext cx="9431280" cy="6888240"/>
            </a:xfrm>
            <a:custGeom>
              <a:avLst/>
              <a:gdLst/>
              <a:ahLst/>
              <a:rect l="l" t="t" r="r" b="b"/>
              <a:pathLst>
                <a:path w="17254" h="12611">
                  <a:moveTo>
                    <a:pt x="17254" y="8436"/>
                  </a:moveTo>
                  <a:lnTo>
                    <a:pt x="17254" y="12611"/>
                  </a:lnTo>
                  <a:lnTo>
                    <a:pt x="405" y="12595"/>
                  </a:lnTo>
                  <a:lnTo>
                    <a:pt x="395" y="0"/>
                  </a:lnTo>
                  <a:lnTo>
                    <a:pt x="2878" y="0"/>
                  </a:lnTo>
                  <a:cubicBezTo>
                    <a:pt x="2878" y="0"/>
                    <a:pt x="0" y="1639"/>
                    <a:pt x="849" y="4102"/>
                  </a:cubicBezTo>
                  <a:cubicBezTo>
                    <a:pt x="1831" y="6949"/>
                    <a:pt x="9103" y="9747"/>
                    <a:pt x="17254" y="84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8"/>
            <p:cNvSpPr/>
            <p:nvPr/>
          </p:nvSpPr>
          <p:spPr>
            <a:xfrm>
              <a:off x="-15840" y="3295440"/>
              <a:ext cx="9200880" cy="3598920"/>
            </a:xfrm>
            <a:custGeom>
              <a:avLst/>
              <a:gdLst/>
              <a:ahLst/>
              <a:rect l="l" t="t" r="r" b="b"/>
              <a:pathLst>
                <a:path w="16834" h="6590">
                  <a:moveTo>
                    <a:pt x="16834" y="2905"/>
                  </a:moveTo>
                  <a:lnTo>
                    <a:pt x="16834" y="6590"/>
                  </a:lnTo>
                  <a:lnTo>
                    <a:pt x="0" y="6575"/>
                  </a:lnTo>
                  <a:lnTo>
                    <a:pt x="0" y="0"/>
                  </a:lnTo>
                  <a:cubicBezTo>
                    <a:pt x="0" y="0"/>
                    <a:pt x="4403" y="3960"/>
                    <a:pt x="16834" y="290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90cc"/>
                </a:gs>
                <a:gs pos="100000">
                  <a:srgbClr val="024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8B91-0307-4876-8F81-201142CE6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53737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68360" y="6165720"/>
            <a:ext cx="64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6416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95360" y="8100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计算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DE46-01DF-42D3-A84A-40CC3D3BB6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02:26:4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36:58Z</dcterms:modified>
  <cp:revision>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