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4F4-3851-4828-9248-BFA8DE4F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BC61-AFED-49D1-B2DD-7D8DDAF6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1AF-89C6-4179-B85A-B37C3903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BDD3-6E97-4CC6-9FAF-3247FB4A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957-6B6F-451D-8ECA-B311E904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010-C38D-47F9-B45F-ED8595F9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98B3-31EC-4C66-9CA3-C4EC54B5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6B98-C201-443A-87A5-43A15A1A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6775-37F6-444F-8934-A5F3E55E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709-F514-408D-AED9-2CA473A0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776-10E5-4C11-B7D0-439AAC75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0836-70D6-45DD-99A3-05297831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entury Gothic"/>
                <a:ea typeface="方正稚艺简体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BAFA-7EC7-45D3-9754-8705295A58CA}" type="datetime">
              <a:rPr b="0" lang="zh-CN" sz="1200" spc="-1" strike="noStrike">
                <a:solidFill>
                  <a:srgbClr val="898989"/>
                </a:solidFill>
                <a:latin typeface="Century Gothic"/>
                <a:ea typeface="方正稚艺简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entury Gothic"/>
                <a:ea typeface="方正稚艺简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76F5-BC93-4CB0-B86E-60D7FB34D14C}" type="slidenum">
              <a:rPr b="0" lang="zh-CN" sz="1200" spc="-1" strike="noStrike">
                <a:solidFill>
                  <a:srgbClr val="898989"/>
                </a:solidFill>
                <a:latin typeface="Century Gothic"/>
                <a:ea typeface="方正稚艺简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652840" y="30751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洁线条设计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直接连接符 3"/>
          <p:cNvSpPr/>
          <p:nvPr/>
        </p:nvSpPr>
        <p:spPr>
          <a:xfrm>
            <a:off x="3032280" y="2705040"/>
            <a:ext cx="3079440" cy="190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3032280" y="4133880"/>
            <a:ext cx="3079440" cy="190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"/>
          <p:cNvSpPr/>
          <p:nvPr/>
        </p:nvSpPr>
        <p:spPr>
          <a:xfrm>
            <a:off x="2385000" y="1720800"/>
            <a:ext cx="436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简约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756720" y="2703600"/>
            <a:ext cx="760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直接连接符 2"/>
          <p:cNvSpPr/>
          <p:nvPr/>
        </p:nvSpPr>
        <p:spPr>
          <a:xfrm>
            <a:off x="1312920" y="4021200"/>
            <a:ext cx="6495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直接连接符 5"/>
          <p:cNvSpPr/>
          <p:nvPr/>
        </p:nvSpPr>
        <p:spPr>
          <a:xfrm>
            <a:off x="1312920" y="2787480"/>
            <a:ext cx="6495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289160" y="2401920"/>
            <a:ext cx="65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创新的思维管理企业！！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矩形 9"/>
          <p:cNvSpPr/>
          <p:nvPr/>
        </p:nvSpPr>
        <p:spPr>
          <a:xfrm>
            <a:off x="1278000" y="4013280"/>
            <a:ext cx="65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宅没心没肺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691200" y="2560680"/>
            <a:ext cx="3009240" cy="1727280"/>
            <a:chOff x="691200" y="2560680"/>
            <a:chExt cx="3009240" cy="1727280"/>
          </a:xfrm>
        </p:grpSpPr>
        <p:sp>
          <p:nvSpPr>
            <p:cNvPr id="47" name="椭圆 14"/>
            <p:cNvSpPr/>
            <p:nvPr/>
          </p:nvSpPr>
          <p:spPr>
            <a:xfrm>
              <a:off x="1332000" y="2560680"/>
              <a:ext cx="1727280" cy="172728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" name="TextBox 15"/>
            <p:cNvSpPr/>
            <p:nvPr/>
          </p:nvSpPr>
          <p:spPr>
            <a:xfrm>
              <a:off x="691200" y="3509280"/>
              <a:ext cx="30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ersonal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" name="矩形 16"/>
            <p:cNvSpPr/>
            <p:nvPr/>
          </p:nvSpPr>
          <p:spPr>
            <a:xfrm>
              <a:off x="885960" y="2944440"/>
              <a:ext cx="261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人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cxnSp>
        <p:nvCxnSpPr>
          <p:cNvPr id="50" name="直接箭头连接符 334"/>
          <p:cNvCxnSpPr/>
          <p:nvPr/>
        </p:nvCxnSpPr>
        <p:spPr>
          <a:xfrm>
            <a:off x="3419280" y="3424320"/>
            <a:ext cx="23770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grpSp>
        <p:nvGrpSpPr>
          <p:cNvPr id="51" name=""/>
          <p:cNvGrpSpPr/>
          <p:nvPr/>
        </p:nvGrpSpPr>
        <p:grpSpPr>
          <a:xfrm>
            <a:off x="3057120" y="2690640"/>
            <a:ext cx="3129840" cy="1167480"/>
            <a:chOff x="3057120" y="2690640"/>
            <a:chExt cx="3129840" cy="1167480"/>
          </a:xfrm>
        </p:grpSpPr>
        <p:sp>
          <p:nvSpPr>
            <p:cNvPr id="52" name="TextBox 337"/>
            <p:cNvSpPr/>
            <p:nvPr/>
          </p:nvSpPr>
          <p:spPr>
            <a:xfrm>
              <a:off x="3291840" y="2690640"/>
              <a:ext cx="261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位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3" name="矩形 340"/>
            <p:cNvSpPr/>
            <p:nvPr/>
          </p:nvSpPr>
          <p:spPr>
            <a:xfrm>
              <a:off x="3057120" y="3489840"/>
              <a:ext cx="312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argeting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367600" y="2631960"/>
            <a:ext cx="3306600" cy="1727280"/>
            <a:chOff x="5367600" y="2631960"/>
            <a:chExt cx="3306600" cy="1727280"/>
          </a:xfrm>
        </p:grpSpPr>
        <p:sp>
          <p:nvSpPr>
            <p:cNvPr id="55" name="椭圆 336"/>
            <p:cNvSpPr/>
            <p:nvPr/>
          </p:nvSpPr>
          <p:spPr>
            <a:xfrm>
              <a:off x="6156360" y="2631960"/>
              <a:ext cx="1728720" cy="172728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" name="TextBox 341"/>
            <p:cNvSpPr/>
            <p:nvPr/>
          </p:nvSpPr>
          <p:spPr>
            <a:xfrm>
              <a:off x="5367600" y="3519000"/>
              <a:ext cx="330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ssociation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" name="矩形 342"/>
            <p:cNvSpPr/>
            <p:nvPr/>
          </p:nvSpPr>
          <p:spPr>
            <a:xfrm>
              <a:off x="5711040" y="2978280"/>
              <a:ext cx="261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"/>
                            </p:stCondLst>
                            <p:childTnLst>
                              <p:par>
                                <p:cTn id="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"/>
                            </p:stCondLst>
                            <p:childTnLst>
                              <p:par>
                                <p:cTn id="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"/>
                            </p:stCondLst>
                            <p:childTnLst>
                              <p:par>
                                <p:cTn id="37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44444E-006 L 0.28438 0.00463 E">
                                      <p:cBhvr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直接连接符 5"/>
          <p:cNvSpPr/>
          <p:nvPr/>
        </p:nvSpPr>
        <p:spPr>
          <a:xfrm>
            <a:off x="0" y="74304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直接连接符 6"/>
          <p:cNvSpPr/>
          <p:nvPr/>
        </p:nvSpPr>
        <p:spPr>
          <a:xfrm>
            <a:off x="0" y="55245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032120" y="1924200"/>
            <a:ext cx="50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心设计，诚信笃实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3279960" y="3753000"/>
            <a:ext cx="50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选择，创意营销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直接连接符 43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295800" y="2708280"/>
            <a:ext cx="2619000" cy="1727280"/>
            <a:chOff x="3295800" y="2708280"/>
            <a:chExt cx="2619000" cy="1727280"/>
          </a:xfrm>
        </p:grpSpPr>
        <p:sp>
          <p:nvSpPr>
            <p:cNvPr id="64" name="椭圆 1"/>
            <p:cNvSpPr/>
            <p:nvPr/>
          </p:nvSpPr>
          <p:spPr>
            <a:xfrm>
              <a:off x="3722760" y="2708280"/>
              <a:ext cx="1727280" cy="172728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5" name="矩形 3"/>
            <p:cNvSpPr/>
            <p:nvPr/>
          </p:nvSpPr>
          <p:spPr>
            <a:xfrm>
              <a:off x="3295800" y="3206880"/>
              <a:ext cx="261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127840" y="1305000"/>
            <a:ext cx="2436120" cy="1209600"/>
            <a:chOff x="5127840" y="1305000"/>
            <a:chExt cx="2436120" cy="1209600"/>
          </a:xfrm>
        </p:grpSpPr>
        <p:sp>
          <p:nvSpPr>
            <p:cNvPr id="67" name="椭圆 5"/>
            <p:cNvSpPr/>
            <p:nvPr/>
          </p:nvSpPr>
          <p:spPr>
            <a:xfrm>
              <a:off x="5742000" y="1305000"/>
              <a:ext cx="1209600" cy="120960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矩形 6"/>
            <p:cNvSpPr/>
            <p:nvPr/>
          </p:nvSpPr>
          <p:spPr>
            <a:xfrm>
              <a:off x="5127840" y="1636920"/>
              <a:ext cx="243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主动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751720" y="2962440"/>
            <a:ext cx="2436120" cy="1211040"/>
            <a:chOff x="5751720" y="2962440"/>
            <a:chExt cx="2436120" cy="1211040"/>
          </a:xfrm>
        </p:grpSpPr>
        <p:sp>
          <p:nvSpPr>
            <p:cNvPr id="70" name="椭圆 7"/>
            <p:cNvSpPr/>
            <p:nvPr/>
          </p:nvSpPr>
          <p:spPr>
            <a:xfrm>
              <a:off x="6365880" y="2962440"/>
              <a:ext cx="1209600" cy="121104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矩形 8"/>
            <p:cNvSpPr/>
            <p:nvPr/>
          </p:nvSpPr>
          <p:spPr>
            <a:xfrm>
              <a:off x="5751720" y="3294720"/>
              <a:ext cx="243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诚信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231160" y="4635360"/>
            <a:ext cx="2436120" cy="1209960"/>
            <a:chOff x="5231160" y="4635360"/>
            <a:chExt cx="2436120" cy="1209960"/>
          </a:xfrm>
        </p:grpSpPr>
        <p:sp>
          <p:nvSpPr>
            <p:cNvPr id="73" name="椭圆 12"/>
            <p:cNvSpPr/>
            <p:nvPr/>
          </p:nvSpPr>
          <p:spPr>
            <a:xfrm>
              <a:off x="5845320" y="4635360"/>
              <a:ext cx="1209600" cy="120996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矩形 13"/>
            <p:cNvSpPr/>
            <p:nvPr/>
          </p:nvSpPr>
          <p:spPr>
            <a:xfrm>
              <a:off x="5231160" y="4967280"/>
              <a:ext cx="243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新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515240" y="1308240"/>
            <a:ext cx="2436120" cy="1211040"/>
            <a:chOff x="1515240" y="1308240"/>
            <a:chExt cx="2436120" cy="1211040"/>
          </a:xfrm>
        </p:grpSpPr>
        <p:sp>
          <p:nvSpPr>
            <p:cNvPr id="76" name="椭圆 15"/>
            <p:cNvSpPr/>
            <p:nvPr/>
          </p:nvSpPr>
          <p:spPr>
            <a:xfrm>
              <a:off x="2128680" y="1308240"/>
              <a:ext cx="1211400" cy="121104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矩形 16"/>
            <p:cNvSpPr/>
            <p:nvPr/>
          </p:nvSpPr>
          <p:spPr>
            <a:xfrm>
              <a:off x="1515240" y="1640520"/>
              <a:ext cx="243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务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793800" y="2967120"/>
            <a:ext cx="2436120" cy="1211040"/>
            <a:chOff x="793800" y="2967120"/>
            <a:chExt cx="2436120" cy="1211040"/>
          </a:xfrm>
        </p:grpSpPr>
        <p:sp>
          <p:nvSpPr>
            <p:cNvPr id="79" name="椭圆 18"/>
            <p:cNvSpPr/>
            <p:nvPr/>
          </p:nvSpPr>
          <p:spPr>
            <a:xfrm>
              <a:off x="1407960" y="2967120"/>
              <a:ext cx="1209960" cy="121104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矩形 19"/>
            <p:cNvSpPr/>
            <p:nvPr/>
          </p:nvSpPr>
          <p:spPr>
            <a:xfrm>
              <a:off x="793800" y="3299400"/>
              <a:ext cx="243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591560" y="4572000"/>
            <a:ext cx="2436120" cy="1209600"/>
            <a:chOff x="1591560" y="4572000"/>
            <a:chExt cx="2436120" cy="1209600"/>
          </a:xfrm>
        </p:grpSpPr>
        <p:sp>
          <p:nvSpPr>
            <p:cNvPr id="82" name="椭圆 21"/>
            <p:cNvSpPr/>
            <p:nvPr/>
          </p:nvSpPr>
          <p:spPr>
            <a:xfrm>
              <a:off x="2205000" y="4572000"/>
              <a:ext cx="1211400" cy="120960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矩形 22"/>
            <p:cNvSpPr/>
            <p:nvPr/>
          </p:nvSpPr>
          <p:spPr>
            <a:xfrm>
              <a:off x="1591560" y="4903920"/>
              <a:ext cx="243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4" name="直接连接符 23"/>
          <p:cNvSpPr/>
          <p:nvPr/>
        </p:nvSpPr>
        <p:spPr>
          <a:xfrm flipH="1">
            <a:off x="5196960" y="2336760"/>
            <a:ext cx="72252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直接连接符 26"/>
          <p:cNvSpPr/>
          <p:nvPr/>
        </p:nvSpPr>
        <p:spPr>
          <a:xfrm flipH="1">
            <a:off x="5450040" y="3568680"/>
            <a:ext cx="9158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直接连接符 29"/>
          <p:cNvSpPr/>
          <p:nvPr/>
        </p:nvSpPr>
        <p:spPr>
          <a:xfrm flipH="1" flipV="1">
            <a:off x="5196960" y="4183200"/>
            <a:ext cx="825480" cy="628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直接连接符 33"/>
          <p:cNvSpPr/>
          <p:nvPr/>
        </p:nvSpPr>
        <p:spPr>
          <a:xfrm flipH="1" flipV="1">
            <a:off x="3162240" y="2341440"/>
            <a:ext cx="812880" cy="619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直接连接符 36"/>
          <p:cNvSpPr/>
          <p:nvPr/>
        </p:nvSpPr>
        <p:spPr>
          <a:xfrm flipH="1">
            <a:off x="2617560" y="3571920"/>
            <a:ext cx="1104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直接连接符 39"/>
          <p:cNvSpPr/>
          <p:nvPr/>
        </p:nvSpPr>
        <p:spPr>
          <a:xfrm flipH="1">
            <a:off x="3238560" y="4183200"/>
            <a:ext cx="736560" cy="566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TextBox 47"/>
          <p:cNvSpPr/>
          <p:nvPr/>
        </p:nvSpPr>
        <p:spPr>
          <a:xfrm>
            <a:off x="7129800" y="25560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外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TextBox 48"/>
          <p:cNvSpPr/>
          <p:nvPr/>
        </p:nvSpPr>
        <p:spPr>
          <a:xfrm>
            <a:off x="-342360" y="24624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内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"/>
                            </p:stCondLst>
                            <p:childTnLst>
                              <p:par>
                                <p:cTn id="49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"/>
                            </p:stCondLst>
                            <p:childTnLst>
                              <p:par>
                                <p:cTn id="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"/>
                            </p:stCondLst>
                            <p:childTnLst>
                              <p:par>
                                <p:cTn id="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直接连接符 4"/>
          <p:cNvSpPr/>
          <p:nvPr/>
        </p:nvSpPr>
        <p:spPr>
          <a:xfrm>
            <a:off x="1162080" y="0"/>
            <a:ext cx="0" cy="3009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直接连接符 5"/>
          <p:cNvSpPr/>
          <p:nvPr/>
        </p:nvSpPr>
        <p:spPr>
          <a:xfrm>
            <a:off x="1771560" y="0"/>
            <a:ext cx="0" cy="2476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直接连接符 6"/>
          <p:cNvSpPr/>
          <p:nvPr/>
        </p:nvSpPr>
        <p:spPr>
          <a:xfrm>
            <a:off x="2057400" y="0"/>
            <a:ext cx="0" cy="914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直接连接符 10"/>
          <p:cNvSpPr/>
          <p:nvPr/>
        </p:nvSpPr>
        <p:spPr>
          <a:xfrm>
            <a:off x="6953400" y="5657760"/>
            <a:ext cx="0" cy="1200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椭圆 11"/>
          <p:cNvSpPr/>
          <p:nvPr/>
        </p:nvSpPr>
        <p:spPr>
          <a:xfrm>
            <a:off x="5200560" y="2152800"/>
            <a:ext cx="3505320" cy="35049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椭圆 12"/>
          <p:cNvSpPr/>
          <p:nvPr/>
        </p:nvSpPr>
        <p:spPr>
          <a:xfrm>
            <a:off x="2876400" y="3905280"/>
            <a:ext cx="2057400" cy="20574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直接连接符 13"/>
          <p:cNvSpPr/>
          <p:nvPr/>
        </p:nvSpPr>
        <p:spPr>
          <a:xfrm>
            <a:off x="3905280" y="5962680"/>
            <a:ext cx="0" cy="895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1619280" y="1428840"/>
            <a:ext cx="3657600" cy="1695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命脉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5486400" y="1428840"/>
            <a:ext cx="1962000" cy="1695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命脉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1619280" y="3619440"/>
            <a:ext cx="2800440" cy="1695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命脉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4648320" y="3619440"/>
            <a:ext cx="2800080" cy="1695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命脉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椭圆 38"/>
          <p:cNvSpPr/>
          <p:nvPr/>
        </p:nvSpPr>
        <p:spPr>
          <a:xfrm rot="10800000">
            <a:off x="310680" y="2520"/>
            <a:ext cx="8394840" cy="4197240"/>
          </a:xfrm>
          <a:prstGeom prst="pie">
            <a:avLst/>
          </a:prstGeom>
          <a:solidFill>
            <a:srgbClr val="00387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椭圆 38"/>
          <p:cNvSpPr/>
          <p:nvPr/>
        </p:nvSpPr>
        <p:spPr>
          <a:xfrm rot="10800000">
            <a:off x="1560600" y="2520"/>
            <a:ext cx="5959440" cy="2979720"/>
          </a:xfrm>
          <a:prstGeom prst="pie">
            <a:avLst/>
          </a:prstGeom>
          <a:solidFill>
            <a:srgbClr val="003873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TextBox 48"/>
          <p:cNvSpPr/>
          <p:nvPr/>
        </p:nvSpPr>
        <p:spPr>
          <a:xfrm>
            <a:off x="5491800" y="646200"/>
            <a:ext cx="22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亡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椭圆 38"/>
          <p:cNvSpPr/>
          <p:nvPr/>
        </p:nvSpPr>
        <p:spPr>
          <a:xfrm rot="10800000">
            <a:off x="2739600" y="2880"/>
            <a:ext cx="3537000" cy="1768320"/>
          </a:xfrm>
          <a:prstGeom prst="pie">
            <a:avLst/>
          </a:prstGeom>
          <a:solidFill>
            <a:srgbClr val="00387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3305160" y="262080"/>
            <a:ext cx="24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赢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TextBox 44"/>
          <p:cNvSpPr/>
          <p:nvPr/>
        </p:nvSpPr>
        <p:spPr>
          <a:xfrm>
            <a:off x="4698000" y="1622520"/>
            <a:ext cx="22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口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TextBox 45"/>
          <p:cNvSpPr/>
          <p:nvPr/>
        </p:nvSpPr>
        <p:spPr>
          <a:xfrm>
            <a:off x="1167480" y="625320"/>
            <a:ext cx="22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凡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TextBox 46"/>
          <p:cNvSpPr/>
          <p:nvPr/>
        </p:nvSpPr>
        <p:spPr>
          <a:xfrm>
            <a:off x="1929600" y="1644480"/>
            <a:ext cx="22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贝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TextBox 49"/>
          <p:cNvSpPr/>
          <p:nvPr/>
        </p:nvSpPr>
        <p:spPr>
          <a:xfrm>
            <a:off x="6627240" y="6746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意识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TextBox 50"/>
          <p:cNvSpPr/>
          <p:nvPr/>
        </p:nvSpPr>
        <p:spPr>
          <a:xfrm>
            <a:off x="5897160" y="20955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际能力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TextBox 51"/>
          <p:cNvSpPr/>
          <p:nvPr/>
        </p:nvSpPr>
        <p:spPr>
          <a:xfrm>
            <a:off x="3004920" y="340056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观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TextBox 14"/>
          <p:cNvSpPr/>
          <p:nvPr/>
        </p:nvSpPr>
        <p:spPr>
          <a:xfrm>
            <a:off x="541080" y="21463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理理财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3332880" y="2063880"/>
            <a:ext cx="22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-272520" y="47304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常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局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entury Gothic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36D-8FF2-4138-952C-8BEA000B28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直接连接符 2"/>
          <p:cNvSpPr/>
          <p:nvPr/>
        </p:nvSpPr>
        <p:spPr>
          <a:xfrm flipH="1">
            <a:off x="0" y="0"/>
            <a:ext cx="2666880" cy="2800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直接连接符 3"/>
          <p:cNvSpPr/>
          <p:nvPr/>
        </p:nvSpPr>
        <p:spPr>
          <a:xfrm flipH="1">
            <a:off x="-360" y="0"/>
            <a:ext cx="2171880" cy="228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直接连接符 6"/>
          <p:cNvSpPr/>
          <p:nvPr/>
        </p:nvSpPr>
        <p:spPr>
          <a:xfrm flipH="1">
            <a:off x="4800240" y="2297160"/>
            <a:ext cx="4343400" cy="4560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TextBox 8"/>
          <p:cNvSpPr/>
          <p:nvPr/>
        </p:nvSpPr>
        <p:spPr>
          <a:xfrm rot="18802800">
            <a:off x="4022640" y="3611160"/>
            <a:ext cx="488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的宝贵财富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TextBox 10"/>
          <p:cNvSpPr/>
          <p:nvPr/>
        </p:nvSpPr>
        <p:spPr>
          <a:xfrm rot="18784200">
            <a:off x="387720" y="1431000"/>
            <a:ext cx="283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才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12:45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9Z</dcterms:modified>
  <cp:revision>7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