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8778-2AAB-43FE-AD1F-D56C9FED4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BFC0-26A9-4B11-A36E-CF96C5367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25F7-8A0A-44BD-8A3D-9304CF11D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410E-B164-48D2-87F7-2B82A83AC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20A90-B7D5-47F1-9F81-13437582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04B7-280B-482C-B4F8-39E7F3D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39D6B-4A0E-41E0-BA56-EF81D160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F2DAC-A7CF-4A71-8BA7-D2B89666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6ADAB-6917-49FF-BE8A-4C9EACD7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803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CFB93-AA31-4040-A06B-D3E6A7E4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A26FB-70D5-4305-9ADE-C49C464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068F-5B44-4FEA-9D4D-03F90CA14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FCEA2-80E3-44A9-B012-25108FC3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EC025-F61F-44EC-9774-080E54B3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976E8-9155-44C6-AF0C-AD2FC997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DC77A-7A5D-4AA4-A08F-6E421DC8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FADA8-516A-41BE-AA26-BDAE66A3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55B7-1192-42AF-A108-E0DFD2A23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0567-6F7D-44BF-AC2C-358FE9B87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6A76-0B69-4AFE-9850-1ED82AE56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803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615D-6764-439E-A2F0-B3539EAED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1DCC-91C4-4A84-9DCD-746312B60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EA70-6094-44F3-8FE9-60706BC43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3F7F-CC85-44C3-B2CA-5B127DF10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98728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900000" y="115920"/>
            <a:ext cx="7993080" cy="873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24" descr="D:\工作学习\PPT\PPT素材\图片3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:\工作学习\PPT\PPT素材\1213.jp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DB2E-9AFD-4DBF-B897-AD03D772F250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08000" y="6526080"/>
            <a:ext cx="46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9856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简约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99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B53C-F298-4E83-BB36-F5E6D565E5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2:26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9:36Z</dcterms:modified>
  <cp:revision>310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