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7D2B-3FA3-4A2A-8DEA-47A5B172B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9D18-111F-49DC-BA1C-918C937D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C7AA-EADC-4EE6-B3A0-1DF5E6AF4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05D9-E234-4E2A-BCC6-FFC6A6C76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3C56-4E08-4FE8-BFEB-EF260F8B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3BD2-B861-4EB2-AEAB-92B837BB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B296-C2E0-438D-BB40-E72F3B06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1040-523B-4585-A703-96430CCD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5F11-2B1E-445B-A2AE-D0769185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3FF7-6C70-475F-B31A-2B07D933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85E9-B95A-4F89-8B4D-5149B8C9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2CEB-56CB-44A0-AADE-75A8C354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1CEF-ECA4-41D7-AFAE-8929D09E730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5573-5ED8-45CA-92FE-C79BB9D56C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beijing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Universe_and_planets_digital_art_wallpaper_abditus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2866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7200" y="213048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科幻宇宙星球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Universe_and_planets_digital_art_wallpaper_ihp-sc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3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9280" y="6334200"/>
            <a:ext cx="580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背景图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Universe_and_planets_digital_art_wallpaper_moons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7AA6-472C-403D-A043-64740E0D1E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Universe_and_planets_digital_art_wallpaper_praedestinatio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Universe_and_planets_digital_art_wallpaper_transitorius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Universe_and_planets_digital_art_wallpaper_albireo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Universe_and_planets_digital_art_wallpaper_attheend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Universe_and_planets_digital_art_wallpaper_Decampment"/>
          <p:cNvPicPr/>
          <p:nvPr/>
        </p:nvPicPr>
        <p:blipFill>
          <a:blip r:embed="rId1"/>
          <a:stretch/>
        </p:blipFill>
        <p:spPr>
          <a:xfrm>
            <a:off x="0" y="509760"/>
            <a:ext cx="9144000" cy="57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Universe_and_planets_digital_art_wallpaper_denebola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Universe_and_planets_digital_art_wallpaper_earth2049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Universe_and_planets_digital_art_wallpaper_excidium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Universe_and_planets_digital_art_wallpaper_globe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Universe_and_planets_digital_art_wallpaper_Hibernaculum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08:10:33Z</dcterms:modified>
  <cp:revision>3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