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85F-4BEB-44E0-9B6F-800C928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E18-CFC9-4A9D-8A57-9D201F66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3B67-BA63-44E3-B2CE-B4C32BEF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260-D50E-4559-9CEB-CE62F31E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EA7-CE0C-4DC2-AF65-BA3B5905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771-6F79-43AD-89F5-124963A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25C-ACDD-47C1-85FA-474F22EF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22DD-9763-48FA-A529-1D80D708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078-F023-4E20-B012-73980832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C74-5734-4010-82FE-2A47BB95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336C-544F-42EB-AEC5-4BDE0501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7BF-BEB9-4E06-ABC2-E1980F5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1108080"/>
            <a:ext cx="9174240" cy="5749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3240" y="685800"/>
            <a:ext cx="91314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6C99-CAE8-49F4-A0A1-42352B96DA9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40" y="6346800"/>
            <a:ext cx="9131400" cy="511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0"/>
            <a:ext cx="9153360" cy="4938840"/>
          </a:xfrm>
          <a:prstGeom prst="rect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0"/>
            <a:ext cx="9155160" cy="43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0"/>
            <a:ext cx="91533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" y="4562640"/>
            <a:ext cx="9131400" cy="510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28600"/>
            <a:ext cx="1906560" cy="1569960"/>
          </a:xfrm>
          <a:prstGeom prst="rect">
            <a:avLst/>
          </a:prstGeom>
          <a:ln w="0">
            <a:noFill/>
          </a:ln>
        </p:spPr>
      </p:pic>
      <p:sp>
        <p:nvSpPr>
          <p:cNvPr id="49" name="Line 53"/>
          <p:cNvSpPr/>
          <p:nvPr/>
        </p:nvSpPr>
        <p:spPr>
          <a:xfrm>
            <a:off x="6000840" y="4941720"/>
            <a:ext cx="24480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5"/>
          <p:cNvSpPr/>
          <p:nvPr/>
        </p:nvSpPr>
        <p:spPr>
          <a:xfrm>
            <a:off x="6000840" y="557208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8"/>
          <p:cNvSpPr/>
          <p:nvPr/>
        </p:nvSpPr>
        <p:spPr>
          <a:xfrm>
            <a:off x="642960" y="18572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3"/>
          <p:cNvSpPr/>
          <p:nvPr/>
        </p:nvSpPr>
        <p:spPr>
          <a:xfrm>
            <a:off x="6000840" y="6215040"/>
            <a:ext cx="24480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0"/>
          <p:cNvSpPr/>
          <p:nvPr/>
        </p:nvSpPr>
        <p:spPr>
          <a:xfrm>
            <a:off x="285840" y="857160"/>
            <a:ext cx="171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 rot="2632200">
            <a:off x="1990440" y="847440"/>
            <a:ext cx="642960" cy="642960"/>
          </a:xfrm>
          <a:prstGeom prst="rect">
            <a:avLst/>
          </a:prstGeom>
          <a:solidFill>
            <a:srgbClr val="58675c"/>
          </a:solidFill>
          <a:ln w="25560">
            <a:solidFill>
              <a:srgbClr val="90a59b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57160" y="5072040"/>
            <a:ext cx="1675080" cy="1092960"/>
            <a:chOff x="857160" y="5072040"/>
            <a:chExt cx="1675080" cy="1092960"/>
          </a:xfrm>
        </p:grpSpPr>
        <p:sp>
          <p:nvSpPr>
            <p:cNvPr id="60" name=""/>
            <p:cNvSpPr txBox="1"/>
            <p:nvPr/>
          </p:nvSpPr>
          <p:spPr>
            <a:xfrm>
              <a:off x="857160" y="5562720"/>
              <a:ext cx="219600" cy="236160"/>
            </a:xfrm>
            <a:prstGeom prst="rect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857160" y="5928840"/>
              <a:ext cx="219600" cy="236160"/>
            </a:xfrm>
            <a:prstGeom prst="rect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1226160" y="5552280"/>
              <a:ext cx="217080" cy="213840"/>
            </a:xfrm>
            <a:prstGeom prst="rect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1258560" y="5571000"/>
              <a:ext cx="162360" cy="168480"/>
            </a:xfrm>
            <a:prstGeom prst="rect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388520" y="5072040"/>
              <a:ext cx="1143720" cy="913320"/>
              <a:chOff x="1388520" y="5072040"/>
              <a:chExt cx="1143720" cy="913320"/>
            </a:xfrm>
          </p:grpSpPr>
          <p:sp>
            <p:nvSpPr>
              <p:cNvPr id="65" name=""/>
              <p:cNvSpPr txBox="1"/>
              <p:nvPr/>
            </p:nvSpPr>
            <p:spPr>
              <a:xfrm>
                <a:off x="2217600" y="5072040"/>
                <a:ext cx="314640" cy="317160"/>
              </a:xfrm>
              <a:prstGeom prst="rect">
                <a:avLst/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1632600" y="5250960"/>
                <a:ext cx="740160" cy="61776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 txBox="1"/>
              <p:nvPr/>
            </p:nvSpPr>
            <p:spPr>
              <a:xfrm>
                <a:off x="1632600" y="5072040"/>
                <a:ext cx="617760" cy="642600"/>
              </a:xfrm>
              <a:prstGeom prst="rect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1754280" y="5356440"/>
                <a:ext cx="761760" cy="511920"/>
              </a:xfrm>
              <a:prstGeom prst="rect">
                <a:avLst/>
              </a:prstGeom>
              <a:solidFill>
                <a:srgbClr val="ffffff">
                  <a:alpha val="38000"/>
                </a:srgbClr>
              </a:solidFill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1445400" y="5527440"/>
                <a:ext cx="436320" cy="4420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1388520" y="5896440"/>
                <a:ext cx="105480" cy="88920"/>
              </a:xfrm>
              <a:prstGeom prst="rect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txBody>
              <a:bodyPr lIns="90000" rIns="90000" tIns="42120" bIns="4212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47"/>
              <p:cNvSpPr/>
              <p:nvPr/>
            </p:nvSpPr>
            <p:spPr>
              <a:xfrm flipV="1">
                <a:off x="1467000" y="5706000"/>
                <a:ext cx="178560" cy="1947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48"/>
              <p:cNvSpPr/>
              <p:nvPr/>
            </p:nvSpPr>
            <p:spPr>
              <a:xfrm flipV="1">
                <a:off x="1491480" y="5860800"/>
                <a:ext cx="271080" cy="92160"/>
              </a:xfrm>
              <a:prstGeom prst="line">
                <a:avLst/>
              </a:prstGeom>
              <a:ln w="936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 txBox="1"/>
            <p:nvPr/>
          </p:nvSpPr>
          <p:spPr>
            <a:xfrm>
              <a:off x="1220400" y="5918400"/>
              <a:ext cx="217080" cy="213840"/>
            </a:xfrm>
            <a:prstGeom prst="rect">
              <a:avLst/>
            </a:prstGeom>
            <a:noFill/>
            <a:ln w="28440">
              <a:solidFill>
                <a:srgbClr val="ffffff">
                  <a:alpha val="50000"/>
                </a:srgbClr>
              </a:solidFill>
              <a:miter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4240" y="3500280"/>
            <a:ext cx="2970360" cy="1606680"/>
            <a:chOff x="714240" y="3500280"/>
            <a:chExt cx="2970360" cy="1606680"/>
          </a:xfrm>
        </p:grpSpPr>
        <p:grpSp>
          <p:nvGrpSpPr>
            <p:cNvPr id="76" name=""/>
            <p:cNvGrpSpPr/>
            <p:nvPr/>
          </p:nvGrpSpPr>
          <p:grpSpPr>
            <a:xfrm>
              <a:off x="2009520" y="3500280"/>
              <a:ext cx="1675080" cy="1093320"/>
              <a:chOff x="2009520" y="3500280"/>
              <a:chExt cx="1675080" cy="1093320"/>
            </a:xfrm>
          </p:grpSpPr>
          <p:sp>
            <p:nvSpPr>
              <p:cNvPr id="77" name=""/>
              <p:cNvSpPr txBox="1"/>
              <p:nvPr/>
            </p:nvSpPr>
            <p:spPr>
              <a:xfrm>
                <a:off x="2009520" y="3991320"/>
                <a:ext cx="219600" cy="236160"/>
              </a:xfrm>
              <a:prstGeom prst="rect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2009520" y="4357440"/>
                <a:ext cx="219600" cy="236160"/>
              </a:xfrm>
              <a:prstGeom prst="rect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2378520" y="3980880"/>
                <a:ext cx="217080" cy="214200"/>
              </a:xfrm>
              <a:prstGeom prst="rect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2410920" y="3999240"/>
                <a:ext cx="162360" cy="168480"/>
              </a:xfrm>
              <a:prstGeom prst="rect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540880" y="3500280"/>
                <a:ext cx="1143720" cy="913680"/>
                <a:chOff x="2540880" y="3500280"/>
                <a:chExt cx="1143720" cy="913680"/>
              </a:xfrm>
            </p:grpSpPr>
            <p:sp>
              <p:nvSpPr>
                <p:cNvPr id="82" name=""/>
                <p:cNvSpPr txBox="1"/>
                <p:nvPr/>
              </p:nvSpPr>
              <p:spPr>
                <a:xfrm>
                  <a:off x="3369960" y="3500280"/>
                  <a:ext cx="314640" cy="317160"/>
                </a:xfrm>
                <a:prstGeom prst="rect">
                  <a:avLst/>
                </a:prstGeom>
                <a:noFill/>
                <a:ln w="1260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 txBox="1"/>
                <p:nvPr/>
              </p:nvSpPr>
              <p:spPr>
                <a:xfrm>
                  <a:off x="2784960" y="3679200"/>
                  <a:ext cx="740160" cy="618120"/>
                </a:xfrm>
                <a:prstGeom prst="rect">
                  <a:avLst/>
                </a:prstGeom>
                <a:noFill/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 txBox="1"/>
                <p:nvPr/>
              </p:nvSpPr>
              <p:spPr>
                <a:xfrm>
                  <a:off x="2784960" y="3500280"/>
                  <a:ext cx="617760" cy="642600"/>
                </a:xfrm>
                <a:prstGeom prst="rect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2906640" y="3785040"/>
                  <a:ext cx="761760" cy="512280"/>
                </a:xfrm>
                <a:prstGeom prst="rect">
                  <a:avLst/>
                </a:prstGeom>
                <a:solidFill>
                  <a:srgbClr val="ffffff">
                    <a:alpha val="38000"/>
                  </a:srgbClr>
                </a:solidFill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 txBox="1"/>
                <p:nvPr/>
              </p:nvSpPr>
              <p:spPr>
                <a:xfrm>
                  <a:off x="2597760" y="3956040"/>
                  <a:ext cx="436320" cy="442080"/>
                </a:xfrm>
                <a:prstGeom prst="rect">
                  <a:avLst/>
                </a:prstGeom>
                <a:noFill/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 txBox="1"/>
                <p:nvPr/>
              </p:nvSpPr>
              <p:spPr>
                <a:xfrm>
                  <a:off x="2540880" y="4325040"/>
                  <a:ext cx="105480" cy="88920"/>
                </a:xfrm>
                <a:prstGeom prst="rect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txBody>
                <a:bodyPr lIns="90000" rIns="90000" tIns="42120" bIns="42120" anchor="ctr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47"/>
                <p:cNvSpPr/>
                <p:nvPr/>
              </p:nvSpPr>
              <p:spPr>
                <a:xfrm flipV="1">
                  <a:off x="2619360" y="41346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48"/>
                <p:cNvSpPr/>
                <p:nvPr/>
              </p:nvSpPr>
              <p:spPr>
                <a:xfrm flipV="1">
                  <a:off x="2643840" y="42894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5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"/>
              <p:cNvSpPr txBox="1"/>
              <p:nvPr/>
            </p:nvSpPr>
            <p:spPr>
              <a:xfrm>
                <a:off x="2372760" y="4347000"/>
                <a:ext cx="217080" cy="214200"/>
              </a:xfrm>
              <a:prstGeom prst="rect">
                <a:avLst/>
              </a:prstGeom>
              <a:noFill/>
              <a:ln w="28440">
                <a:solidFill>
                  <a:srgbClr val="ffffff">
                    <a:alpha val="50000"/>
                  </a:srgbClr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714240" y="4221000"/>
              <a:ext cx="1870200" cy="885960"/>
              <a:chOff x="714240" y="4221000"/>
              <a:chExt cx="1870200" cy="885960"/>
            </a:xfrm>
          </p:grpSpPr>
          <p:sp>
            <p:nvSpPr>
              <p:cNvPr id="93" name=""/>
              <p:cNvSpPr txBox="1"/>
              <p:nvPr/>
            </p:nvSpPr>
            <p:spPr>
              <a:xfrm>
                <a:off x="714240" y="4221000"/>
                <a:ext cx="1857960" cy="777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533240" y="4673160"/>
                <a:ext cx="1051200" cy="4338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 txBox="1"/>
              <p:nvPr/>
            </p:nvSpPr>
            <p:spPr>
              <a:xfrm>
                <a:off x="759600" y="4875480"/>
                <a:ext cx="750600" cy="17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1487520" y="4875480"/>
                <a:ext cx="820440" cy="1555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2272680" y="4716360"/>
                <a:ext cx="238680" cy="303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 txBox="1"/>
              <p:nvPr/>
            </p:nvSpPr>
            <p:spPr>
              <a:xfrm>
                <a:off x="1791000" y="4602600"/>
                <a:ext cx="512280" cy="135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 rot="21463200">
                <a:off x="1838160" y="4461120"/>
                <a:ext cx="512280" cy="135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1087560" y="4466880"/>
                <a:ext cx="479880" cy="77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1023120" y="4578840"/>
                <a:ext cx="479880" cy="77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928440" y="4714560"/>
                <a:ext cx="500760" cy="69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7880" y="-284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开题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62" name="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363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5"/>
            <p:cNvSpPr/>
            <p:nvPr/>
          </p:nvSpPr>
          <p:spPr>
            <a:xfrm>
              <a:off x="4960080" y="2099880"/>
              <a:ext cx="239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66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560" y="-68400"/>
            <a:ext cx="2993400" cy="1913760"/>
            <a:chOff x="52560" y="-68400"/>
            <a:chExt cx="2993400" cy="1913760"/>
          </a:xfrm>
        </p:grpSpPr>
        <p:sp>
          <p:nvSpPr>
            <p:cNvPr id="373" name="圆角矩形​​ 2"/>
            <p:cNvSpPr/>
            <p:nvPr/>
          </p:nvSpPr>
          <p:spPr>
            <a:xfrm rot="21283200">
              <a:off x="112680" y="586800"/>
              <a:ext cx="2887560" cy="1127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​​ 11"/>
            <p:cNvSpPr/>
            <p:nvPr/>
          </p:nvSpPr>
          <p:spPr>
            <a:xfrm flipV="1">
              <a:off x="543240" y="123120"/>
              <a:ext cx="1147320" cy="545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​​ 13"/>
            <p:cNvSpPr/>
            <p:nvPr/>
          </p:nvSpPr>
          <p:spPr>
            <a:xfrm>
              <a:off x="1923120" y="123480"/>
              <a:ext cx="581040" cy="421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椭圆​​ 4"/>
            <p:cNvSpPr/>
            <p:nvPr/>
          </p:nvSpPr>
          <p:spPr>
            <a:xfrm>
              <a:off x="1643040" y="-684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​​ 6"/>
            <p:cNvSpPr/>
            <p:nvPr/>
          </p:nvSpPr>
          <p:spPr>
            <a:xfrm>
              <a:off x="1714320" y="288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 rot="21294600">
              <a:off x="70920" y="594000"/>
              <a:ext cx="287640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圆角矩形​​ 3"/>
            <p:cNvSpPr/>
            <p:nvPr/>
          </p:nvSpPr>
          <p:spPr>
            <a:xfrm rot="21283200">
              <a:off x="239040" y="695880"/>
              <a:ext cx="2642760" cy="9306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​​ 8"/>
            <p:cNvSpPr/>
            <p:nvPr/>
          </p:nvSpPr>
          <p:spPr>
            <a:xfrm rot="21283200">
              <a:off x="487800" y="66888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​​ 9"/>
            <p:cNvSpPr/>
            <p:nvPr/>
          </p:nvSpPr>
          <p:spPr>
            <a:xfrm rot="21283200">
              <a:off x="2448720" y="54468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83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85920" y="6916680"/>
            <a:ext cx="3857760" cy="3425760"/>
            <a:chOff x="1285920" y="6916680"/>
            <a:chExt cx="3857760" cy="3425760"/>
          </a:xfrm>
        </p:grpSpPr>
        <p:pic>
          <p:nvPicPr>
            <p:cNvPr id="389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62"/>
            <p:cNvSpPr/>
            <p:nvPr/>
          </p:nvSpPr>
          <p:spPr>
            <a:xfrm>
              <a:off x="2037240" y="9936720"/>
              <a:ext cx="23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392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396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99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2560" y="-68400"/>
            <a:ext cx="2993400" cy="1913760"/>
            <a:chOff x="52560" y="-68400"/>
            <a:chExt cx="2993400" cy="1913760"/>
          </a:xfrm>
        </p:grpSpPr>
        <p:sp>
          <p:nvSpPr>
            <p:cNvPr id="406" name="圆角矩形​​ 2"/>
            <p:cNvSpPr/>
            <p:nvPr/>
          </p:nvSpPr>
          <p:spPr>
            <a:xfrm rot="21283200">
              <a:off x="112680" y="586800"/>
              <a:ext cx="2887560" cy="1127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直接连接符​​ 11"/>
            <p:cNvSpPr/>
            <p:nvPr/>
          </p:nvSpPr>
          <p:spPr>
            <a:xfrm flipV="1">
              <a:off x="543240" y="123120"/>
              <a:ext cx="1147320" cy="545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直接连接符​​ 13"/>
            <p:cNvSpPr/>
            <p:nvPr/>
          </p:nvSpPr>
          <p:spPr>
            <a:xfrm>
              <a:off x="1923120" y="123480"/>
              <a:ext cx="581040" cy="421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​​ 4"/>
            <p:cNvSpPr/>
            <p:nvPr/>
          </p:nvSpPr>
          <p:spPr>
            <a:xfrm>
              <a:off x="1643040" y="-68400"/>
              <a:ext cx="327960" cy="224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​​ 6"/>
            <p:cNvSpPr/>
            <p:nvPr/>
          </p:nvSpPr>
          <p:spPr>
            <a:xfrm>
              <a:off x="1714320" y="288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21294600">
              <a:off x="70920" y="594000"/>
              <a:ext cx="287640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圆角矩形​​ 3"/>
            <p:cNvSpPr/>
            <p:nvPr/>
          </p:nvSpPr>
          <p:spPr>
            <a:xfrm rot="21283200">
              <a:off x="239040" y="695880"/>
              <a:ext cx="2642760" cy="9306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椭圆​​ 8"/>
            <p:cNvSpPr/>
            <p:nvPr/>
          </p:nvSpPr>
          <p:spPr>
            <a:xfrm rot="21283200">
              <a:off x="487800" y="66888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椭圆​​ 9"/>
            <p:cNvSpPr/>
            <p:nvPr/>
          </p:nvSpPr>
          <p:spPr>
            <a:xfrm rot="21283200">
              <a:off x="2448720" y="544680"/>
              <a:ext cx="119880" cy="82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16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422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425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27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725400" y="1924200"/>
            <a:ext cx="8355240" cy="7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432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 txBox="1"/>
            <p:nvPr/>
          </p:nvSpPr>
          <p:spPr>
            <a:xfrm rot="21294600">
              <a:off x="0" y="313380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442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 rot="21294600">
              <a:off x="3142800" y="34192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452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 rot="21294600">
              <a:off x="6238440" y="32050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462" name="Rounded Rectangle 95"/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468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47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472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2560" y="6858000"/>
            <a:ext cx="2993760" cy="1987920"/>
            <a:chOff x="52560" y="6858000"/>
            <a:chExt cx="2993760" cy="1987920"/>
          </a:xfrm>
        </p:grpSpPr>
        <p:sp>
          <p:nvSpPr>
            <p:cNvPr id="478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 rot="21294600">
              <a:off x="70920" y="7592760"/>
              <a:ext cx="287640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488" name="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489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495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5"/>
            <p:cNvSpPr/>
            <p:nvPr/>
          </p:nvSpPr>
          <p:spPr>
            <a:xfrm>
              <a:off x="4873680" y="2127240"/>
              <a:ext cx="19465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498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Box 75"/>
          <p:cNvSpPr/>
          <p:nvPr/>
        </p:nvSpPr>
        <p:spPr>
          <a:xfrm>
            <a:off x="-192564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502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506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50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6"/>
          <p:cNvSpPr/>
          <p:nvPr/>
        </p:nvSpPr>
        <p:spPr>
          <a:xfrm>
            <a:off x="-2639880" y="50004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515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518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521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345600" y="1714680"/>
            <a:ext cx="2513160" cy="999720"/>
            <a:chOff x="9345600" y="1714680"/>
            <a:chExt cx="2513160" cy="999720"/>
          </a:xfrm>
        </p:grpSpPr>
        <p:grpSp>
          <p:nvGrpSpPr>
            <p:cNvPr id="524" name=""/>
            <p:cNvGrpSpPr/>
            <p:nvPr/>
          </p:nvGrpSpPr>
          <p:grpSpPr>
            <a:xfrm>
              <a:off x="9358920" y="1714680"/>
              <a:ext cx="2272680" cy="999720"/>
              <a:chOff x="9358920" y="1714680"/>
              <a:chExt cx="2272680" cy="99972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9358920" y="1714680"/>
                <a:ext cx="22726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6" name=""/>
              <p:cNvGrpSpPr/>
              <p:nvPr/>
            </p:nvGrpSpPr>
            <p:grpSpPr>
              <a:xfrm>
                <a:off x="9364320" y="1745640"/>
                <a:ext cx="2264400" cy="924480"/>
                <a:chOff x="9364320" y="1745640"/>
                <a:chExt cx="2264400" cy="924480"/>
              </a:xfrm>
            </p:grpSpPr>
            <p:sp>
              <p:nvSpPr>
                <p:cNvPr id="527" name="AutoShape 7"/>
                <p:cNvSpPr/>
                <p:nvPr/>
              </p:nvSpPr>
              <p:spPr>
                <a:xfrm>
                  <a:off x="9364320" y="243072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8"/>
                <p:cNvSpPr/>
                <p:nvPr/>
              </p:nvSpPr>
              <p:spPr>
                <a:xfrm>
                  <a:off x="9364320" y="1745640"/>
                  <a:ext cx="226440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Box 54"/>
            <p:cNvSpPr/>
            <p:nvPr/>
          </p:nvSpPr>
          <p:spPr>
            <a:xfrm>
              <a:off x="9345600" y="1714680"/>
              <a:ext cx="25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研究环境的复杂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富铁区域研究的必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9345600" y="2786040"/>
            <a:ext cx="2155680" cy="999720"/>
            <a:chOff x="9345600" y="2786040"/>
            <a:chExt cx="2155680" cy="999720"/>
          </a:xfrm>
        </p:grpSpPr>
        <p:grpSp>
          <p:nvGrpSpPr>
            <p:cNvPr id="531" name=""/>
            <p:cNvGrpSpPr/>
            <p:nvPr/>
          </p:nvGrpSpPr>
          <p:grpSpPr>
            <a:xfrm>
              <a:off x="9358200" y="2786040"/>
              <a:ext cx="2143080" cy="999720"/>
              <a:chOff x="9358200" y="2786040"/>
              <a:chExt cx="2143080" cy="999720"/>
            </a:xfrm>
          </p:grpSpPr>
          <p:sp>
            <p:nvSpPr>
              <p:cNvPr id="532" name="AutoShape 5"/>
              <p:cNvSpPr/>
              <p:nvPr/>
            </p:nvSpPr>
            <p:spPr>
              <a:xfrm>
                <a:off x="9358200" y="2786040"/>
                <a:ext cx="2143080" cy="99972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9363240" y="2817000"/>
                <a:ext cx="2135160" cy="924480"/>
                <a:chOff x="9363240" y="2817000"/>
                <a:chExt cx="2135160" cy="924480"/>
              </a:xfrm>
            </p:grpSpPr>
            <p:sp>
              <p:nvSpPr>
                <p:cNvPr id="534" name="AutoShape 7"/>
                <p:cNvSpPr/>
                <p:nvPr/>
              </p:nvSpPr>
              <p:spPr>
                <a:xfrm>
                  <a:off x="9363240" y="350208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8"/>
                <p:cNvSpPr/>
                <p:nvPr/>
              </p:nvSpPr>
              <p:spPr>
                <a:xfrm>
                  <a:off x="9363240" y="2817000"/>
                  <a:ext cx="2135160" cy="239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TextBox 66"/>
            <p:cNvSpPr/>
            <p:nvPr/>
          </p:nvSpPr>
          <p:spPr>
            <a:xfrm>
              <a:off x="9345600" y="2786040"/>
              <a:ext cx="2143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题的提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四面体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85840" y="3929040"/>
            <a:ext cx="1357200" cy="857160"/>
            <a:chOff x="285840" y="3929040"/>
            <a:chExt cx="1357200" cy="857160"/>
          </a:xfrm>
        </p:grpSpPr>
        <p:sp>
          <p:nvSpPr>
            <p:cNvPr id="538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584280" y="4014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541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544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1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-0.26198 -0.00139 E">
                                      <p:cBhvr>
                                        <p:cTn id="395" dur="5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8 L -0.01198 -0.00138 E">
                                      <p:cBhvr>
                                        <p:cTn id="436" dur="5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98 -0.00139 L -0.01198 -0.00139 E">
                                      <p:cBhvr>
                                        <p:cTn id="438" dur="5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41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14200" y="1773360"/>
            <a:ext cx="8715600" cy="4226400"/>
            <a:chOff x="214200" y="1773360"/>
            <a:chExt cx="8715600" cy="4226400"/>
          </a:xfrm>
        </p:grpSpPr>
        <p:grpSp>
          <p:nvGrpSpPr>
            <p:cNvPr id="549" name=""/>
            <p:cNvGrpSpPr/>
            <p:nvPr/>
          </p:nvGrpSpPr>
          <p:grpSpPr>
            <a:xfrm>
              <a:off x="214200" y="1773360"/>
              <a:ext cx="8715600" cy="3786840"/>
              <a:chOff x="214200" y="1773360"/>
              <a:chExt cx="8715600" cy="378684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214200" y="1773360"/>
                <a:ext cx="8715600" cy="3786840"/>
                <a:chOff x="214200" y="1773360"/>
                <a:chExt cx="8715600" cy="3786840"/>
              </a:xfrm>
            </p:grpSpPr>
            <p:sp>
              <p:nvSpPr>
                <p:cNvPr id="551" name="AutoShape 4"/>
                <p:cNvSpPr/>
                <p:nvPr/>
              </p:nvSpPr>
              <p:spPr>
                <a:xfrm>
                  <a:off x="214200" y="2630520"/>
                  <a:ext cx="8715600" cy="2929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428400" y="1773360"/>
                  <a:ext cx="1500120" cy="3072600"/>
                  <a:chOff x="428400" y="1773360"/>
                  <a:chExt cx="1500120" cy="3072600"/>
                </a:xfrm>
              </p:grpSpPr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428400" y="1773360"/>
                    <a:ext cx="1500120" cy="3072600"/>
                    <a:chOff x="428400" y="1773360"/>
                    <a:chExt cx="1500120" cy="3072600"/>
                  </a:xfrm>
                </p:grpSpPr>
                <p:sp>
                  <p:nvSpPr>
                    <p:cNvPr id="554" name="AutoShape 9"/>
                    <p:cNvSpPr/>
                    <p:nvPr/>
                  </p:nvSpPr>
                  <p:spPr>
                    <a:xfrm>
                      <a:off x="428400" y="1773360"/>
                      <a:ext cx="1500120" cy="307260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2600"/>
                        <a:gd name="textAreaBottom" fmla="*/ 2999520 h 3072600"/>
                      </a:gdLst>
                      <a:ahLst/>
                      <a:rect l="textAreaLeft" t="textAreaTop" r="textAreaRight" b="textAreaBottom"/>
                      <a:pathLst>
                        <a:path w="21600" h="44236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36"/>
                          </a:lnTo>
                          <a:arcTo wR="3600" hR="3600" stAng="10800000" swAng="-5400000"/>
                          <a:lnTo>
                            <a:pt x="18000" y="44236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AutoShape 10"/>
                    <p:cNvSpPr/>
                    <p:nvPr/>
                  </p:nvSpPr>
                  <p:spPr>
                    <a:xfrm>
                      <a:off x="487800" y="1808640"/>
                      <a:ext cx="137700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6" name="Text Box 14"/>
                  <p:cNvSpPr/>
                  <p:nvPr/>
                </p:nvSpPr>
                <p:spPr>
                  <a:xfrm>
                    <a:off x="471600" y="25228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TextBox 84"/>
                  <p:cNvSpPr/>
                  <p:nvPr/>
                </p:nvSpPr>
                <p:spPr>
                  <a:xfrm>
                    <a:off x="477720" y="198756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2143080" y="1773360"/>
                  <a:ext cx="1428840" cy="3072600"/>
                  <a:chOff x="2143080" y="1773360"/>
                  <a:chExt cx="1428840" cy="3072600"/>
                </a:xfrm>
              </p:grpSpPr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2143080" y="1773360"/>
                    <a:ext cx="1428840" cy="3072600"/>
                    <a:chOff x="2143080" y="1773360"/>
                    <a:chExt cx="1428840" cy="3072600"/>
                  </a:xfrm>
                </p:grpSpPr>
                <p:sp>
                  <p:nvSpPr>
                    <p:cNvPr id="560" name="AutoShape 9"/>
                    <p:cNvSpPr/>
                    <p:nvPr/>
                  </p:nvSpPr>
                  <p:spPr>
                    <a:xfrm>
                      <a:off x="2143080" y="1773360"/>
                      <a:ext cx="1428840" cy="3072600"/>
                    </a:xfrm>
                    <a:custGeom>
                      <a:avLst/>
                      <a:gdLst>
                        <a:gd name="textAreaLeft" fmla="*/ 69480 w 1428840"/>
                        <a:gd name="textAreaRight" fmla="*/ 1359360 w 142884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4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43"/>
                          </a:lnTo>
                          <a:arcTo wR="3600" hR="3600" stAng="10800000" swAng="-5400000"/>
                          <a:lnTo>
                            <a:pt x="18000" y="4644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AutoShape 10"/>
                    <p:cNvSpPr/>
                    <p:nvPr/>
                  </p:nvSpPr>
                  <p:spPr>
                    <a:xfrm>
                      <a:off x="2199600" y="1808640"/>
                      <a:ext cx="13114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2" name="Text Box 14"/>
                  <p:cNvSpPr/>
                  <p:nvPr/>
                </p:nvSpPr>
                <p:spPr>
                  <a:xfrm>
                    <a:off x="2214360" y="28072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TextBox 89"/>
                  <p:cNvSpPr/>
                  <p:nvPr/>
                </p:nvSpPr>
                <p:spPr>
                  <a:xfrm>
                    <a:off x="2143080" y="198756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3762360" y="1773360"/>
                  <a:ext cx="1452600" cy="3072600"/>
                  <a:chOff x="3762360" y="1773360"/>
                  <a:chExt cx="1452600" cy="3072600"/>
                </a:xfrm>
              </p:grpSpPr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3762360" y="1773360"/>
                    <a:ext cx="1444680" cy="3072600"/>
                    <a:chOff x="3762360" y="1773360"/>
                    <a:chExt cx="1444680" cy="3072600"/>
                  </a:xfrm>
                </p:grpSpPr>
                <p:sp>
                  <p:nvSpPr>
                    <p:cNvPr id="566" name="AutoShape 9"/>
                    <p:cNvSpPr/>
                    <p:nvPr/>
                  </p:nvSpPr>
                  <p:spPr>
                    <a:xfrm>
                      <a:off x="3775680" y="1773360"/>
                      <a:ext cx="1431000" cy="3072600"/>
                    </a:xfrm>
                    <a:custGeom>
                      <a:avLst/>
                      <a:gdLst>
                        <a:gd name="textAreaLeft" fmla="*/ 69840 w 1431000"/>
                        <a:gd name="textAreaRight" fmla="*/ 1361160 w 1431000"/>
                        <a:gd name="textAreaTop" fmla="*/ 69840 h 3072600"/>
                        <a:gd name="textAreaBottom" fmla="*/ 3002760 h 3072600"/>
                      </a:gdLst>
                      <a:ahLst/>
                      <a:rect l="textAreaLeft" t="textAreaTop" r="textAreaRight" b="textAreaBottom"/>
                      <a:pathLst>
                        <a:path w="21600" h="46373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73"/>
                          </a:lnTo>
                          <a:arcTo wR="3600" hR="3600" stAng="10800000" swAng="-5400000"/>
                          <a:lnTo>
                            <a:pt x="18000" y="46373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AutoShape 10"/>
                    <p:cNvSpPr/>
                    <p:nvPr/>
                  </p:nvSpPr>
                  <p:spPr>
                    <a:xfrm>
                      <a:off x="3762360" y="1808640"/>
                      <a:ext cx="1444680" cy="4240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Text Box 14"/>
                  <p:cNvSpPr/>
                  <p:nvPr/>
                </p:nvSpPr>
                <p:spPr>
                  <a:xfrm>
                    <a:off x="3871440" y="2630880"/>
                    <a:ext cx="133560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TextBox 95"/>
                  <p:cNvSpPr/>
                  <p:nvPr/>
                </p:nvSpPr>
                <p:spPr>
                  <a:xfrm>
                    <a:off x="3777840" y="1987560"/>
                    <a:ext cx="1437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5486760" y="1773360"/>
                  <a:ext cx="1442520" cy="3072600"/>
                  <a:chOff x="5486760" y="1773360"/>
                  <a:chExt cx="1442520" cy="307260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486760" y="1773360"/>
                    <a:ext cx="1442520" cy="3072600"/>
                    <a:chOff x="5486760" y="1773360"/>
                    <a:chExt cx="1442520" cy="3072600"/>
                  </a:xfrm>
                </p:grpSpPr>
                <p:sp>
                  <p:nvSpPr>
                    <p:cNvPr id="572" name="AutoShape 9"/>
                    <p:cNvSpPr/>
                    <p:nvPr/>
                  </p:nvSpPr>
                  <p:spPr>
                    <a:xfrm>
                      <a:off x="54867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AutoShape 10"/>
                    <p:cNvSpPr/>
                    <p:nvPr/>
                  </p:nvSpPr>
                  <p:spPr>
                    <a:xfrm>
                      <a:off x="54867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4" name="Text Box 14"/>
                  <p:cNvSpPr/>
                  <p:nvPr/>
                </p:nvSpPr>
                <p:spPr>
                  <a:xfrm>
                    <a:off x="5596560" y="27777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TextBox 103"/>
                  <p:cNvSpPr/>
                  <p:nvPr/>
                </p:nvSpPr>
                <p:spPr>
                  <a:xfrm>
                    <a:off x="54867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130160" y="1773360"/>
                  <a:ext cx="1442520" cy="3072600"/>
                  <a:chOff x="7130160" y="1773360"/>
                  <a:chExt cx="1442520" cy="3072600"/>
                </a:xfrm>
              </p:grpSpPr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7130160" y="1773360"/>
                    <a:ext cx="1442520" cy="3072600"/>
                    <a:chOff x="7130160" y="1773360"/>
                    <a:chExt cx="1442520" cy="3072600"/>
                  </a:xfrm>
                </p:grpSpPr>
                <p:sp>
                  <p:nvSpPr>
                    <p:cNvPr id="578" name="AutoShape 9"/>
                    <p:cNvSpPr/>
                    <p:nvPr/>
                  </p:nvSpPr>
                  <p:spPr>
                    <a:xfrm>
                      <a:off x="7130160" y="1773360"/>
                      <a:ext cx="1428480" cy="307260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600"/>
                        <a:gd name="textAreaBottom" fmla="*/ 3003120 h 3072600"/>
                      </a:gdLst>
                      <a:ahLst/>
                      <a:rect l="textAreaLeft" t="textAreaTop" r="textAreaRight" b="textAreaBottom"/>
                      <a:pathLst>
                        <a:path w="21600" h="46454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54"/>
                          </a:lnTo>
                          <a:arcTo wR="3600" hR="3600" stAng="10800000" swAng="-5400000"/>
                          <a:lnTo>
                            <a:pt x="18000" y="46454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AutoShape 10"/>
                    <p:cNvSpPr/>
                    <p:nvPr/>
                  </p:nvSpPr>
                  <p:spPr>
                    <a:xfrm>
                      <a:off x="7130160" y="181080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0" name="Text Box 14"/>
                  <p:cNvSpPr/>
                  <p:nvPr/>
                </p:nvSpPr>
                <p:spPr>
                  <a:xfrm>
                    <a:off x="7254000" y="282564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Box 109"/>
                  <p:cNvSpPr/>
                  <p:nvPr/>
                </p:nvSpPr>
                <p:spPr>
                  <a:xfrm>
                    <a:off x="7130160" y="2000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1923840" y="4845960"/>
                <a:ext cx="504000" cy="495720"/>
                <a:chOff x="1923840" y="4845960"/>
                <a:chExt cx="504000" cy="495720"/>
              </a:xfrm>
            </p:grpSpPr>
            <p:grpSp>
              <p:nvGrpSpPr>
                <p:cNvPr id="583" name=""/>
                <p:cNvGrpSpPr/>
                <p:nvPr/>
              </p:nvGrpSpPr>
              <p:grpSpPr>
                <a:xfrm>
                  <a:off x="2125440" y="4845960"/>
                  <a:ext cx="302400" cy="495720"/>
                  <a:chOff x="2125440" y="4845960"/>
                  <a:chExt cx="302400" cy="495720"/>
                </a:xfrm>
              </p:grpSpPr>
              <p:sp>
                <p:nvSpPr>
                  <p:cNvPr id="584" name="Oval 32"/>
                  <p:cNvSpPr/>
                  <p:nvPr/>
                </p:nvSpPr>
                <p:spPr>
                  <a:xfrm>
                    <a:off x="21254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Oval 33"/>
                  <p:cNvSpPr/>
                  <p:nvPr/>
                </p:nvSpPr>
                <p:spPr>
                  <a:xfrm>
                    <a:off x="22262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Oval 34"/>
                  <p:cNvSpPr/>
                  <p:nvPr/>
                </p:nvSpPr>
                <p:spPr>
                  <a:xfrm>
                    <a:off x="23270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Oval 35"/>
                  <p:cNvSpPr/>
                  <p:nvPr/>
                </p:nvSpPr>
                <p:spPr>
                  <a:xfrm>
                    <a:off x="22262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Oval 36"/>
                  <p:cNvSpPr/>
                  <p:nvPr/>
                </p:nvSpPr>
                <p:spPr>
                  <a:xfrm>
                    <a:off x="21254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1923840" y="4845960"/>
                  <a:ext cx="302400" cy="495720"/>
                  <a:chOff x="1923840" y="4845960"/>
                  <a:chExt cx="302400" cy="495720"/>
                </a:xfrm>
              </p:grpSpPr>
              <p:sp>
                <p:nvSpPr>
                  <p:cNvPr id="590" name="Oval 38"/>
                  <p:cNvSpPr/>
                  <p:nvPr/>
                </p:nvSpPr>
                <p:spPr>
                  <a:xfrm>
                    <a:off x="192384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Oval 39"/>
                  <p:cNvSpPr/>
                  <p:nvPr/>
                </p:nvSpPr>
                <p:spPr>
                  <a:xfrm>
                    <a:off x="202464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Oval 40"/>
                  <p:cNvSpPr/>
                  <p:nvPr/>
                </p:nvSpPr>
                <p:spPr>
                  <a:xfrm>
                    <a:off x="212544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Oval 41"/>
                  <p:cNvSpPr/>
                  <p:nvPr/>
                </p:nvSpPr>
                <p:spPr>
                  <a:xfrm>
                    <a:off x="202464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Oval 42"/>
                  <p:cNvSpPr/>
                  <p:nvPr/>
                </p:nvSpPr>
                <p:spPr>
                  <a:xfrm>
                    <a:off x="192384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"/>
              <p:cNvGrpSpPr/>
              <p:nvPr/>
            </p:nvGrpSpPr>
            <p:grpSpPr>
              <a:xfrm>
                <a:off x="3495600" y="4845960"/>
                <a:ext cx="504000" cy="495720"/>
                <a:chOff x="3495600" y="4845960"/>
                <a:chExt cx="504000" cy="495720"/>
              </a:xfrm>
            </p:grpSpPr>
            <p:grpSp>
              <p:nvGrpSpPr>
                <p:cNvPr id="596" name=""/>
                <p:cNvGrpSpPr/>
                <p:nvPr/>
              </p:nvGrpSpPr>
              <p:grpSpPr>
                <a:xfrm>
                  <a:off x="3697200" y="4845960"/>
                  <a:ext cx="302400" cy="495720"/>
                  <a:chOff x="3697200" y="4845960"/>
                  <a:chExt cx="302400" cy="495720"/>
                </a:xfrm>
              </p:grpSpPr>
              <p:sp>
                <p:nvSpPr>
                  <p:cNvPr id="597" name="Oval 32"/>
                  <p:cNvSpPr/>
                  <p:nvPr/>
                </p:nvSpPr>
                <p:spPr>
                  <a:xfrm>
                    <a:off x="36972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33"/>
                  <p:cNvSpPr/>
                  <p:nvPr/>
                </p:nvSpPr>
                <p:spPr>
                  <a:xfrm>
                    <a:off x="37980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34"/>
                  <p:cNvSpPr/>
                  <p:nvPr/>
                </p:nvSpPr>
                <p:spPr>
                  <a:xfrm>
                    <a:off x="38988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Oval 35"/>
                  <p:cNvSpPr/>
                  <p:nvPr/>
                </p:nvSpPr>
                <p:spPr>
                  <a:xfrm>
                    <a:off x="37980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Oval 36"/>
                  <p:cNvSpPr/>
                  <p:nvPr/>
                </p:nvSpPr>
                <p:spPr>
                  <a:xfrm>
                    <a:off x="36972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3495600" y="4845960"/>
                  <a:ext cx="302400" cy="495720"/>
                  <a:chOff x="3495600" y="4845960"/>
                  <a:chExt cx="302400" cy="495720"/>
                </a:xfrm>
              </p:grpSpPr>
              <p:sp>
                <p:nvSpPr>
                  <p:cNvPr id="603" name="Oval 38"/>
                  <p:cNvSpPr/>
                  <p:nvPr/>
                </p:nvSpPr>
                <p:spPr>
                  <a:xfrm>
                    <a:off x="349560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Oval 39"/>
                  <p:cNvSpPr/>
                  <p:nvPr/>
                </p:nvSpPr>
                <p:spPr>
                  <a:xfrm>
                    <a:off x="359640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Oval 40"/>
                  <p:cNvSpPr/>
                  <p:nvPr/>
                </p:nvSpPr>
                <p:spPr>
                  <a:xfrm>
                    <a:off x="369720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Oval 41"/>
                  <p:cNvSpPr/>
                  <p:nvPr/>
                </p:nvSpPr>
                <p:spPr>
                  <a:xfrm>
                    <a:off x="359640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Oval 42"/>
                  <p:cNvSpPr/>
                  <p:nvPr/>
                </p:nvSpPr>
                <p:spPr>
                  <a:xfrm>
                    <a:off x="349560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8" name=""/>
              <p:cNvGrpSpPr/>
              <p:nvPr/>
            </p:nvGrpSpPr>
            <p:grpSpPr>
              <a:xfrm>
                <a:off x="5210280" y="4845960"/>
                <a:ext cx="504000" cy="495720"/>
                <a:chOff x="5210280" y="4845960"/>
                <a:chExt cx="504000" cy="495720"/>
              </a:xfrm>
            </p:grpSpPr>
            <p:grpSp>
              <p:nvGrpSpPr>
                <p:cNvPr id="609" name=""/>
                <p:cNvGrpSpPr/>
                <p:nvPr/>
              </p:nvGrpSpPr>
              <p:grpSpPr>
                <a:xfrm>
                  <a:off x="5411880" y="4845960"/>
                  <a:ext cx="302400" cy="495720"/>
                  <a:chOff x="5411880" y="4845960"/>
                  <a:chExt cx="302400" cy="495720"/>
                </a:xfrm>
              </p:grpSpPr>
              <p:sp>
                <p:nvSpPr>
                  <p:cNvPr id="610" name="Oval 32"/>
                  <p:cNvSpPr/>
                  <p:nvPr/>
                </p:nvSpPr>
                <p:spPr>
                  <a:xfrm>
                    <a:off x="54118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Oval 33"/>
                  <p:cNvSpPr/>
                  <p:nvPr/>
                </p:nvSpPr>
                <p:spPr>
                  <a:xfrm>
                    <a:off x="55126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Oval 34"/>
                  <p:cNvSpPr/>
                  <p:nvPr/>
                </p:nvSpPr>
                <p:spPr>
                  <a:xfrm>
                    <a:off x="56134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Oval 35"/>
                  <p:cNvSpPr/>
                  <p:nvPr/>
                </p:nvSpPr>
                <p:spPr>
                  <a:xfrm>
                    <a:off x="55126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Oval 36"/>
                  <p:cNvSpPr/>
                  <p:nvPr/>
                </p:nvSpPr>
                <p:spPr>
                  <a:xfrm>
                    <a:off x="54118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210280" y="4845960"/>
                  <a:ext cx="302400" cy="495720"/>
                  <a:chOff x="5210280" y="4845960"/>
                  <a:chExt cx="302400" cy="495720"/>
                </a:xfrm>
              </p:grpSpPr>
              <p:sp>
                <p:nvSpPr>
                  <p:cNvPr id="616" name="Oval 38"/>
                  <p:cNvSpPr/>
                  <p:nvPr/>
                </p:nvSpPr>
                <p:spPr>
                  <a:xfrm>
                    <a:off x="5210280" y="48459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Oval 39"/>
                  <p:cNvSpPr/>
                  <p:nvPr/>
                </p:nvSpPr>
                <p:spPr>
                  <a:xfrm>
                    <a:off x="5311080" y="49453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Oval 40"/>
                  <p:cNvSpPr/>
                  <p:nvPr/>
                </p:nvSpPr>
                <p:spPr>
                  <a:xfrm>
                    <a:off x="5411880" y="50443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Oval 41"/>
                  <p:cNvSpPr/>
                  <p:nvPr/>
                </p:nvSpPr>
                <p:spPr>
                  <a:xfrm>
                    <a:off x="5311080" y="51436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Oval 42"/>
                  <p:cNvSpPr/>
                  <p:nvPr/>
                </p:nvSpPr>
                <p:spPr>
                  <a:xfrm>
                    <a:off x="5210280" y="52430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6853320" y="4848840"/>
                <a:ext cx="504000" cy="495720"/>
                <a:chOff x="6853320" y="4848840"/>
                <a:chExt cx="504000" cy="49572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7054920" y="4848840"/>
                  <a:ext cx="302400" cy="495720"/>
                  <a:chOff x="7054920" y="4848840"/>
                  <a:chExt cx="302400" cy="495720"/>
                </a:xfrm>
              </p:grpSpPr>
              <p:sp>
                <p:nvSpPr>
                  <p:cNvPr id="623" name="Oval 32"/>
                  <p:cNvSpPr/>
                  <p:nvPr/>
                </p:nvSpPr>
                <p:spPr>
                  <a:xfrm>
                    <a:off x="70549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Oval 33"/>
                  <p:cNvSpPr/>
                  <p:nvPr/>
                </p:nvSpPr>
                <p:spPr>
                  <a:xfrm>
                    <a:off x="71557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Oval 34"/>
                  <p:cNvSpPr/>
                  <p:nvPr/>
                </p:nvSpPr>
                <p:spPr>
                  <a:xfrm>
                    <a:off x="72565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Oval 35"/>
                  <p:cNvSpPr/>
                  <p:nvPr/>
                </p:nvSpPr>
                <p:spPr>
                  <a:xfrm>
                    <a:off x="71557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Oval 36"/>
                  <p:cNvSpPr/>
                  <p:nvPr/>
                </p:nvSpPr>
                <p:spPr>
                  <a:xfrm>
                    <a:off x="70549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8" name=""/>
                <p:cNvGrpSpPr/>
                <p:nvPr/>
              </p:nvGrpSpPr>
              <p:grpSpPr>
                <a:xfrm>
                  <a:off x="6853320" y="4848840"/>
                  <a:ext cx="302400" cy="495720"/>
                  <a:chOff x="6853320" y="4848840"/>
                  <a:chExt cx="302400" cy="495720"/>
                </a:xfrm>
              </p:grpSpPr>
              <p:sp>
                <p:nvSpPr>
                  <p:cNvPr id="629" name="Oval 38"/>
                  <p:cNvSpPr/>
                  <p:nvPr/>
                </p:nvSpPr>
                <p:spPr>
                  <a:xfrm>
                    <a:off x="6853320" y="484884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Oval 39"/>
                  <p:cNvSpPr/>
                  <p:nvPr/>
                </p:nvSpPr>
                <p:spPr>
                  <a:xfrm>
                    <a:off x="6954120" y="494820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Oval 40"/>
                  <p:cNvSpPr/>
                  <p:nvPr/>
                </p:nvSpPr>
                <p:spPr>
                  <a:xfrm>
                    <a:off x="7054920" y="504720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Oval 41"/>
                  <p:cNvSpPr/>
                  <p:nvPr/>
                </p:nvSpPr>
                <p:spPr>
                  <a:xfrm>
                    <a:off x="6954120" y="514656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Oval 42"/>
                  <p:cNvSpPr/>
                  <p:nvPr/>
                </p:nvSpPr>
                <p:spPr>
                  <a:xfrm>
                    <a:off x="6853320" y="524592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34" name="TextBox 184"/>
            <p:cNvSpPr/>
            <p:nvPr/>
          </p:nvSpPr>
          <p:spPr>
            <a:xfrm>
              <a:off x="3849840" y="563148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636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411480" y="2126160"/>
            <a:ext cx="8375400" cy="2088720"/>
            <a:chOff x="411480" y="2126160"/>
            <a:chExt cx="8375400" cy="2088720"/>
          </a:xfrm>
        </p:grpSpPr>
        <p:grpSp>
          <p:nvGrpSpPr>
            <p:cNvPr id="641" name=""/>
            <p:cNvGrpSpPr/>
            <p:nvPr/>
          </p:nvGrpSpPr>
          <p:grpSpPr>
            <a:xfrm>
              <a:off x="1004400" y="2571120"/>
              <a:ext cx="7782480" cy="1643760"/>
              <a:chOff x="1004400" y="2571120"/>
              <a:chExt cx="7782480" cy="1643760"/>
            </a:xfrm>
          </p:grpSpPr>
          <p:grpSp>
            <p:nvGrpSpPr>
              <p:cNvPr id="642" name=""/>
              <p:cNvGrpSpPr/>
              <p:nvPr/>
            </p:nvGrpSpPr>
            <p:grpSpPr>
              <a:xfrm>
                <a:off x="1004400" y="2571120"/>
                <a:ext cx="7568280" cy="1643760"/>
                <a:chOff x="1004400" y="2571120"/>
                <a:chExt cx="7568280" cy="1643760"/>
              </a:xfrm>
            </p:grpSpPr>
            <p:sp>
              <p:nvSpPr>
                <p:cNvPr id="643" name="TextBox 11"/>
                <p:cNvSpPr/>
                <p:nvPr/>
              </p:nvSpPr>
              <p:spPr>
                <a:xfrm>
                  <a:off x="1992600" y="2639160"/>
                  <a:ext cx="196560" cy="5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圆角矩形 20"/>
                <p:cNvSpPr/>
                <p:nvPr/>
              </p:nvSpPr>
              <p:spPr>
                <a:xfrm>
                  <a:off x="1004400" y="2571120"/>
                  <a:ext cx="7568280" cy="164376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c8d0ca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矩形 22"/>
              <p:cNvSpPr/>
              <p:nvPr/>
            </p:nvSpPr>
            <p:spPr>
              <a:xfrm>
                <a:off x="1714680" y="2785320"/>
                <a:ext cx="7072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建立</a:t>
                </a:r>
                <a:r>
                  <a:rPr b="1" lang="zh-CN" sz="2000" spc="-1" strike="noStrike">
                    <a:solidFill>
                      <a:srgbClr val="115a7a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—CaO —Si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—F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四元系的四面体相图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矩形 23"/>
              <p:cNvSpPr/>
              <p:nvPr/>
            </p:nvSpPr>
            <p:spPr>
              <a:xfrm>
                <a:off x="1714680" y="3488040"/>
                <a:ext cx="671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分析  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该四元系在富铁区域的相关系及其熔化规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矩形 29"/>
            <p:cNvSpPr/>
            <p:nvPr/>
          </p:nvSpPr>
          <p:spPr>
            <a:xfrm rot="20431200">
              <a:off x="428760" y="2450880"/>
              <a:ext cx="2025360" cy="451800"/>
            </a:xfrm>
            <a:prstGeom prst="rect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验目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48" name=""/>
          <p:cNvGraphicFramePr/>
          <p:nvPr/>
        </p:nvGraphicFramePr>
        <p:xfrm>
          <a:off x="1290600" y="485784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2411280" y="631044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50" dur="5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65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51"/>
          <p:cNvSpPr/>
          <p:nvPr/>
        </p:nvSpPr>
        <p:spPr>
          <a:xfrm>
            <a:off x="-68400" y="571680"/>
            <a:ext cx="274032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01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657" name="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659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矩形 121"/>
            <p:cNvSpPr/>
            <p:nvPr/>
          </p:nvSpPr>
          <p:spPr>
            <a:xfrm>
              <a:off x="3415680" y="4643280"/>
              <a:ext cx="34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34520" y="2286000"/>
            <a:ext cx="8579160" cy="1774800"/>
            <a:chOff x="434520" y="2286000"/>
            <a:chExt cx="8579160" cy="1774800"/>
          </a:xfrm>
        </p:grpSpPr>
        <p:grpSp>
          <p:nvGrpSpPr>
            <p:cNvPr id="664" name="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665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668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434520" y="2428560"/>
              <a:ext cx="729360" cy="1286280"/>
              <a:chOff x="434520" y="2428560"/>
              <a:chExt cx="729360" cy="128628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672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3" name="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674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76" name="TextBox 128"/>
              <p:cNvSpPr/>
              <p:nvPr/>
            </p:nvSpPr>
            <p:spPr>
              <a:xfrm>
                <a:off x="434520" y="2556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678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682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685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34520" y="2928960"/>
            <a:ext cx="8579160" cy="1773360"/>
            <a:chOff x="434520" y="2928960"/>
            <a:chExt cx="8579160" cy="1773360"/>
          </a:xfrm>
        </p:grpSpPr>
        <p:grpSp>
          <p:nvGrpSpPr>
            <p:cNvPr id="689" name="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690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693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434520" y="3071160"/>
              <a:ext cx="729360" cy="1285560"/>
              <a:chOff x="434520" y="3071160"/>
              <a:chExt cx="729360" cy="1285560"/>
            </a:xfrm>
          </p:grpSpPr>
          <p:grpSp>
            <p:nvGrpSpPr>
              <p:cNvPr id="696" name="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697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699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1" name="TextBox 42"/>
              <p:cNvSpPr/>
              <p:nvPr/>
            </p:nvSpPr>
            <p:spPr>
              <a:xfrm>
                <a:off x="434520" y="3198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703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5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709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714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WordArt 14"/>
            <p:cNvSpPr txBox="1"/>
            <p:nvPr/>
          </p:nvSpPr>
          <p:spPr>
            <a:xfrm>
              <a:off x="1442160" y="2339280"/>
              <a:ext cx="1165680" cy="33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-1" strike="noStrike">
                  <a:ln w="0">
                    <a:noFill/>
                  </a:ln>
                  <a:noFill/>
                  <a:latin typeface="微软雅黑"/>
                </a:rPr>
                <a:t>研究目的</a:t>
              </a:r>
              <a:endParaRPr b="1" lang="en-US" sz="1760" spc="-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  <p:sp>
          <p:nvSpPr>
            <p:cNvPr id="717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719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WordArt 14"/>
            <p:cNvSpPr txBox="1"/>
            <p:nvPr/>
          </p:nvSpPr>
          <p:spPr>
            <a:xfrm>
              <a:off x="1428480" y="3428640"/>
              <a:ext cx="1214280" cy="35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-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主要思想</a:t>
              </a:r>
              <a:endParaRPr b="1" lang="en-US" sz="1760" spc="-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724" name="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725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8" name="WordArt 14"/>
            <p:cNvSpPr txBox="1"/>
            <p:nvPr/>
          </p:nvSpPr>
          <p:spPr>
            <a:xfrm>
              <a:off x="1428480" y="457200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-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实验方法</a:t>
              </a:r>
              <a:endParaRPr b="1" lang="en-US" sz="1760" spc="-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730" name="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731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WordArt 14"/>
            <p:cNvSpPr txBox="1"/>
            <p:nvPr/>
          </p:nvSpPr>
          <p:spPr>
            <a:xfrm>
              <a:off x="1428480" y="571464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-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创新与难点</a:t>
              </a:r>
              <a:endParaRPr b="1" lang="en-US" sz="1760" spc="-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735" name="TextBox 78"/>
          <p:cNvSpPr/>
          <p:nvPr/>
        </p:nvSpPr>
        <p:spPr>
          <a:xfrm>
            <a:off x="40600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88" dur="5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738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645840" y="4286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285120" y="1257840"/>
            <a:ext cx="8672400" cy="4851360"/>
            <a:chOff x="285120" y="1257840"/>
            <a:chExt cx="8672400" cy="4851360"/>
          </a:xfrm>
        </p:grpSpPr>
        <p:sp>
          <p:nvSpPr>
            <p:cNvPr id="744" name="Line 18"/>
            <p:cNvSpPr/>
            <p:nvPr/>
          </p:nvSpPr>
          <p:spPr>
            <a:xfrm flipV="1">
              <a:off x="2999880" y="3786120"/>
              <a:ext cx="1143000" cy="537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9"/>
            <p:cNvSpPr/>
            <p:nvPr/>
          </p:nvSpPr>
          <p:spPr>
            <a:xfrm flipV="1">
              <a:off x="7000560" y="2214720"/>
              <a:ext cx="714240" cy="3571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1499400" y="3214800"/>
              <a:ext cx="571320" cy="7855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285120" y="1928880"/>
              <a:ext cx="1642680" cy="1914120"/>
              <a:chOff x="285120" y="1928880"/>
              <a:chExt cx="1642680" cy="1914120"/>
            </a:xfrm>
          </p:grpSpPr>
          <p:sp>
            <p:nvSpPr>
              <p:cNvPr id="748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矩形 26"/>
              <p:cNvSpPr/>
              <p:nvPr/>
            </p:nvSpPr>
            <p:spPr>
              <a:xfrm>
                <a:off x="713520" y="22860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"/>
            <p:cNvGrpSpPr/>
            <p:nvPr/>
          </p:nvGrpSpPr>
          <p:grpSpPr>
            <a:xfrm>
              <a:off x="1683360" y="3714840"/>
              <a:ext cx="1484640" cy="1914120"/>
              <a:chOff x="1683360" y="3714840"/>
              <a:chExt cx="1484640" cy="1914120"/>
            </a:xfrm>
          </p:grpSpPr>
          <p:sp>
            <p:nvSpPr>
              <p:cNvPr id="751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矩形 27"/>
              <p:cNvSpPr/>
              <p:nvPr/>
            </p:nvSpPr>
            <p:spPr>
              <a:xfrm>
                <a:off x="2070720" y="4071960"/>
                <a:ext cx="85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1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7457400" y="1257840"/>
              <a:ext cx="1500120" cy="1838880"/>
              <a:chOff x="7457400" y="1257840"/>
              <a:chExt cx="1500120" cy="1838880"/>
            </a:xfrm>
          </p:grpSpPr>
          <p:sp>
            <p:nvSpPr>
              <p:cNvPr id="754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矩形 34"/>
              <p:cNvSpPr/>
              <p:nvPr/>
            </p:nvSpPr>
            <p:spPr>
              <a:xfrm>
                <a:off x="7885800" y="15397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5714280" y="1954080"/>
              <a:ext cx="1500120" cy="1883520"/>
              <a:chOff x="5714280" y="1954080"/>
              <a:chExt cx="1500120" cy="1883520"/>
            </a:xfrm>
          </p:grpSpPr>
          <p:sp>
            <p:nvSpPr>
              <p:cNvPr id="757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矩形 37"/>
              <p:cNvSpPr/>
              <p:nvPr/>
            </p:nvSpPr>
            <p:spPr>
              <a:xfrm>
                <a:off x="6071400" y="22806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876840" y="2888640"/>
              <a:ext cx="1356840" cy="1842480"/>
              <a:chOff x="3876840" y="2888640"/>
              <a:chExt cx="1356840" cy="1842480"/>
            </a:xfrm>
          </p:grpSpPr>
          <p:sp>
            <p:nvSpPr>
              <p:cNvPr id="760" name="Rectangle 9"/>
              <p:cNvSpPr/>
              <p:nvPr/>
            </p:nvSpPr>
            <p:spPr>
              <a:xfrm rot="3418800">
                <a:off x="405504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矩形 38"/>
              <p:cNvSpPr/>
              <p:nvPr/>
            </p:nvSpPr>
            <p:spPr>
              <a:xfrm>
                <a:off x="4162680" y="31741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2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2" name="Line 18"/>
            <p:cNvSpPr/>
            <p:nvPr/>
          </p:nvSpPr>
          <p:spPr>
            <a:xfrm flipV="1">
              <a:off x="5071680" y="3000240"/>
              <a:ext cx="928440" cy="3949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Text Box 23"/>
            <p:cNvSpPr/>
            <p:nvPr/>
          </p:nvSpPr>
          <p:spPr>
            <a:xfrm>
              <a:off x="523800" y="40719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844640" y="1071720"/>
            <a:ext cx="6585120" cy="2252520"/>
          </a:xfrm>
          <a:prstGeom prst="rect">
            <a:avLst/>
          </a:prstGeom>
          <a:noFill/>
          <a:ln w="127080">
            <a:solidFill>
              <a:srgbClr val="acdef4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118"/>
          <p:cNvSpPr/>
          <p:nvPr/>
        </p:nvSpPr>
        <p:spPr>
          <a:xfrm>
            <a:off x="2446200" y="3357720"/>
            <a:ext cx="34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66383"/>
                </a:solidFill>
                <a:latin typeface="Arial"/>
                <a:ea typeface="宋体"/>
              </a:rPr>
              <a:t>Just do 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94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607" dur="1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5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MS Mincho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MS Mincho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MS Mincho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2290680" y="269244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5462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6ae4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2BA-816D-440B-B53C-4C0420BCE9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240" y="6346800"/>
            <a:ext cx="9131400" cy="511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0"/>
            <a:ext cx="9153360" cy="4938840"/>
          </a:xfrm>
          <a:prstGeom prst="rect">
            <a:avLst/>
          </a:prstGeom>
          <a:solidFill>
            <a:srgbClr val="768a7b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0" y="0"/>
            <a:ext cx="9155160" cy="43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0" y="0"/>
            <a:ext cx="91533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240" y="4562640"/>
            <a:ext cx="9131400" cy="510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WordArt 2"/>
          <p:cNvSpPr txBox="1"/>
          <p:nvPr/>
        </p:nvSpPr>
        <p:spPr>
          <a:xfrm>
            <a:off x="304920" y="237168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Thank You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pic>
        <p:nvPicPr>
          <p:cNvPr id="779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80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        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Comic Sans MS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4"/>
          <p:cNvSpPr/>
          <p:nvPr/>
        </p:nvSpPr>
        <p:spPr>
          <a:xfrm>
            <a:off x="841680" y="528624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琥珀"/>
                <a:ea typeface="华文琥珀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4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4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118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20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 txBox="1"/>
          <p:nvPr/>
        </p:nvSpPr>
        <p:spPr>
          <a:xfrm>
            <a:off x="725400" y="1924200"/>
            <a:ext cx="8355240" cy="7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125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1294600">
              <a:off x="0" y="313380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135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 rot="21294600">
              <a:off x="3142800" y="34192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145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 rot="21294600">
              <a:off x="6238440" y="32050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155" name="Rounded Rectangle 95"/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161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53640" y="6858000"/>
            <a:ext cx="2632320" cy="1829160"/>
            <a:chOff x="53640" y="6858000"/>
            <a:chExt cx="2632320" cy="1829160"/>
          </a:xfrm>
        </p:grpSpPr>
        <p:sp>
          <p:nvSpPr>
            <p:cNvPr id="165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21294600">
              <a:off x="70920" y="7536240"/>
              <a:ext cx="2525760" cy="50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175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5"/>
            <p:cNvSpPr/>
            <p:nvPr/>
          </p:nvSpPr>
          <p:spPr>
            <a:xfrm>
              <a:off x="4949280" y="1957320"/>
              <a:ext cx="33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178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82"/>
          <p:cNvSpPr/>
          <p:nvPr/>
        </p:nvSpPr>
        <p:spPr>
          <a:xfrm>
            <a:off x="500040" y="47862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3"/>
          <p:cNvSpPr/>
          <p:nvPr/>
        </p:nvSpPr>
        <p:spPr>
          <a:xfrm>
            <a:off x="612360" y="5500800"/>
            <a:ext cx="337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182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186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194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21294600">
              <a:off x="70920" y="678240"/>
              <a:ext cx="2525760" cy="50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"/>
          <p:cNvSpPr/>
          <p:nvPr/>
        </p:nvSpPr>
        <p:spPr>
          <a:xfrm>
            <a:off x="571680" y="2214720"/>
            <a:ext cx="3357360" cy="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549360" y="3240000"/>
            <a:ext cx="3379680" cy="4608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"/>
          <p:cNvSpPr/>
          <p:nvPr/>
        </p:nvSpPr>
        <p:spPr>
          <a:xfrm>
            <a:off x="500040" y="4357800"/>
            <a:ext cx="3379680" cy="144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209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5186160" y="1959120"/>
              <a:ext cx="28609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212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15040" y="6858000"/>
            <a:ext cx="4500720" cy="4155120"/>
            <a:chOff x="6215040" y="6858000"/>
            <a:chExt cx="4500720" cy="4155120"/>
          </a:xfrm>
        </p:grpSpPr>
        <p:pic>
          <p:nvPicPr>
            <p:cNvPr id="215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矩形 29"/>
            <p:cNvSpPr/>
            <p:nvPr/>
          </p:nvSpPr>
          <p:spPr>
            <a:xfrm>
              <a:off x="6995880" y="10644840"/>
              <a:ext cx="30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19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224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640" y="0"/>
            <a:ext cx="2632320" cy="1829160"/>
            <a:chOff x="53640" y="0"/>
            <a:chExt cx="2632320" cy="1829160"/>
          </a:xfrm>
        </p:grpSpPr>
        <p:sp>
          <p:nvSpPr>
            <p:cNvPr id="227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21294600">
              <a:off x="70920" y="678240"/>
              <a:ext cx="2525760" cy="50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237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245" name="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246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249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252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矩形 75"/>
            <p:cNvSpPr/>
            <p:nvPr/>
          </p:nvSpPr>
          <p:spPr>
            <a:xfrm>
              <a:off x="5452920" y="4997160"/>
              <a:ext cx="1328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57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411280" y="6310440"/>
            <a:ext cx="42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6ae44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灯片编号占位符 4"/>
          <p:cNvSpPr/>
          <p:nvPr/>
        </p:nvSpPr>
        <p:spPr>
          <a:xfrm>
            <a:off x="6553080" y="662940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83C-128F-4FF9-BE17-CB56BFFAE02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sp>
        <p:nvSpPr>
          <p:cNvPr id="263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265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 txBox="1"/>
          <p:nvPr/>
        </p:nvSpPr>
        <p:spPr>
          <a:xfrm>
            <a:off x="725400" y="1924200"/>
            <a:ext cx="8355240" cy="71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-29520" y="2071800"/>
            <a:ext cx="3003480" cy="2811240"/>
            <a:chOff x="-29520" y="2071800"/>
            <a:chExt cx="3003480" cy="2811240"/>
          </a:xfrm>
        </p:grpSpPr>
        <p:sp>
          <p:nvSpPr>
            <p:cNvPr id="270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21294600">
              <a:off x="0" y="313380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113640" y="2357280"/>
            <a:ext cx="3003480" cy="2811600"/>
            <a:chOff x="3113640" y="2357280"/>
            <a:chExt cx="3003480" cy="2811600"/>
          </a:xfrm>
        </p:grpSpPr>
        <p:sp>
          <p:nvSpPr>
            <p:cNvPr id="28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21294600">
              <a:off x="3142800" y="34192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09280" y="2143080"/>
            <a:ext cx="3003480" cy="2811600"/>
            <a:chOff x="6209280" y="2143080"/>
            <a:chExt cx="3003480" cy="2811600"/>
          </a:xfrm>
        </p:grpSpPr>
        <p:sp>
          <p:nvSpPr>
            <p:cNvPr id="29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 rot="21294600">
              <a:off x="6238440" y="3205080"/>
              <a:ext cx="2853000" cy="7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300" name="Rounded Rectangle 95"/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306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400" y="-377640"/>
            <a:ext cx="2417760" cy="199404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31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4770360" y="1957320"/>
              <a:ext cx="164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313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2560" y="6858000"/>
            <a:ext cx="2993760" cy="1916640"/>
            <a:chOff x="52560" y="6858000"/>
            <a:chExt cx="2993760" cy="1916640"/>
          </a:xfrm>
        </p:grpSpPr>
        <p:sp>
          <p:nvSpPr>
            <p:cNvPr id="320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 rot="21294600">
              <a:off x="70920" y="7521480"/>
              <a:ext cx="287640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330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999000" y="4071960"/>
            <a:ext cx="4287240" cy="1393920"/>
            <a:chOff x="999000" y="4071960"/>
            <a:chExt cx="4287240" cy="1393920"/>
          </a:xfrm>
        </p:grpSpPr>
        <p:sp>
          <p:nvSpPr>
            <p:cNvPr id="336" name="矩形 37"/>
            <p:cNvSpPr/>
            <p:nvPr/>
          </p:nvSpPr>
          <p:spPr>
            <a:xfrm>
              <a:off x="1050480" y="4274280"/>
              <a:ext cx="203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38"/>
            <p:cNvSpPr/>
            <p:nvPr/>
          </p:nvSpPr>
          <p:spPr>
            <a:xfrm>
              <a:off x="999000" y="491760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341" name="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342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344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grpSp>
              <p:nvGrpSpPr>
                <p:cNvPr id="348" name=""/>
                <p:cNvGrpSpPr/>
                <p:nvPr/>
              </p:nvGrpSpPr>
              <p:grpSpPr>
                <a:xfrm>
                  <a:off x="2820600" y="4250160"/>
                  <a:ext cx="1323000" cy="250200"/>
                  <a:chOff x="2820600" y="4250160"/>
                  <a:chExt cx="1323000" cy="250200"/>
                </a:xfrm>
              </p:grpSpPr>
              <p:cxnSp>
                <p:nvCxnSpPr>
                  <p:cNvPr id="349" name="肘形连接符​​ 9"/>
                  <p:cNvCxnSpPr/>
                  <p:nvPr/>
                </p:nvCxnSpPr>
                <p:spPr>
                  <a:xfrm flipV="1">
                    <a:off x="2820600" y="4250160"/>
                    <a:ext cx="1322280" cy="250560"/>
                  </a:xfrm>
                  <a:prstGeom prst="straightConnector1">
                    <a:avLst/>
                  </a:prstGeom>
                  <a:ln w="19080">
                    <a:solidFill>
                      <a:srgbClr val="009ad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  <p:sp>
                <p:nvSpPr>
                  <p:cNvPr id="350" name=""/>
                  <p:cNvSpPr txBox="1"/>
                  <p:nvPr/>
                </p:nvSpPr>
                <p:spPr>
                  <a:xfrm rot="16200000">
                    <a:off x="3357720" y="3714480"/>
                    <a:ext cx="249840" cy="1321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2820600" y="5143320"/>
                  <a:ext cx="1393560" cy="464760"/>
                  <a:chOff x="2820600" y="5143320"/>
                  <a:chExt cx="1393560" cy="464760"/>
                </a:xfrm>
              </p:grpSpPr>
              <p:cxnSp>
                <p:nvCxnSpPr>
                  <p:cNvPr id="352" name="肘形连接符​​ 11"/>
                  <p:cNvCxnSpPr/>
                  <p:nvPr/>
                </p:nvCxnSpPr>
                <p:spPr>
                  <a:xfrm>
                    <a:off x="2820600" y="5143320"/>
                    <a:ext cx="1393560" cy="465120"/>
                  </a:xfrm>
                  <a:prstGeom prst="straightConnector1">
                    <a:avLst/>
                  </a:prstGeom>
                  <a:ln w="19080">
                    <a:solidFill>
                      <a:srgbClr val="009ad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  <p:sp>
                <p:nvSpPr>
                  <p:cNvPr id="353" name=""/>
                  <p:cNvSpPr txBox="1"/>
                  <p:nvPr/>
                </p:nvSpPr>
                <p:spPr>
                  <a:xfrm rot="16200000">
                    <a:off x="3285360" y="4678920"/>
                    <a:ext cx="464400" cy="139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" name="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356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" name="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359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3:30Z</dcterms:modified>
  <cp:revision>30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