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6"/>
          <p:cNvGrpSpPr/>
          <p:nvPr/>
        </p:nvGrpSpPr>
        <p:grpSpPr>
          <a:xfrm>
            <a:off x="-60480" y="-23760"/>
            <a:ext cx="9264600" cy="5553000"/>
            <a:chOff x="-60480" y="-23760"/>
            <a:chExt cx="9264600" cy="5553000"/>
          </a:xfrm>
        </p:grpSpPr>
        <p:pic>
          <p:nvPicPr>
            <p:cNvPr id="1" name="矩形 6" descr=""/>
            <p:cNvPicPr/>
            <p:nvPr/>
          </p:nvPicPr>
          <p:blipFill>
            <a:blip r:embed="rId2"/>
            <a:stretch/>
          </p:blipFill>
          <p:spPr>
            <a:xfrm>
              <a:off x="-60480" y="-23760"/>
              <a:ext cx="9264600" cy="55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Picture 2" descr="C:\Documents and Settings\Owner\桌面\图片2.png"/>
          <p:cNvPicPr/>
          <p:nvPr/>
        </p:nvPicPr>
        <p:blipFill>
          <a:blip r:embed="rId3"/>
          <a:srcRect l="0" t="0" r="0" b="42769"/>
          <a:stretch/>
        </p:blipFill>
        <p:spPr>
          <a:xfrm>
            <a:off x="2873520" y="71280"/>
            <a:ext cx="3341520" cy="5357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258920" y="5445000"/>
            <a:ext cx="6619680" cy="1390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260520" y="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抗震救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2:50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5:30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