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E66-F05C-4BEA-B676-4B9D8870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1E1-6810-4CD6-B3B0-80DEFC97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05C-CBF2-45E1-B682-CDB3DB80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0CB-3737-44E1-832A-C6950463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34C-531A-49BE-9025-27D9027A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C3B-7822-442A-B0B4-29F78E2F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018-272E-4B55-9A30-5CB8884B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188-2914-41EB-9A06-B4CD947B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9FA-D956-4434-BCBD-2A9FF74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19F-EB2D-45F6-81A5-DD3A218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F03-BE9C-42D6-8BC9-C618121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32F-E6CF-4216-98FF-B583C3F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17F-CBB6-4C36-95F0-2B51EE53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957240" y="895320"/>
            <a:ext cx="6821640" cy="178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68360" y="4221000"/>
            <a:ext cx="810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掉到了纸上，把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了，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"/>
          <p:cNvPicPr/>
          <p:nvPr/>
        </p:nvPicPr>
        <p:blipFill>
          <a:blip r:embed="rId1"/>
          <a:srcRect l="26168" t="58669" r="47149" b="100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5508720" y="1052640"/>
            <a:ext cx="2663640" cy="1081080"/>
            <a:chOff x="5508720" y="1052640"/>
            <a:chExt cx="2663640" cy="1081080"/>
          </a:xfrm>
        </p:grpSpPr>
        <p:sp>
          <p:nvSpPr>
            <p:cNvPr id="71" name="AutoShape 4"/>
            <p:cNvSpPr/>
            <p:nvPr/>
          </p:nvSpPr>
          <p:spPr>
            <a:xfrm>
              <a:off x="5508720" y="1052640"/>
              <a:ext cx="2663640" cy="1081080"/>
            </a:xfrm>
            <a:prstGeom prst="cloudCallout">
              <a:avLst>
                <a:gd name="adj1" fmla="val -24254"/>
                <a:gd name="adj2" fmla="val 107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5"/>
            <p:cNvSpPr/>
            <p:nvPr/>
          </p:nvSpPr>
          <p:spPr>
            <a:xfrm>
              <a:off x="6285960" y="1268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哇</a:t>
              </a:r>
              <a:r>
                <a:rPr b="1" lang="en-US" sz="3600" spc="-1" strike="noStrike">
                  <a:solidFill>
                    <a:srgbClr val="06521e"/>
                  </a:solidFill>
                  <a:latin typeface="Arial"/>
                  <a:ea typeface="楷体_GB2312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6"/>
          <p:cNvSpPr/>
          <p:nvPr/>
        </p:nvSpPr>
        <p:spPr>
          <a:xfrm>
            <a:off x="6607800" y="610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玲玲哇的哭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3"/>
          <p:cNvGrpSpPr/>
          <p:nvPr/>
        </p:nvGrpSpPr>
        <p:grpSpPr>
          <a:xfrm>
            <a:off x="3564000" y="549360"/>
            <a:ext cx="3600360" cy="1295280"/>
            <a:chOff x="3564000" y="549360"/>
            <a:chExt cx="3600360" cy="1295280"/>
          </a:xfrm>
        </p:grpSpPr>
        <p:sp>
          <p:nvSpPr>
            <p:cNvPr id="76" name="AutoShape 4"/>
            <p:cNvSpPr/>
            <p:nvPr/>
          </p:nvSpPr>
          <p:spPr>
            <a:xfrm>
              <a:off x="3564000" y="549360"/>
              <a:ext cx="3600360" cy="129528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4425480" y="83664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6"/>
          <p:cNvGrpSpPr/>
          <p:nvPr/>
        </p:nvGrpSpPr>
        <p:grpSpPr>
          <a:xfrm>
            <a:off x="4788000" y="2637000"/>
            <a:ext cx="4608360" cy="1512720"/>
            <a:chOff x="4788000" y="2637000"/>
            <a:chExt cx="4608360" cy="1512720"/>
          </a:xfrm>
        </p:grpSpPr>
        <p:sp>
          <p:nvSpPr>
            <p:cNvPr id="79" name="AutoShape 7"/>
            <p:cNvSpPr/>
            <p:nvPr/>
          </p:nvSpPr>
          <p:spPr>
            <a:xfrm>
              <a:off x="4788000" y="2637000"/>
              <a:ext cx="4608360" cy="151272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5075280" y="2853000"/>
              <a:ext cx="40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脏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了，另画一张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也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来不及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705040" y="2997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3492360" y="549360"/>
            <a:ext cx="5111640" cy="1728720"/>
            <a:chOff x="3492360" y="549360"/>
            <a:chExt cx="5111640" cy="1728720"/>
          </a:xfrm>
        </p:grpSpPr>
        <p:sp>
          <p:nvSpPr>
            <p:cNvPr id="85" name="AutoShape 4"/>
            <p:cNvSpPr/>
            <p:nvPr/>
          </p:nvSpPr>
          <p:spPr>
            <a:xfrm>
              <a:off x="3492360" y="549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"/>
            <p:cNvSpPr/>
            <p:nvPr/>
          </p:nvSpPr>
          <p:spPr>
            <a:xfrm>
              <a:off x="3781440" y="766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什么，不是很好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486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小花狗懒洋洋地趴在楼梯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971640" y="5921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满意地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81080" y="333360"/>
            <a:ext cx="33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4"/>
          <p:cNvPicPr/>
          <p:nvPr/>
        </p:nvPicPr>
        <p:blipFill>
          <a:blip r:embed="rId3"/>
          <a:srcRect l="15748" t="16777" r="14567" b="16015"/>
          <a:stretch/>
        </p:blipFill>
        <p:spPr>
          <a:xfrm>
            <a:off x="1332000" y="1484280"/>
            <a:ext cx="6480000" cy="4969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9000" y="61516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黑体"/>
                <a:ea typeface="黑体"/>
              </a:rPr>
              <a:t>玲玲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3"/>
          <p:cNvGrpSpPr/>
          <p:nvPr/>
        </p:nvGrpSpPr>
        <p:grpSpPr>
          <a:xfrm>
            <a:off x="3419640" y="620640"/>
            <a:ext cx="5830200" cy="2881440"/>
            <a:chOff x="3419640" y="620640"/>
            <a:chExt cx="5830200" cy="2881440"/>
          </a:xfrm>
        </p:grpSpPr>
        <p:sp>
          <p:nvSpPr>
            <p:cNvPr id="103" name="AutoShape 4"/>
            <p:cNvSpPr/>
            <p:nvPr/>
          </p:nvSpPr>
          <p:spPr>
            <a:xfrm>
              <a:off x="3419640" y="620640"/>
              <a:ext cx="565128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3778200" y="1028520"/>
              <a:ext cx="54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看到了吧，孩子。好多事情并不像我们想象的那么糟。只要肯动脑筋，坏事往往能变成好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44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619280" y="1845360"/>
            <a:ext cx="6912000" cy="34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í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ú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玲   详   幅   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催   叭   脏   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76500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1"/>
          <p:cNvSpPr/>
          <p:nvPr/>
        </p:nvSpPr>
        <p:spPr>
          <a:xfrm>
            <a:off x="3059280" y="620640"/>
            <a:ext cx="5545080" cy="3672000"/>
          </a:xfrm>
          <a:prstGeom prst="wedgeRoundRectCallout">
            <a:avLst>
              <a:gd name="adj1" fmla="val -65976"/>
              <a:gd name="adj2" fmla="val 53416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48000" y="1268280"/>
            <a:ext cx="48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好多事情并不像我们想象的那么糟。只要肯动脑筋，坏事往往能变成好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796000" y="299736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4427640" y="357336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2CRN4_ZACHD]XS9W[AO3_9C"/>
          <p:cNvPicPr/>
          <p:nvPr/>
        </p:nvPicPr>
        <p:blipFill>
          <a:blip r:embed="rId1"/>
          <a:stretch/>
        </p:blipFill>
        <p:spPr>
          <a:xfrm>
            <a:off x="250920" y="189000"/>
            <a:ext cx="22208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EA0-0463-427B-AC35-2B949B138C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116000" y="249228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的话有道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听了爸爸的话，你有什么想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"/>
          <p:cNvPicPr/>
          <p:nvPr/>
        </p:nvPicPr>
        <p:blipFill>
          <a:blip r:embed="rId2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187280" y="2276640"/>
            <a:ext cx="738036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250920" y="1413000"/>
            <a:ext cx="8713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天到了，老师有一天穿了件裙子，裙子新买来的，朋友们都说好看，可是不小心被钉子挂了个洞，岂不是不能穿了吗？老师就想了个办法：在破洞的地方用红线绣了朵小花，裙子更漂亮了，谁也看不出是破了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次，我和小朋友玩过家家的时候，不小心把水洒了一地，我收拾好玩具，就把地拖了一遍，妈妈回来了，夸我是个爱劳动的好孩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15360" y="148428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436840" y="2671920"/>
            <a:ext cx="5087880" cy="1225440"/>
            <a:chOff x="2436840" y="2671920"/>
            <a:chExt cx="5087880" cy="1225440"/>
          </a:xfrm>
        </p:grpSpPr>
        <p:grpSp>
          <p:nvGrpSpPr>
            <p:cNvPr id="124" name="Group 5"/>
            <p:cNvGrpSpPr/>
            <p:nvPr/>
          </p:nvGrpSpPr>
          <p:grpSpPr>
            <a:xfrm>
              <a:off x="6253200" y="2708280"/>
              <a:ext cx="1271520" cy="1189080"/>
              <a:chOff x="6253200" y="2708280"/>
              <a:chExt cx="1271520" cy="118908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625320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"/>
              <p:cNvSpPr/>
              <p:nvPr/>
            </p:nvSpPr>
            <p:spPr>
              <a:xfrm flipH="1">
                <a:off x="625320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>
                <a:off x="688932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9"/>
            <p:cNvGrpSpPr/>
            <p:nvPr/>
          </p:nvGrpSpPr>
          <p:grpSpPr>
            <a:xfrm>
              <a:off x="4981680" y="2708280"/>
              <a:ext cx="1271520" cy="1189080"/>
              <a:chOff x="4981680" y="2708280"/>
              <a:chExt cx="1271520" cy="1189080"/>
            </a:xfrm>
          </p:grpSpPr>
          <p:sp>
            <p:nvSpPr>
              <p:cNvPr id="129" name="Rectangle 10"/>
              <p:cNvSpPr/>
              <p:nvPr/>
            </p:nvSpPr>
            <p:spPr>
              <a:xfrm>
                <a:off x="498168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1"/>
              <p:cNvSpPr/>
              <p:nvPr/>
            </p:nvSpPr>
            <p:spPr>
              <a:xfrm flipH="1">
                <a:off x="498168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61780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3708000" y="2708280"/>
              <a:ext cx="1273680" cy="1189080"/>
              <a:chOff x="3708000" y="2708280"/>
              <a:chExt cx="1273680" cy="118908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3708360" y="2708280"/>
                <a:ext cx="12733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>
                <a:off x="3708000" y="330300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>
                <a:off x="434520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7"/>
            <p:cNvGrpSpPr/>
            <p:nvPr/>
          </p:nvGrpSpPr>
          <p:grpSpPr>
            <a:xfrm>
              <a:off x="2436840" y="2708280"/>
              <a:ext cx="1271520" cy="1189080"/>
              <a:chOff x="2436840" y="2708280"/>
              <a:chExt cx="1271520" cy="1189080"/>
            </a:xfrm>
          </p:grpSpPr>
          <p:sp>
            <p:nvSpPr>
              <p:cNvPr id="137" name="Rectangle 18"/>
              <p:cNvSpPr/>
              <p:nvPr/>
            </p:nvSpPr>
            <p:spPr>
              <a:xfrm>
                <a:off x="243684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9"/>
              <p:cNvSpPr/>
              <p:nvPr/>
            </p:nvSpPr>
            <p:spPr>
              <a:xfrm flipH="1">
                <a:off x="243684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0"/>
              <p:cNvSpPr/>
              <p:nvPr/>
            </p:nvSpPr>
            <p:spPr>
              <a:xfrm>
                <a:off x="307296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21"/>
            <p:cNvSpPr/>
            <p:nvPr/>
          </p:nvSpPr>
          <p:spPr>
            <a:xfrm>
              <a:off x="2484360" y="2671920"/>
              <a:ext cx="50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叭玲狗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1834920" y="4221000"/>
            <a:ext cx="6337440" cy="1224000"/>
            <a:chOff x="1834920" y="4221000"/>
            <a:chExt cx="6337440" cy="1224000"/>
          </a:xfrm>
        </p:grpSpPr>
        <p:grpSp>
          <p:nvGrpSpPr>
            <p:cNvPr id="142" name="Group 23"/>
            <p:cNvGrpSpPr/>
            <p:nvPr/>
          </p:nvGrpSpPr>
          <p:grpSpPr>
            <a:xfrm>
              <a:off x="6876360" y="4255920"/>
              <a:ext cx="1270080" cy="1187280"/>
              <a:chOff x="6876360" y="4255920"/>
              <a:chExt cx="1270080" cy="1187280"/>
            </a:xfrm>
          </p:grpSpPr>
          <p:sp>
            <p:nvSpPr>
              <p:cNvPr id="143" name="Rectangle 24"/>
              <p:cNvSpPr/>
              <p:nvPr/>
            </p:nvSpPr>
            <p:spPr>
              <a:xfrm>
                <a:off x="6876720" y="4255920"/>
                <a:ext cx="12697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5"/>
              <p:cNvSpPr/>
              <p:nvPr/>
            </p:nvSpPr>
            <p:spPr>
              <a:xfrm flipH="1">
                <a:off x="6876360" y="4849560"/>
                <a:ext cx="12697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6"/>
              <p:cNvSpPr/>
              <p:nvPr/>
            </p:nvSpPr>
            <p:spPr>
              <a:xfrm>
                <a:off x="7511760" y="42850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7"/>
            <p:cNvGrpSpPr/>
            <p:nvPr/>
          </p:nvGrpSpPr>
          <p:grpSpPr>
            <a:xfrm>
              <a:off x="5650920" y="4255920"/>
              <a:ext cx="1271520" cy="1189080"/>
              <a:chOff x="5650920" y="4255920"/>
              <a:chExt cx="1271520" cy="1189080"/>
            </a:xfrm>
          </p:grpSpPr>
          <p:sp>
            <p:nvSpPr>
              <p:cNvPr id="147" name="Rectangle 28"/>
              <p:cNvSpPr/>
              <p:nvPr/>
            </p:nvSpPr>
            <p:spPr>
              <a:xfrm>
                <a:off x="565128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9"/>
              <p:cNvSpPr/>
              <p:nvPr/>
            </p:nvSpPr>
            <p:spPr>
              <a:xfrm flipH="1">
                <a:off x="565092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0"/>
              <p:cNvSpPr/>
              <p:nvPr/>
            </p:nvSpPr>
            <p:spPr>
              <a:xfrm>
                <a:off x="62870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4379400" y="4255920"/>
              <a:ext cx="1271520" cy="1189080"/>
              <a:chOff x="4379400" y="4255920"/>
              <a:chExt cx="1271520" cy="118908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437976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3"/>
              <p:cNvSpPr/>
              <p:nvPr/>
            </p:nvSpPr>
            <p:spPr>
              <a:xfrm flipH="1">
                <a:off x="437940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34"/>
              <p:cNvSpPr/>
              <p:nvPr/>
            </p:nvSpPr>
            <p:spPr>
              <a:xfrm>
                <a:off x="501552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5"/>
            <p:cNvGrpSpPr/>
            <p:nvPr/>
          </p:nvGrpSpPr>
          <p:grpSpPr>
            <a:xfrm>
              <a:off x="3106440" y="4255920"/>
              <a:ext cx="1272960" cy="1189080"/>
              <a:chOff x="3106440" y="4255920"/>
              <a:chExt cx="1272960" cy="1189080"/>
            </a:xfrm>
          </p:grpSpPr>
          <p:sp>
            <p:nvSpPr>
              <p:cNvPr id="155" name="Rectangle 36"/>
              <p:cNvSpPr/>
              <p:nvPr/>
            </p:nvSpPr>
            <p:spPr>
              <a:xfrm>
                <a:off x="3106440" y="4255920"/>
                <a:ext cx="12729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7"/>
              <p:cNvSpPr/>
              <p:nvPr/>
            </p:nvSpPr>
            <p:spPr>
              <a:xfrm flipH="1">
                <a:off x="3106440" y="4850640"/>
                <a:ext cx="12729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8"/>
              <p:cNvSpPr/>
              <p:nvPr/>
            </p:nvSpPr>
            <p:spPr>
              <a:xfrm>
                <a:off x="374328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9"/>
            <p:cNvGrpSpPr/>
            <p:nvPr/>
          </p:nvGrpSpPr>
          <p:grpSpPr>
            <a:xfrm>
              <a:off x="1834920" y="4255920"/>
              <a:ext cx="1271520" cy="1189080"/>
              <a:chOff x="1834920" y="4255920"/>
              <a:chExt cx="1271520" cy="1189080"/>
            </a:xfrm>
          </p:grpSpPr>
          <p:sp>
            <p:nvSpPr>
              <p:cNvPr id="159" name="Rectangle 40"/>
              <p:cNvSpPr/>
              <p:nvPr/>
            </p:nvSpPr>
            <p:spPr>
              <a:xfrm>
                <a:off x="183528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41"/>
              <p:cNvSpPr/>
              <p:nvPr/>
            </p:nvSpPr>
            <p:spPr>
              <a:xfrm flipH="1">
                <a:off x="183492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2"/>
              <p:cNvSpPr/>
              <p:nvPr/>
            </p:nvSpPr>
            <p:spPr>
              <a:xfrm>
                <a:off x="24710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43"/>
            <p:cNvSpPr/>
            <p:nvPr/>
          </p:nvSpPr>
          <p:spPr>
            <a:xfrm>
              <a:off x="1835280" y="4221000"/>
              <a:ext cx="633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楼梯肯脑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-1260360" y="-357120"/>
            <a:ext cx="1154412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187280" y="2060640"/>
            <a:ext cx="7056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    详    幅   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催    叭    脏   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900000" y="765000"/>
            <a:ext cx="194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09560" y="597528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93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7"/>
            <p:cNvSpPr/>
            <p:nvPr/>
          </p:nvSpPr>
          <p:spPr>
            <a:xfrm rot="20926800">
              <a:off x="19130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332000" y="1844640"/>
            <a:ext cx="691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玲     端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评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奖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脏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动脑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900000" y="765000"/>
            <a:ext cx="194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还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4360" y="83664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要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脑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坏事往往能变成好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054960" y="2805120"/>
            <a:ext cx="402120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开始对自己画的画满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从哪里看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584680" y="6165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玲玲满意地端详着自己画的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55640" y="436572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满意地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853920" y="145260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24:08Z</dcterms:modified>
  <cp:revision>5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