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11.png" ContentType="image/pn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1.gif" ContentType="image/gif"/>
  <Override PartName="/ppt/media/image44.jpeg" ContentType="image/jpeg"/>
  <Override PartName="/ppt/media/image30.jpeg" ContentType="image/jpeg"/>
  <Override PartName="/ppt/media/image24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42.jpeg" ContentType="image/jpeg"/>
  <Override PartName="/ppt/media/image19.jpeg" ContentType="image/jpe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2798-D17F-4199-B80D-D12916D46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E3A-0E5D-4489-80AB-D5A8D8F0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80CF-AE47-41ED-B973-E119E957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3AE0-FC41-4533-8E81-0CE0CF01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4CEC-D766-4C0F-A6A6-C40D0AAC9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CAD-238A-4199-BF1B-203FCFFE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287B-635F-4ED0-B61E-533A22367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CC28-F09B-4DC8-A0F4-5A4916F8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D73D-D484-44AB-A8A8-38766BDDB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6708-9BD2-4A07-A6C5-FBCBE578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E35-E2A6-418B-908F-D673D976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EFF4-2A8D-44C6-9F2B-1F118CCD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0.7.28   xiao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7341-2D7B-466C-946E-E46126C83D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63280" y="6094080"/>
            <a:ext cx="5545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都说绿色是最纯粹，是最永恒的向往，这里要讲述也是一个纯净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erhaps love 全索妍.mp3" descr=""/>
          <p:cNvPicPr/>
          <p:nvPr/>
        </p:nvPicPr>
        <p:blipFill>
          <a:blip r:embed="rId2"/>
          <a:stretch/>
        </p:blipFill>
        <p:spPr>
          <a:xfrm>
            <a:off x="-299880" y="6553080"/>
            <a:ext cx="29988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08000" y="544500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765go02e_副本"/>
          <p:cNvPicPr/>
          <p:nvPr/>
        </p:nvPicPr>
        <p:blipFill>
          <a:blip r:embed="rId1"/>
          <a:stretch/>
        </p:blipFill>
        <p:spPr>
          <a:xfrm>
            <a:off x="36360" y="44280"/>
            <a:ext cx="5612040" cy="432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03gnf474"/>
          <p:cNvPicPr/>
          <p:nvPr/>
        </p:nvPicPr>
        <p:blipFill>
          <a:blip r:embed="rId2"/>
          <a:stretch/>
        </p:blipFill>
        <p:spPr>
          <a:xfrm>
            <a:off x="1332000" y="4510080"/>
            <a:ext cx="1682640" cy="21859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84ry6lra"/>
          <p:cNvPicPr/>
          <p:nvPr/>
        </p:nvPicPr>
        <p:blipFill>
          <a:blip r:embed="rId3"/>
          <a:stretch/>
        </p:blipFill>
        <p:spPr>
          <a:xfrm>
            <a:off x="6445080" y="549360"/>
            <a:ext cx="1771920" cy="23050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ato1k6ar"/>
          <p:cNvPicPr/>
          <p:nvPr/>
        </p:nvPicPr>
        <p:blipFill>
          <a:blip r:embed="rId4"/>
          <a:stretch/>
        </p:blipFill>
        <p:spPr>
          <a:xfrm>
            <a:off x="4429080" y="3141720"/>
            <a:ext cx="4583160" cy="3527280"/>
          </a:xfrm>
          <a:prstGeom prst="rect">
            <a:avLst/>
          </a:prstGeom>
          <a:ln w="0">
            <a:noFill/>
          </a:ln>
        </p:spPr>
      </p:pic>
    </p:spTree>
  </p:cSld>
  <p:transition advTm="11000">
    <p:plus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5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9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60720" y="693360"/>
            <a:ext cx="56880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日出的时候，我们一起躺在绿色的草地上，手拉手，等待新的一天开始；下雨时，我们就在树丛中漫步。。听你讲叙着这几年的流浪故事，说着未来的憧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19f7a650d4acc27184352435"/>
          <p:cNvPicPr/>
          <p:nvPr/>
        </p:nvPicPr>
        <p:blipFill>
          <a:blip r:embed="rId2"/>
          <a:stretch/>
        </p:blipFill>
        <p:spPr>
          <a:xfrm>
            <a:off x="324000" y="765000"/>
            <a:ext cx="2808000" cy="3743640"/>
          </a:xfrm>
          <a:prstGeom prst="rect">
            <a:avLst/>
          </a:prstGeom>
          <a:ln w="0">
            <a:noFill/>
          </a:ln>
        </p:spPr>
      </p:pic>
    </p:spTree>
  </p:cSld>
  <p:transition advTm="13000">
    <p:split dir="in" orient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mph" presetID="1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str">
                                      <p:cBhvr additive="repl">
                                        <p:cTn id="215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0.7.28   xiao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3108240" cy="17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那日，你把含羞草弄成心型，手上握着两朵可爱的花朵，很兴奋的向我跑来时，我再也忍不住，不顾女孩的矜持。猝不及防，踮起脚尖，亲吻了下你。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20080910212738701_副本"/>
          <p:cNvPicPr/>
          <p:nvPr/>
        </p:nvPicPr>
        <p:blipFill>
          <a:blip r:embed="rId1"/>
          <a:stretch/>
        </p:blipFill>
        <p:spPr>
          <a:xfrm>
            <a:off x="4140360" y="260280"/>
            <a:ext cx="4327200" cy="61120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ebf991afa749b8c17dd92a15"/>
          <p:cNvPicPr/>
          <p:nvPr/>
        </p:nvPicPr>
        <p:blipFill>
          <a:blip r:embed="rId2"/>
          <a:stretch/>
        </p:blipFill>
        <p:spPr>
          <a:xfrm>
            <a:off x="396720" y="4005360"/>
            <a:ext cx="3362400" cy="25207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010022607501277"/>
          <p:cNvPicPr/>
          <p:nvPr/>
        </p:nvPicPr>
        <p:blipFill>
          <a:blip r:embed="rId3"/>
          <a:stretch/>
        </p:blipFill>
        <p:spPr>
          <a:xfrm>
            <a:off x="1908000" y="2133720"/>
            <a:ext cx="2016360" cy="2016000"/>
          </a:xfrm>
          <a:prstGeom prst="rect">
            <a:avLst/>
          </a:prstGeom>
          <a:ln w="0">
            <a:noFill/>
          </a:ln>
        </p:spPr>
      </p:pic>
    </p:spTree>
  </p:cSld>
  <p:transition advTm="9000">
    <p:checker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子就这样过去了，夏天就要离开了，你也要离开了，带着我们的约定而离开。。。后来的日子，我还是会在空闲之时，经常去附近走走，给老人讲故事，帮忙流浪的小动物，捡捡垃圾。。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11480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Arial"/>
              </a:rPr>
              <a:t>天气好时，我就拿着我的小提琴在公园弹奏；下雨时，空空的长椅静静的躺在那里，好像在述说着这个夏季的故事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be241922b970ac60ac34dea2"/>
          <p:cNvPicPr/>
          <p:nvPr/>
        </p:nvPicPr>
        <p:blipFill>
          <a:blip r:embed="rId2"/>
          <a:stretch/>
        </p:blipFill>
        <p:spPr>
          <a:xfrm>
            <a:off x="4861080" y="1701720"/>
            <a:ext cx="3166920" cy="487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00470711"/>
          <p:cNvPicPr/>
          <p:nvPr/>
        </p:nvPicPr>
        <p:blipFill>
          <a:blip r:embed="rId3"/>
          <a:stretch/>
        </p:blipFill>
        <p:spPr>
          <a:xfrm>
            <a:off x="612720" y="3429000"/>
            <a:ext cx="3832200" cy="2790720"/>
          </a:xfrm>
          <a:prstGeom prst="rect">
            <a:avLst/>
          </a:prstGeom>
          <a:ln w="0">
            <a:noFill/>
          </a:ln>
        </p:spPr>
      </p:pic>
    </p:spTree>
  </p:cSld>
  <p:transition advTm="13000">
    <p:blinds dir="vert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喜欢被芦苇丛包围的感觉。这时侯芦苇已经成熟，走过之时，白白的芦苇随风飘絮。我任头发在风中飞扬，闭着眼睛慢慢感触风的气息。你说过，风吹动，风车就会转到下个幸福的轮回，我一直坚信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2940776166e76965eaf8f838"/>
          <p:cNvPicPr/>
          <p:nvPr/>
        </p:nvPicPr>
        <p:blipFill>
          <a:blip r:embed="rId2"/>
          <a:stretch/>
        </p:blipFill>
        <p:spPr>
          <a:xfrm>
            <a:off x="179280" y="1486080"/>
            <a:ext cx="3768840" cy="28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D:/我的文档/My Pictures/1a6ef011c3ec0519b8127b24_副本_副本.jpg1a6ef011c3ec0519b8127b24_副本_副本"/>
          <p:cNvPicPr/>
          <p:nvPr/>
        </p:nvPicPr>
        <p:blipFill>
          <a:blip r:embed="rId3"/>
          <a:stretch/>
        </p:blipFill>
        <p:spPr>
          <a:xfrm>
            <a:off x="3780000" y="2781360"/>
            <a:ext cx="5329080" cy="4032360"/>
          </a:xfrm>
          <a:prstGeom prst="rect">
            <a:avLst/>
          </a:prstGeom>
          <a:ln w="0">
            <a:noFill/>
          </a:ln>
        </p:spPr>
      </p:pic>
    </p:spTree>
  </p:cSld>
  <p:transition advTm="9000"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61" dur="2000" fill="hold"/>
                                        <p:tgtEl>
                                          <p:spTgt spid="8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坚信着我们的爱情会绽放在下个夏季；坚信着你会为我搭建一座特色环保的小屋，就如你给我制作的轮胎秋千一样；坚信着绿色会慢慢成为一直新的姿态活着人们心中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97080" y="4005000"/>
            <a:ext cx="45370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就如这些用旧轮胎和易拉罐造房子，它是一种崭新的面孔，人们对生活、对环保的新认识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12810035"/>
          <p:cNvPicPr/>
          <p:nvPr/>
        </p:nvPicPr>
        <p:blipFill>
          <a:blip r:embed="rId1"/>
          <a:stretch/>
        </p:blipFill>
        <p:spPr>
          <a:xfrm>
            <a:off x="0" y="1486080"/>
            <a:ext cx="4038480" cy="2873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2810033"/>
          <p:cNvPicPr/>
          <p:nvPr/>
        </p:nvPicPr>
        <p:blipFill>
          <a:blip r:embed="rId2"/>
          <a:stretch/>
        </p:blipFill>
        <p:spPr>
          <a:xfrm>
            <a:off x="4932360" y="1341360"/>
            <a:ext cx="3641760" cy="25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20081022917812"/>
          <p:cNvPicPr/>
          <p:nvPr/>
        </p:nvPicPr>
        <p:blipFill>
          <a:blip r:embed="rId3"/>
          <a:stretch/>
        </p:blipFill>
        <p:spPr>
          <a:xfrm>
            <a:off x="2124000" y="3789360"/>
            <a:ext cx="3508560" cy="2449440"/>
          </a:xfrm>
          <a:prstGeom prst="rect">
            <a:avLst/>
          </a:prstGeom>
          <a:ln w="0">
            <a:noFill/>
          </a:ln>
        </p:spPr>
      </p:pic>
    </p:spTree>
  </p:cSld>
  <p:transition advTm="7000">
    <p:wedg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indefinite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indefinite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indefinite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cc00"/>
                </a:solidFill>
                <a:latin typeface="Arial"/>
              </a:rPr>
              <a:t>这个故事就这样落幕了，但是爱情没有停止，绿色的行动也没有停止。。。</a:t>
            </a:r>
            <a:br>
              <a:rPr sz="3600"/>
            </a:br>
            <a:br>
              <a:rPr sz="3600"/>
            </a:b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黑体"/>
                <a:ea typeface="黑体"/>
              </a:rPr>
              <a:t>谢谢观看</a:t>
            </a:r>
            <a:r>
              <a:rPr b="0" lang="zh-CN" sz="6000" spc="-1" strike="noStrike">
                <a:solidFill>
                  <a:srgbClr val="009999"/>
                </a:solidFill>
                <a:latin typeface="黑体"/>
                <a:ea typeface="黑体"/>
              </a:rPr>
              <a:t>~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fade thruBlk="true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mph" presetID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Family</p:attrName>
                                        </p:attrNameLst>
                                      </p:cBhvr>
                                      <p:to>
                                        <p:strVal val="黑体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00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9243-8265-4158-B3EC-771F75301F4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3213000"/>
            <a:ext cx="799308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它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--</a:t>
            </a:r>
            <a:r>
              <a:rPr b="1" lang="zh-CN" sz="2400" spc="-1" strike="noStrike">
                <a:solidFill>
                  <a:srgbClr val="99cc00"/>
                </a:solidFill>
                <a:latin typeface="Arial"/>
              </a:rPr>
              <a:t>源于最初的悸动，与面包无关，没有任何利益关系，纯净而透明，它是环保的爱情。而真正的环保就在生活中，并不是要很大所为，只要小小的关注，多留一个心，多一份行动，就能够达到一种绿色状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1000">
    <p:newsflash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00360" y="404280"/>
            <a:ext cx="410364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8080"/>
                </a:solidFill>
                <a:latin typeface="Arial"/>
              </a:rPr>
              <a:t>夏末，我喜欢独自坐在小院里那个你为我制作的秋千上，静静的等候我的爱情，即使是永远，我也要站在原地不动，怕你回过头找不到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4db5414f410e6816aec3ab95"/>
          <p:cNvPicPr/>
          <p:nvPr/>
        </p:nvPicPr>
        <p:blipFill>
          <a:blip r:embed="rId2"/>
          <a:stretch/>
        </p:blipFill>
        <p:spPr>
          <a:xfrm>
            <a:off x="900000" y="1844640"/>
            <a:ext cx="3095640" cy="4645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2009324192915104"/>
          <p:cNvPicPr/>
          <p:nvPr/>
        </p:nvPicPr>
        <p:blipFill>
          <a:blip r:embed="rId3"/>
          <a:stretch/>
        </p:blipFill>
        <p:spPr>
          <a:xfrm>
            <a:off x="4213080" y="3429000"/>
            <a:ext cx="4714920" cy="334008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horz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日期占位符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0.7.28   xiao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16cf07f32c569d5b342accc8"/>
          <p:cNvPicPr/>
          <p:nvPr/>
        </p:nvPicPr>
        <p:blipFill>
          <a:blip r:embed="rId1"/>
          <a:stretch/>
        </p:blipFill>
        <p:spPr>
          <a:xfrm>
            <a:off x="36360" y="1270080"/>
            <a:ext cx="4678560" cy="55148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0720" y="43920"/>
            <a:ext cx="87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仿宋_GB2312"/>
              </a:rPr>
              <a:t>在那个花开到荼蘼的夏天</a:t>
            </a: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仿宋_GB2312"/>
              </a:rPr>
              <a:t>---------</a:t>
            </a:r>
            <a:br>
              <a:rPr sz="3200"/>
            </a:br>
            <a:r>
              <a:rPr b="1" lang="zh-CN" sz="3200" spc="-1" strike="noStrike">
                <a:solidFill>
                  <a:srgbClr val="ffffff"/>
                </a:solidFill>
                <a:latin typeface="Arial Black"/>
                <a:ea typeface="仿宋_GB2312"/>
              </a:rPr>
              <a:t>            </a:t>
            </a:r>
            <a:r>
              <a:rPr b="1" lang="zh-CN" sz="2400" spc="-1" strike="noStrike">
                <a:solidFill>
                  <a:srgbClr val="ffffff"/>
                </a:solidFill>
                <a:latin typeface="Arial Black"/>
                <a:ea typeface="仿宋_GB2312"/>
              </a:rPr>
              <a:t>我邂逅了你，邂逅了我的爱情，了解绿色的意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4isbow21"/>
          <p:cNvPicPr/>
          <p:nvPr/>
        </p:nvPicPr>
        <p:blipFill>
          <a:blip r:embed="rId2"/>
          <a:stretch/>
        </p:blipFill>
        <p:spPr>
          <a:xfrm>
            <a:off x="4140360" y="1628640"/>
            <a:ext cx="4862520" cy="374652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9" dur="250" autoRev="1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日期占位符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2010.7.28   xiao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那天，大雨突然袭来，“滴答，滴答”，我，站在小屋门口，凝望着晶莹透亮的蜘蛛网，数着滴落的水珠，打发这个寂寞的季节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200913145916265778010"/>
          <p:cNvPicPr/>
          <p:nvPr/>
        </p:nvPicPr>
        <p:blipFill>
          <a:blip r:embed="rId2"/>
          <a:stretch/>
        </p:blipFill>
        <p:spPr>
          <a:xfrm>
            <a:off x="179280" y="2276640"/>
            <a:ext cx="3407040" cy="4537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0105a5d4507e5b0fa18bb78c"/>
          <p:cNvPicPr/>
          <p:nvPr/>
        </p:nvPicPr>
        <p:blipFill>
          <a:blip r:embed="rId3"/>
          <a:stretch/>
        </p:blipFill>
        <p:spPr>
          <a:xfrm>
            <a:off x="3997440" y="4365720"/>
            <a:ext cx="3484440" cy="2481120"/>
          </a:xfrm>
          <a:prstGeom prst="rect">
            <a:avLst/>
          </a:prstGeom>
          <a:ln w="0">
            <a:noFill/>
          </a:ln>
        </p:spPr>
      </p:pic>
    </p:spTree>
  </p:cSld>
  <p:transition advTm="7000">
    <p:diamond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日期占位符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41148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你高大而焦急的身影，突然闯进我眼帘，不顾大雨的袭击，抱着一只受伤的小动物，急着寻找一个安置之身。瞬间，我就被吸引住，情不自禁拿着一把雨伞冲了出去，一起去寻找动物诊所，没有过多的语言，像是熟悉多年的好友，终于安置好小家伙，相互看着对方湿漉漉且狼狈模样，不自觉的笑起来了。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这次暑假，你无意走进这个小镇，也无意闯进我的梦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6000">
    <p:cover dir="l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0951064418-4"/>
          <p:cNvPicPr/>
          <p:nvPr/>
        </p:nvPicPr>
        <p:blipFill>
          <a:blip r:embed="rId1"/>
          <a:stretch/>
        </p:blipFill>
        <p:spPr>
          <a:xfrm>
            <a:off x="1403280" y="117360"/>
            <a:ext cx="3984840" cy="30243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c3db3833b290a8da1b4cffd6"/>
          <p:cNvPicPr/>
          <p:nvPr/>
        </p:nvPicPr>
        <p:blipFill>
          <a:blip r:embed="rId2"/>
          <a:stretch/>
        </p:blipFill>
        <p:spPr>
          <a:xfrm>
            <a:off x="2916360" y="2925720"/>
            <a:ext cx="4038480" cy="3871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720" y="549360"/>
            <a:ext cx="432000" cy="610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和你约定好一起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清理垃圾，为附近的河流，火车站</a:t>
            </a: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等“美容”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D:/我的文档/My Pictures/71dbca5c17b7474dfaf2c0ea.jpg71dbca5c17b7474dfaf2c0ea"/>
          <p:cNvPicPr/>
          <p:nvPr/>
        </p:nvPicPr>
        <p:blipFill>
          <a:blip r:embed="rId3"/>
          <a:stretch/>
        </p:blipFill>
        <p:spPr>
          <a:xfrm>
            <a:off x="6445080" y="1197000"/>
            <a:ext cx="2681280" cy="2012760"/>
          </a:xfrm>
          <a:prstGeom prst="rect">
            <a:avLst/>
          </a:prstGeom>
          <a:ln w="0">
            <a:noFill/>
          </a:ln>
        </p:spPr>
      </p:pic>
    </p:spTree>
  </p:cSld>
  <p:transition advTm="13000">
    <p:random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67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67" fill="hold"/>
                                        <p:tgtEl>
                                          <p:spTgt spid="6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67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67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28" fill="hold">
                                          <p:stCondLst>
                                            <p:cond delay="76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109ec519e3dbe276dbb4bdc4"/>
          <p:cNvPicPr/>
          <p:nvPr/>
        </p:nvPicPr>
        <p:blipFill>
          <a:blip r:embed="rId2"/>
          <a:stretch/>
        </p:blipFill>
        <p:spPr>
          <a:xfrm>
            <a:off x="396720" y="1486080"/>
            <a:ext cx="4038840" cy="30207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43308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照顾寻找不到家的小动物，帮助邻家阿婆种菜，在公园陪孤独老人聊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08111519111017_副本"/>
          <p:cNvPicPr/>
          <p:nvPr/>
        </p:nvPicPr>
        <p:blipFill>
          <a:blip r:embed="rId3"/>
          <a:stretch/>
        </p:blipFill>
        <p:spPr>
          <a:xfrm>
            <a:off x="4789440" y="260280"/>
            <a:ext cx="4125960" cy="3384720"/>
          </a:xfrm>
          <a:prstGeom prst="rect">
            <a:avLst/>
          </a:prstGeom>
          <a:ln w="0">
            <a:noFill/>
          </a:ln>
        </p:spPr>
      </p:pic>
    </p:spTree>
  </p:cSld>
  <p:transition advTm="7000">
    <p:wheel spokes="1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031G044H41"/>
          <p:cNvPicPr/>
          <p:nvPr/>
        </p:nvPicPr>
        <p:blipFill>
          <a:blip r:embed="rId2"/>
          <a:stretch/>
        </p:blipFill>
        <p:spPr>
          <a:xfrm>
            <a:off x="2771640" y="765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18569401e2c1f3081c9583cc"/>
          <p:cNvPicPr/>
          <p:nvPr/>
        </p:nvPicPr>
        <p:blipFill>
          <a:blip r:embed="rId3"/>
          <a:stretch/>
        </p:blipFill>
        <p:spPr>
          <a:xfrm>
            <a:off x="2700360" y="4365720"/>
            <a:ext cx="1887480" cy="2230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2110R22096"/>
          <p:cNvPicPr/>
          <p:nvPr/>
        </p:nvPicPr>
        <p:blipFill>
          <a:blip r:embed="rId4"/>
          <a:stretch/>
        </p:blipFill>
        <p:spPr>
          <a:xfrm>
            <a:off x="179280" y="2494080"/>
            <a:ext cx="3198960" cy="2168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77c89ef29c1bc14adafd5d9"/>
          <p:cNvPicPr/>
          <p:nvPr/>
        </p:nvPicPr>
        <p:blipFill>
          <a:blip r:embed="rId5"/>
          <a:stretch/>
        </p:blipFill>
        <p:spPr>
          <a:xfrm>
            <a:off x="4861080" y="3429000"/>
            <a:ext cx="2304720" cy="3413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ef26d252a143952b0df3e33d"/>
          <p:cNvPicPr/>
          <p:nvPr/>
        </p:nvPicPr>
        <p:blipFill>
          <a:blip r:embed="rId6"/>
          <a:stretch/>
        </p:blipFill>
        <p:spPr>
          <a:xfrm>
            <a:off x="6445080" y="1486080"/>
            <a:ext cx="2676600" cy="4032000"/>
          </a:xfrm>
          <a:prstGeom prst="rect">
            <a:avLst/>
          </a:prstGeom>
          <a:ln w="0">
            <a:noFill/>
          </a:ln>
        </p:spPr>
      </p:pic>
    </p:spTree>
  </p:cSld>
  <p:transition advTm="11000">
    <p:strips dir="r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8T17:49:2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5:25Z</dcterms:modified>
  <cp:revision>4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